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3D5F-5B77-4471-854B-518C90B05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B3AA-5ABA-4F5B-9CB7-BB1BA029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84D3-9892-4992-B938-A0FFFF59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CB1B-C980-45CC-951A-E4B1DD1C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45A9-3044-4C5A-9E7A-AEA4C42D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016E-86D2-4E8B-B28E-90094099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E6A8-260D-4C41-AA51-1EEBA560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6646-708E-49A2-B582-ECB23803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03C2-03F8-4914-8430-8CE19187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405F-F3BC-4729-B74E-99B5EFBD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ADD6-79F6-4864-A994-05E5EFF0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E7F6-DFAB-4B69-987F-8F4C6C48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B841-8093-44E4-AF1D-1EC8CF2C61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уди відхиляється промінь при переході з більш оптично густого в менш оптично густе середовищ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7:36:31Z</dcterms:modified>
  <cp:revision>2</cp:revision>
  <dc:subject/>
  <dc:title>Слайд 1</dc:title>
</cp:coreProperties>
</file>