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A0F-B2CD-4361-9F16-0AEA73D2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1B4-BC62-456B-915C-3B6B88F7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4A3-59A2-434F-AE5B-EB6D8B91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0A2-EA70-4C80-9136-EE04ABAC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A09-0DCB-401C-BE4B-95773F4E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142-6CE0-4CB5-B73D-0F789390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694-166A-4D08-8262-F241C2A8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250-1C35-45D1-907A-3A20C54F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2F8-7466-43B0-BB61-F9F15D69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4D2-7A4A-4DC8-A248-E33F50F2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BEC-4A64-4F9E-BA06-F6530BD5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E59-CE5C-4973-BEFC-739A094C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3167-78C7-4326-AEA5-984C7E041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ві електричні лампочки не є когерентними джерелами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9:18Z</dcterms:modified>
  <cp:revision>2</cp:revision>
  <dc:subject/>
  <dc:title>Слайд 1</dc:title>
</cp:coreProperties>
</file>