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488-72DD-4A3F-9C78-9C87323B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2C7-2B83-4677-89C9-6252BC47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C86-0E5C-4E91-96BF-DF1CC47A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E83-CF4F-4245-8C15-6ABC91FC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8369-7A84-4133-ABCA-95C0B89A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12C-27A3-4FE6-AA06-BF422B0F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9C5-6CF0-4704-A88E-C20285BC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E5B-30A8-421E-B9EE-43EF2AD9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90F-6EE8-4903-93C0-7D2D749E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622-3C6F-4C6E-9DD5-83309384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AA2-EBA1-47ED-8A46-D6F21208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099-3DDB-4DA8-ACA8-9DB7E474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0868-8332-40AB-A85B-3B9F8BB084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енергія електромагнітної хвилі  при збільшені її довжи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1:58Z</dcterms:modified>
  <cp:revision>2</cp:revision>
  <dc:subject/>
  <dc:title>Слайд 1</dc:title>
</cp:coreProperties>
</file>