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F8C-AEA8-4DE1-A4BB-B0AD90D2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019-8ECC-41C4-B114-D4DCAD80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B33-58CB-4E8E-994B-2C158616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73F-F304-4C6A-B105-F5B591D3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5B9-59E9-49B1-8C02-4532B087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883-8E7D-470A-9E5A-930F3E7A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DBD-B17D-4BF6-951C-239CDDD5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844-F787-49CF-A1F4-2FD11E7E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553-E5A4-4571-B5F5-533DD578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1FB-0A0D-47CE-8FF3-7A4ACC04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8E6-158A-46F9-97AE-5D7280FA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993-1056-4A94-B16E-7A466787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DEF8-DB0E-44CB-BC84-2A033746B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умову дифракції 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8:55Z</dcterms:modified>
  <cp:revision>2</cp:revision>
  <dc:subject/>
  <dc:title>Слайд 1</dc:title>
</cp:coreProperties>
</file>