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7FA-4E2C-49D0-BB59-4E7C45E8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C3B-FCD5-4729-B1B5-47A441A1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A80-37F2-4A72-87FC-8CA98685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1F7-D273-4B47-91E2-7C760346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1D8-BDFA-4237-9E3E-10F411D3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9F5-2367-41B8-8EB2-7DABB18E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C08-A535-4273-9117-13A923EA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17B-913B-4885-B214-065A93FB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54D-BADC-4ACF-977C-1BC80A0B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00A-D2CC-405B-A85B-10298931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DF6-954D-4EC8-B913-FE75351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E84-6852-4B58-AB5A-141D0F3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AD49-4497-4B74-A87D-596EEA5E2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м чином можна створити когерентні джерел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4:42Z</dcterms:modified>
  <cp:revision>2</cp:revision>
  <dc:subject/>
  <dc:title>Слайд 1</dc:title>
</cp:coreProperties>
</file>