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2300-C6A5-4B5C-9F29-AFC6C829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24D-2F63-4A94-BAC7-5F078B89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620-51C6-45B4-B8EA-DC6D6FA5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A10-9D0A-4C69-B42D-16084EA4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345-F4A0-4499-9BEE-6C929067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A3B-64D8-44A3-A3F1-3163FAF1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351-DA45-4B4E-8F3D-7420BE0D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231-6EE8-42F6-AB82-45371EDC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9D9-6E4D-4CCC-8279-07B6E36F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F59-6DDE-4A57-9A8D-55DAE24F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AE3-391B-4193-BDF0-F8EEBB06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31D-2775-4C71-A693-D0162635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48E1-6448-418C-876F-AFFB2F58B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ди відхиляється промінь при переході з менш оптично густого в більш оптично густе середови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5:37Z</dcterms:modified>
  <cp:revision>2</cp:revision>
  <dc:subject/>
  <dc:title>Слайд 1</dc:title>
</cp:coreProperties>
</file>