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59E-BAAA-44FF-A749-56664104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424-05E1-4448-BDD2-911B6F9F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E8D-3849-43DF-B4FD-49F9494D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B7E-D361-4A28-9B4E-2501FBE9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1AC-E582-41E7-B021-25C01C93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266-9291-4931-BD39-93208CE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AA3-32EF-4D0E-AD4E-A4D985B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AAA-8145-497A-8BF4-892EAACD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E77-7211-4B66-BB45-D713AED6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F90-41F1-4ECD-A2C5-72B0FE2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7AB-CCB3-4185-A037-8D8C928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B10-4417-4E3D-9E5D-9B46EED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DA0-55DF-4699-9C26-B92AB25CC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сніг бі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44:56Z</dcterms:modified>
  <cp:revision>2</cp:revision>
  <dc:subject/>
  <dc:title>Слайд 1</dc:title>
</cp:coreProperties>
</file>