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C97-0FC9-47BA-A11A-734EBFFC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A78-598D-4069-9F8D-6929DF11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867-B729-4366-9AEA-C1B250FF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CE6-DE06-4D59-9EBE-6B40EFAF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F31-D37C-464A-A92B-A6AB20BB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B1D-B2C6-490D-AC39-1ECCE489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12A-66F3-4839-9329-DA06A4E6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97B-3EB0-4AE4-A003-C30E9B46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3DB-4BFE-4DF5-8365-9F3341DC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5A4-5F50-4985-A748-56CB5630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580-3A00-4BE4-ACA0-E79D55E3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FA4-247F-4F3E-BA6A-08038B4A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A741-9C25-4A36-B1BE-1C13973EB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з якої тварини  неможлива електронна пош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23Z</dcterms:modified>
  <cp:revision>2</cp:revision>
  <dc:subject/>
  <dc:title>Слайд 1</dc:title>
</cp:coreProperties>
</file>