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3CC0-487F-4BDA-9FEA-A9051DB0A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73FD-8871-44CB-BBDB-EF4E826FA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605C-0D4A-45EB-BC5C-8AAF37286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B879-0682-40A2-A8E4-FB52E5B9B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59B1-FCA1-4F41-9FBA-B66BB17FD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C1CE-1333-40D7-A7C8-721D10D06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9478-32AF-4D5B-AA21-AE8FEB166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E2B9-EBF1-4023-A2DA-F1ED2E63E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F974-BA85-4C0F-AB1A-A73FFD3C6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7FBE-215A-4EA2-B6C6-76F66531B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A7A7-FAE2-47A2-A0E0-BF607D6D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448C-0260-4446-898B-80F5F224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EFD7D-4103-448A-B3D3-E261B07BCB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Що таке кут заломленн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roman</cp:lastModifiedBy>
  <dcterms:modified xsi:type="dcterms:W3CDTF">2008-02-15T07:35:04Z</dcterms:modified>
  <cp:revision>2</cp:revision>
  <dc:subject/>
  <dc:title>Слайд 1</dc:title>
</cp:coreProperties>
</file>