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E4F-3420-4400-8CBF-105269A0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C71-D9D0-49C8-8DC2-DAC5BBC1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CC2-4921-4368-B4CA-5D1CB3D1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A4B-91A1-4EDE-A211-FB8B0C70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530-3D33-4AD1-88BD-5A649DF5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D270-07C6-4D98-AA59-FD66AE39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1551-6A38-4376-A2EA-B68D5D2E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F63-5C46-4B09-AB25-177C39D3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843-165D-4408-B4F7-1B6C3596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ECD-69F0-4C9D-B6B7-437F9C7B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410-0774-45CC-814A-79BF310D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26F-A720-4B48-8BDA-D4747D48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D5DD-6601-42AA-A418-801542DE98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утворення радіохв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0:43Z</dcterms:modified>
  <cp:revision>2</cp:revision>
  <dc:subject/>
  <dc:title>Слайд 1</dc:title>
</cp:coreProperties>
</file>