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37E-F409-4AC7-9B03-47843CF3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D16-16DF-4564-8259-FEC3C44F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FFA-A86E-430D-9322-03986CBC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1EC-B889-43FA-A454-B9347EE4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B53-3E49-4619-AE86-4718B265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080-7570-41A3-83B7-1CFF209A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75C-7489-4CB7-9639-ACE8938B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31C-32B6-4C57-ADAA-A4E8DC38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799-3F36-471A-BADB-D763C625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8769-1407-499E-8E23-1A4208EC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A2A-42F2-4210-97E7-B5DBE354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E33-3AAA-4E59-A23E-01E69EFE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8C2E-9DF0-4C14-8C28-BBE867986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мобільного зв’яз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9:53Z</dcterms:modified>
  <cp:revision>2</cp:revision>
  <dc:subject/>
  <dc:title>Слайд 1</dc:title>
</cp:coreProperties>
</file>