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62B-8540-4BDA-9990-7C733627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1F2-DF67-4E19-8485-AE82082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9C3-3B9A-4BE7-8367-A9C9E1B1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BC7-13B6-4A3E-B4CA-A0104403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4FE-057B-407F-B0FF-D1671135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A72-5E8E-43A8-8A93-BEACDE2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6A2-ADC1-4D1C-90A3-2D3A2C1B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748-8727-4A31-97E5-3AD016BD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E50-6CA8-4FDE-B9C8-A6C70369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652-16E9-4093-8D82-C519F8B7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551-B7EC-4CA7-9938-B117ADB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A64-6BFC-46E7-A429-1667D0B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038-CADB-4AC6-A33A-986D2503A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фізики, що вивчає світлові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57Z</dcterms:modified>
  <cp:revision>2</cp:revision>
  <dc:subject/>
  <dc:title>Слайд 1</dc:title>
</cp:coreProperties>
</file>