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E07-9B69-42E1-9337-FBD7C45B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E7B-FA29-4510-A0CC-9BF81F1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B0E-498A-4ABF-B370-A50B1013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FFE-8C91-43F0-919A-7A55882A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484-676B-4E4A-AB47-94842815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5A5-B21E-481E-BFB7-258CBE6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BF0-3449-44EB-92E4-D6378D3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B90-9C1C-4E6B-8207-8D3BD4A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C5B-8CF1-49DD-A298-36D85E5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75C-FB8C-41D0-956F-4657297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FB5-C3F9-4EEE-AC88-79A2BFF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64C-6621-4469-844B-841E9CE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67DE-8052-4DA0-85BE-8DB75CDE0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родній приймач світлових хви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27Z</dcterms:modified>
  <cp:revision>2</cp:revision>
  <dc:subject/>
  <dc:title>Слайд 1</dc:title>
</cp:coreProperties>
</file>