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028-2EC9-4959-AEF4-F117DCCF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973-33AA-45E5-A73B-5F526E08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808-42DC-4B39-B61A-86ED9365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D32-E3AF-4FD5-A1B3-E01B6878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07C-EFBD-4F36-A9E7-5C10A14E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C4A-95F1-4D81-8CAB-2DDE6EFC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1F0-9090-4305-823B-1798DC02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337-D4B2-40A8-9C90-D6E42D27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B72-1EAB-4861-A3CF-3945645C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BB9-BAB8-43FE-8783-EBFA6D69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88FD-EC41-4D4A-9C20-3AD2DCE3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71A-04B5-4278-B000-0303F8BA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31C8-795F-4D35-B091-0AF15799E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7:44Z</dcterms:modified>
  <cp:revision>2</cp:revision>
  <dc:subject/>
  <dc:title>Слайд 1</dc:title>
</cp:coreProperties>
</file>