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6A2-FED9-47E3-97D3-E513C3FE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ED4-B7B5-4660-B5AD-73AF7FCB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10F-05C0-4E41-9199-1E617856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F5C-9EE0-4395-92DB-DA8C5F72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196-76A8-45D1-BB42-5BB3890D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C09-A0CE-406A-B576-7B487C27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0E6-4887-4EDE-8DE0-5B6C9C9E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063-A7DA-402F-AE8F-7BEAC779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679-C0A3-4DB3-A24D-E548EA5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3E9-A7E3-48FB-B58D-8F79C1BC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4DF-1081-4C11-BB98-0F66A3CE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819-63B5-468D-A070-5777204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1850-621F-4F82-9265-0167F31A6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зміщення про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11Z</dcterms:modified>
  <cp:revision>2</cp:revision>
  <dc:subject/>
  <dc:title>Слайд 1</dc:title>
</cp:coreProperties>
</file>