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8FD1-14B5-4D45-B006-0DC14B679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5C04-CFF9-47E4-B79D-8B847EA29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8313-6D39-486D-A194-896D1C8C0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4BE1-12C0-4C82-87DF-8A84DDB58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3536-313C-4CCD-A827-61FDFAE30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8B4B-BBF5-4C4D-966C-B33791DC4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D740-E802-4224-8150-645124535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EBBA-8E9A-4C31-A844-573CF1721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07A7-E5C9-4200-A986-961EAE3D3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2CC7-2448-44C7-A381-5D26CCBD7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7039-2E09-4865-A184-151BB4096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3A63-F057-4070-BCCB-A08DAC301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AE7DC-67D4-4AA2-98A2-7B734B79D8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а якому явищі працює цукриметр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roman</cp:lastModifiedBy>
  <dcterms:modified xsi:type="dcterms:W3CDTF">2008-02-15T08:36:56Z</dcterms:modified>
  <cp:revision>2</cp:revision>
  <dc:subject/>
  <dc:title>Слайд 1</dc:title>
</cp:coreProperties>
</file>