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C1A-5245-462F-B8CA-C9C1C865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CD4-ECB5-48C8-B6F7-E2C3428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042-C27A-4DDC-B200-68E09D79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99F-7FC5-4B02-86D1-AE06596A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D79-6C9F-4FAF-A1E9-62D5F8B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060-3F9F-43A3-9FDD-5A48505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5DC-F26D-4FBC-A15E-9A03C5A2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2F0-056E-4A96-81C4-89490DB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22E-4DA4-466E-A32F-8CB879B5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173-E16A-48E4-A2A3-6A2538B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170-964D-403B-94EC-2AA37C78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BA8-81AC-47F5-A32F-014395D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8DF-E12A-4846-9E9D-D4A1F8ED4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ект зору, коли в сітківці ока випадає або ослаблено сприйняття одного з трьох основних кольо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25Z</dcterms:modified>
  <cp:revision>2</cp:revision>
  <dc:subject/>
  <dc:title>Слайд 1</dc:title>
</cp:coreProperties>
</file>