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E09-8955-422D-ADC4-80B1168A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FA6-BE9E-478C-9601-88B91AFD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EDE-7F21-4614-A17D-9A30BFB1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548-8EF8-4C4B-B0EC-40126126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DA3-CEB5-4069-A550-185E0A52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192-AA3C-426B-AA44-49A32218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B00-C0C2-4838-B895-0E493C0B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9D3-3970-4F2F-9E98-B746F396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D1F-601B-4D8E-BC85-1C06C49D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C0E-9BF1-47A0-ADBA-8FA505E2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065-0E14-4BE5-85A6-0C063D38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EB0-0CB4-4B76-9146-1FE53B4D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6C2B-6CCA-4435-9235-4C115F035C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діапазон довжин хвиль довгих радіохви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9:10Z</dcterms:modified>
  <cp:revision>3</cp:revision>
  <dc:subject/>
  <dc:title>Слайд 1</dc:title>
</cp:coreProperties>
</file>