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7B2-2EB5-49CD-839C-CA767C67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E1F-2CAE-4E9A-A6A4-498A0749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616-7A03-4BD0-8219-B3DB0591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5D5-EE89-4703-9AD1-53075F64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9FA-9070-4000-ADF3-39FAD4BE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9DC-00C3-4768-B5C6-201D6427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532-3F62-4ECF-9E33-F2F6A4A5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B56-439E-4151-BC1F-C497DD0D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2F2-F545-4309-BC07-BD0287C0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D6B-50A6-49FB-BD77-3A5A85D7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A4C-AD0C-4F51-8712-5C3FA848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7BF-1472-4476-8B9A-DD2C4F92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1D44-C209-4A3A-9410-F8B9D6C7A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винахідник – творець електронної системи передачі на відстань рухомого зображенн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0:01Z</dcterms:modified>
  <cp:revision>2</cp:revision>
  <dc:subject/>
  <dc:title>Слайд 1</dc:title>
</cp:coreProperties>
</file>