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D9FF-78DD-489D-BBA5-0EDBC6BDA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69BF-4308-45EF-8772-40E5E819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7CEF-3187-40AA-81B3-8C5E2234F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E29B-26BC-4B75-A324-1F354D05D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6150-7ED1-4210-B468-2303AC2E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5467-4517-4C02-A02C-902BD9BC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D69C-1934-4EB7-9820-01574981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A607-B8BB-4F06-BF78-49F65801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47E3-F2C1-4BD6-B543-B3A0A922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410B-E229-4561-B04F-D97CDA00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BF12-00A0-484B-9735-6043D861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86F8-E38A-4530-8CB9-EA8549AD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2505-D322-49EF-9529-E90979CC2A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нша назва демодуля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18:41Z</dcterms:modified>
  <cp:revision>4</cp:revision>
  <dc:subject/>
  <dc:title>Слайд 1</dc:title>
</cp:coreProperties>
</file>