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10A1-71FE-45D4-A426-94379C575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DF28-EB03-475F-8C19-AF6883D1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E6D6-A515-49AF-8384-A201F6CF7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0526-FFFB-41F8-BB73-EEC372148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5EC2-01B9-40CF-8296-5BB1D2FF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D2FA-4E06-49FF-8049-4B741696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6DEE-AD88-4AF6-BAD8-717D2678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7824-7F52-4824-BCEB-5E567D61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4E6B-6CE0-4B68-B094-EDD10E9E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2DB2-D2DC-4598-B785-0315E603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438E-1E18-4067-9882-36AA87EE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FDF1-F889-4A34-A526-648749A5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64AD-F364-4EA1-A437-0875BF17EA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називається твердження про те, що кожна точка простору є джерелом вторинних хви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roman</cp:lastModifiedBy>
  <dcterms:modified xsi:type="dcterms:W3CDTF">2008-02-15T08:35:43Z</dcterms:modified>
  <cp:revision>2</cp:revision>
  <dc:subject/>
  <dc:title>Слайд 1</dc:title>
</cp:coreProperties>
</file>