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9D7-D2EB-4795-BD89-86976455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AF5-2B88-411F-BEEA-D7B9E6F5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918-8B70-4ABF-8968-9280BACE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DF9-F43E-4075-B64A-EAD4C5F0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CBD-B19A-44DA-AAF0-43B06D13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085-6438-419F-BE49-4CADEC4B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426-2575-478C-9F04-BB2CE65B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7F7-74F6-4DA0-A705-83B7221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ABC-28AB-43FE-8133-80DA9808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BB6-834F-436A-A62C-9E80A5CB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308-E329-4979-82B9-5647F0A0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4F6-2E66-4AC7-9651-B18D40DC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07E0-8F0C-4087-80F9-DBEE5C04C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зистор, опір якого залежить від освітле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7:32Z</dcterms:modified>
  <cp:revision>2</cp:revision>
  <dc:subject/>
  <dc:title>Слайд 1</dc:title>
</cp:coreProperties>
</file>