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54B-1117-4D65-82FB-1AEFB2A5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F6E-5D1D-48DD-94BA-4BC594E6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708-DBC4-42EF-AF19-37C3AA07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09A-D111-4F4B-8B9A-86A1F1F1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C81-EFBC-4882-BDE0-031D7E27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F1C-4603-4A64-80E0-C18BB16E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57B-919B-4BF5-8F39-2760ECC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B55-C3F5-4253-9FE9-4127243C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275-A765-493B-BB4A-1719E332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F09-3199-42C0-85D9-CE73D76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2BF-CCAC-49E2-9ED7-2222F44F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F12-D5CA-44C4-8191-4ABA550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6BF-C9F9-4107-B5C1-C512240DA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випромінювання та прийма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5:20Z</dcterms:modified>
  <cp:revision>3</cp:revision>
  <dc:subject/>
  <dc:title>Слайд 1</dc:title>
</cp:coreProperties>
</file>