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621-BCBA-48D0-9D9B-3252D474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DA1-081F-427D-A837-A722A597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1CC-4FE6-4FBE-946B-3EABA5A6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5EC-B149-49AD-8BA0-5C5D3BAB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867-EE75-49C9-B3F2-0713160A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512-5ACD-414C-96EC-EA59F274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BDC-6E26-4937-931F-CA538BEB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3FB-B3CA-4A85-851B-566F4C9D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4FD-A905-4F4C-809C-3A4DD457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15E-30DE-4BB4-B63D-40E7B244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F58-5BA1-4B22-8824-C00D6550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B18-703E-4F6C-90AB-2DEBD27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340-1117-4A04-A8A2-C3F2392D8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за о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єктами з укритт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44Z</dcterms:modified>
  <cp:revision>2</cp:revision>
  <dc:subject/>
  <dc:title>Слайд 1</dc:title>
</cp:coreProperties>
</file>