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E30C-7440-46AD-BD38-4FA7E8E57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6052-384A-447A-BAEA-43FF59D83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3EC2-3BB6-4D21-AFED-84D98D2E7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441C-CD9D-4902-85ED-6C4AEBEE7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D1B0-76FC-47E4-B1AE-D55130A55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5919-E284-422E-8CC5-EA0F32AE9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2146-1798-4D39-84A5-D1C0B0D70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B8C5-E1BD-4368-94D0-77298B750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E94D-EB3A-4267-8499-FC093FF43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AC68-20C1-4CDE-96D0-1A66DEC40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5B8B-5FF3-48D0-A293-F4D237493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ECE7-6156-4B38-8108-4130621A3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D8038-2E17-4FAC-819B-D24CF97D47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вітлові хвилі однакової часто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більшення прозорості лінз та об’єктивів для світла певної довжини.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ий колір мають лінзи з просвітленою оптикою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освітлення оптики підвищує прозорість лінз для якого кольору світл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Хвилі, що мають однакову частоту та постійну різницю фаз в кожній точці простор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Картина чергування максимумів і мінімумів коливан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Чи можна спостерігати інтерференцію від вмикання двох електричних лампочок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а мінімальна відстань між сусідніми максимумами при інтерференції хвиль з довжиною λ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 зміниться відстань між інтерференційними максимумами, які утворені за допомогою біпризми, якщо від освітлення синім кольором перейти до використання червоного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 зміниться відстань між інтерференційними максимумами, які утворені за допомогою біпризми, якщо занурити всю установку в воду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Американський вчений, конструктор інтерферометра.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инахідник бідзеркал та біпризм для дослідження інтерференції світ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8:51:13Z</dcterms:created>
  <dc:creator>Роман</dc:creator>
  <dc:description/>
  <dc:language>en-US</dc:language>
  <cp:lastModifiedBy>Роман</cp:lastModifiedBy>
  <dcterms:modified xsi:type="dcterms:W3CDTF">2008-02-12T19:28:54Z</dcterms:modified>
  <cp:revision>4</cp:revision>
  <dc:subject/>
  <dc:title>Слайд 1</dc:title>
</cp:coreProperties>
</file>