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EB6-70B8-40DB-AD08-1EA1797D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5DE-3B01-4D86-AC9D-30AD5181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B77-AF48-4C90-B86F-4DD421DB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FE4-027A-4CAF-A791-A7EF73E5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A4B-7CC7-4A0B-916A-9027405A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458-D972-4BFF-B0D8-404D274F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BDA-2E16-4737-B73A-8821FE99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26F-D331-473C-AF35-9AC64203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625-AC74-4EA6-9B21-1CE27932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EF1-338C-410F-B6E6-8A69353B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F711-36A8-4C4D-AC61-754C43AB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A5D-75F0-4BED-9A64-BD38D62A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ABCB-2525-48E9-9FDE-07F849C1EA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фект зору, коли в сітківці ока випадає або ослаблено сприйняття одного з трьох основних кольо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0:25Z</dcterms:modified>
  <cp:revision>2</cp:revision>
  <dc:subject/>
  <dc:title>Слайд 1</dc:title>
</cp:coreProperties>
</file>