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1D4-7A9B-4598-B55D-B2F5579C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ED6-3BE8-4311-A0E2-3596916A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742-2F46-4177-9CE6-5BCE46EC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EBE-884C-4AC2-9638-6221F946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F56-6BC1-4F8D-AF7E-398C2898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F81-E85C-448F-BCD6-A7BBAAF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E28-F3B0-4F20-97C2-835E1515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25B-1421-4F80-AA64-60440DA9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CCF-FA8D-482A-95B2-EB614F82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178-482E-47DD-9B04-9488313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DB0-BD43-4DA1-BA27-A886ACFA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A36-9C86-406E-8E44-277B768E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E903-48DE-4960-A6AD-3E700E37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спостереження за небесними світи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кришталика змінювати свою кривизну в разі зміни відстані до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нія, що вказує, напрямок поширення світлового пу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ване с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 біол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 базі лінзов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базі дзеркальн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-рефлекто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зоре тіло, обмежене з двох боків сферичними поверхн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оптичну сил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від оптичного центра лінзи до фок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5:17Z</dcterms:modified>
  <cp:revision>3</cp:revision>
  <dc:subject/>
  <dc:title>Слайд 1</dc:title>
</cp:coreProperties>
</file>