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AFA0-681C-417B-BB61-11F6FAB4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297C-4D06-405A-8DA5-EFAE4862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05E-5E71-4F1C-83C1-796220D9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D3CE-92EE-4CE0-88A5-FA8A5CB6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BCD-5976-409E-A5AA-4A19E497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5B9-E7B8-4178-A608-FCC9B761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F8AB-2D5A-4657-AC03-8D4B2F9F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6E17-A466-4F02-9AB1-41AEA68F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248-D771-4FA8-9B0E-0F69656E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3A93-0EE6-4F22-92A5-6C186E3B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BD0-360A-47F2-AFDB-D5C952D3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C1A-C47C-4570-A441-6937D8E1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4EDD-DFF6-47B7-9CFD-5203EDC07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т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іж падаючим і відбитим променем 4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Чому дорівнює кут падіння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орівнює швидкість поширення світлової хвилі в  середовищі з абсолютним показником n=2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ломлення світлових променів з земній атмосфер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е явище лежить в основі будови світловод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падає на поверхню під кутом 6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Чому дорівнює кут паді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називається показник заломлення, якщо світло заломлюється на межі «вакуум – прозоре середовище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орівнює кут заломлення, якщо кут падіння 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 відбуваються зміщення променя, що падає з повітря під кутом 3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на скляну плоскопаралельну пластин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 чого залежить граничний кут повного внутрішнього відби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речовина є оптично більш густо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 чого вимірюють кут заломле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довжина світлової хвилі під час переходу з вакууму в прозоре середовище з абсолютним показником заломлення n=1,5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28:22Z</dcterms:modified>
  <cp:revision>3</cp:revision>
  <dc:subject/>
  <dc:title>Слайд 1</dc:title>
</cp:coreProperties>
</file>