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897-E1A4-4EE9-BCF9-0BCAFAC7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F25-97A5-4847-B617-6A29D331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79C-A506-4298-88E1-5C251A5C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B79-03E7-4F1E-AE9C-8DA20079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BCC-9D85-4989-862A-1B8FF2BA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81B-2718-480C-920C-75A9B39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172-F59F-43EB-BF5C-DCD5087B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081-7C93-4AA9-8AFC-BBDAC1F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0F9-5553-4EE4-B1C0-080FE782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FB8-A6F6-40E8-9BA1-9CD7A089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AF2-6BCE-4486-BA36-1350DF76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042-BC12-41FA-A7A7-4004DB6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D652-7F0C-45F5-B7CF-8DB36A67F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яких хвиль спостерігається явище поляри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20Z</dcterms:modified>
  <cp:revision>2</cp:revision>
  <dc:subject/>
  <dc:title>Слайд 1</dc:title>
</cp:coreProperties>
</file>