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036-D5E6-4831-B179-17DCD92E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D9D-88B5-489B-A328-8AA04E99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638-C1A7-4D3E-B53F-1CB5E897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485-D765-4DAF-82E2-1C4B0EB8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F1B-AE01-4EB1-883B-58BF08DA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421-5CC4-4B62-B436-CEC5C67D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585-6EE2-4AE9-85AC-F78D45CC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468-1EEF-4CB8-B0B8-D9B2D323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DDB7-378D-460E-9F62-72D04937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3FB-D8B8-4255-B65C-BABE0E22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D34-1A2B-4B67-AF15-2E84C851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CF2-1BB3-459F-A554-15EC75BE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B49D-DAA4-4E3E-92DC-B0F8529BD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човина,  якою покритий екран кінеск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18:06Z</dcterms:modified>
  <cp:revision>2</cp:revision>
  <dc:subject/>
  <dc:title>Слайд 1</dc:title>
</cp:coreProperties>
</file>