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A40-EE96-4ADD-8E9E-0EFDF88E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FB7-156F-4C1B-96C1-A3D56495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104-E65E-4DBA-BA35-ACE64004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0D0-FAEC-4950-B5BD-2E5B655B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DD7-BF5F-4E01-98D2-3ED67DFA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728-F399-4B0F-B347-E98C3C3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8AB-F749-4A77-B34C-740E2657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D74-2ABA-497F-978A-E1CEDA8C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83F-AAAB-40E4-AF10-0C992D1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1F2-64B1-4358-866A-2426C2B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BF4-350F-4AF1-BBD6-4021303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0CA-519A-4942-B132-4EE90BC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477-347D-4D50-AF8A-027438BE5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падаючим і відбитим променем 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ової хвилі в  середовищі з абсолютним показником n=2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омлення світлових променів з земній атмосфе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явище лежить в основі будови світловод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падає на поверхню під кутом 6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показник заломлення, якщо світло заломлюється на межі «вакуум – прозоре середовищ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кут заломлення, якщо кут падіння 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відбуваються зміщення променя, що падає з повітря під кутом 3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 скляну плоскопаралельну пластин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залежить граничний кут повного внутрішнь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речовина є оптично більш густ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вимірюють кут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довжина світлової хвилі під час переходу з вакууму в прозоре середовище з абсолютним показником заломлення n=1,5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8:22Z</dcterms:modified>
  <cp:revision>3</cp:revision>
  <dc:subject/>
  <dc:title>Слайд 1</dc:title>
</cp:coreProperties>
</file>