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659A-B161-436B-AD7D-53269A85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E0EB-6C20-447E-A23E-64E63E06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E90F-9885-4D7F-97AB-0E369644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081C-6BDF-414F-9CAF-49E1CBB4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F6F7-94CF-44DA-9003-49B588C7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01DF-5281-46BD-BE55-94688425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E58C-786E-45DA-8520-3D93F2EE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6FED-72F0-4131-AC57-DB08A5B3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F7A5-928B-4830-8D59-154C3A01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53E3-5725-4003-A377-56AD2BAD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CEBE-8855-49D4-AEE2-13521671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104A-3D02-4B0A-9DB9-23A87820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DDB3-DEE1-4885-B777-7F05FD555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 яких речовин добре відбиваються електромагнітні хвил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ому середовищі промінь світло може поширюватися криволінійн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м пояснюється виникнення весел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м пояснюється забарвлення мильних бульбашо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вище накладання когерентних промен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вище огинання хвилями  країв перешкод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лектромагнітні хвилі поздовжні чи поперечн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лежність показника заломлення від довжини світлової хвил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, в якого електричні коливання здійснюються весь час в одній і лише одній площин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лощина, в якій здійснюються магнітні коливан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лощина, в якій здійснюються електричні колива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ві промені якого кольору найменше заломлюються в тригранній призм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9:28:36Z</dcterms:modified>
  <cp:revision>8</cp:revision>
  <dc:subject/>
  <dc:title>Слайд 1</dc:title>
</cp:coreProperties>
</file>