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97D-8AFF-4E74-A840-B9D9EEB1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4AC-D6D5-4857-9C6B-D017BE41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4AB-2CC5-43D1-B83E-3765279A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EAD-1B28-40F3-8AA0-C758848D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4A4-9E35-4471-B0DA-5677ADFC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30D-8035-44C6-9AF2-BC68E47B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095-3719-41BD-B88C-AC475B32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3E8-2DE6-463A-B034-6CA16CC2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53C-6799-476F-85C8-22F13710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5BB-E7B3-43FA-94BD-7FB4A4CB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33A-C004-4F79-8F05-B2C4216F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02D-86E8-4B47-A98D-0470E6CD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7E74-932E-4934-B4A6-379A5D9345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зміщення про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11Z</dcterms:modified>
  <cp:revision>2</cp:revision>
  <dc:subject/>
  <dc:title>Слайд 1</dc:title>
</cp:coreProperties>
</file>