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35E-39E8-48CE-B418-A3CE164F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C6D-91F2-436C-A5E2-69839ED3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E2E-05D8-4207-89F5-5D913276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D27-BE06-4093-9CC4-E022B8E0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1DF-7A77-4F4D-9A94-A1E94DAD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BF6-D26A-4528-93B5-8B13289C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55C-839E-4EC8-9AEE-BDB79623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5CE-EDED-4C21-AE91-135A5061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178-43D8-4A0C-9A94-2825168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9C8-61C4-4289-8BED-1EC342E1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A94-2A3B-4857-A5E2-404160CD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973-4822-4DBA-9E99-800B0776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C3E7-71AC-46B2-8C3F-D5820AC50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Відбірковий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індуктивність кот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Фа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Т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Генр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м можна пояснити різнобарвні смуги  на плівці бензину на мокрому асфаль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промені називають теплови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видиме сві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інфрачерво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рентгенівськ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ультрафіолет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Формула для визначення періоду вільних електромагнітних коливань в коливальному конту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0920" y="4076640"/>
                <a:ext cx="7239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20" y="46548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44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00720" y="4076640"/>
                <a:ext cx="7333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95640" y="5661000"/>
                <a:ext cx="799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-13680" y="5324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43640" y="5589720"/>
                <a:ext cx="733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прилад для контролю якості поверхні шліфованих вироб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когер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іді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йна гр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Як змінюється частота світла під час переходу з вакууму в прозоре середовище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бсолютним показнико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збіль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залежить ві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ута паді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залиша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змін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змен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. В яких одиницях вимірюється густина енергії електромагнітної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Дж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безрозмі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ж/м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ється густина потоку випромінюва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J=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sin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Δ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 межі довжин хвиль видимого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0,4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λ≥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0,4 – 0,77 м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0,76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показник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залежність показника заломлення світла від до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 якому році було сконструйовано перший  генератор незатухаючих електромагнітних колив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1894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 1913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1902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1897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7:14:21Z</dcterms:created>
  <dc:creator>Роман</dc:creator>
  <dc:description/>
  <dc:language>en-US</dc:language>
  <cp:lastModifiedBy>Роман</cp:lastModifiedBy>
  <dcterms:modified xsi:type="dcterms:W3CDTF">2008-02-12T16:40:28Z</dcterms:modified>
  <cp:revision>8</cp:revision>
  <dc:subject/>
  <dc:title>Слайд 1</dc:title>
</cp:coreProperties>
</file>