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24E-D5A7-4FA2-B341-8991BB24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A2E-7DD9-478A-AA03-3B12860B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027-90AB-4335-BC72-85838DB2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6ED-2B1D-428F-9FAC-E3D2A9A1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E94-49A5-4ACF-832A-F8578B48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871-84F9-479F-8334-A653F227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F67D-F7A0-486B-A12E-5C59F6B5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6EC-B4C4-4BB5-897D-87D62BEB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487-BF19-46D8-93D2-85A79229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F79-6CD2-485C-A647-1463A8C7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34C-3EAC-4998-B9A2-CADF883C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8C9-9FB4-4CE3-9721-DDF4A220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7C06-B6A5-4DD7-8EEC-4519F1532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т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іж падаючим і відбитим променем 4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Чому дорівнює кут падіння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швидкість поширення світлової хвилі в  середовищі з абсолютним показником n=2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ломлення світлових променів з земній атмосфер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е явище лежить в основі будови світловод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падає на поверхню під кутом 6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Чому дорівнює кут паді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показник заломлення, якщо світло заломлюється на межі «вакуум – прозоре середовище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кут заломлення, якщо кут падіння 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відбуваються зміщення променя, що падає з повітря під кутом 3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на скляну плоскопаралельну пластин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чого залежить граничний кут повного внутрішнього відб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речовина є оптично більш густ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чого вимірюють кут заломле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довжина світлової хвилі під час переходу з вакууму в прозоре середовище з абсолютним показником заломлення n=1,5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28:22Z</dcterms:modified>
  <cp:revision>3</cp:revision>
  <dc:subject/>
  <dc:title>Слайд 1</dc:title>
</cp:coreProperties>
</file>