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C72-1601-4106-BFF7-C81F39E4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BCB-8942-4BEE-B988-BBAF773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F5B-56A7-4538-81DC-8A3F4F5B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044-79E3-49CE-8C5A-D66E448F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CB0-D772-461B-935A-4808AA3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AB8-1913-4F6C-9CE0-82A4B12F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930-303F-4794-92EE-B65F3AA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FF9-7347-4B45-A9A0-8F5CD31F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692-ADFA-4767-85A0-6421585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D5A-433C-4812-B5C3-0A35D99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EE0-CC25-45BC-B3DD-5215176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D39-CCCF-4B8A-8FC6-5A65550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C5D-BC69-42BC-B310-5D0E5ECB8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кут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04Z</dcterms:modified>
  <cp:revision>2</cp:revision>
  <dc:subject/>
  <dc:title>Слайд 1</dc:title>
</cp:coreProperties>
</file>