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3B8-6476-4F4C-87AB-451CAA01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70E-C374-4BD2-B27A-53EB9024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4EF-92ED-4380-9691-3F70C762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ACE-611E-45AE-9B0D-29358769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E3D-B8EC-42CB-90A2-F6B89A58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E8C4-8147-40DA-8C78-6BFD0CB3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7AF-0835-44E0-9043-3D43851C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C2D-A022-4CF6-A6EA-270A1859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EF7-B12D-4D06-9D86-3ACDB026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38D-A1D9-4AF4-9160-23E8736A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B54-FFBB-47FF-B92D-EEB4DBF8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D5C-753D-4505-9B4E-C45D5795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0DA8-9C19-4E73-83A5-B2E88C247A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човина,  якою покритий екран кінеск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18:06Z</dcterms:modified>
  <cp:revision>2</cp:revision>
  <dc:subject/>
  <dc:title>Слайд 1</dc:title>
</cp:coreProperties>
</file>