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099A-E470-4299-B308-5E94930A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466-7AFF-4E55-A4D7-6471467A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C2EC-9466-4DFF-BF4C-10B8A1F5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4EE-C738-4006-A38D-FC61FFB5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AE6-AB3D-4E49-8133-06B9234C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2BDC-78FF-4F8C-ABDF-D2CDFF21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CB4-BBE8-492D-8D50-F837D814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915-1C8E-40E0-8974-ADA7EB12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7E11-ED57-43C3-A3A0-3B983F90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93E1-674D-488F-8969-9C0C4432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F3B-169E-402C-AB0F-C1ABCE61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A15-8914-4C41-AEC6-BDDA1521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D4E1-6B8D-4765-831C-F17EA06B43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приладах використовується  повне відбивання світ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7:32:16Z</dcterms:modified>
  <cp:revision>2</cp:revision>
  <dc:subject/>
  <dc:title>Слайд 1</dc:title>
</cp:coreProperties>
</file>