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E3D3-F2B9-4033-8C8D-1649B1C05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7176-859D-4D19-A834-6A87BE16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4AB0-60DF-4A5A-863A-A60E2BE22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D137-4C6E-4B9F-9F14-9D6595F51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8C76-6AD1-4248-8DEE-A19BED87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5389-454A-4084-93E3-CFEA1707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0905-2B2E-4745-B967-32FD654C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429D-C836-4469-9B1E-86A4F980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49FC-8533-41C5-9AE1-B49BF96A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E062-503A-4E7B-9AC2-FCB64EED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8534-2945-47D0-AD4E-3926ADA5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CE9E-AD2D-4123-9DBD-ADB22A0D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2FCD-7E3B-40D0-A466-290F00680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 скільки кольорів поділив Ньютон суцільний спектр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, який перетворює природне неполяризоване світло в поляризован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датність ока пристосовуватися до різної яскравості предмет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мінюється вигляд неба при підніманні вгор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іж якими кольорами у смужці спектра розміщений зелений колір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вітло якого кольору відбиває зелений виноград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ому середовищі  промінь світла може поширюватися криволінійн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ому ми бачимо тіла, які є навколо нас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а найбільша довжина хвиль видимого світл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е природне явище допомогло О.Ремеру визначити швидкість світл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стань між найближчими  точками світлової  хвилі, які коливаються в однаковій фаз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вітлові промені якого кольору мають найменшу довжин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17:40:57Z</dcterms:modified>
  <cp:revision>3</cp:revision>
  <dc:subject/>
  <dc:title>Слайд 1</dc:title>
</cp:coreProperties>
</file>