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9428-E3AB-4138-89E0-C5C2D73E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8C6D-EA75-4DED-93F1-5428D5F6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1E49-CC74-4FED-B056-FE70283E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4C08-BEF9-484C-840C-20A8FD79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7EB7-A7A9-40DB-AC16-069D21E5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6589-7750-4F93-8D19-980AF061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81E6-4DE8-42BE-A3B2-8FDA206E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6D9-7287-456C-83F9-481C9738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2001-CBEF-4CC3-BB15-52CA8765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EF26-E865-41E1-AB32-3005C20E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D5C-D515-4389-B087-8A0855EB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3104-DD1C-40C5-AD6E-7C7736DF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32CC-7CBA-45EC-A7C0-8F546B0A4F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сніг біл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44:56Z</dcterms:modified>
  <cp:revision>2</cp:revision>
  <dc:subject/>
  <dc:title>Слайд 1</dc:title>
</cp:coreProperties>
</file>