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5746-6C9C-461D-B203-6A300EF5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E093-662E-4854-8098-6045E140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6444-AC57-4188-8590-C024A80C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F922-269D-474F-B046-A8C8BEF3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08CC-6A7D-4CBD-8140-24A05697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DF41-B08A-4CF6-A775-2FBCCDB4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8221-163E-41F5-BF30-34EA7460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1A39-B249-4024-AB78-9DECD04C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55D5-8789-4C82-A615-2BE17DF0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3D4E-E47D-4F80-9932-8A61E470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B140-F6CA-475B-83F7-E0137228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E8EF-34C5-4274-8552-2490BD6A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7FDC-B14C-49B3-B56D-B09F3792B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реєстрації електромагнітних хвиль в перших радіоприймач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перетворення звукових коливань в електричн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еличини, які визначають положення тіла у просторі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перетворення електричних коливань  в звуков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перетворення зображення об’єкта в електричні сигна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перетворення відеосигналу в видиме зображен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Лампа для отримання рентгенівських проме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тичний прилад для визначення концентрації речови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називається коливальний контур, забезпечений антено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ша назва відкритого коливального конту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ій для випромінювання і приймання відбитих хвиль в радіолокаторі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демодуляції  в радіоприймач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33:22Z</dcterms:modified>
  <cp:revision>3</cp:revision>
  <dc:subject/>
  <dc:title>Слайд 1</dc:title>
</cp:coreProperties>
</file>