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E16-668B-44B3-BCCF-B5F6A09E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C2F-EDA6-47CA-B8FB-560D3A56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DC3-DAE7-4C9F-B9D0-8B777214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C09-2B5E-4293-9390-9BC86167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0A9-C418-4E07-A90A-A6E5DB33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E2B-A69F-4925-94AB-0713424C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536-6C57-47FF-A865-82AD3F6A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D83-4BA5-4CE7-964B-6AFA0190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B32-3833-45B2-AB75-1BE26273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F2A-F4C6-484D-B0A4-B6E96F2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A30-0370-4F6F-9FF9-88FD3BD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EAC-D971-4474-83DB-25C3BB68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A81B-9BE9-458F-90E1-9A2EC27BA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промінь не заломлюється на межі двох середовищ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4:28Z</dcterms:modified>
  <cp:revision>2</cp:revision>
  <dc:subject/>
  <dc:title>Слайд 1</dc:title>
</cp:coreProperties>
</file>