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C4D5-DC34-4DF4-AD10-EBA61B84E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7A9A-8834-476B-9CA6-8E362E022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BAE7-C084-402F-B59A-45A4DCD58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B167-B9E8-4F99-8A08-FA22628F7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955F-C941-415E-9D80-E56852F33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5DFE-0094-49D9-9482-AAD64A39D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1030-58AA-4D74-B8CB-3BBB000F6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7343-3F63-4590-AD48-12AFCD0A0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E7D4-1B28-484A-901B-1C448A3FA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C2B8-57AC-404F-9CE6-A58AA4709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DC1F-1C36-4C58-A5D1-40AEDB0A1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2549-749D-4325-B279-04EFD8E90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3B85A-BDC0-4FF5-86F7-881C944B0A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 називається твердження про те, що кожна точка простору є джерелом вторинних хвил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2T22:43:26Z</dcterms:created>
  <dc:creator>Роман</dc:creator>
  <dc:description/>
  <dc:language>en-US</dc:language>
  <cp:lastModifiedBy>roman</cp:lastModifiedBy>
  <dcterms:modified xsi:type="dcterms:W3CDTF">2008-02-15T08:35:43Z</dcterms:modified>
  <cp:revision>2</cp:revision>
  <dc:subject/>
  <dc:title>Слайд 1</dc:title>
</cp:coreProperties>
</file>