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9F3D-06C7-4E1B-83D3-D1937BD9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840C-BF9A-4B32-9277-A89FA5E5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1B67-532E-4538-9B1A-5733C9AF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0D46-C6CD-407F-B8C0-6532FBDF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4C77-36D8-4BF2-97EC-75C831C8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9824-EB87-4EF6-BA0E-D5E00788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424-16FF-43AE-84D7-46C2F1C2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9558-91F5-4C38-AF9D-C18DFCF1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B8CC-ABCB-4BE0-9C62-2F37CC25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5A25-FF7F-4B29-9B1D-7387B011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7B91-1DE4-49B2-B793-FD02472E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DA4-91FC-497C-A3FA-2903A91F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DF7B-04C6-4E9A-88C0-3028A4AAA1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новний елемент спектроско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7:44Z</dcterms:modified>
  <cp:revision>2</cp:revision>
  <dc:subject/>
  <dc:title>Слайд 1</dc:title>
</cp:coreProperties>
</file>