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BEA6-20DF-4831-9BF0-5843E87DB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45D9-E70B-4548-B069-DFF1D2738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4A9B-8F1D-49C4-A06C-62CF9CD83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7AD8-CA65-4C91-A872-03F7F16B4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5CD4-9A2B-498E-A8A7-EDDC0989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8760-C4AC-4D0F-9B7F-1F9032495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F4C9-32FC-4BB6-8D51-957F67B8C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147A-35DA-4F09-A727-D3C995CD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F564-79E3-4E67-A2A8-F978C60B5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2892-7D15-4334-B707-2F86E4ED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62CD-600D-4B0C-92C2-6A4B831B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826B-A3C1-4800-88D3-56E3F68A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F967-65BB-435C-8BBC-1707E6CDDF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ля яких хвиль спостерігається явище поляризації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22:43:26Z</dcterms:created>
  <dc:creator>Роман</dc:creator>
  <dc:description/>
  <dc:language>en-US</dc:language>
  <cp:lastModifiedBy>roman</cp:lastModifiedBy>
  <dcterms:modified xsi:type="dcterms:W3CDTF">2008-02-15T08:35:20Z</dcterms:modified>
  <cp:revision>2</cp:revision>
  <dc:subject/>
  <dc:title>Слайд 1</dc:title>
</cp:coreProperties>
</file>