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BEE-7A14-4996-A2ED-1392616C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018-37D2-41B9-8A2C-80767ED3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39E-8515-4D22-9E26-5DFD7C68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B85-6B33-4749-B9B6-6E9FA228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438-EDFD-4BC0-8B78-F52776C1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B68-9842-4FA0-A87D-CEEC6CF7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3B4-BDB2-4CF3-BFC7-BBBC7A71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269-1BD1-4E29-A939-650443A4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93A-38B3-463C-A219-1F0F377D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6C1-917D-4FE9-9E7E-677F5072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06C-1068-4CE3-8CF8-CB78A7C5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FB5-9D9F-4B9C-9211-44298B7A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B239-746B-4ED6-B84C-2E175B4D6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ди відхиляється промінь при переході з менш оптично густого в більш оптично густе середови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5:37Z</dcterms:modified>
  <cp:revision>2</cp:revision>
  <dc:subject/>
  <dc:title>Слайд 1</dc:title>
</cp:coreProperties>
</file>