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841-EA5E-40A8-A152-5D25A71B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E6A-0493-44A0-9C91-0B6B96F8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1BA-24FA-4C53-A804-79F0715C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B71-CFF6-49FC-B19C-CED06D42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EC6-CBDC-4F16-A819-C2304E5F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EAB-BEFC-4DEB-8F24-269A88F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D66-B640-4327-A70D-ACA45349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382-D9A7-4E5D-8D25-24663B3B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3C9-392F-4AFC-B27F-F419B174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D0E-767A-46FB-B298-41A5A97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D10-46E2-4948-929F-A7EED912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0A0-A96B-4757-ACEE-00781E0B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8EFE-0FFE-402A-B17E-C0327482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сперс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алежить показник заломлення середовища від дов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пропускає червоне ск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отримаємо, якщо скласти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є тіло, що поглинає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е явище в атмосфері, що являє собою одну, дві чи декілька різнокольорових 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фотографування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перв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втор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найменше заломлюється в тригранній призм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розташоване в спектрі між жовтим і червоним кольор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41:11Z</dcterms:modified>
  <cp:revision>3</cp:revision>
  <dc:subject/>
  <dc:title>Слайд 1</dc:title>
</cp:coreProperties>
</file>