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4750-E271-400C-A1F7-732C278FE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B304-007F-42BB-B4D2-3776297A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1247-0B0E-4B33-9FB0-BF0D5A0C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2B59-5EE6-48E0-A41D-301CA9342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5A49-301E-49CB-BD16-4760DA7F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0300-63B2-43EC-957C-518A6913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AAB2-BA6F-4F51-8E7A-99D026C8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24FC-6C69-467A-B77E-51E1BC47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A87C-1728-4639-BF81-6EAAA1DB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4CFF-1ECC-4F76-A789-679F301A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12A7-E871-4499-8567-A67F70C0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FF88-0B9B-4EDD-A0DA-12E41442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6CC9-D243-4754-B56B-4382FCA0E0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оптичний прилад використовують для виправлення дефектів зор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Роман</cp:lastModifiedBy>
  <dcterms:modified xsi:type="dcterms:W3CDTF">2008-02-12T19:52:11Z</dcterms:modified>
  <cp:revision>2</cp:revision>
  <dc:subject/>
  <dc:title>Слайд 1</dc:title>
</cp:coreProperties>
</file>