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08D-8C0B-4551-8497-CF49F7B7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821-69E3-4010-98B2-5B853F78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1D8-AF86-4DEC-8C08-BE562A8A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A21-EEAB-4530-8B80-A8DEF365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2CB-8A28-4EF3-8E05-0D292814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64E-62C8-4B3F-BB95-CFD7C51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1C1-776F-40B7-ABA5-AC7AAEE4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50E-FD69-42A6-BCE2-B94C70DF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FA6-104D-4FD5-818D-40BE8DAF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4B1-05C9-4B82-9E70-7FACF1B0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74B-B400-4778-94A5-D77357B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EED-635B-451E-B775-5E93F9E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D6A4-AF09-4042-AD02-3C1B9710A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оптичний прилад використовують для виправлення дефектів 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2:11Z</dcterms:modified>
  <cp:revision>2</cp:revision>
  <dc:subject/>
  <dc:title>Слайд 1</dc:title>
</cp:coreProperties>
</file>