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2E8D-E59D-480B-81D8-E5C95F50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A0F-0459-42DF-94DB-675A1DBF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15F-79A3-458E-8F77-036DD541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4CEE-DBFD-4EDC-A0E5-EC2DF6C6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B7F-7A08-4BED-B8D9-BC5FAD00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F3B-E1BA-43A7-B6D9-1B7CB465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62C-5D5A-4C76-8FD8-97594962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EA02-7A49-467A-AFEB-7EE10D77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ECBD-F68C-4B65-B492-E16EDA0B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1A3-7A81-4FF6-8D55-3A9E03AF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D40-60FF-411E-9DBD-D435D610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CE9-0D6A-4587-B707-86F01403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B832-118B-4131-8771-F72A30EE3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 яких речовин добре відбиваються електромагнітні хвил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ому середовищі промінь світло може поширюватися криволінійн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м пояснюється виникнення весел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м пояснюється забарвлення мильних бульбаш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ище накладання когерентних промен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ище огинання хвилями  країв перешкод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ктромагнітні хвилі поздовжні чи поперечн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лежність показника заломлення від довжини світлової хвил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, в якого електричні коливання здійснюються весь час в одній і лише одній площин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лощина, в якій здійснюються магнітні колива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лощина, в якій здійснюються електричні коли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ві промені якого кольору найменше заломлюються в тригранній призм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9:28:36Z</dcterms:modified>
  <cp:revision>8</cp:revision>
  <dc:subject/>
  <dc:title>Слайд 1</dc:title>
</cp:coreProperties>
</file>