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E97-0212-44C3-822B-6E244F5D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483-677F-4722-9B14-94A3D9D3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0D8-8959-4CE9-9737-F71D0553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7E6-FDBE-4CB2-B04C-D1B92EAB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130-DA96-4B5C-8C62-79D3DD4E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2FF-F51C-4CAA-B79C-6487BED7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735-79DC-45B4-AEDB-50298D9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C74-36F4-4A9E-82A7-A5AFD459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C3B-6792-4F43-A87E-22A3B7BD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942-B18C-45FB-90A9-25105F15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E68-21E9-4EE1-892E-91CF19BC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3A1-FD07-4341-A1A4-D9450EE4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CCF-88EE-4328-AA3F-D15D3DAC2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 якої тварини  неможлива електронна пош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23Z</dcterms:modified>
  <cp:revision>2</cp:revision>
  <dc:subject/>
  <dc:title>Слайд 1</dc:title>
</cp:coreProperties>
</file>