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5CB9-7254-4180-8C07-F9EEC8C6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FA6-AEB9-4BD4-89F3-2959D1C3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9C6-1B0D-4EA6-A21C-3FF94126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B95D-3426-45A1-8563-8B3FEE1E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6EF-03A2-42AE-AA83-2B2B713D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E691-A93A-429E-8B0F-CA4E7ED2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B6E-FD17-47FF-8DD5-1A05646D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2A3-C835-42F2-9ADD-E548F065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8A20-2148-4FEF-A5CF-215E4097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826B-C0D8-41FD-B667-8A97A5D2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886A-1557-43E4-BE0D-684277AA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E431-3993-46B8-8207-A084482B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99C4-9EDE-4784-A08A-2DAFD0C74A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звіть кристал, який поляризує світ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8:13Z</dcterms:modified>
  <cp:revision>2</cp:revision>
  <dc:subject/>
  <dc:title>Слайд 1</dc:title>
</cp:coreProperties>
</file>