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0A8-5F24-45E4-866D-54BFC320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69B-1578-4110-98E0-9AF5435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4F2-0F91-4739-9FBB-8091791F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484-F704-488F-BB70-A23CBF41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645-CD0B-465F-A895-68DA59C3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D82-5B46-4FD7-BB88-398C6A44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F72-474A-4A7E-9E9D-1E6E1CC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83D-17CD-444E-AE12-B6639931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007-C4E4-4EB0-9197-DC1728DB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ADD-906A-40A9-B444-4F62A059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191-6D1A-45FB-BC5E-041869C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84A-B9F9-4DDD-874C-B733A17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8E4D-A757-46AB-85A2-C5FD94428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винахідник – творець електронної системи передачі на відстань рухомого зображен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01Z</dcterms:modified>
  <cp:revision>2</cp:revision>
  <dc:subject/>
  <dc:title>Слайд 1</dc:title>
</cp:coreProperties>
</file>