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A64-7E86-4C7F-B241-922E6F8D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1AB-487F-4A79-A94E-7531EA56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35FA-1405-4C94-A6F5-613C0E4F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A71-34DD-49BD-93B5-70C3A310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CD4-1906-4DB0-95B8-2549ADEB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6A9-261A-46A2-82D3-FB237058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B54-C975-4413-94FF-7AA76848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027F-A705-4615-BE08-0299F29A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D93-3693-4889-8026-5295AE4B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1EFD-5506-48E7-99A0-25829C26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AF8-697A-467B-ADA7-EDBD1030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CB1-0368-47F9-B256-16A23C02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F16A-3EEF-4A89-875D-C00DD281F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сперс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алежить показник заломлення середовища від довжини хвил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пропускає червоне ск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отримаємо, якщо скласти всі кольор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ає тіло, що поглинає всі кольор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е явище в атмосфері, що являє собою одну, дві чи декілька різнокольорових д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 для спостереження  спектр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 для фотографування спектр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новний елемент спектроскоп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и бачимо із зовнішнього боку первинної весел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и бачимо із зовнішнього боку вторинної весел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найменше заломлюється в тригранній призм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розташоване в спектрі між жовтим і червоним кольор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20:41:11Z</dcterms:modified>
  <cp:revision>3</cp:revision>
  <dc:subject/>
  <dc:title>Слайд 1</dc:title>
</cp:coreProperties>
</file>