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944-AB99-41F4-B563-CCBAC9B0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556-7EF6-4C36-81B6-36419B26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A0D-801E-4711-8C7F-A45CA9D3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CA9-3FDF-401B-8A51-F71C9127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3B8-D1C0-4127-BE2C-851E9D85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5AB-43F0-47B1-9780-B453A099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F8E-2716-44F9-881E-153939C8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D87-B253-4E31-9DF7-A3180ABF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53A-BAE3-4FA6-9092-269411CE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C60-B71C-47F1-9F19-3CEB63F4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479-CCAA-46E4-8B84-332D7A23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786-6BE2-4DC6-831D-7C5A1ACE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B8D2-7BC3-4F9B-9560-78761F06D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хвилі одна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ення прозорості лінз та об’єктивів для світла певної довжин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ють лінзи з просвітленою оптик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вітлення оптики підвищує прозорість лінз для якого кольору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вилі, що мають однакову частоту та постійну різницю фаз в кожній точці прост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ртина чергування максимумів і мінімумів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спостерігати інтерференцію від вмикання двох електричних лампоч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інімальна відстань між сусідніми максимумами при інтерференції хвиль з довжиною 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від освітлення синім кольором перейти до використання червон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занурити всю установку в во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мериканський вчений, конструктор інтерферометра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нахідник бідзеркал та біпризм для дослідження інтерференц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54Z</dcterms:modified>
  <cp:revision>4</cp:revision>
  <dc:subject/>
  <dc:title>Слайд 1</dc:title>
</cp:coreProperties>
</file>