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AA0-7394-40A0-83FC-B0C55503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F1F-D65B-40FA-A17B-5ACE54D8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75D-F760-42DE-B73E-202178CA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56E-C586-4132-8BA9-2C4D5763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AC4-E021-4CC7-AE51-48F94F8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3C3-925D-4F38-A501-17CDECA5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2B0-6B96-4EFE-A3CC-28B34352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FE4-11CB-45C5-824D-D8C7EDC6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4CA-FEB5-4AC1-8E24-85B95FA0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895-D492-44CE-AAEB-C905C27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16B-9154-414F-A803-730B9A6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2CA-1253-43AA-A440-D64F120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089-5F35-46B4-A7E0-84B4FEE35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зміщення про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11Z</dcterms:modified>
  <cp:revision>2</cp:revision>
  <dc:subject/>
  <dc:title>Слайд 1</dc:title>
</cp:coreProperties>
</file>