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233-0609-40EF-869F-31CCED9F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771-80D7-4E87-B4FF-E7B22B22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3B2-3DA2-4D2A-A37E-75C81E80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C55-12A7-42AA-9DCC-2ED855E0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97D-4882-42B7-95F1-402B011E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4FD-1047-4C9D-B8C5-B7628F26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F3B-AC1D-404C-9B69-159A1C9B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11C-E693-47AF-B844-985ADB70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C98-8A1D-49FA-95FC-FCBE2AFD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2D5-2386-47F8-902E-6C1BE9C8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146-D734-4E7A-9F93-E1A713B2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56C-FBF5-42B1-8BFD-E1372664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3DDF-4E6D-441F-945F-23808960A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для спостереження за небесними світи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атність кришталика змінювати свою кривизну в разі зміни відстані до предм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інія, що вказує, напрямок поширення світлового пу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уване ск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 біол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лескоп, побудований на  базі лінзової оптичної сис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лескоп, побудований на базі дзеркальної оптичної сис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побудував телескоп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побудував телескоп-рефлекто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зоре тіло, обмежене з двох боків сферичними поверхн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оптичну сил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від оптичного центра лінзи до фоку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45:17Z</dcterms:modified>
  <cp:revision>3</cp:revision>
  <dc:subject/>
  <dc:title>Слайд 1</dc:title>
</cp:coreProperties>
</file>