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693-00DC-41A6-9DC9-1D3244DA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B39-26CD-47CC-83DA-C14107A9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ADA-B403-4241-99A0-9603C8E1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213-0B9E-4800-AADE-E6189456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3EF-B84D-425B-A8E0-CCD666AB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DA4-BFC5-469C-B4C8-390CBC77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0FE-BD2C-4176-A699-8950A5FA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5A4-981C-40EF-9E7F-0CE3F32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01A-D8C3-471E-A812-3726707C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DEF-D9B4-48A4-A97C-9C35F09A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7F0-F645-43A8-A78C-EEA242CD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960-FB9C-4F30-A84A-D4C79B8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A6C6-7F09-47A8-8ACE-3C647BD14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діапазон довжин хвиль довгих радіо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10Z</dcterms:modified>
  <cp:revision>3</cp:revision>
  <dc:subject/>
  <dc:title>Слайд 1</dc:title>
</cp:coreProperties>
</file>