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AEAD-0A7D-4A27-9894-9115B8F9A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B11F-8B3B-42AF-B875-146461266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38F8-57E0-434B-A6AC-3EE4F4E33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A89C-75B4-4706-9956-7C59C3083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6C55-5890-47E3-8EBC-A63FD6E0E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FBEF-6003-4D7C-BAF6-9CDDAADCA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7647-1AA8-442D-9461-2A0421934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64C6-2018-41E3-A6C8-68055CBF5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5700-8AD0-4741-A3E7-775F2CF62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7903-8FFB-49CD-97F6-D8A7F3F8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25F4-794E-460A-B5EF-B403CA1E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9C80-2954-4D3E-966B-0BD00F70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42F73-DB87-4670-ACED-65FE2138BC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уди відхиляється промінь при переході з більш оптично густого в менш оптично густе середовищ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7:36:31Z</dcterms:modified>
  <cp:revision>2</cp:revision>
  <dc:subject/>
  <dc:title>Слайд 1</dc:title>
</cp:coreProperties>
</file>