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BBA-32EB-4C31-A852-DDE6ECC6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A0E-44A8-42A0-AD29-22A98BB4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7DC-A40B-4AC6-8BC5-A81DA53B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942-31EC-4777-A548-B2DF7FA0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BA9-2D14-4459-BA56-9367FB23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146-BAEF-48D1-ABD3-9009DA32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B78-6C01-4D25-81E0-246B87B1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7C5-947E-495C-A7E4-9FA8D63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2B0-2133-4DA1-8C3D-AF3B8261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7CC-D7F2-4ED6-AD38-7C3A9A0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1A9-8561-49FA-893E-9D711E9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E84-130F-45C6-9E01-F5F8193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25A-07CD-4A09-B4C6-037C8973C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електромагнітної теор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дослідив дисперсію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вчений, автор відкриття Х-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перше здійснив дослідже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експериментально довів існування електромагнітних хвиль і досліди їд властив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радіоприйм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патенту на застосування електромагнітних хвиль для бездротового зв’я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у належить перша спроба визначити швидкість світла прямим мето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визначив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андський фізик, автор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та фізик, автор 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ідкрив спосіб просвітлення оп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3:53Z</dcterms:modified>
  <cp:revision>6</cp:revision>
  <dc:subject/>
  <dc:title>Слайд 1</dc:title>
</cp:coreProperties>
</file>