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21E-8991-444C-A6CA-9555DD66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F43-CCD7-42F1-AD0D-E1F68D91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E19-B7F2-42F4-908C-9412883A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0A6-B65B-4961-BC95-4FE15388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D21-DB66-4294-A66B-6BFCD14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7CD-B937-4B77-8AE8-52E2E35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206-047D-474F-8F9F-D018543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E07-526F-48E5-80FB-EC56AE73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694-1C8C-44F7-A9BD-5F217F10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14C-3869-4C28-908B-8C18A192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359-9397-4182-81F1-5ACFA9D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6AC-8F20-439D-BBB3-6F767FB1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52F9-9C20-4D7D-BC63-0F61A2E78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мобільного зв’я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53Z</dcterms:modified>
  <cp:revision>2</cp:revision>
  <dc:subject/>
  <dc:title>Слайд 1</dc:title>
</cp:coreProperties>
</file>