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4785-F612-44A7-9D83-C9DE5302E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3248-FD01-402F-BF9A-69D81D456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A907-47A9-4499-9536-417716058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52C7-D661-45BB-A9D8-F187E61D1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53F7-6CC3-4AF3-AA0F-A42AD2BA0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FE48-8BA2-4D5C-9019-E497C57B9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74B7-84AC-4127-BF1B-6D496C746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4A1E-DC36-4448-B876-3E694AA8A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F9EA-7147-4D51-A5BC-B7B23D6BE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CFCE-B67E-409D-93F1-54BC56CC1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24DF-0104-4CF3-A010-798FEB114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1AB4-1C93-4E32-A497-E54DB9A19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5D0DF-E4BB-4250-B7DE-720A5526FF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к спрямовані в електромагнітній хвилі вектори напруженості електричного поля і індукції магнітного пол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3T13:43:05Z</dcterms:created>
  <dc:creator>Роман</dc:creator>
  <dc:description/>
  <dc:language>en-US</dc:language>
  <cp:lastModifiedBy>Роман</cp:lastModifiedBy>
  <dcterms:modified xsi:type="dcterms:W3CDTF">2008-02-12T19:56:43Z</dcterms:modified>
  <cp:revision>2</cp:revision>
  <dc:subject/>
  <dc:title>Слайд 1</dc:title>
</cp:coreProperties>
</file>