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B8B-CC4B-4169-9291-FEAC4DB0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756-187A-4AB3-8F02-BA45694F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76B-88CB-42EE-9A3A-88902E2D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84D-D28C-44C3-BA63-E1097017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870-0F52-4BFD-92F2-A376CE8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126-014F-4768-A237-B7992E4C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208-373F-4FA8-9A5E-9C598474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CE6-1619-492B-8B6D-018CD01F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F07-9895-4341-B215-59FE5179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8A7-2A38-4D23-B25F-372824D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F19-28FA-4737-BD76-A07DD6FF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2EF-680B-48DC-B163-AFE6B2E4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A31A-18F3-41E1-9913-3DE83627E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 радіолокац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застосовуються для сушіння матеріалів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космічного зв’яз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сполука в атмосфері Землі захищає її від космічних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використовуються для руйнування злоякісних пухли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мені, що  мають сильну бактерицидну ді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інфрачерво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передачі телевізійних сигнал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значення змін в організмі за допомогою рентгенівських 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явлення дефектів у деталях машин за допомогою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и, які трансформують інфрачервоне зображення в види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02:42Z</dcterms:modified>
  <cp:revision>3</cp:revision>
  <dc:subject/>
  <dc:title>Слайд 1</dc:title>
</cp:coreProperties>
</file>