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F16-8FC4-45FA-A886-48D1C7E0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D70-7B8A-4333-AF26-4F3D60B7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D7C-2EA2-4432-B576-9B53E72C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900B-16B4-4A10-AED1-0EE03BB0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9B4-57FB-42F5-BE5A-831CE6D4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84C-C46D-4528-B1BF-8F776178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1AD-C1D5-440E-A2D2-60BEF542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549-3F0A-46B9-BF58-FF8C54AA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B80-5D1B-48B6-9C50-808D5D46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B2F-0142-490B-AE4D-AC7F3E48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D969-5637-45C3-AF64-E78B4ABF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622-3544-4683-87FE-0FB1FB19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1E76-B134-4617-B40C-E9A1A45AAF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звіть умову дифракції 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8:55Z</dcterms:modified>
  <cp:revision>2</cp:revision>
  <dc:subject/>
  <dc:title>Слайд 1</dc:title>
</cp:coreProperties>
</file>