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DE28-6E5B-4083-B484-ABD657C5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3E0C-FE2B-424D-ADB4-DF525D00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DC0D-F5D5-470A-895C-C69B2D62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91CF-99DF-4D8D-AF2E-182DCFC2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63F6-64CA-4E21-BDE3-51DD49CC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1E22-F027-45B4-A47B-F2F6C5A7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BA3-4ACE-421C-8BD1-D4FC9738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70A6-0638-4071-B5E9-4A05F1F2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1371-C5B1-4945-AF90-E10199D0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82F9-D18E-428D-BE97-27377399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BFB-B552-4E30-AE6C-938BB801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AFFE-911B-44F5-B7A0-0BC3EDEC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CD67-6FB7-4918-8153-EB3E81490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хвилі застосовуються для  радіолокації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промені застосовуються для сушіння матеріалів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хвилі застосовуються для космічного зв’язк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сполука в атмосфері Землі захищає її від космічних ультрафіолетових промен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промені використовуються для руйнування злоякісних пухлин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мені, що  мають сильну бактерицидну ді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 якого матеріалу виготовляють лінзи та призми для дослідження ультрафіолетових промен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 якого матеріалу виготовляють лінзи та призми для дослідження інфрачервоних промен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хвилі застосовуються для передачі телевізійних сигнал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 визначення змін в організмі за допомогою рентгенівських  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 виявлення дефектів у деталях машин за допомогою рентгенівських 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лади, які трансформують інфрачервоне зображення в види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02:42Z</dcterms:modified>
  <cp:revision>3</cp:revision>
  <dc:subject/>
  <dc:title>Слайд 1</dc:title>
</cp:coreProperties>
</file>