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910-6BE6-4143-A03E-2459EB85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487-9BB4-4C41-86D8-1350BD5C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A59-658C-4E86-87B5-B3B6ECE2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5E97-97D6-4E67-BF2E-3E05D873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14A-EE96-4D07-8078-45048696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7D84-1A70-41E3-A1E2-735496FB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B69-31BB-4E86-9D27-C7F36708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1371-AE89-40E5-A6BB-F41309D7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49A-8CFD-4E4F-A8C9-53EC40EF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D3B-6D1E-44DA-8A9A-C4E2E0FE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A9F-F618-4FF8-B41D-E4C3BB9E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D86-0EDE-462C-842B-3190695E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3826-0346-4CD4-BACA-36314DC101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утворення радіо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0:43Z</dcterms:modified>
  <cp:revision>2</cp:revision>
  <dc:subject/>
  <dc:title>Слайд 1</dc:title>
</cp:coreProperties>
</file>