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1BF-4695-4EB6-9FC2-D75010B6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8B8-0C8E-44EC-AA64-FE783120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27D-E53B-42D9-A4BC-BFE4CC58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D12-343B-4DE0-BEDD-33890219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318-AF4E-4B46-8F30-82497741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668-A518-49AF-8B59-4879E2F1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BA6-249B-4C83-84A5-A668A646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506-C301-4EC0-9578-02F569A3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34F-C37E-46F8-B19A-01315C8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B52-CDD4-47A0-84DB-7B308EC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33B-AF09-4218-A5D4-FF6157D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CAF-16DE-42E7-9F1E-AA3B1B6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A851-A6CA-4A06-A97C-F1E94F0D2F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ристал, який поляризує сві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13Z</dcterms:modified>
  <cp:revision>2</cp:revision>
  <dc:subject/>
  <dc:title>Слайд 1</dc:title>
</cp:coreProperties>
</file>