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12C-EC37-4244-8FD7-17B55583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893-E286-4EB3-8B42-0D11BC24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298-2576-43E4-A713-A12E0CC8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F0F-69B6-47B9-9886-FFAB29CB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949-75FF-41A4-A972-6A054448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AAC-DE6A-4AAC-9C05-047A332E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A79-A9FE-452A-938B-ACD15CE8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4EA-1F00-4478-8300-842A6B58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12E-20F2-443D-AB48-07D5AABC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53E-7A7B-47D9-9F42-472711EF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6E4-C327-4DB4-ACAF-8D3CAB24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33A-FE2E-4BD1-93A9-1429A79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604-BF04-42D2-A997-05A7305CC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випромінювання та прийма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5:20Z</dcterms:modified>
  <cp:revision>3</cp:revision>
  <dc:subject/>
  <dc:title>Слайд 1</dc:title>
</cp:coreProperties>
</file>