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EA5C-1FC6-4040-865A-944BA94F2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FCF6-1889-40F8-87DE-D00D5276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852C-DFD2-4281-B2B4-E5745E2D9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0E8C-FC98-4980-9381-48765FF24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0C92-2ADE-4D7E-9D90-DDE0BC7E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BC56-1656-456A-AB88-B2529D2D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73CC-A0C5-4AB5-8C5F-CC3646B6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631B-AD4B-4836-B720-74EA52D0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20DF-B898-4BD9-8D4E-DDB7B683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CAFC-DD04-4142-A2F5-7706373C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7542-5FD0-4870-BC30-08B21BF9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12B1-BCA8-4D41-8209-7EE1B9E7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3BEF-2521-45B6-94D7-23C7F7400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ється довжина електромагнітних хвил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 якою формулою визначають граничний кут повного відбиванн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ється електроємніст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ється індукція магнітного поля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ому дорівнює швидкість поширення світла в вакуумі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В яких одиницях вимірюється частота випромінювання?</a:t>
            </a:r>
            <a:r>
              <a:rPr b="0" i="1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юється швидкість світла під час переходу  з вакууму в прозоре середовищ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ється відносний показник заломленн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ою буквою позначають довжину світлової хвилі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ється енергія електромагнітної хвилі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ою буквою позначають частоту випромінюванн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ють різницю  ходу світлових хвил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roman</cp:lastModifiedBy>
  <dcterms:modified xsi:type="dcterms:W3CDTF">2008-02-15T08:41:34Z</dcterms:modified>
  <cp:revision>10</cp:revision>
  <dc:subject/>
  <dc:title>Слайд 1</dc:title>
</cp:coreProperties>
</file>