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AECB-683B-4D87-BA05-E84C5910C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8ACE-7C29-4978-9E20-2658DD1E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9D8B-970D-40F2-8B21-CB37F22D3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56CC-EC5A-4618-B181-D668FE530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2C7E-B3CE-4BB5-B421-E4C570BE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68D1-206D-484F-87D9-C4BF3DCF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2B6A-B79C-4F80-B6D1-B65D0EDB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F45A-E83D-42FA-B008-59080BD0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8CBA-7CEF-45FD-A908-92047484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775F-7D37-407D-9D5B-34EE0E3A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B79A-B670-4C33-8454-5ED431D1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3817-C521-4B3D-8C74-4C1057C4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85AC-4BDD-4CFF-9629-3E47606E1C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сновний елемент спектроскоп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37:44Z</dcterms:modified>
  <cp:revision>2</cp:revision>
  <dc:subject/>
  <dc:title>Слайд 1</dc:title>
</cp:coreProperties>
</file>