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27B-E5E9-4080-9E8D-0FB4A39C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50C-8079-4320-B40E-73D3770F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AB0-2421-4DBD-9861-B9AA0034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6DD-FC37-4A99-95C0-7FBB4B69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8DA6-BC69-4BF9-9A02-8F7765A0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EB93-44ED-4FBE-BDC1-F2C39E67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718E-8154-4602-99D1-AD3E81E0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E36-D435-4BCD-8EA2-B64DC170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7F7-EA26-4AC0-8549-1BDA759A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947-E650-4673-B9DB-5C60D688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772-6A63-4813-BD3D-B0DA3810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E85-50A6-48F9-8FE1-62C504C5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5899-8E15-4602-87B3-79C336289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скільки кольорів поділив Ньютон суцільний спектр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, який перетворює природне неполяризоване світло в поляризова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датність ока пристосовуватися до різної яскравості предмет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вигляд неба при підніманні вгор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іж якими кольорами у смужці спектра розміщений зелений колір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відбиває зелений виноград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ому середовищі  промінь світла може поширюватися криволінійн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ми бачимо тіла, які є навколо нас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найбільша довжина хвиль видимого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е природне явище допомогло О.Ремеру визначити швидкість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тань між найближчими  точками світлової  хвилі, які коливаються в однаковій фаз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ві промені якого кольору мають найменшу довжин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40:57Z</dcterms:modified>
  <cp:revision>3</cp:revision>
  <dc:subject/>
  <dc:title>Слайд 1</dc:title>
</cp:coreProperties>
</file>