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257-2047-4463-BA96-DC696C36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78D-67E0-470F-B5B9-2B41986A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D7CE-228F-40D0-88EC-330BF39D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D327-4CC4-4C38-93F3-CFCB839A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D03-BE42-4CFA-B17D-CC2FA8AF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5C5-677A-4E67-B369-9832920C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D30-A80B-4F18-A705-F31AEE8B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B16-4B51-4264-90E2-C308E642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2A76-12E1-438E-9D68-6A9C2173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6910-2AA6-41C0-82E1-A44E1EC5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F948-689E-439B-B24B-BD906F80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34ED-C3ED-40FD-8556-246CA966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6434-B418-4BE9-8430-00766CD056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спрямовані в електромагнітній хвилі вектори напруженості електричного поля і індукції магнітного по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56:43Z</dcterms:modified>
  <cp:revision>2</cp:revision>
  <dc:subject/>
  <dc:title>Слайд 1</dc:title>
</cp:coreProperties>
</file>