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101-CBC6-41E2-9338-BC823E69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3EE-5F00-4093-BA8D-112F74F7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5E9-459F-418D-BEC1-172AC224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3A5-0276-4593-A645-4D6F97B5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23F-E1A3-49A2-91C0-CA34F983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4FF-BE4B-4784-94E0-56B3E44F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9BC-F2F7-4863-9AA6-AFFF3B5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ED1-9138-4797-8315-9A92EB43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60C-1387-4ED4-9ADB-7CF69316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47B-58EB-4251-B64E-B09A3C6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7F9-4EEF-46A7-B803-D309B3D7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193-3F81-4CA1-AFC3-B584177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00FD-2C39-44EE-B6F0-89D14C679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улюйте  другий закон відб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1:46Z</dcterms:modified>
  <cp:revision>2</cp:revision>
  <dc:subject/>
  <dc:title>Слайд 1</dc:title>
</cp:coreProperties>
</file>