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0EC-04F3-46F4-BBB1-FCA7B521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15D-F9F5-47AB-9388-67EB406C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DD3-26EC-4452-B7A0-D9C8211E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644-E1BF-41EB-A2E0-A8A1A34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8A1-4097-45E1-9360-C5661C70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1AC-88EE-4637-9265-E59AADAC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7C5-1A2A-4BEB-A4A1-AAE91FBD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7D1-3E48-4E3B-8835-08F302EC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AAE-4AF1-4160-AE76-76D09F7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4C5-1292-4A21-9B3C-95A27A09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4FE-C06A-4275-90A4-A82397A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83E-8581-44E5-94B8-AEC6ACF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CCB8-473D-4ADE-A735-D29081EA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хвилі одна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ення прозорості лінз та об’єктивів для світла певної довжин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ють лінзи з просвітленою оптик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вітлення оптики підвищує прозорість лінз для якого кольору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вилі, що мають однакову частоту та постійну різницю фаз в кожній точці прос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ртина чергування максимумів і мінімумів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спостерігати інтерференцію від вмикання двох електричних лампоч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інімальна відстань між сусідніми максимумами при інтерференції хвиль з довжиною 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від освітлення синім кольором перейти до використання червон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занурити всю установку в в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мериканський вчений, конструктор інтерферометр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нахідник бідзеркал та біпризм для дослідження інтерференц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54Z</dcterms:modified>
  <cp:revision>4</cp:revision>
  <dc:subject/>
  <dc:title>Слайд 1</dc:title>
</cp:coreProperties>
</file>