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E74-C381-4747-A49D-2CF1C9C3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143-B9F1-49D5-9ED4-71BCECBC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8B0-5BFC-4A53-B191-8837D673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4AC-46C5-4B0E-B051-0B2B8FAB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814-858C-4719-AFD1-979BDA35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BDA-F10E-4ABE-A025-2C8A523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891-B598-4BF0-B142-4DD082BB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2B2-2334-41F6-9622-DEBF2795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F5C-998A-4CFD-A8F7-419AC224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427-486F-4D4A-AE7D-9FAE7510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0DC-F799-4E72-8467-B94E8C0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4F7-98AB-4CFA-95EB-79FE4B8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144B-2244-4390-B56D-27041F31D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умову дифракції 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55Z</dcterms:modified>
  <cp:revision>2</cp:revision>
  <dc:subject/>
  <dc:title>Слайд 1</dc:title>
</cp:coreProperties>
</file>