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ED7-3805-4357-B583-CA285A55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AE3-3530-4064-842E-7121C99B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8E9-BFC7-4619-B248-95156D88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E10-5D07-4547-9B98-2CCE58E5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F2C-E67A-4BA8-8077-D4790059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D59-40CD-492D-AC35-470544B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1BC-3FFD-4C2D-8F1F-01B3CF55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93F-7047-4AEE-86AF-A6F2D62A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5F1-AE7E-4764-A6B9-9E3C38E1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E6D-6C73-44F9-ACCD-D266545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78B-96E6-4776-A28E-E900328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596-344D-4F54-ADAB-AC1ED54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D36-56C8-4EEB-A1F0-E2A57CF56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родній приймач світлових хви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27Z</dcterms:modified>
  <cp:revision>2</cp:revision>
  <dc:subject/>
  <dc:title>Слайд 1</dc:title>
</cp:coreProperties>
</file>