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BE8-4575-4252-A1C8-BC5D93B6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5D7-27E7-484E-8C38-D714C18F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304-A948-4371-BBAA-276A474B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187-BB18-4D8F-A79F-1D00345A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CAF-83A8-4CE2-9291-5B0C93F6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889-8799-4D34-AB32-B73C2161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D27-EF0D-4675-8025-9A97D8F5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5EA-0330-4E1E-B97C-8F1F749B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68B-214B-4D13-9AE5-4D488C9F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D07-0B3D-4F49-889B-6D81BCA5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05B-879C-4BBF-9934-59DACBF2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8DB-2358-45D4-85EB-E97ED21D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06D7-5C58-4B05-A74A-B99A3230D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човина,  якою покритий екран кіне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8:06Z</dcterms:modified>
  <cp:revision>2</cp:revision>
  <dc:subject/>
  <dc:title>Слайд 1</dc:title>
</cp:coreProperties>
</file>