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D326-E37E-4430-88B0-B54DD2744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1D07-B849-44B2-A9FD-EE5ACA490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694E-3E2C-4E89-A88F-9BFCC37B8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42F1-6316-4178-9E06-0C831C460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A674-BD65-4614-9C28-942E724E2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A6EB-468F-4A30-9713-C726B9F42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0181-5810-434B-82EE-48F18403D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FCB5-D7E3-45C0-B1C3-E0404C02A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739A-AE6E-4F36-9F0E-8BE3E4843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A81B-D5DC-4897-912C-380F89ED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73E4-2292-4D64-9A22-45AF0636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EBE9-04BB-475A-94E9-0EEA243F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7E12A-84F2-454A-A843-1584F02D9E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формулюйте  другий закон відбива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2T22:43:26Z</dcterms:created>
  <dc:creator>Роман</dc:creator>
  <dc:description/>
  <dc:language>en-US</dc:language>
  <cp:lastModifiedBy>roman</cp:lastModifiedBy>
  <dcterms:modified xsi:type="dcterms:W3CDTF">2008-02-15T07:31:46Z</dcterms:modified>
  <cp:revision>2</cp:revision>
  <dc:subject/>
  <dc:title>Слайд 1</dc:title>
</cp:coreProperties>
</file>