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367-94BD-4811-98D3-9D961A02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59A-6C31-4470-B79B-B16E1AFD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FD0-0E97-40BC-B807-114483B1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43C-15CB-470C-AB1A-5F1B621A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652C-8E6B-43BA-AACA-3E0B90D3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70A-3395-472C-B517-D9B70CEE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35C-D569-42BD-A6E3-66099656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05A7-1DB6-40FC-9B27-94B2F332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5BB-337D-4E3A-AC44-34DB7014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704-852F-4B39-AB9D-53370008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02AA-E024-4125-B741-8ECFD87D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38F5-9C21-461C-9CB8-7194E584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1A96-49E8-435A-9399-70266476A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фект зору, коли в сітківці ока випадає або ослаблено сприйняття одного з трьох основних кольор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30:25Z</dcterms:modified>
  <cp:revision>2</cp:revision>
  <dc:subject/>
  <dc:title>Слайд 1</dc:title>
</cp:coreProperties>
</file>