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B4F-6610-4B3A-BE84-D261D099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1CA-7253-406F-8FAA-817BA0FB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E2D-779B-4932-94E2-EE56DCCC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2EB-CDEE-450E-9C5C-734C3FAC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7E8-20AC-43BF-8A76-7BB79473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AAD-4F7C-49B1-ADE4-C588A9B5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92A-8906-4AAF-9555-A1BBBF51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A8D-99BE-4913-966C-6A8B8479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042-2AC2-4CDE-8775-31264ACD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E14-BEFF-4ED4-B020-8B620D95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08F-28F7-42A6-9B82-4D843841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A17-6295-4D52-B990-DED50E71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0841-E415-4C64-AB05-A4AC1A911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човина,  якою покритий екран кіне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8:06Z</dcterms:modified>
  <cp:revision>2</cp:revision>
  <dc:subject/>
  <dc:title>Слайд 1</dc:title>
</cp:coreProperties>
</file>