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F4C1-66EB-4E39-8CD5-0BC620FEB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5479-B72C-469E-A4AA-B790FDE6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3CA6-7079-4F8D-BFC5-BF8CDC4BD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05D8-C535-4B97-9282-25FC9693B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0FA9-3329-404C-83AD-069FE1A4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4379-E5CB-474F-AF53-92CB9BAA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4E68-ACD4-47DD-B76F-D5E2F640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AC88-78BE-4552-A029-2EDEEFB6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FA99-DC7F-47AF-AE7F-CB8FED3E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4E05-F123-4823-B345-5151880F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1DB9-9908-4D66-B679-5849578B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4EB2-9A3A-4072-9590-8C3884E1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9783-CA07-4677-A4D8-BFF7A6B487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нша назва демодуля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18:41Z</dcterms:modified>
  <cp:revision>4</cp:revision>
  <dc:subject/>
  <dc:title>Слайд 1</dc:title>
</cp:coreProperties>
</file>