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802-C919-4D71-A330-3041E869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718-76BC-4E9F-B555-D968E02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95B-3BF9-41FC-AE9E-441F87AC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90F-DFBD-4A22-B197-BED4C980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AEB-9362-4C45-BD77-494F2FB4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3E7-D7C2-42F8-8E89-7208564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72E-F2C0-42BD-8707-DF504088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282-F2FC-4327-82B1-D1FEAAB1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3A0-429F-4800-BB2F-F441EE59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079-9EBF-4FCA-8095-301060DA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1D5-6065-43BB-9884-8217A4A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FD4-B830-446C-B988-FAF6877C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9C6-3ACF-4A4C-BF71-23A6A1836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истор, опір якого залежить від освітле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7:32Z</dcterms:modified>
  <cp:revision>2</cp:revision>
  <dc:subject/>
  <dc:title>Слайд 1</dc:title>
</cp:coreProperties>
</file>