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E0A2-BE67-4842-8CFC-53A87F3F7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26E3-82F9-4BD1-AA02-E178E187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222A-5063-40A9-8941-9D620B395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01FB-B7D3-4318-B262-54491950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9285-5421-425D-BC6E-2B56D8D9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9561-98A9-47C6-90D8-59300068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AFC9-9B06-4EF2-BE4B-763626C6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A630-50A0-4892-8742-C3E93568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2F6E-A772-44B2-9525-0DBC8436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D28B-E164-4DF8-A799-8A593C57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8B84-7FF0-43AA-A501-22DF3A50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E277-207E-4578-80D9-B9F166A6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68F5-4018-4A06-8647-63FAF1F3A5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випромінювання та приймання радіохви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25:20Z</dcterms:modified>
  <cp:revision>3</cp:revision>
  <dc:subject/>
  <dc:title>Слайд 1</dc:title>
</cp:coreProperties>
</file>