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4D0-BEE1-424B-B72A-0B883A95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A0B-1D5E-4884-8CF5-30B38E42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039-465F-4D8E-B956-53E9FAF7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132-60CF-45BD-8769-D918DE8B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5E1-B073-4D2D-B00C-FC3CE055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403-B495-4043-AE05-164CF94D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600-2BD8-4C35-A882-7ED161F9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C66-277A-4C5D-8DAC-24FECE58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93C-439D-49A8-9820-78592E81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484-5864-48C0-A5AD-FC684471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8F3-119B-4567-9DFD-34F954C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DC3-01D2-4548-B72E-D1D81237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7782-D5B2-492E-AF10-547BC9B52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оптичний прилад використовують для виправлення дефектів з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2:11Z</dcterms:modified>
  <cp:revision>2</cp:revision>
  <dc:subject/>
  <dc:title>Слайд 1</dc:title>
</cp:coreProperties>
</file>