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23B6-CFD0-4C16-88C5-6E949A177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014E-E899-4F75-B3EC-C5155AB8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A3DC-F291-40FE-87E2-087B2E63C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41FA-F92C-4CDE-B0CA-867807232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B6DF-1470-41C7-9A57-91CD9978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255B-070C-4101-8B5B-7CC7A7DE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2E5B-F305-4B3A-8D23-ED284C5E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278D-DBCF-404C-A94E-30995258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9EE0-8459-4373-A049-4E451D14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D05A-76CE-458B-BCCF-42258AF6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4C81-A77D-4586-AEDC-C8EFFE0C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63EE-F30D-4179-B799-5F933A8D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40D3-29C3-4225-89AB-520EC122CD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Хімічний елемент, який був відкритий на Сонці раніше ніж на Земл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Роман</cp:lastModifiedBy>
  <dcterms:modified xsi:type="dcterms:W3CDTF">2008-02-12T19:38:26Z</dcterms:modified>
  <cp:revision>3</cp:revision>
  <dc:subject/>
  <dc:title>Слайд 1</dc:title>
</cp:coreProperties>
</file>