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55D-D8F4-4830-A686-4AF653D1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2FF-4113-49AD-AAA2-77BD65C1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46D-1115-4A1A-8D51-6EF97CD1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A4D-AC48-482D-ACB6-D3D20963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C8B-274D-46AD-A4EF-39B52BA7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74D-33FB-4DE4-B9D3-8D116608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447-6408-4166-BC64-0F8B2247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0EA-3FB2-4E65-9CD2-B490CAB2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C4D-9996-4BAE-B8B6-DFE38412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66A-F5EE-4A67-A460-AB5CA264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554-3E0E-4399-B7D0-765A2AA1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2F4-3C46-4B6A-9807-564C65D5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3088-2DCE-4219-A80D-18ACCCBC6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винахідник – творець електронної системи передачі на відстань рухомого зображенн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0:01Z</dcterms:modified>
  <cp:revision>2</cp:revision>
  <dc:subject/>
  <dc:title>Слайд 1</dc:title>
</cp:coreProperties>
</file>