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42D-222B-45B4-86CA-55EDE5AC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D9D-750D-4AEE-B31F-3DDD90CA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0BB-E80E-4637-9604-2B5585FA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FEE-6E09-4244-BE96-C70775C9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177-5A02-495E-B9ED-80B9EF5E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989-E69E-4809-9D54-ABD512CF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243-99CD-4EBE-BAD4-C2EF5457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5C7-66F4-40B0-9AB7-E6BF2046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A56-B18C-481C-8791-75B6DC48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CC2-1902-4AE0-829C-A87AC815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362-5ADE-474B-BFBA-CBF4C09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17D-845A-4E3D-8976-DDE1505E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A7D8-F590-4DEC-BA2B-A4E199831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сніг біл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44:56Z</dcterms:modified>
  <cp:revision>2</cp:revision>
  <dc:subject/>
  <dc:title>Слайд 1</dc:title>
</cp:coreProperties>
</file>