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D03B-8ADD-4124-BF11-E0C8D998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E00E-86CD-4B87-9C6C-9EF01EF9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B35B-4CBB-44B6-98DC-09D4CDC2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305D-D46E-46DB-99B8-849612CC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49F2-EBA1-49CB-9DA7-7C448919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47B7-4DB1-4F97-B5DE-04A2623D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CCD7-0FAF-4124-B32A-86133EE5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59DC-8F9A-4231-BE7F-DD995B22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C1A7-A76A-41D9-99FE-77127949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3FA0-F28B-4303-8070-7CDD208C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D8CE-8BFB-4DBD-BF1E-F56935E9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44DC-5D35-4D18-83F3-3FFC4C2F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2B3B-1349-42DD-80AC-3BDBF87988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звіть кольори дисперсійного спек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6:17Z</dcterms:modified>
  <cp:revision>2</cp:revision>
  <dc:subject/>
  <dc:title>Слайд 1</dc:title>
</cp:coreProperties>
</file>