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42DF-99D7-4AAE-BF84-F727E2B40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1ECE-9A7C-41A3-A92A-F08009AF7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A3BA-01C5-46DB-A25D-1D62BC982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DEF1-298D-4A8F-9EDF-2C59F48EE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C6CA-B181-4EB8-A3B2-EA216C02C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4897-08BC-4957-808C-E67082DB3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5C14-D142-4911-9774-AB5414328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CFEA-C4E4-4693-90D5-4FFD176AF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994E-927E-4F41-AE66-3192ADC63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4704-D920-4F44-BF6D-5A279F19A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A844-38B5-41CC-B17F-EF525FE6B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CA11-5E08-4C35-9FEF-358701B87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2D220-674F-49D3-84A7-0B7059F0FA7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Інша назва демодулят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3T13:43:05Z</dcterms:created>
  <dc:creator>Роман</dc:creator>
  <dc:description/>
  <dc:language>en-US</dc:language>
  <cp:lastModifiedBy>roman</cp:lastModifiedBy>
  <dcterms:modified xsi:type="dcterms:W3CDTF">2008-02-15T08:18:41Z</dcterms:modified>
  <cp:revision>4</cp:revision>
  <dc:subject/>
  <dc:title>Слайд 1</dc:title>
</cp:coreProperties>
</file>