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188-4035-4FD1-AAF9-15EC8F44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14DB-8BAE-46B7-B83C-87ECB464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F8D-1E8A-47AA-8DE9-0063403E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30B-946B-46CE-AF4B-CBA25F66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29E-C0D6-40DB-B962-84F3C226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EEB-B614-40D3-9E1E-9C1997B8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140-1EDF-4171-9C85-74D9ADFC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B28-BB72-4304-B40B-12D28543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5BE-2378-4621-9633-7707A312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5BA-EF77-4E9C-90A0-4BF9CF8B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AF7-81E5-4D52-A414-F9EFBE74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BE6-4702-4DB0-A293-086EE3E4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9497-7E60-4DAE-86B6-E89EAB477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йближча до нас зор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7:59Z</dcterms:modified>
  <cp:revision>2</cp:revision>
  <dc:subject/>
  <dc:title>Слайд 1</dc:title>
</cp:coreProperties>
</file>