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A4E-F56E-4767-B5B4-11951862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5580-5C48-4714-ABE2-EF501A6A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636-48DD-46E5-BF21-8821EC07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43BE-2249-45AF-9921-01806089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D217-2B57-4794-9CDB-FD28510D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9671-6972-4DFF-9B60-E9A4A715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4A2D-41DE-4633-BD2F-C2893A03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9A85-47BD-4333-A513-B44B1962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148C-2D5A-44DC-B058-48FD0ACC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3D61-5C8E-4131-A2A1-10CB6CFC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36A-0BA9-40C5-8327-D059B036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703F-4A8D-4CDF-9BDB-91E51B63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DFC5-6DCD-4BAE-9166-25EFC851B2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діл фізики, що вивчає світлові яв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3:57Z</dcterms:modified>
  <cp:revision>2</cp:revision>
  <dc:subject/>
  <dc:title>Слайд 1</dc:title>
</cp:coreProperties>
</file>