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FAC-DCDF-41FE-AB6D-B3DC7D87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454-AC34-44FA-8970-04EC0975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854-E4F8-4364-8226-62F3B51C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27E-9638-43AF-87AB-942F22CC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F62-9C8A-4493-8722-B4A499F6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7F6-A6C2-4E82-81C9-58A753FA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6CB-9115-4DDA-8208-65AFB5A0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F48-5831-4F3E-A49D-23592284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D50-E101-4C90-B4E0-3AF4B8CA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664-C332-4787-A499-774625BE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4D3-3B37-4126-BD45-5A799BB8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A81-C64D-4295-91AC-7C8BC02D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61E3-4FBE-4069-AEAC-FAD68B923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ількість коливань за одиницю ча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ифракційна гратка має  100 штрихів на один міліметр. Яка стала дифракційної гра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буде спостерігатися, коли в різниці ходу поміщається непарне число пів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вперше застосував дифракційну ґратку для дослідження спект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– сукупність багатьох дуже вузьких щілин, розділених непрозорими смужками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чого застосовують дифракційну ґрат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ма ширини прозорої і непрозорої смуг дифракційної ґратки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стала дифракційної гра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максимумами дифракційного спектра коли  екран віддалити від реші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вигляд має дифракційна картина при  освітленні дифракційної ґратки монохроматичним світл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якою формулою можна визначити максимальний порядок дифракційного спектр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максимумами дифракційного спектра, коли збільшити  довжину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23:36Z</dcterms:modified>
  <cp:revision>4</cp:revision>
  <dc:subject/>
  <dc:title>Слайд 1</dc:title>
</cp:coreProperties>
</file>