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34C2-5E23-4BEB-81A1-B427B4D44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704A-132C-46E7-B6FC-322699CF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6FA2-FF58-472F-9515-FE6E9D1FC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2C7D-2FBF-4A67-BE98-471EF3B5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5A46-7CA0-455E-9C85-22BCB688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A002-BC70-4941-86F4-D150880D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AB2E-EC07-4C9F-885C-F489DD1A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A86C-3644-42DA-BCD6-1FBB93F5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56CD-9AC6-4B27-B417-800EB8AB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6E44-AC30-4509-B50B-FCB9AF1E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FAAD-9FFB-4386-8D97-8EA290D8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D3D9-142A-4361-99A4-3B6A1C4A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443E-E643-4163-B701-51062AEC37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юється енергія електромагнітної хвилі  при збільшені її довжи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21:58Z</dcterms:modified>
  <cp:revision>2</cp:revision>
  <dc:subject/>
  <dc:title>Слайд 1</dc:title>
</cp:coreProperties>
</file>