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1EA0-B98E-4E74-BEA4-FFB48755D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D7B6-1FFB-4B71-B00A-248C625B0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F0C2-3161-4477-B80A-909C17913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604E-80B1-499F-A1D4-3FB8A2A7E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3A95-534E-4302-8FDD-604DF8740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B401-DA94-45DF-B3C9-16269DD11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F6CE-EF58-4594-92CC-BE07A2033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9384-C33A-4204-9031-3AE180165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0399-7973-4964-A782-07B5A7162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6244-ADAA-4145-BEE5-E60A5BBFC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A692-1A83-4888-B7A2-56D904DC1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A2DE-E7AB-4485-A88F-D8100062C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2D69C-48E9-4AFA-BFB9-B50595D523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Що таке кут заломленн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roman</cp:lastModifiedBy>
  <dcterms:modified xsi:type="dcterms:W3CDTF">2008-02-15T07:35:04Z</dcterms:modified>
  <cp:revision>2</cp:revision>
  <dc:subject/>
  <dc:title>Слайд 1</dc:title>
</cp:coreProperties>
</file>