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63E-AE84-48CD-87BF-7B22DDEC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BCD-E086-4440-9D9B-CF2C3136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2EB-2B0D-491A-BA97-699AE156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540-1D89-47A2-BFFF-B43EE9FB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2CE-9E89-4766-B68E-D318CB63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109-898B-4A18-99E2-02F04098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FEF-A6FC-45D4-9D28-14982E78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98E-CE2A-493F-84BB-ABE99D32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B8C-9B34-4739-9D64-6E051638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7B8-8913-4FB6-B395-CA995DA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B80-C142-4CF6-80C0-8CA0B3D5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B67-6BF5-4437-B4B8-2C79E96C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35C1-7DB3-4F5E-A080-5E533433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сперс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алежить показник заломлення середовища від дов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пропускає червоне ск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отримаємо, якщо скласти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є тіло, що поглинає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е явище в атмосфері, що являє собою одну, дві чи декілька різнокольорових д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фотографування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перв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втор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найменше заломлюється в тригранній призм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розташоване в спектрі між жовтим і червоним кольор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41:11Z</dcterms:modified>
  <cp:revision>3</cp:revision>
  <dc:subject/>
  <dc:title>Слайд 1</dc:title>
</cp:coreProperties>
</file>