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645-36B9-4ADE-9BE9-3AF0E87F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474-60A5-4C31-9B3F-D18BD038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36F-A18F-4222-BF7E-D1469BD8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215-A2FF-49E2-9103-8B6EF1CB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E69-F7C4-4878-86B7-8A572F2D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425-4828-4D5E-848E-CDC546D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AD6-E542-4D1A-93DB-7FF92D9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1FE-E140-47D3-A4D6-C70CAE7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097-DC8D-4B80-8A62-8FD64C92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103-3CF3-459C-8B0A-241241C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4E1-7E0D-482E-9AD5-403209D8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2CF-A520-4C8A-B0E4-5FC65ECA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CF51-0D9E-4B3B-90FA-A702B6B0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яких речовин добре відбиваються електромагнітні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промінь світло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виникнення весе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забарвлення мильних бульбаш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накладання когерент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огинання хвилями  країв перешко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омагнітні хвилі поздовжні чи поперечн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ежність показника заломлення від довжини світлової хви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, в якого електричні коливання здійснюються весь час в одній і лише одній площи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магнітні коли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електричні кол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найменше заломлюються в тригранній приз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36Z</dcterms:modified>
  <cp:revision>8</cp:revision>
  <dc:subject/>
  <dc:title>Слайд 1</dc:title>
</cp:coreProperties>
</file>