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7DA-0DE7-46AB-AEE3-F020C5F7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D9B-44A2-472E-8EC2-5FC2CD79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EFC-35EF-4DBC-9E44-C79CC854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E60-1F49-461C-A745-BA78ADED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803-10AA-43B8-A4F8-CAFCDF7B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215-3BC1-45DE-A226-93B79851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8F8-348F-46F9-8FC4-1400B861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B63-2EF9-41EF-8F7D-C8C73965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F2E-746D-4A23-B6AC-20CCE386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AF1-617D-41EB-842C-0D469A5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CC2-6E4A-47BB-B549-4EF6B31B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298-CF39-4096-A4F6-B5673617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8E50-518A-48BC-B801-B4F10FA41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ольори дисперсійного спек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17Z</dcterms:modified>
  <cp:revision>2</cp:revision>
  <dc:subject/>
  <dc:title>Слайд 1</dc:title>
</cp:coreProperties>
</file>