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29F-62BA-456D-A8F4-8B67EF0B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C10-7ADB-48A7-9EC6-7B79342E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0A0-8B7D-4DC9-BCE7-91EBAE7A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CEE-B3F1-44AD-9E10-426928D2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C74-AAC0-4585-820D-146E3C4C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E2B-843E-46E6-BCF9-5CAED9AE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BDC-ABB1-4168-8DF6-736AE06A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438-74A6-46BE-A210-A35D3548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C46-3B9C-4007-93A5-84E42AF9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A24-B5E5-4A2A-B7DD-43348F0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2BA-C139-4771-A7AD-D5CE0C5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106-1905-4855-81C9-A86A5D99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4721-9F87-4755-A416-E57B8BB55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м чином можна створити когерентні джерел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4:42Z</dcterms:modified>
  <cp:revision>2</cp:revision>
  <dc:subject/>
  <dc:title>Слайд 1</dc:title>
</cp:coreProperties>
</file>