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9C2-67F3-45D1-8257-A493A01A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3DF-2CCD-43EB-AE63-AF6C9F90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81B-9924-4B3D-A4B6-C21800EE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1B1-9D31-46F4-AFC3-DF51F9E8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E16-66A2-414B-99A6-77B8145F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F63-9F70-4C74-BA22-AF153128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A85-42B8-4C24-AE80-68612106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D0E-214C-4BBE-8923-DCF7F0E2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CC5-7330-4E5E-B4DF-668837F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28B-AE50-4E2C-84A6-4A2B7A1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240-7341-45AF-AD96-4DCD768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E45-37FC-4EF6-9EF5-4F6C18FB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648C-68D4-4477-AFC7-9AC24340C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більш оптично густого в мен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6:31Z</dcterms:modified>
  <cp:revision>2</cp:revision>
  <dc:subject/>
  <dc:title>Слайд 1</dc:title>
</cp:coreProperties>
</file>