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999-A470-477C-906F-D384C370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1D4-0FD3-46A7-BABB-53FFB3A8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E92-911F-4D8C-B142-35103346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18C-F92C-469A-B471-7829CD61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064-0C02-4256-8DB4-28CCFFED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83C-5DA2-4EAD-9C85-D465521C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63F-A5B3-4E80-9A24-D34A352E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346-D677-44A3-989E-6B397CFE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B46-5E6A-4135-B340-CE24E87A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66E-5FD2-4EC7-A29B-106179F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D74-8C8F-4B96-B6F3-E3B84925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AC9-C5C6-40B1-8CDD-DC0F4C4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45FF-C424-4363-A8B7-6B1A8F457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діапазон довжин хвиль довгих радіо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10Z</dcterms:modified>
  <cp:revision>3</cp:revision>
  <dc:subject/>
  <dc:title>Слайд 1</dc:title>
</cp:coreProperties>
</file>