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DE2-FC7B-4A14-8176-6F299031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028-79EE-48EA-92C3-609A7357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A165-6900-4B68-9D23-0C36E159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8AF-3D7B-4C6E-B9F0-0FFEFEC9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D0B-802F-4A90-B58E-577CC905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EA6-CB7C-4C3C-B6BC-6714D77A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7558-35A8-40D8-9528-D793A507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7381-1C81-4D5C-BA0E-9BE043A4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AF8-8DAA-4CC5-971C-47EC03DC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A27E-465A-4C05-A196-58990EA7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A8D-CAF5-4D5E-A11B-61C3EDD0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9658-B5EF-46AE-8A10-2B264E26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D8A1-F681-4C27-B860-B089BF080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ві хвилі однакової част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ільшення прозорості лінз та об’єктивів для світла певної довжини.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ають лінзи з просвітленою оптико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світлення оптики підвищує прозорість лінз для якого кольору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вилі, що мають однакову частоту та постійну різницю фаз в кожній точці просто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артина чергування максимумів і мінімумів колива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 можна спостерігати інтерференцію від вмикання двох електричних лампоч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мінімальна відстань між сусідніми максимумами при інтерференції хвиль з довжиною 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інтерференційними максимумами, які утворені за допомогою біпризми, якщо від освітлення синім кольором перейти до використання червоно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інтерференційними максимумами, які утворені за допомогою біпризми, якщо занурити всю установку в вод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Американський вчений, конструктор інтерферометра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нахідник бідзеркал та біпризм для дослідження інтерференції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9:28:54Z</dcterms:modified>
  <cp:revision>4</cp:revision>
  <dc:subject/>
  <dc:title>Слайд 1</dc:title>
</cp:coreProperties>
</file>