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AEB-2603-4FE7-A035-12CBCADF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CE2-11D6-4099-AD1C-314F8E00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C56-44A1-4453-BCC1-D5EAABC3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301-2864-42FA-9AFC-35A28CFA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760-ED72-43FC-BFCC-FA3EC210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188-C800-4AC2-AF0A-121C52F0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8B5-D53C-43AC-AA95-880711A3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7A2-0705-41C2-AD66-FC9BCDF1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B71-9F96-4D99-BFDE-A7EAC6E9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39C-A476-4B60-B1D3-C574A7A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BAC-80FB-458A-89FF-D7DA4E4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905-1E22-41B3-BE09-F06E2E28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7E0E-D15E-4FCC-B3EE-D7E7F43D0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родній приймач світлових хви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27Z</dcterms:modified>
  <cp:revision>2</cp:revision>
  <dc:subject/>
  <dc:title>Слайд 1</dc:title>
</cp:coreProperties>
</file>