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E43-ED67-4859-A01A-6D0CF971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43B-D6F4-47EA-8F75-3F286E14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76E-609D-4B90-A787-238CD847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EF5-8A3D-4CAD-ABB9-4535A148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906-854E-482C-AE5F-C3E30B11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EBD-6670-43E5-8CC5-1D2C6B5A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81F-C3CA-4459-97D3-2793CF0F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474-7E4A-40D5-A185-3F8FD356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323-2A4B-44F2-A14B-A145F548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63E-9B4F-4712-8407-0EB689CE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0D8-CC2B-4C9A-8DCC-A2B05DC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BC9-3223-43B3-963F-88075E8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3F0E-11C4-412F-862A-80CEC63BC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утворе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0:43Z</dcterms:modified>
  <cp:revision>2</cp:revision>
  <dc:subject/>
  <dc:title>Слайд 1</dc:title>
</cp:coreProperties>
</file>