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BCC-1FF2-4BEC-AEA5-A5871262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AA1-56D9-467C-A974-E5668CA1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D08-F357-4CC5-9061-247E0BFE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6F0-657D-4900-BE1A-CB060CFD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5CB-DFAC-4E93-9119-B4250841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D01-4CEE-410F-8FC5-C08A927D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18B-81D2-48C1-9959-84E68133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F4F-0118-46B2-B3A2-6340FF1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EAA-BFA1-4F88-83F1-E4DA358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C8E-5F4A-4447-B1EE-DA5F6EC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B77-88E4-434F-9875-7FC2ED04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278-0852-4DD3-8856-A9A3AE7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14A3-72D6-4B6C-9A06-9E36CA380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що дозволяє комп’ютеру передавати та отримувати дані по телефонній лін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9:32Z</dcterms:modified>
  <cp:revision>2</cp:revision>
  <dc:subject/>
  <dc:title>Слайд 1</dc:title>
</cp:coreProperties>
</file>