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BCD-B255-45A8-A0E5-2217D04A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2DA-5124-4401-8492-54BB0EB9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08F-B353-44D1-948A-B85D2E5F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97D-1A1C-4108-87E7-EA35DC30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C49-85D7-4E50-9529-7EB49D87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1A8-D516-4C2A-A7B6-5594D3F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E82-ECDC-40D1-8985-D3442764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DBD-7775-4842-9A13-D1FB5B08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ED4-AC2D-471C-9C5E-AB74C25A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201-5D18-438C-A338-1C444C7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83A-644D-47DC-9AC0-8567B4DE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CE5-3543-4253-8009-027128C4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69FE-C0FE-4A6F-91A3-610ED56D7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mifinal/semifinal1.ppt" TargetMode="External"/><Relationship Id="rId3" Type="http://schemas.openxmlformats.org/officeDocument/2006/relationships/hyperlink" Target="file:///semifinal/semifinal2.ppt" TargetMode="External"/><Relationship Id="rId4" Type="http://schemas.openxmlformats.org/officeDocument/2006/relationships/hyperlink" Target="file:///semifinal/semifinal3.ppt" TargetMode="External"/><Relationship Id="rId5" Type="http://schemas.openxmlformats.org/officeDocument/2006/relationships/hyperlink" Target="file:///semifinal/semifinal4.ppt" TargetMode="External"/><Relationship Id="rId6" Type="http://schemas.openxmlformats.org/officeDocument/2006/relationships/hyperlink" Target="file:///semifinal/semifinal5.ppt" TargetMode="External"/><Relationship Id="rId7" Type="http://schemas.openxmlformats.org/officeDocument/2006/relationships/hyperlink" Target="file:///semifinal/semifinal6.ppt" TargetMode="External"/><Relationship Id="rId8" Type="http://schemas.openxmlformats.org/officeDocument/2006/relationships/hyperlink" Target="file:///semifinal/semifinal7.ppt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пів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/>
          </p:cNvPr>
          <p:cNvSpPr/>
          <p:nvPr/>
        </p:nvSpPr>
        <p:spPr>
          <a:xfrm>
            <a:off x="46836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Фізичні вели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320364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стос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/>
          </p:cNvPr>
          <p:cNvSpPr/>
          <p:nvPr/>
        </p:nvSpPr>
        <p:spPr>
          <a:xfrm>
            <a:off x="5940360" y="69228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4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/>
          </p:cNvPr>
          <p:cNvSpPr/>
          <p:nvPr/>
        </p:nvSpPr>
        <p:spPr>
          <a:xfrm>
            <a:off x="46836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атні фі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/>
          </p:cNvPr>
          <p:cNvSpPr/>
          <p:nvPr/>
        </p:nvSpPr>
        <p:spPr>
          <a:xfrm>
            <a:off x="320364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6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Інтерфере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5940360" y="213372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ек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/>
          </p:cNvPr>
          <p:cNvSpPr/>
          <p:nvPr/>
        </p:nvSpPr>
        <p:spPr>
          <a:xfrm>
            <a:off x="46836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Дифракц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ломлення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ідбивання світ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371628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Пристрої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Радіохви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15772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име світ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Оп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ри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41:08Z</dcterms:created>
  <dc:creator>Роман</dc:creator>
  <dc:description/>
  <dc:language>en-US</dc:language>
  <cp:lastModifiedBy>Роман</cp:lastModifiedBy>
  <dcterms:modified xsi:type="dcterms:W3CDTF">2008-02-12T20:41:44Z</dcterms:modified>
  <cp:revision>9</cp:revision>
  <dc:subject/>
  <dc:title>Слайд 1</dc:title>
</cp:coreProperties>
</file>