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7A9-65A4-4733-B174-3C19FDF1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33C-EDF0-4FFE-9346-5BF8312E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B7A-28A8-491F-8B9C-2089ED0E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4B7-2D81-44B1-8DF7-9761FC36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DD5-9977-4BBC-850D-AEE6D32D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CA4-221C-4E1B-A999-550CD824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E50-9F0C-49FA-A31E-3FB5E0D3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D2E-A7CD-4451-B494-F1495C82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882-2D65-477A-B5BF-FAA4EF1E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56B-F779-418A-8D39-D0C4D7E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8B7-8582-4DEB-BBB0-F0E773E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9BC-52B2-48CD-BD98-C0C60FA8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6B5D-353C-4C74-94B7-4061D11B9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що дозволяє комп’ютеру передавати та отримувати дані по телефонній лін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9:32Z</dcterms:modified>
  <cp:revision>2</cp:revision>
  <dc:subject/>
  <dc:title>Слайд 1</dc:title>
</cp:coreProperties>
</file>