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CD3F-0DDD-43D3-849C-631BB3304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429A-87C9-4AB2-930E-0DE5216FD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7954-4A6D-4FD7-A851-0262CFEEE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45B2-8267-45FC-97D6-EBE3D37B5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9F36-09C6-47D5-A646-4695F97D7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00F9-1A06-45BC-BA7A-CA2B24E99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F7E7-F339-4F3D-A786-A5E1C61E7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2AFB-CF99-42A0-9AA4-4FDD68CF4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F91B-A98D-4126-BB1B-30E6B3E45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EC51-B1FC-4535-8FA7-CA169402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851B-4773-4FFB-9D00-00F00F59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A53A-ED58-425E-977C-FC87CE86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4C53C-4460-4998-A95B-922F07D6B2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лад для спостереження за об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’єктами з укриття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22:43:26Z</dcterms:created>
  <dc:creator>Роман</dc:creator>
  <dc:description/>
  <dc:language>en-US</dc:language>
  <cp:lastModifiedBy>roman</cp:lastModifiedBy>
  <dcterms:modified xsi:type="dcterms:W3CDTF">2008-02-15T07:32:44Z</dcterms:modified>
  <cp:revision>2</cp:revision>
  <dc:subject/>
  <dc:title>Слайд 1</dc:title>
</cp:coreProperties>
</file>