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618-7ADF-4D74-AEE9-923E0F7C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CAF-5FE5-4097-B1CF-6508767A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E51-ABD6-4F3F-B4B8-F8CF6500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03E-605B-4A27-A032-C1081C92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89E-B2D0-4F20-9A5D-DE69689C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5D0-30C2-4069-AE4F-F778311D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A0B-977C-4DF4-ACB4-FB4372CD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D25-B813-4F04-B207-D7987A0B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EF3-8395-4096-BE0E-5FDFFBB3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65E-94D4-421C-AF48-363560CF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B2E-6C2E-4183-BCCE-6EC45271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C27-A7EA-4121-99EF-459167EB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085D-8DB6-4F01-9514-599155DFC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спрямовані в електромагнітній хвилі вектори напруженості електричного поля і індукції магнітного по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56:43Z</dcterms:modified>
  <cp:revision>2</cp:revision>
  <dc:subject/>
  <dc:title>Слайд 1</dc:title>
</cp:coreProperties>
</file>