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8F9-E040-4B31-B78F-6DBB36F1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538-FB8C-46FF-9B0C-CFA21692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194-EAB0-4E98-BC38-176B24B6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C39-8D08-4024-9F9D-328F34AF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073-FDF9-48A0-8785-B3186F0C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22F-0286-4D87-8E4A-84CE5062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FB0-8B3C-4578-BFBF-63D28B63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5D0-D56E-4348-832F-21626122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DC9-A7A7-401E-80FA-7152F66C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6C1-A0E0-4D0E-82B0-87EDBEA3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C4D-1671-4C63-B70A-54B7EEBF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BFC-5206-4DB8-B934-14830F20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39AF-897F-4617-9797-FA32B97A97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ли промінь не заломлюється на межі двох середовищ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4:28Z</dcterms:modified>
  <cp:revision>2</cp:revision>
  <dc:subject/>
  <dc:title>Слайд 1</dc:title>
</cp:coreProperties>
</file>