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A13-4CFD-49B3-A406-2534D543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87C-C66A-4128-BB6A-8AA07B85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F8A-9020-472F-9BF1-C70F099C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6D4-F6EB-4529-AB26-AE96C966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BA2-4003-4B69-B6B3-83603CC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6E3-51B1-4C3B-B68E-5E656EF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DD9-FAB9-421C-8C07-93364F4F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C17-D7AF-40EE-AA44-C97AD67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E1D-0843-41A3-81EA-F6752A49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C5D-DCD4-4743-AF84-9DFD2F8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EFB-A97E-4B42-AF6C-5EE8E00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985-1050-49A6-8A81-78ADED5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36E1-2A47-4F28-95D8-64FF392F2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яких хвиль спостерігається явище поляри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20Z</dcterms:modified>
  <cp:revision>2</cp:revision>
  <dc:subject/>
  <dc:title>Слайд 1</dc:title>
</cp:coreProperties>
</file>