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705-83F2-4219-8DF4-6B0D7942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848-4234-4E2D-97F3-1B8F3A0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13B-9C22-45F1-A975-89064B79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00D-273C-43C7-AF3D-D6A52109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260-2E17-4D6D-9F09-9EB3AD60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F01-805F-45FB-9F2D-31E45B41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B2C-49AD-4B0B-B3E9-0A4D2EC6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AEA-A52E-40AD-B3B0-B0F73D0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0BF-CACA-473B-B422-E9A3A16E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026-F092-4716-8110-F6770A5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931-45FE-4DC0-8179-43F56EB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6DE-B66A-4F37-AC07-19398A1E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8F2E-8716-4367-81BE-5CDDA424C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довжина електромагнітн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ють граничний кут повн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лектроємні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індукція магнітного по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а в вакуу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 яких одиницях вимірюється частота випромінювання?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швидкість світла під час переходу  з вакууму в прозоре середовищ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відносний показник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довжину світлов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нергія електромагнітн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частоту випроміню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різницю  ходу світлов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1:34Z</dcterms:modified>
  <cp:revision>10</cp:revision>
  <dc:subject/>
  <dc:title>Слайд 1</dc:title>
</cp:coreProperties>
</file>