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D55F-D4FA-48BD-BFB0-79347683B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F39A-86FB-4C11-AC07-81EF916D5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D6B1-87F2-4357-94EE-1AB98FAEF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C2DD-3ACC-4DAA-9061-2F4CCC488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E050-095E-4E09-8072-5AD501ECB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16B9-BD27-4D9B-A2C4-957F8B778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963C-C500-4C73-A465-73D8C6A85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CFB1-979B-4FF1-BCFB-06A377086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6428-CE54-4B0D-B00D-5F483D5E5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CC4C-D110-4CF8-A6B1-B3E58AE85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5F08-02E6-4FFD-A409-3745787A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CBFF-D7D4-4286-A6B2-A12717B05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6D95E-24A7-487F-944E-AEFBC2C53C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Коли промінь не заломлюється на межі двох середовищ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roman</cp:lastModifiedBy>
  <dcterms:modified xsi:type="dcterms:W3CDTF">2008-02-15T07:34:28Z</dcterms:modified>
  <cp:revision>2</cp:revision>
  <dc:subject/>
  <dc:title>Слайд 1</dc:title>
</cp:coreProperties>
</file>