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FCD-C9DA-4038-81D2-CEB4D394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FD0-62C3-4DF0-8870-81D143DD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BAF-04EA-44A1-B925-C2335F01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E14-9EB8-4A38-AC0B-A822DFFC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738-1F1B-434D-A65F-D1A4D6E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86E-7A8B-4A5F-8EF6-E044E16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98C-0650-44E9-8ADD-6655AD3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63B-69BC-40BC-9066-8E791BA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8E1-5507-4371-B256-04AA864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558-3149-40CB-9441-D6AB9B4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A07-E133-4513-90B5-6695176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E0E-53D9-4E38-811A-53C44AD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4FAA-3B8A-4F96-86F8-8E0E8B0F7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електромагнітної теор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дослідив дисперсію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вчений, автор відкриття Х-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перше здійснив дослідже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експериментально довів існування електромагнітних хвиль і досліди їд властив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радіоприйм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патенту на застосування електромагнітних хвиль для бездротового зв’я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у належить перша спроба визначити швидкість світла прямим мето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визначив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андський фізик, автор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та фізик, автор 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ідкрив спосіб просвітлення оп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3:53Z</dcterms:modified>
  <cp:revision>6</cp:revision>
  <dc:subject/>
  <dc:title>Слайд 1</dc:title>
</cp:coreProperties>
</file>