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B93-412E-4656-9888-E3E9A35D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8EF-FAEC-4206-B127-E561ACA9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1C8-1B53-4188-B00F-84097459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F5F-EA64-4EE7-8578-B7A14157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1A3-8BDB-4EB5-90C2-5654813A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F855-7E2A-49A7-973C-08F1D0A9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B03-AA73-4181-B598-E1A96F8C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87C-2009-4935-9589-904214AD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537-7A93-4F1A-96D6-9580FCA3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641-CEB4-46AF-8157-BFAD869F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DB56-69AB-44A3-9295-F0CE7E84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9C3-C24C-4055-AA84-8AE02A66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8867-4752-43DE-9C8B-EF43A4EAE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 одного повного коливання поля електромагнітної хвил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можна здійснити радіозв’язок  між  двома підводними човнами, розташованими на глибині в океані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 електроємність конденсатора при переході на прийом станції, що веде  передачу на довших хвиля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ий діапазон довжин хвиль ультракоротких  радіохвил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міна  амплітуди високочастотних коливань коливаннями звукової част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цес виділення інформації з модульованих колива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формули для визначення періоду власних коливань в коливальному контур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дача мови та музики з допомогою радіохви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значення місцезнаходження об’єктів за допомогою радіохви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радіолок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, призначений для демонстрації нерухомих і рухомих зображень із звуковим супрово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утруднений радіозв’язок  на коротких хвилях у гірській місцевост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20:52:03Z</dcterms:modified>
  <cp:revision>5</cp:revision>
  <dc:subject/>
  <dc:title>Слайд 1</dc:title>
</cp:coreProperties>
</file>