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CD1-3D3A-40D5-ABA0-C34F4FF4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8AB-111D-4A48-B28B-6A10B830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855-9EBC-4C55-BAA3-710CF765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61D-EACD-4C00-AFE6-0CE4DB7D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7D9-AEB2-473E-BDD1-09F1E8E3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373-0F82-47B1-A7EF-B0982117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1B4-3B88-48B9-BC75-576D4701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1AB-A85E-4082-A921-C58376A3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7EE-59D6-484B-891C-B2047538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5A7-3B4B-4D66-955F-D9042526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2E4-3958-4D24-ACBD-C52C338E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2E1-94D0-41D5-84E3-6319376B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143A-AB9D-46C7-AD4D-4C05D4AB4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демодуля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8:41Z</dcterms:modified>
  <cp:revision>4</cp:revision>
  <dc:subject/>
  <dc:title>Слайд 1</dc:title>
</cp:coreProperties>
</file>