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802E-FC8E-4119-9CEB-069CAE38B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5E13-6710-44E6-B2F8-FA087CCB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BCFC-A153-43C2-8A1A-A569A1B01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2E54-1DB0-4B6E-BEDD-B3CB8BCAF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8AE0-4369-41A9-B5B0-64DAD252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A987-C835-46B5-B08B-7A8372A3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89F9-1D3D-4E36-8A30-9AB40A6B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5943-666F-430E-81E2-7175F0E1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189D-2632-4394-B2AC-9A191265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03AD-ABAF-48A2-86F3-E525A941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1C88-740E-4A75-BE35-FCFE4720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E09B-FC4F-45F0-A9F7-9EBF8310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4F8A-4AC5-4C2E-904E-D4E8B6200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их одиницях вимірюється довжина електромагнітних хвил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 якою формулою визначають граничний кут повного відбиванн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их одиницях вимірюється електроємніст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их одиницях вимірюється індукція магнітного поля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ому дорівнює швидкість поширення світла в вакуумі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В яких одиницях вимірюється частота випромінювання?</a:t>
            </a:r>
            <a:r>
              <a:rPr b="0" i="1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змінюється швидкість світла під час переходу  з вакууму в прозоре середовищ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их одиницях вимірюється відносний показник заломленн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ою буквою позначають довжину світлової хвилі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их одиницях вимірюється енергія електромагнітної хвилі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ою буквою позначають частоту випромінюванн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их одиницях вимірюють різницю  ходу світлових хвил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roman</cp:lastModifiedBy>
  <dcterms:modified xsi:type="dcterms:W3CDTF">2008-02-15T08:41:34Z</dcterms:modified>
  <cp:revision>10</cp:revision>
  <dc:subject/>
  <dc:title>Слайд 1</dc:title>
</cp:coreProperties>
</file>