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DCB-D385-4FC4-85C2-B623FDFD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FA5-2EB2-4354-83E0-CD5DB993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5C4-AAED-4657-83A8-EF948AF6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C9D-72F8-4E05-95C6-B12A6CC0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273-9CFF-4AAF-B55E-1518C109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7408-B208-4BCB-A2A0-F330F0F1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839-828F-4131-BF88-2C51BFD7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09D-EFBA-4731-8925-6D2EFA52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012-22F6-4FC8-9B32-FFA4D965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929-2348-4910-8C50-DAF4FB7C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EAD-21FB-4446-A1DA-A7BF1A64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0811-F617-40F9-864F-C78EBE94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E7A0-26C8-456C-A766-9F647F45D6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йближча до нас зор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Роман</cp:lastModifiedBy>
  <dcterms:modified xsi:type="dcterms:W3CDTF">2008-02-12T19:27:59Z</dcterms:modified>
  <cp:revision>2</cp:revision>
  <dc:subject/>
  <dc:title>Слайд 1</dc:title>
</cp:coreProperties>
</file>