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472-99AB-4821-8230-EFB7B471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850-FC4C-4BD5-B9F0-F142D573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52E-814F-41AC-A68D-1A4BD557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9C3-B5EA-402D-B887-4A773F24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616-CB8E-4668-BC1C-384B8474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6AD-7434-458B-866E-2E5A93D0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141-F1BA-4D84-8A06-EE13387A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0A8-E1C6-4E19-9420-CA134A2F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1A8-9845-45A2-B2F6-C8D3F179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6DD-2F7B-4E34-AC5E-CB5AE43B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FF6-A830-42EC-B715-636434E1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3A3-7BAF-4E79-9F29-1EE00B00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917E-ACEE-4E19-BB9F-FC19EA01D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яких речовин добре відбиваються електромагнітні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ому середовищі промінь світло може поширюватися криволіній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м пояснюється виникнення весел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м пояснюється забарвлення мильних бульбаш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ще накладання когерентн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ще огинання хвилями  країв перешкод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ктромагнітні хвилі поздовжні чи поперечн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лежність показника заломлення від довжини світлової хвил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, в якого електричні коливання здійснюються весь час в одній і лише одній площин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ощина, в якій здійснюються магнітні колива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ощина, в якій здійснюються електричні кол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промені якого кольору найменше заломлюються в тригранній призм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9:28:36Z</dcterms:modified>
  <cp:revision>8</cp:revision>
  <dc:subject/>
  <dc:title>Слайд 1</dc:title>
</cp:coreProperties>
</file>