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C77-3FAC-42F1-BE1D-A8549949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32B-3D34-4D58-89A8-6ADC7DF9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A83-E3CC-42ED-813B-940A35FA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447-17C6-4932-9394-5468E825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F78-D460-49A7-BF1D-A7DB976D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DD9-C5AE-4ABD-95CB-8F035C12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76B-6DE3-4941-A79A-D2F1DE4E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13B-6A72-4A54-B75B-3C832AF6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555-0C59-4893-89AB-F30971F7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FBE-C614-4B08-805F-0F0E0CF8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E8F-2054-4450-8BB3-EE93F80C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3E6-0696-4041-9D34-B111585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96BF-5512-4133-9EE3-981A63504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діл фізики, що вивчає світлові яв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3:57Z</dcterms:modified>
  <cp:revision>2</cp:revision>
  <dc:subject/>
  <dc:title>Слайд 1</dc:title>
</cp:coreProperties>
</file>