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55B4-6DE7-4875-8864-138598454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FBB9-EAA2-41A1-A763-6A1AAEFF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784E-C1F2-4231-8D0D-2B1158663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8B79-0D20-4DFA-B6EB-A6CA598B4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D6B2-DEC5-4AEE-B928-1EC745F3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B9A0-B099-42D9-9FDB-2BDD3183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CFED-8B88-4CC0-874C-2A4C4186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28DD-B304-41D6-A7C1-8036FB85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2772-1C71-417A-8A72-6C9B895D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4A92-F58F-434C-980A-06A074FA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83C8-F64D-4056-84C2-0B7FB2D5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6999-DE9A-4335-A9C8-B6EEEC41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18AE-E139-4284-B325-349EF45E1E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езистор, опір якого залежить від освітленос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roman</cp:lastModifiedBy>
  <dcterms:modified xsi:type="dcterms:W3CDTF">2008-02-15T08:17:32Z</dcterms:modified>
  <cp:revision>2</cp:revision>
  <dc:subject/>
  <dc:title>Слайд 1</dc:title>
</cp:coreProperties>
</file>