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24C-26D0-4B9E-BD76-F9525360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9A5-E63F-435F-A88A-9213C88E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24B-A6EB-496C-BF04-726D6160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F87-8C71-42E4-95AD-983164BB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3237-EC84-4D77-908F-7B315803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E36-9CD3-4E87-8952-CC9EF743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FCD-B283-4BBB-B7BB-CEBBA1CB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0899-3727-4D7F-A9FC-39935C5E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DE5-4470-4C7A-87B1-59CCDAEA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432-8790-4186-BB65-801679A6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F251-F615-444F-975E-55519631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5BCE-21CB-451F-A00E-5F216880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5DCD-C83F-4018-864E-8EC6CBD2A0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діл фізики, що вивчає світлові яв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3:57Z</dcterms:modified>
  <cp:revision>2</cp:revision>
  <dc:subject/>
  <dc:title>Слайд 1</dc:title>
</cp:coreProperties>
</file>