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ECD-A3F6-424A-897C-45164A87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C68-E6D1-4857-A1C0-F098679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F94-FEB5-4692-970D-5ADB19D2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5A6-BE30-40C7-9816-12310563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CD2-55C8-4B24-8FB5-B129FE2C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D7A-1F8E-4C57-9B11-B425C9D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541-6EF0-4B0A-B6EA-1A0B4BD4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F2B-374D-458A-8599-7897E80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87F-0CE7-4A51-9B00-3D880FED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A78-A405-4146-AD17-D87E2CE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B67-D90B-4FC4-B31B-2505C2B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EDB-67EA-4A5E-B935-A2E3AFFA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488F-4CC4-45A2-92D8-BEC50205F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оптичний прилад використовують для виправлення дефектів 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2:11Z</dcterms:modified>
  <cp:revision>2</cp:revision>
  <dc:subject/>
  <dc:title>Слайд 1</dc:title>
</cp:coreProperties>
</file>