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45D-7E4E-4EDE-A287-35B9E1D1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7A8-F46E-4362-B237-3BBA0608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69D-6ADC-40E1-B13D-9868D181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557-DD47-49C1-995F-06D48DCF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246-9601-4BAB-96EF-F4396F77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54F-775C-452C-87EF-108843CF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039-C13B-46ED-AE08-30719A76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FD2-C07B-4B63-A294-D000BA3E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5A3-938F-4BB1-961B-8A8F2DB5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E76-F7C3-443C-A677-1F4CEED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3EB-C743-4423-81F5-295135E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3BD-26AC-433C-A32D-AF2D0783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C2E-D0D3-4F6C-B714-B18EA8C4B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мічний елемент, який був відкритий на Сонці раніше ніж на Зем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8:26Z</dcterms:modified>
  <cp:revision>3</cp:revision>
  <dc:subject/>
  <dc:title>Слайд 1</dc:title>
</cp:coreProperties>
</file>