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A55F-3C6E-4719-BF58-0CFAD449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AC6-4D49-4984-A7F8-C83A6CC8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AECD-DF63-4C02-B998-9B81F187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A7E-0AC9-497F-9FDE-E8FE5296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96A-481C-4B05-89D4-33026D5D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269-57F8-4BE3-8051-E6A4AA05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07D-2D26-44BE-9B9A-5FBFB7D0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F50A-8D14-458F-A5B9-4688C409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095-14E6-4652-8C68-CAB27154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F941-3757-432F-853A-1A466EBA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954-8211-4B52-AE0C-47723DFC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2465-2793-4340-9E8A-4BE52624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4386-1575-4AE9-8B08-8BB7139566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м чином можна створити когерентні джерела сві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4:42Z</dcterms:modified>
  <cp:revision>2</cp:revision>
  <dc:subject/>
  <dc:title>Слайд 1</dc:title>
</cp:coreProperties>
</file>