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049-3337-4D14-8892-C4EBE553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616-9FB1-4464-9DDB-0560684A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485-3822-421D-A8E8-7277FA4A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CC8-EFA3-4880-83E3-09270E6C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B2F-9219-4F73-B578-35348C43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D29-9137-4744-BA1E-87DF073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C57-189B-4C51-B063-89F84FAF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876-29BC-4235-8911-3153D934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2A9-FF8D-4BDC-A880-2EE2E41A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C15-5EDF-4141-84D7-6A52596D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A59-DCF3-484C-B3C3-8F365CB4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D67-5E03-4A6E-A26C-C8BD1F8A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4A14-C4CE-457A-AD1B-5D0F6BB9B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сніг бі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44:56Z</dcterms:modified>
  <cp:revision>2</cp:revision>
  <dc:subject/>
  <dc:title>Слайд 1</dc:title>
</cp:coreProperties>
</file>