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E0F6-A96F-40AE-86CB-7CDE3F866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7D32-E58C-4137-BE54-F114C9A8D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CA86-B2DD-4F96-991A-A2325DB12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D204-D092-47B0-A581-77F4B555C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18B4-D2B9-4086-9FBC-2DDC7A659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0CC8-E978-43DD-ADA6-E67616926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246B-AE65-4DBF-90BF-580E1B7D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18AA-FC81-42E8-9512-11B0C09B6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8898-3364-4BBF-9379-3206EBA26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70E6-671E-44E4-87C6-B8DF6AC9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56A6-97FA-4BCB-B7D0-192CBD4A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AD81-333A-48E6-8CA1-A195AAE6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6908F-07D3-4F38-AEAD-AAF1C91C5D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звіть умову дифракції хви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8:38:55Z</dcterms:modified>
  <cp:revision>2</cp:revision>
  <dc:subject/>
  <dc:title>Слайд 1</dc:title>
</cp:coreProperties>
</file>