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D8D-C0CC-439B-834D-EED4DEF0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C6D-64B3-4FBC-8556-77A8B415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F7E-102A-4B3D-AF94-8B47F3D9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8D2-A8D7-4DC5-8BD4-7557FFAE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DCE-238F-4715-96AE-4DC51BB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62B-EF8F-4AF7-9ECF-EC708CB4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8B6-5EBD-4640-9068-22CF1ED6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515-6150-48DD-9FC0-B9BF25C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F6D-B47A-4215-81DF-877B6443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868-C7D1-4B39-977D-0F2CEB1F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6E4-1A99-4900-8996-7DD22D34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DDF-3E9D-49A3-A5F7-AAEC4DD2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F655-8D36-4191-A9A1-4DBCA24ED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реєстрації електромагнітних хвиль в перших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вукових коливань в електрич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личини, які визначають положення тіла у про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електричних коливань  в звук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ображення об’єкта в електричні сигн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відеосигналу в видиме зображе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ампа для отрима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визначення концентрації речов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коливальний контур, забезпечений антен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відкритого коливального кон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ій для випромінювання і приймання відбитих хвиль в радіолокаторі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демодуляції  в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33:22Z</dcterms:modified>
  <cp:revision>3</cp:revision>
  <dc:subject/>
  <dc:title>Слайд 1</dc:title>
</cp:coreProperties>
</file>