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18D-4955-4800-8903-F9D74CAD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EFB-EA99-45B1-B690-94361E88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C9C-5839-42F3-8F49-2FA5498E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CFA-25FD-48A6-9F5C-434B684D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803E-C511-4759-8FC2-4030B8AD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6BBC-2055-4F2A-9E0B-D9E692FF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1727-8ABD-43E0-B47C-BBEB56B0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0A8-BA80-4F1A-AA7D-14454631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2B9-6D1F-4056-923F-40705715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26FC-1E4D-4C1D-8A2E-0C92B698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FEF6-F44C-4A85-A69C-82D577C1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1DFC-1D56-406C-A1C3-E87E8256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1135-2AEF-4B58-817F-04B6227460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демодуля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18:41Z</dcterms:modified>
  <cp:revision>4</cp:revision>
  <dc:subject/>
  <dc:title>Слайд 1</dc:title>
</cp:coreProperties>
</file>