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0FF0-EBE0-4865-A199-AC340A358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8D0B-B8F1-412C-BC3B-51A325F3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D7D3-4A0D-42A0-880B-EFDE2E94A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9A3C-EE47-4CF1-9FC2-17490A4C6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C722-4D16-4DD0-8264-B41B6C81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9276-BC9F-4E9F-B9C8-D39346C8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E900-0373-447D-9FD0-20640FC0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1FAE-2786-4786-B487-50A265B8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F671-C3E0-4E40-A78C-25B884A3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1028-B202-45B9-93E2-DDB0C103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5DBC-6FE4-4012-A66B-57F41C06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EA17-9045-44BA-8DD4-61F32B21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2267-8EF2-4A68-8CFB-48EA0C6366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звіть кристал, який поляризує світ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38:13Z</dcterms:modified>
  <cp:revision>2</cp:revision>
  <dc:subject/>
  <dc:title>Слайд 1</dc:title>
</cp:coreProperties>
</file>