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076-99CA-48EF-BDB6-A8588A41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BF8-A044-46D4-8254-F446CAE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359-F863-49BA-8E19-3CC3C1F0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0D8-47ED-46C6-9770-6EDEB847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A4A-C4B4-4A05-AD5D-C33D158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DD1-C7FA-4A50-BEF2-C21BAA2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0CC-AA7B-408B-A8A1-F42FEA50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7F6-AD49-4971-9307-874A084E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D48-B518-4DFF-8061-8C4B03FC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865-071F-444F-BE80-EECD1905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134-C071-4C0B-BED1-7C0F955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329-673D-4E50-B176-5F28EA7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BD98-9B6D-4FB6-ADBD-AC47EFF21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приладах використовується  повне відбивання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16Z</dcterms:modified>
  <cp:revision>2</cp:revision>
  <dc:subject/>
  <dc:title>Слайд 1</dc:title>
</cp:coreProperties>
</file>