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11A-4BD8-44D7-B216-274E142A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2FC-D5E3-4912-85C9-B9CA65B2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1C4-DC0A-4194-ADE6-C2F03A15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F73-D8FE-4041-985D-6D374BD2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F99-7408-4345-A057-40EEACE0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51F-5CDD-4E00-B667-C3A50229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346-97E1-407C-B716-CACEB795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72E-8CB5-457A-818F-6E47019F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060-8D63-447A-AE52-CE9A4737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3B5-C5E6-4DE0-AE84-2C91AA30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6C6-2B52-4BF1-8568-E4E2330D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2EC-0846-436B-9BC6-60FB782D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2C9E-960D-4FA9-A426-D0C1ED4695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м чином можна створити когерентні джерел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4:42Z</dcterms:modified>
  <cp:revision>2</cp:revision>
  <dc:subject/>
  <dc:title>Слайд 1</dc:title>
</cp:coreProperties>
</file>