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307-157D-42FF-BF74-A2D775AC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7646-13F5-43E6-9EB9-1FB9884A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88A-C05B-4177-9AC6-5AFF631A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2A9-FDA1-48B4-916C-5406F499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B9A-08E5-49FD-8326-8B415385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0A8-8804-47BD-A493-D6597604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948-C591-44B0-AB31-30BB9B77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5D3-58DC-4819-B0EB-274EBE25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B393-DF37-414D-AF45-68E54CDE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58F3-4B09-4F3F-B5A7-A0BAA91C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BA24-DE96-41AF-AAC6-D5E2EC83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2C4-F097-44DE-90F0-62828C43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F41F-A88F-491D-A6BB-A6626DB8C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ількість коливань за одиницю час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ифракційна гратка має  100 штрихів на один міліметр. Яка стала дифракційної грат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 буде спостерігатися, коли в різниці ходу поміщається непарне число півхви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ений, який вперше застосував дифракційну ґратку для дослідження спект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– сукупність багатьох дуже вузьких щілин, розділених непрозорими смужками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ля чого застосовують дифракційну ґрат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ма ширини прозорої і непрозорої смуг дифракційної ґратки.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стала дифракційної грат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максимумами дифракційного спектра коли  екран віддалити від решіт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вигляд має дифракційна картина при  освітленні дифракційної ґратки монохроматичним світл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якою формулою можна визначити максимальний порядок дифракційного спектр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максимумами дифракційного спектра, коли збільшити  довжину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23:36Z</dcterms:modified>
  <cp:revision>4</cp:revision>
  <dc:subject/>
  <dc:title>Слайд 1</dc:title>
</cp:coreProperties>
</file>