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B7C-7149-4C77-9ED7-C4096E8D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06E-915E-4EAC-8156-670943E6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A76-1FBB-4FCC-9A38-42E0B870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98D-969F-4750-8F8D-B26F052E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B41-6D99-4B59-95B2-A8AB91CB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5AF-7F8C-41D8-9A46-5E536AEF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AF2-918D-412D-A7D4-C904880E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3EA-6F0D-4EEF-A619-E78B1B87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3CA-85C8-4801-9404-7C8F6FCD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514-6104-4F3F-88EE-F994FFB8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B15-2CA4-4074-8408-F78C990A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BB1-EFE3-44BC-AAB4-EAEC65C4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3613-75CA-4F99-935C-CA5E905AB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довжина електромагнітних 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якою формулою визначають граничний кут повного відб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електроємніс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індукція магнітного пол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швидкість поширення світла в вакуум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 яких одиницях вимірюється частота випромінювання?</a:t>
            </a: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швидкість світла під час переходу  з вакууму в прозоре середовищ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відносний показник заломле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довжину світлової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енергія електромагнітної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частоту випроміню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різницю  ходу світлових 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roman</cp:lastModifiedBy>
  <dcterms:modified xsi:type="dcterms:W3CDTF">2008-02-15T08:41:34Z</dcterms:modified>
  <cp:revision>10</cp:revision>
  <dc:subject/>
  <dc:title>Слайд 1</dc:title>
</cp:coreProperties>
</file>