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157E-2D29-4F93-8F35-62CD5897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6125-DC89-4530-A34A-CF2DFE97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E79F-062A-4361-9E40-35880CD80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7CD6-8FD7-4FD1-963B-4ABE8626C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580E-041B-4606-848A-08FDAC88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D350-BBBF-4F04-B6D6-172D25DE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3611-4B1A-4C75-A7BC-48BC7031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6057-730D-4140-847C-A4865E5E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D4E1-3CCE-4608-8B7C-0C1A40AF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75DD-F470-48FE-8505-BCED167A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A7B7-FCC9-4DB7-83E5-21ED9444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8F0D-A8D1-490F-9F25-1FB73AB4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5A7F-4B29-469A-9D9D-ED3B1390F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Відбірковий т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1413000"/>
            <a:ext cx="4896000" cy="2016000"/>
          </a:xfrm>
          <a:prstGeom prst="ellipse">
            <a:avLst/>
          </a:prstGeom>
          <a:gradFill rotWithShape="0">
            <a:gsLst>
              <a:gs pos="0">
                <a:srgbClr val="ff0000">
                  <a:alpha val="95294"/>
                </a:srgbClr>
              </a:gs>
              <a:gs pos="100000">
                <a:srgbClr val="97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ffffff"/>
                </a:solidFill>
                <a:latin typeface="Stencil"/>
              </a:rPr>
              <a:t>найрозумніш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ють індуктивність котуш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Фа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 Те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Веб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Генр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Чим можна пояснити різнобарвні смуги  на плівці бензину на мокрому асфальт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 інтерферен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 поляриза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дисперс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дифрак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Які промені називають теплови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 видиме світ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 інфрачервон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оме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рентгенівськ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омен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 ультрафіолетов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оме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Формула для визначення періоду вільних електромагнітних коливань в коливальному контур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050920" y="4076640"/>
                <a:ext cx="72396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720" y="46548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6440" y="-1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300720" y="4076640"/>
                <a:ext cx="7333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1080" y="-1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195640" y="5661000"/>
                <a:ext cx="7999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-13680" y="53244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443640" y="5589720"/>
                <a:ext cx="7333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0" y="4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Як називається прилад для контролю якості поверхні шліфованих вироб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 інтерферо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когер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віді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дифракційна гра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2. Як змінюється частота світла під час переходу з вакууму в прозоре середовище 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бсолютним показником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 збільшує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двіч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залежить ві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ута падін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залишає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езмінн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зменшує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двіч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. В яких одиницях вимірюється густина енергії електромагнітної хвил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  Д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Дж/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безрозмір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елич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Дж/м</a:t>
            </a:r>
            <a:r>
              <a:rPr b="1" lang="uk-UA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За якою формулою визначається густина потоку випромінюван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  J=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w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sinφ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=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Δ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Які  межі довжин хвиль видимого світ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0,4∙10</a:t>
            </a:r>
            <a:r>
              <a:rPr b="1" lang="uk-UA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5·10</a:t>
            </a:r>
            <a:r>
              <a:rPr b="1" lang="uk-UA" sz="1800" spc="-1" strike="noStrike" baseline="30000">
                <a:solidFill>
                  <a:srgbClr val="000000"/>
                </a:solidFill>
                <a:latin typeface="Arial"/>
              </a:rPr>
              <a:t>-8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λ≥ 3,5·10</a:t>
            </a:r>
            <a:r>
              <a:rPr b="1" lang="uk-UA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0,4 – 0,77 м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 0,76∙10</a:t>
            </a:r>
            <a:r>
              <a:rPr b="1" lang="uk-UA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3,5·10</a:t>
            </a:r>
            <a:r>
              <a:rPr b="1" lang="uk-UA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Якою буквою позначають показник заломлен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 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Як називається залежність показника заломлення світла від дожини хвил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дифрак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 поляриза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інтерферен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  дисперс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В  якому році було сконструйовано перший  генератор незатухаючих електромагнітних колива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1894р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  1913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1902р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 1897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17:14:21Z</dcterms:created>
  <dc:creator>Роман</dc:creator>
  <dc:description/>
  <dc:language>en-US</dc:language>
  <cp:lastModifiedBy>Роман</cp:lastModifiedBy>
  <dcterms:modified xsi:type="dcterms:W3CDTF">2008-02-12T16:40:28Z</dcterms:modified>
  <cp:revision>8</cp:revision>
  <dc:subject/>
  <dc:title>Слайд 1</dc:title>
</cp:coreProperties>
</file>