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261-8D08-4112-95F5-8B439F57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CAB-D398-4B9C-BAAA-733969DA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1E0-1179-4E58-8083-6578B7CE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A5D-8AD0-407B-ADAE-3364BE4A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550-63E3-45F0-BBB3-1453B75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DCD-93EC-4F26-AB36-4852EA13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0A4-4D42-482B-BE98-8552819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E02-A11A-4FF6-92B7-FE3A115B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87C-F92E-4FF5-AD88-717E756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33A-043D-45F7-8A55-10068D7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33F-BED5-4D9C-B3D5-E32E4EE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F06-774D-4819-9B7E-FCB1FB6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5331-B379-4D76-B3BB-186CDF4DD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истор, опір якого залежить від освітле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7:32Z</dcterms:modified>
  <cp:revision>2</cp:revision>
  <dc:subject/>
  <dc:title>Слайд 1</dc:title>
</cp:coreProperties>
</file>