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E14-0B08-46BE-A033-A95DC1E7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740-D24F-4628-83F6-5CED5454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C46-0235-4B50-A525-87A6103B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0697-34C4-4460-969A-A8B3A7DF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47B-9C2E-4A5E-980B-1756175F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E7B-A098-40EE-A531-C5552FAA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C19B-2CA6-429D-9D10-03D783B9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E77-044A-4EDD-BBEF-18C5B44D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7E2-B24C-46E5-B7C3-75E462F6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8E1-58DF-4AAB-B086-0F3BA1A0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F4A6-6C07-4983-94C8-B1992900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178-E61B-4A6D-84AA-DAD2332C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BC39-C7CE-4F74-8655-23341632CC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енергія електромагнітної хвилі  при збільшені її довжи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1:58Z</dcterms:modified>
  <cp:revision>2</cp:revision>
  <dc:subject/>
  <dc:title>Слайд 1</dc:title>
</cp:coreProperties>
</file>