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2FB-DD2E-4BF6-90CA-576543A6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297-0058-461D-A187-2BD7E38F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4D16-0A3A-4A6F-9408-D343643E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DF64-FEB4-493D-8319-213237B9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B3A-9542-4372-A9ED-53261FBB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D2FF-D07A-408B-B67D-DAED60A1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0EC-F754-4C4A-87FA-C1FEF224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585-E3AD-459E-AC5A-F36A9605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DD6-A837-4CCD-B475-95E802CC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D67B-E856-4EB1-B2FA-CD12B8C1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0F5-422B-49B5-99B9-23A0301C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B6E0-769E-4B6C-9EE9-5BBAB5B9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53DF-56FA-4A85-A3FD-F0C89D991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тичний прилад для спостереження за небесними світил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датність кришталика змінювати свою кривизну в разі зміни відстані до предм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інія, що вказує, напрямок поширення світлового пуч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більшуване ск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тичний прилад  біоло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лескоп, побудований на  базі лінзової оптичної систе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лескоп, побудований на базі дзеркальної оптичної систе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то вперше побудував телескоп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то вперше побудував телескоп-рефлектор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зоре тіло, обмежене з двох боків сферичними поверхн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ють оптичну сил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стань від оптичного центра лінзи до фоку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45:17Z</dcterms:modified>
  <cp:revision>3</cp:revision>
  <dc:subject/>
  <dc:title>Слайд 1</dc:title>
</cp:coreProperties>
</file>