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678-F95B-43E7-894D-255A08BD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A4D-52B5-481D-8B99-E77B9A5E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DB3-D591-49E8-9172-72D69DAD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F6D-42A0-4350-90D7-AC33E6BD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CA3-D8E3-46F9-A4D8-05960FE1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D3B-0297-46EC-85BF-32594459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CE9-D7DB-4A31-B7F0-A5E4F17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78B-BB3B-4425-B003-87A3C6F8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7B4-FC18-41F7-8BBE-B283CA8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F7A-B1D6-4456-8537-003EAF1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E22-DF5F-41CE-B0C2-5F04B52D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6D0-7A0C-4517-B2AD-1045D12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62A8-3135-4B93-A9BA-D591B6D9B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твердження про те, що кожна точка простору є джерелом вторинних 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43Z</dcterms:modified>
  <cp:revision>2</cp:revision>
  <dc:subject/>
  <dc:title>Слайд 1</dc:title>
</cp:coreProperties>
</file>