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C98-509B-4CCC-9EDB-B809BD22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212-D942-4B09-8068-37F5A554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C04-8799-44D2-B263-96E809B9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B4B-FFB7-4F7E-976B-919779CB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415-0369-4E08-B49D-3B04DBD7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503-1446-4024-9A57-20C278D6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A30-5B91-4BBC-AA89-5EE460F2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E8B-0FB6-4AE9-8DC2-5C85E79E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07E-1973-4440-B417-793D4BFC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182-E109-4A0E-8E43-209B33E3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947-50B9-4B3B-AF76-17DF6EC2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C0A-2795-4F70-BA05-2299A11B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FEED-7AE4-4B96-BB5F-7E0AACE1E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імічний елемент, який був відкритий на Сонці раніше ніж на Зем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8:26Z</dcterms:modified>
  <cp:revision>3</cp:revision>
  <dc:subject/>
  <dc:title>Слайд 1</dc:title>
</cp:coreProperties>
</file>