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7F9AE-0B89-4717-8FD9-BF9E2C59E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7B0AE-EE54-4DA9-8A96-CB5F93475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06D44-AE0C-4DD6-AE07-394EA600A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18351-80A9-4532-8541-B90C916BF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A95C5-33DB-435C-BF45-DB918BD48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5D0B0-5BCC-4DEA-AE3B-997208080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5064E-CD75-4C91-8E52-17F4CF102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7A106-466F-47DD-94CD-EC94CF368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D730C-F89F-4966-A233-616ED2068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13D33-461D-4FE9-A45C-A65A1B663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E2728-5A92-4C26-A17E-4B5E4C8EF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E0893-B57E-4F4B-A45E-66020A5AB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70879-E3A7-49EC-B751-82D10A0771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На скільки кольорів поділив Ньютон суцільний спектр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Пристрій, який перетворює природне неполяризоване світло в поляризован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Здатність ока пристосовуватися до різної яскравості предметів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Як змінюється вигляд неба при підніманні вгору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Між якими кольорами у смужці спектра розміщений зелений колір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Світло якого кольору відбиває зелений виноград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В якому середовищі  промінь світла може поширюватися криволінійно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Чому ми бачимо тіла, які є навколо нас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Яка найбільша довжина хвиль видимого світла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Яке природне явище допомогло О.Ремеру визначити швидкість світла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Відстань між найближчими  точками світлової  хвилі, які коливаються в однаковій фазі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Світлові промені якого кольору мають найменшу довжину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3T18:51:13Z</dcterms:created>
  <dc:creator>Роман</dc:creator>
  <dc:description/>
  <dc:language>en-US</dc:language>
  <cp:lastModifiedBy>Роман</cp:lastModifiedBy>
  <dcterms:modified xsi:type="dcterms:W3CDTF">2008-02-12T17:40:57Z</dcterms:modified>
  <cp:revision>3</cp:revision>
  <dc:subject/>
  <dc:title>Слайд 1</dc:title>
</cp:coreProperties>
</file>