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747-0892-4C84-9D0D-5F5156BD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80F-B147-4D8E-BA33-CBDE75D5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FD3-B1CA-4DF1-AFEB-45491678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A1D-B103-4D28-AD06-ABBF24A7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162-6549-47BD-A413-4CD6D2CA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ED9-1074-4CFC-8B05-E0D7089B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282-477D-48D3-BFBC-BB8F22CA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919-404B-4B38-84D7-BA834948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607-C621-4C0C-BB31-95C7A28E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84C-F56E-4330-BDF3-D1BE9FBB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F1C-CFCC-4F38-9FCD-420033E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426-AEE0-430E-98C9-D8D64A75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7203-3FF2-4ECA-BE7B-F512A3A4D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за о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єктами з укритт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44Z</dcterms:modified>
  <cp:revision>2</cp:revision>
  <dc:subject/>
  <dc:title>Слайд 1</dc:title>
</cp:coreProperties>
</file>