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F4BB-F186-422B-A61E-0DC78B38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72F-FE17-47E0-91A1-B717BF26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C37-CEB9-4753-8ECD-BEF76092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67CB-21E0-4459-B716-F4D10347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F4C-F025-4043-B440-8F0D05CD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6E5-ACA3-4ED3-81A0-3AF94E50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3F7-3E93-4394-BF4A-A1056B56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415-B321-405A-8B6B-7B357655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FF5-22A2-4E3F-A9F0-086E8A3A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BBC-6B25-4CC3-94FC-FCD3EFCF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114-AC78-4333-B8BC-159117A4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876-A7E0-45B6-8E10-D11447FB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1252-E778-4581-9CB8-250E86DDB8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приладах використовується  повне відбивання світ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7:32:16Z</dcterms:modified>
  <cp:revision>2</cp:revision>
  <dc:subject/>
  <dc:title>Слайд 1</dc:title>
</cp:coreProperties>
</file>