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950-87B6-42CB-B174-6B9C7A10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7AC5-2F38-45DA-AA27-340366DF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722-FD54-47CE-90ED-DBE94154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2D59-9F32-4056-B57F-CDEDFF2B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FBC0-A65E-4C95-AD42-7EE17529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36F8-0982-4A9C-8ECA-EBAAB83E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56BF-771E-4AD7-BD51-1EE16594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E9E-5C56-453F-9FFF-69EFC19F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CE24-5E20-4609-8A13-60701240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9BA-EFD2-4819-8C0B-5471C442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D433-085D-4FB3-BFEF-1A69DFD7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26C5-D4C8-46B5-81E7-E5B76B67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47CA-4AEC-468A-8F08-57A3DEF061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уди відхиляється промінь при переході з більш оптично густого в менш оптично густе середовищ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6:31Z</dcterms:modified>
  <cp:revision>2</cp:revision>
  <dc:subject/>
  <dc:title>Слайд 1</dc:title>
</cp:coreProperties>
</file>