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2BA-8BFF-439B-9B88-805801FF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B87-134C-481B-A418-062E2544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9188-1F43-404D-9AF0-32042A40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ADC-7554-41E5-9158-804A5B2D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72C-2CA3-4430-9709-373324D5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D6C-76D6-47EB-9592-F096F95C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0B8-D3BB-4028-BAE2-78D7BCF8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287-E13C-433E-BC98-D3B7D3F4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FA6-77B4-4EE6-90AE-A6AE00D8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8D4-5EDF-42EF-BF5A-F62C17E4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919-1CC6-4EF1-A110-CADF25AD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6E4-F516-401A-800F-03672D91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7984-4FC7-41AB-BBB6-6901C5D1A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Відбірковий 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1413000"/>
            <a:ext cx="489600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індуктивність кот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Фа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Те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Веб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Генр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Чим можна пояснити різнобарвні смуги  на плівці бензину на мокрому асфальт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інтерферен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поляриза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дисперс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ифр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і промені називають теплови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видиме світ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інфрачерво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рентгенівськ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ультрафіолето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Формула для визначення періоду вільних електромагнітних коливань в коливальному конту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050920" y="4076640"/>
                <a:ext cx="7239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720" y="46548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44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00720" y="4076640"/>
                <a:ext cx="7333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95640" y="5661000"/>
                <a:ext cx="799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-13680" y="5324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43640" y="5589720"/>
                <a:ext cx="733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 називається прилад для контролю якості поверхні шліфованих вироб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інтерфер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когер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віді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ифракційна гр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 Як змінюється частота світла під час переходу з вакууму в прозоре середовище 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бсолютним показнико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збільшу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двіч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залежить ві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ута падін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залиша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змін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зменшу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двіч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. В яких одиницях вимірюється густина енергії електромагнітної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 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Дж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безрозмір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ж/м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За якою формулою визначається густина потоку випромінюва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 J=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w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sinφ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=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Δ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і  межі довжин хвиль видимого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0,4∙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8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λ≥ 3,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0,4 – 0,77 м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0,76∙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3,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показник заломле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 називається залежність показника заломлення світла від дожини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дифр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поляриза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інтерферен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 дисперс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В  якому році було сконструйовано перший  генератор незатухаючих електромагнітних колива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1894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 1913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1902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1897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7:14:21Z</dcterms:created>
  <dc:creator>Роман</dc:creator>
  <dc:description/>
  <dc:language>en-US</dc:language>
  <cp:lastModifiedBy>Роман</cp:lastModifiedBy>
  <dcterms:modified xsi:type="dcterms:W3CDTF">2008-02-12T16:40:28Z</dcterms:modified>
  <cp:revision>8</cp:revision>
  <dc:subject/>
  <dc:title>Слайд 1</dc:title>
</cp:coreProperties>
</file>