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02D-971B-4D7E-83AF-3D56C00E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253-DD11-47EC-BEED-9B1CC1D7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F34-336C-46BD-B3D0-59EA35E4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44B-B20B-4461-BD56-8BEDE462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A6B-727A-40BA-B18C-7A7A990A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C7E-0645-4037-B187-3D638BE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FEB-95D7-4606-B6B9-4588F078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3D7-4587-45EF-BD82-4515B1C4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200-F540-475B-A69C-92769884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947-1930-4589-9559-30BC2E55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DA1-6AA6-4165-A56C-EEE4E0C0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BE4-37DE-4FBA-8044-2513F8E0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5447-A40D-4795-852C-C99A5ADDF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що дозволяє комп’ютеру передавати та отримувати дані по телефонній лінії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9:32Z</dcterms:modified>
  <cp:revision>2</cp:revision>
  <dc:subject/>
  <dc:title>Слайд 1</dc:title>
</cp:coreProperties>
</file>