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C68-2048-46E7-9AB9-AEE948F2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02C-AAA9-488C-81C9-D1CA0B3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971-99C5-4DEB-A07E-B92763C3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496-832F-4557-B4C3-15A1B0BC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4D1-95A1-4385-B84F-D1FA127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119-7CF6-484F-9BDB-5E62866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4A0-C3FE-4B56-930A-37AB0A03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51F-D95A-44C5-B10D-41929C84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F59-B6F9-4874-B65A-828D444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3D6-E764-4C92-A435-C9822D9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52F-9E67-4301-83D0-74A2906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D76-A939-4A1C-ABD5-C9E07AC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6A40-D2E9-4081-9E28-7144ADBD7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твердження про те, що кожна точка простору є джерелом вторинних 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43Z</dcterms:modified>
  <cp:revision>2</cp:revision>
  <dc:subject/>
  <dc:title>Слайд 1</dc:title>
</cp:coreProperties>
</file>