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A7B-29DC-4140-9501-1310CE20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1D0-F8C3-4C42-A96D-F206ABC9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053-4B7C-4227-ADDC-A6A29927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431-2E80-4496-BEF5-48293C07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449-2AFD-43EA-87EC-708CF921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9B8-24A2-4A30-96BD-114D698D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C33-AB42-4A0B-A0B9-98AAEBB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BDE-06D8-4802-A4B7-D75FFC33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61C-7816-45EF-9972-FC63B939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9CD-D032-4825-9A75-5A344D5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E2E-C778-47C8-834C-AD1D1E21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037-4CB0-44A7-B867-FF16C40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2D3F-7B18-4E11-BF9F-A418EB51E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ближча до нас зо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59Z</dcterms:modified>
  <cp:revision>2</cp:revision>
  <dc:subject/>
  <dc:title>Слайд 1</dc:title>
</cp:coreProperties>
</file>