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8C8-A241-4F94-91EF-63E5C28F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BE0-CE8C-4BE4-9AC4-EE8ADAB8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C32-E902-4553-93BC-17EE706A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652-B5AE-4358-B826-586DFD5F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9D0-75A2-46A3-AB74-63431579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AC0-72AF-4A4A-AF59-F28A036B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C61-AF67-43B7-A51A-9AD69E9F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22E-14A3-4045-AD6B-84244A7C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4DC-715A-4C15-8D4C-78256A54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2B3-53B2-4DB3-87B9-B6BA6E1A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C3E-8935-4F01-8DD1-74264F5C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EFB-51EC-47FC-95AA-CB10D709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C1DE-E42A-4503-9E8C-81D0DF955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діапазон довжин хвиль довгих радіохви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9:10Z</dcterms:modified>
  <cp:revision>3</cp:revision>
  <dc:subject/>
  <dc:title>Слайд 1</dc:title>
</cp:coreProperties>
</file>