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CC7-E1C7-47D0-A17C-E8829330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126D-2CB4-4115-AB52-80B50DA3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94B-59E3-44EF-B2F6-03D15F54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62F-FCCA-4805-810A-D15217A5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211-71B3-4A84-8F08-70600EE0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8B2-4C93-4A8B-AF14-38A56A03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F0E-E387-41B5-A589-56A8C199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1F06-6811-4BCB-A972-B4AFA880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743-3B1E-416F-A4B5-106AE7CE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35C-2BCC-4867-999D-8818DAB8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1B5-34C8-468F-92A2-6A43E2E6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87E-D45B-416B-BD26-F8D6B77D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3EE9-6F04-426F-BFD3-DBB037C854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енергія електромагнітної хвилі  при збільшені її довжи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1:58Z</dcterms:modified>
  <cp:revision>2</cp:revision>
  <dc:subject/>
  <dc:title>Слайд 1</dc:title>
</cp:coreProperties>
</file>