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1C8-B1E6-424E-83B4-738804C4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7E4-F61E-4887-A435-9756398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75F-0F1B-47BA-96E6-78C98035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3B7-5BA4-4D66-A6AD-5E2BE5A3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03B-D3BE-403A-82C2-41C14145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A62-619F-47ED-9AD5-CA6CEEE8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4B9-AC3F-4F84-A94B-9C803E77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515-D5A0-44F3-AD95-90825A00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513-3BA7-4A13-9C44-915E449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227-DE35-487F-8C7E-B8371FC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26E-CF76-485D-8456-78A89EE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63F-54B0-45B1-9B8D-3BB39C0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A8C-A53D-4805-AC09-72010AA14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енергія електромагнітної хвилі  при збільшені її довжи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58Z</dcterms:modified>
  <cp:revision>2</cp:revision>
  <dc:subject/>
  <dc:title>Слайд 1</dc:title>
</cp:coreProperties>
</file>