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420-C86A-44DD-9112-884D3392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E4A5-290E-449D-9896-553D8D81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C5E-8B0D-441A-A168-8B1DAA02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A63-FEFF-4270-87C8-15297320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190-5217-4815-B857-E23E0F5E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BEB-9689-467D-BCD4-FC9ABDCF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91C9-E6A5-484A-AAF6-360DAE64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E08-A1BE-444B-8B90-220A13E1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EC1-75ED-4F73-86D1-2BFAC935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2B9-FB4A-4335-86B0-78635CEA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D85-97E0-46B2-B763-CF08680E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2C3-0A83-42A7-8A54-78D85B01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1695-029B-4C4A-A533-EFC354F0FE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якому явищі працює цукримет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6:56Z</dcterms:modified>
  <cp:revision>2</cp:revision>
  <dc:subject/>
  <dc:title>Слайд 1</dc:title>
</cp:coreProperties>
</file>