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54E-189B-4C60-8E30-E4FC6029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882-10C2-4B9F-990E-17D7B18E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95C-915C-4E80-9F2A-06ED6DC1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E4B-37E7-429F-A806-BE07E184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F05-2441-4478-8189-8B955748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FAA-7F78-4D94-8EFB-3E27E74F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7C66-57B1-4A95-B9BA-2BEB499C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3DE-8699-4C17-A2F8-D0BB9C7C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10D-9BC8-4728-A3FA-00142493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721-4683-45A8-B528-D12F10A2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09D-C32D-40D6-82E6-964AFCF7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BD2-17E1-4426-9C04-0204CBC0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2706-E5C7-4465-A83D-0109D2EAC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якому явищі працює цукримет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56Z</dcterms:modified>
  <cp:revision>2</cp:revision>
  <dc:subject/>
  <dc:title>Слайд 1</dc:title>
</cp:coreProperties>
</file>