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EC77-E3D5-44A9-B9B6-C7DA4506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DF34-F758-4662-80FC-2AF4ACF4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C2ED-8A29-48DF-8356-8EA4C355C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D359-BEF8-4404-AEAE-5829A055C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4A59-A755-4B0D-91FA-14229BD3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574F-2937-4504-965E-8FC62108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1DD1-4BEA-43ED-A99D-E13C27F6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A2ED-40CE-45AD-9562-26649A66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F763-F026-470E-969D-B48ACBA7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69DF-1B07-4F25-A9D4-3483990A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B516-AB5E-451A-A4AF-3C37DC1F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D800-DC0F-4F18-AC6F-41731BBD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2206-6247-45EA-81AB-0108E79DD6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родній приймач світлових хви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Роман</cp:lastModifiedBy>
  <dcterms:modified xsi:type="dcterms:W3CDTF">2008-02-12T19:27:27Z</dcterms:modified>
  <cp:revision>2</cp:revision>
  <dc:subject/>
  <dc:title>Слайд 1</dc:title>
</cp:coreProperties>
</file>