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5C6-1685-468E-BF99-4957E50C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1376-0E0B-427B-8511-9E2FF69E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288-02B4-4FF8-A2B7-37F2FABE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D9B-01EB-4A5A-9782-E5F1F29D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CD2-5838-4D61-9B43-7EE4F680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95F-6186-4BE2-9CEE-0D91758B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96DC-82F5-47CA-BC76-859C70B5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1AA6-7722-4FCB-8CE6-C676C1EF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FC02-6166-48ED-9936-BA642572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C5B5-83DF-43DE-8832-9656F5E2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A876-6122-4F50-B20D-63E5BEF8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A807-896C-423F-A0E2-7E5DAD23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065F-3DEA-42C2-AD7B-14F167EA72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дві електричні лампочки не є когерентними джерелами світ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9:18Z</dcterms:modified>
  <cp:revision>2</cp:revision>
  <dc:subject/>
  <dc:title>Слайд 1</dc:title>
</cp:coreProperties>
</file>