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203-1D0B-4A32-9AB7-DB0329BA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67C-C648-4423-BD07-467EEBAE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0A9-E472-47A2-827F-BB82138D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9A8-C46B-4569-A42D-5C75CDFE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BF6-BAE1-4238-AFF8-46AC98E4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1FA-AA62-43CD-92E0-E913BA24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BB1-A892-427A-82DD-9DA126A0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2DF-36E4-4E54-9C55-EA17E596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3CE-65C1-4A6A-865F-14FB0C57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7BC-A398-4366-B3D3-BFC7A6F0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613-B609-4731-A927-E7717B8D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3B0-1EF4-45BE-B56E-1E59CEBF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0085-070B-47B0-BF8D-79FC1576D9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якому явищі працює цукримет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6:56Z</dcterms:modified>
  <cp:revision>2</cp:revision>
  <dc:subject/>
  <dc:title>Слайд 1</dc:title>
</cp:coreProperties>
</file>