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A05-EC84-4F5C-97A2-73AAA73B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0B5-DE4F-41B2-BB65-E7514280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B21-9494-4356-90BB-3854786C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2CD-8F8A-4680-8260-3CF1C441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CE3-7336-41FA-9D38-7E1FBB40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8BE-69D8-4F03-9194-F8E8FD89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932-10DE-474A-A354-1761D7AE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505-349E-472F-A36B-3AB896BB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922-AA8B-4F9F-B268-62AEDB85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D74-9DD2-42F3-95C2-CC5811E4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ED0-7607-47A6-9750-E50B7379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B49-E138-42B4-BEC3-8EC204CC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409E-0257-405E-B886-8832C528AD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сніг біл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44:56Z</dcterms:modified>
  <cp:revision>2</cp:revision>
  <dc:subject/>
  <dc:title>Слайд 1</dc:title>
</cp:coreProperties>
</file>