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0B1B-BAE1-4CFC-81CC-75CD5715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DED8-A10C-450C-A8E3-4838192A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3A8C-5C00-484C-A505-6DE873B6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4A7F-2A8E-42CB-A30D-30C03E9D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32D3-3A36-4665-96F9-2027B5F8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70B-35A0-4A49-97B0-7113A658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F4BD-1180-4F79-9801-6DABC5D9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83B8-6619-45AE-9703-AD7122E6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A8FE-B98A-48C5-A74A-EDD287E1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0876-B3DE-4C17-8661-47FFDFA4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7049-782A-48D8-A844-CD2E321E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0A4A-97D0-4882-A285-7001F925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F49B-F1E1-4B25-8D4A-6E2A7D2C3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ількість коливань за одиницю час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ифракційна гратка має  100 штрихів на один міліметр. Яка стала дифракційної грат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Що буде спостерігатися, коли в різниці ходу поміщається непарне число півхвил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чений, який вперше застосував дифракційну ґратку для дослідження спектр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– сукупність багатьох дуже вузьких щілин, розділених непрозорими смужками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ля чого застосовують дифракційну ґратк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ума ширини прозорої і непрозорої смуг дифракційної ґратки.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стала дифракційної грат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иться відстань між максимумами дифракційного спектра коли  екран віддалити від решіт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вигляд має дифракційна картина при  освітленні дифракційної ґратки монохроматичним світло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 якою формулою можна визначити максимальний порядок дифракційного спектр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иться відстань між максимумами дифракційного спектра, коли збільшити  довжину хвил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23:36Z</dcterms:modified>
  <cp:revision>4</cp:revision>
  <dc:subject/>
  <dc:title>Слайд 1</dc:title>
</cp:coreProperties>
</file>