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1564-92EF-4200-89AD-39A30717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C2D2-7F83-48B1-9FF6-0DCEF685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7961-A29B-4C6D-AA0C-3D59A5F9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68E1-6603-4FC6-8435-835E5EDB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C39E-D8F9-486D-8560-BD75012A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BDC7-13A7-4710-996D-AC2401ED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99B6-45F9-476A-A436-E9FB9543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F89F-B3AD-4514-9127-0F24DF9E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CB0A-820F-4804-BD4A-E0B249AD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DB37-70A8-477B-910D-8BCD1C40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4A86-74A5-4A12-8ED1-70332546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775B-F5E6-4DAC-96E1-417763FC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268A-B2BF-4931-A916-C519545C8F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ша назва мобільного зв’яз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19:53Z</dcterms:modified>
  <cp:revision>2</cp:revision>
  <dc:subject/>
  <dc:title>Слайд 1</dc:title>
</cp:coreProperties>
</file>