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80D-F4AA-41AC-9E93-F6F59990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635-7B19-48C4-AE2A-CF28B830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D21-30A2-404B-9E5C-9787CE38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A7D-0517-41DE-925E-B4C835BF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94C-E9FD-43B2-B023-F12C2FFD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410-DCD0-49FC-B1FD-D0C6EF8A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AFC-4437-4884-B0FB-07F040E3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941-E171-4D35-8159-B0EB303F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CAA-1521-4B11-9E2C-89B4FE5E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CE6-D568-474A-A481-254BE57F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851-C545-4E85-BE02-96DEFA50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857-D140-491B-BF6A-CB5424A1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500E-865C-49AB-8F62-8C8CA1461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кристал, який поляризує світ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8:13Z</dcterms:modified>
  <cp:revision>2</cp:revision>
  <dc:subject/>
  <dc:title>Слайд 1</dc:title>
</cp:coreProperties>
</file>