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E6D8-486F-464B-AF23-F3F887E5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0529-29CD-4328-ACDD-3AAE7359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F19F-4D5E-4307-BAFD-4F33BED2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2FF-99F0-4A2E-9EE4-F09CE3E23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2A59-5FCB-4F6B-ABFC-DF8A9A95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51AF-7B0E-423A-99DF-4E579DBA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F08C-2EC3-4B59-9C99-388BCC2C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6008-FD98-455A-8416-CC19D43F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06C9-13A6-40C8-BE32-446E5D8A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CA3C-83DB-4F42-A519-8D91C489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1185-5025-4007-AB81-BE9C68F7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B7B4-1124-4718-A59F-8DB22849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AB92-C027-426D-89E2-49DB2450F5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уди відхиляється промінь при переході з менш оптично густого в більш оптично густе середовищ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5:37Z</dcterms:modified>
  <cp:revision>2</cp:revision>
  <dc:subject/>
  <dc:title>Слайд 1</dc:title>
</cp:coreProperties>
</file>