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99D-50E1-460D-BAFB-9A859771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73C-283E-407C-9B55-085AFE59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AB9-A0A5-43C0-B203-9C028730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8E0-D4C0-42C7-9BBE-E4DDCD9B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E8F-5DE2-495A-9800-C2F51B49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734-A3C9-48AF-B222-3DD4F983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A74-7E45-4996-AF69-9E7B339C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492-8EDB-4DC8-BC5E-35E6765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D52-6895-4C0B-B71D-950C73BB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B5C-AB34-4A56-BA66-B99912C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305-91A9-431C-833C-9F5FECF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886-284A-4219-A879-7FCDB1AF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7CEE-0461-4641-86FE-24D05D892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менш оптично густого в біль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37Z</dcterms:modified>
  <cp:revision>2</cp:revision>
  <dc:subject/>
  <dc:title>Слайд 1</dc:title>
</cp:coreProperties>
</file>