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9A89-F43D-4818-B606-01A6D864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1D6B-473F-4FB8-9A1C-13478590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3398-7E36-4F70-B074-22980CB8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ECE3-D90B-4A5C-85DB-52CD52A4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AE3A-DFAA-491A-8787-113B92B0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5145-6980-4D69-8E9D-82D4196F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33D7-9435-4F95-9425-042DB990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F9D8-C834-44F8-B80A-43E1FC22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ECE7-C86D-41DD-BC66-804D4CA5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29ED-E713-4F53-BC6A-A89268F0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04DA-0929-44F2-B525-80A44941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7E5B-893C-4B3A-87F4-542D0246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37DD-7ABF-4788-8993-EE143E13E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 скільки кольорів поділив Ньютон суцільний спектр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, який перетворює природне неполяризоване світло в поляризова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датність ока пристосовуватися до різної яскравості предмет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юється вигляд неба при підніманні вгор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іж якими кольорами у смужці спектра розміщений зелений колір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 якого кольору відбиває зелений виноград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ому середовищі  промінь світла може поширюватися криволінійн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ми бачимо тіла, які є навколо нас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а найбільша довжина хвиль видимого світ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е природне явище допомогло О.Ремеру визначити швидкість світ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стань між найближчими  точками світлової  хвилі, які коливаються в однаковій фаз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ві промені якого кольору мають найменшу довжин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40:57Z</dcterms:modified>
  <cp:revision>3</cp:revision>
  <dc:subject/>
  <dc:title>Слайд 1</dc:title>
</cp:coreProperties>
</file>