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DF1-505D-4E9E-9A29-70DB3C5F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818-886D-4164-92DD-64683D2A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E38-1525-4B29-BE16-9CFB0213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BD5-2DAB-45EC-BE15-9CFCFEC0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BAE-AE9F-4694-8DBA-DCA0C0A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60C-C011-4CAB-B9D4-A5866AE4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1E5-F9EC-4260-BA50-462F0F70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DA3-98AA-4ED9-8B16-B07A9104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948-AE6E-4A6D-A845-CD0D94C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A24-48F4-442D-AD75-0A4042C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5CC-C04A-4140-9C44-EF983C37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112-75CD-4223-BB46-ABE0E64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42FA-D197-43ED-B89A-FDC585CE2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mifinal/semifinal1.ppt" TargetMode="External"/><Relationship Id="rId3" Type="http://schemas.openxmlformats.org/officeDocument/2006/relationships/hyperlink" Target="file:///semifinal/semifinal2.ppt" TargetMode="External"/><Relationship Id="rId4" Type="http://schemas.openxmlformats.org/officeDocument/2006/relationships/hyperlink" Target="file:///semifinal/semifinal3.ppt" TargetMode="External"/><Relationship Id="rId5" Type="http://schemas.openxmlformats.org/officeDocument/2006/relationships/hyperlink" Target="file:///semifinal/semifinal4.ppt" TargetMode="External"/><Relationship Id="rId6" Type="http://schemas.openxmlformats.org/officeDocument/2006/relationships/hyperlink" Target="file:///semifinal/semifinal5.ppt" TargetMode="External"/><Relationship Id="rId7" Type="http://schemas.openxmlformats.org/officeDocument/2006/relationships/hyperlink" Target="file:///semifinal/semifinal6.ppt" TargetMode="External"/><Relationship Id="rId8" Type="http://schemas.openxmlformats.org/officeDocument/2006/relationships/hyperlink" Target="file:///semifinal/semifinal7.ppt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пів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/>
          </p:cNvPr>
          <p:cNvSpPr/>
          <p:nvPr/>
        </p:nvSpPr>
        <p:spPr>
          <a:xfrm>
            <a:off x="46836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Фізичні вели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320364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стос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/>
          </p:cNvPr>
          <p:cNvSpPr/>
          <p:nvPr/>
        </p:nvSpPr>
        <p:spPr>
          <a:xfrm>
            <a:off x="5940360" y="69228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4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/>
          </p:cNvPr>
          <p:cNvSpPr/>
          <p:nvPr/>
        </p:nvSpPr>
        <p:spPr>
          <a:xfrm>
            <a:off x="46836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атні фі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/>
          </p:cNvPr>
          <p:cNvSpPr/>
          <p:nvPr/>
        </p:nvSpPr>
        <p:spPr>
          <a:xfrm>
            <a:off x="320364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6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Інтерфере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5940360" y="213372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ек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/>
          </p:cNvPr>
          <p:cNvSpPr/>
          <p:nvPr/>
        </p:nvSpPr>
        <p:spPr>
          <a:xfrm>
            <a:off x="46836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Дифракц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ломлення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ідбивання світ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371628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Пристрої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Радіохви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15772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име світ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Оп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ри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41:08Z</dcterms:created>
  <dc:creator>Роман</dc:creator>
  <dc:description/>
  <dc:language>en-US</dc:language>
  <cp:lastModifiedBy>Роман</cp:lastModifiedBy>
  <dcterms:modified xsi:type="dcterms:W3CDTF">2008-02-12T20:41:44Z</dcterms:modified>
  <cp:revision>9</cp:revision>
  <dc:subject/>
  <dc:title>Слайд 1</dc:title>
</cp:coreProperties>
</file>