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E94-D285-4E00-8D51-FE6DC396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C51-BFE2-4D1B-AAF2-16C75B1C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468-4DEE-4857-B6A8-39124AC0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6D4-29CE-44D3-BFFA-4F3C1299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7CE-4698-419A-AFF7-FAEDC35D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6E4-DF91-490F-9973-09D10C4D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143-2CC8-470D-B898-47C2AB94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552-8D6E-4C64-8E06-395C744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361-3396-4AC9-B53E-9AF96F5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A50-117F-45B0-A618-343934F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A05-F0A6-4AE3-821E-55F91721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749-0A26-4C0A-ACBD-1AFB096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DBD9-5621-4423-8874-332984FA7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електромагнітної теор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дослідив дисперсію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вчений, автор відкриття Х-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перше здійснив дослідже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експериментально довів існування електромагнітних хвиль і досліди їд властив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радіоприйм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патенту на застосування електромагнітних хвиль для бездротового зв’я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у належить перша спроба визначити швидкість світла прямим метод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визначив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андський фізик, автор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та фізик, автор 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ідкрив спосіб просвітлення оп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3:53Z</dcterms:modified>
  <cp:revision>6</cp:revision>
  <dc:subject/>
  <dc:title>Слайд 1</dc:title>
</cp:coreProperties>
</file>