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041-D1BB-43E5-AF4E-08AAF311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BE8-5115-4632-B982-A496AAC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3A1-7042-4530-A7AC-1233619C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02B-C28A-4995-A720-5DA52F68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AF7-FB10-43E8-B53C-F21305D2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E98-5375-4E97-BAA4-CE5427E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8B5-40BD-4B8A-80CF-3896199A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890-194B-4CC8-9537-56DF46FB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F06-A727-459F-805E-EA36700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BE3-D583-4CDB-BBA8-F655212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844-F2B3-45D7-A50C-AD72744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2EC-90DD-4C41-B266-B3E6FC3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B64C-FF54-4356-88F7-100826130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зміщення про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11Z</dcterms:modified>
  <cp:revision>2</cp:revision>
  <dc:subject/>
  <dc:title>Слайд 1</dc:title>
</cp:coreProperties>
</file>