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0F4-6934-4E3E-A0EE-9335ECB7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46F-882C-4EBB-AD08-05C8C000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B2F-5C26-46C8-8024-16BA4ED6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4AC-3AD8-49EE-8780-E5C1C743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9F4-0E08-4054-80AA-D28D07F9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303-B80C-4AAD-B643-9987CDD7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507-0E57-4C6B-863D-9D6DF0D6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BCA-56B1-470E-B238-9F2F6FE9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83A-4165-44CD-BA4C-E63B0F89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505-953D-47BE-AEEE-233DD96D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7D01-CADB-4BA3-A905-0E936E9D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501-F3BE-4545-A25D-AF76454B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16A9-2285-420D-8305-80799417E3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м чином можна створити когерентні джерел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4:42Z</dcterms:modified>
  <cp:revision>2</cp:revision>
  <dc:subject/>
  <dc:title>Слайд 1</dc:title>
</cp:coreProperties>
</file>