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2FB-AFED-4BCE-A583-E3C77CF9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CB5-19C2-42F9-9AB5-13F38734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5C8-24CD-4B4E-AD85-7C77C009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B1F-00A1-48C5-9D80-27FCF222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A47-3E68-4027-A58E-AB9314E7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68E-AB04-4466-9028-B859D532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566-0481-4712-A0D2-024E9AD5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817-A1C3-4704-B646-57F59803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C68-0C18-487C-AA53-CDFEFDE9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27E-58C4-47D1-B798-70E0A97C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066-8837-4A2B-98B7-F112A25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22B-5D1A-4AEC-A88F-1D821A47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D96-5C32-4129-A559-4881C3F55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випромінювання та прийма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5:20Z</dcterms:modified>
  <cp:revision>3</cp:revision>
  <dc:subject/>
  <dc:title>Слайд 1</dc:title>
</cp:coreProperties>
</file>