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572-9CD4-4758-9EFD-B872A13D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E1B-963F-43B1-AE90-C59F6AF2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BB03-129F-44FE-9526-8559CE5A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20E-8B5B-4FC8-AB94-E789C0CA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569-486D-4953-8AD9-D888A054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426-9906-4F38-989A-69CFC4AA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2423-9A3E-425E-B272-ED0B333E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EA7-A24B-480B-8B82-2E5FED85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FF3-1929-4A3F-B0DB-38DCC883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891-738C-431C-8666-95BA2B16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DB7-A19B-4F02-96FF-E108949A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D214-9C89-4707-9ACE-003E7EA4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268F-18B2-4F22-84B9-B9083353D1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імічний елемент, який був відкритий на Сонці раніше ніж на Земл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8:26Z</dcterms:modified>
  <cp:revision>3</cp:revision>
  <dc:subject/>
  <dc:title>Слайд 1</dc:title>
</cp:coreProperties>
</file>