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EC8-6A97-4B9B-BBED-C216715A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C47-F019-49C0-84A6-CEA6DD16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242-718A-4C87-975C-043657D9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F76-1C88-41EA-A4D9-ACCCA1FF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7B5-470A-4D74-A32C-7B98553D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D6F-8596-46B2-9D7A-0275E7FD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7B3-86EC-4F7E-8035-D81A85F8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E34-3FFF-4573-B8EA-BC3EDEB3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212-7480-4109-A31C-CB313F82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3F7-6ED6-4AF9-93F6-A691E597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08C-200A-4976-95E8-B4723DC9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A76-82B5-4737-B53C-A12B6F5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D114-2DB7-49B8-B6E4-9496897D2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 одного повного коливання поля електромагнітної хвил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здійснити радіозв’язок  між  двома підводними човнами, розташованими на глибині в океані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 електроємність конденсатора при переході на прийом станції, що веде  передачу на довших хвиля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ий діапазон довжин хвиль ультракоротких  радіохви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іна  амплітуди високочастотних коливань коливаннями зву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цес виділення інформації з модульованих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формули для визначення періоду власних коливань в коливальному конту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дача мови та музики з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місцезнаходження об’єктів за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радіолок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призначений для демонстрації нерухомих і рухомих зображень із звуковим супрово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утруднений радіозв’язок  на коротких хвилях у гірській місцевост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52:03Z</dcterms:modified>
  <cp:revision>5</cp:revision>
  <dc:subject/>
  <dc:title>Слайд 1</dc:title>
</cp:coreProperties>
</file>