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A9A-B865-4335-A555-36E48B3E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DB4-D822-44DA-8F5F-74A889A5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3FC-BDA1-4384-9074-92D9DAA0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F5E-340A-4D99-B56B-D44ADF97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8E4-6FCE-4C2A-9320-278E20D5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AD5-B9FF-4A9C-AF7E-EB0DE755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699-36EE-4020-9AD2-57183678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69B-CCE4-4E07-B60E-B771B2C7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860-06B8-44A3-B3FB-71238D5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090-31E6-4EDB-9FC0-A7B91713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F09-1042-4A6E-A295-1DC7133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8FC-96D9-4726-BF48-A38EBCE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9196-8650-4359-BCEE-D307D7808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 якої тварини  неможлива електронна пош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23Z</dcterms:modified>
  <cp:revision>2</cp:revision>
  <dc:subject/>
  <dc:title>Слайд 1</dc:title>
</cp:coreProperties>
</file>