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232-3798-4872-8AA4-88BE13C2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CC2-7D2B-4D23-90C5-881B8225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705-3E49-4207-9DE8-20469E63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5ED-77EF-468C-B179-95AC9918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674-3C2A-4D66-BAC7-218A0E0A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5C8-4754-47AB-9367-71DC308A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5A6-30EE-474E-A514-9C7BB38B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BD9-B703-43A5-B233-B2B71F35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4C0-0FA3-4562-A2E7-D0F32D3C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186-F340-4503-82D0-DF1543A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3DD-C7FD-4DAA-ACD8-49D94C1C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DB8-3E30-4E17-87FB-BF6E1ADB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B9F9-463D-461E-A9F1-598F93A9C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умову дифракції 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8:55Z</dcterms:modified>
  <cp:revision>2</cp:revision>
  <dc:subject/>
  <dc:title>Слайд 1</dc:title>
</cp:coreProperties>
</file>