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4FD-D11E-42D7-AE9C-94B9120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194-9F4C-4E13-969B-AF5EF613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5D8-A97C-4C3D-93D0-9FE9A01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841-4BBC-4447-B289-B82DB8FC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FC7-5AAB-49F3-B583-3B8F60BE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B80-3415-4A5B-9C80-645A822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F58-B74E-42DA-8CF2-474805F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469-302D-4754-BCBC-6994AC5E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16C-DF78-4760-898D-B64F409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7D6-9BA9-44B4-B162-C66647C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FDB-4AC7-4C66-8B0C-41B1688C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BE4-6B64-4A50-AA03-63E6639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7678-B624-4E9A-8C30-DFF58965C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ект зору, коли в сітківці ока випадає або ослаблено сприйняття одного з трьох основних кольо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25Z</dcterms:modified>
  <cp:revision>2</cp:revision>
  <dc:subject/>
  <dc:title>Слайд 1</dc:title>
</cp:coreProperties>
</file>