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B67-E4AB-4920-93BF-07D39173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738-14F4-444C-98D7-84EB5E7B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F11-19F8-4A22-AA06-7064AFBE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43F-11D1-4A32-9803-58C9266E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541-2338-499A-8176-24110A06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CB3-85FC-4580-AA38-0019792D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E66-956C-4181-A126-42BC56E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A31-FA50-41CE-BD14-339D576B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E95-C9B8-4494-82A2-5B078F91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B11-2722-4904-B97B-DC851B3D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753-57BD-4A01-8F2F-9BC2372F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40F-4645-47E6-83AE-76C6685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2A24-B203-4935-9225-D14BE733B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спрямовані в електромагнітній хвилі вектори напруженості електричного поля і індукції магнітного п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6:43Z</dcterms:modified>
  <cp:revision>2</cp:revision>
  <dc:subject/>
  <dc:title>Слайд 1</dc:title>
</cp:coreProperties>
</file>