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BDFD-E3FC-432A-B038-10F98FA14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51CE-89EB-4D0C-A1C5-41122A9F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C945-6C39-4653-8717-71CC2C8CC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F75B-E476-43C5-9D34-A3476C19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6ECE-917D-4DC6-B6A2-CABC2F66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6EC7-8D54-440A-B475-A64BF667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DB2F-843B-401B-BFFD-E7B3002B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B623-656B-4866-90E2-8E75C27C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6D74-C8FC-477B-AB22-D6C1FE52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45E9-C600-404E-8277-BD81BD51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B21D-D9DD-44C1-AA53-B9F5684E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4D96-9651-4A9D-BDB8-47257671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2709-FA99-4C85-92FA-834907ED4A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лад для спостереження за о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’єктами з укриття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roman</cp:lastModifiedBy>
  <dcterms:modified xsi:type="dcterms:W3CDTF">2008-02-15T07:32:44Z</dcterms:modified>
  <cp:revision>2</cp:revision>
  <dc:subject/>
  <dc:title>Слайд 1</dc:title>
</cp:coreProperties>
</file>