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FF6-6012-4177-A432-5F83CC93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503-3FE2-4063-A6D1-4B38F231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A52-F5EB-4787-9E55-E22615ED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6A5-208D-4148-880B-D1281337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E82-1D98-42CB-82C5-A2A24CF4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312-E6AE-4EF6-BB51-FBCF0A7A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D3D-ED7B-4F0A-BACA-28310AEF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1DB-9F13-45C6-9EDC-19BBEC2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704-B0E5-463B-AB9F-9E3945B2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B21-1911-427A-A30B-47042AE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4AD-F2AE-4044-A381-8928A36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608-B35C-4A7C-B29C-85021001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75B7-6539-4FD4-AAFC-57A61B0C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реєстрації електромагнітних хвиль в перших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вукових коливань в електрич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личини, які визначають положення тіла у про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електричних коливань  в звук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ображення об’єкта в електричні сигн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відеосигналу в видиме зображе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ампа для отрима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визначення концентрації речов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коливальний контур, забезпечений антен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відкритого коливального кон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ій для випромінювання і приймання відбитих хвиль в радіолокаторі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демодуляції  в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33:22Z</dcterms:modified>
  <cp:revision>3</cp:revision>
  <dc:subject/>
  <dc:title>Слайд 1</dc:title>
</cp:coreProperties>
</file>