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F04-F30D-43BE-9390-83352660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85B9-AA49-4FF0-9D35-3D904131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5E6-19CD-4643-90B8-39200DEB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D03-39F4-4DC4-B26B-F418F3F7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D03-1BE8-46A6-B9D3-48E63B6A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A6F-1E05-4610-82DA-8A6384E0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EE6-A912-46F0-B4CA-B2EC2AE7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0FC-76BA-47AB-BAD7-D95BE105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1A6-6437-4F84-93E3-BD9E854D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35D-6D20-4B16-A529-2BFAC018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E18-16A5-4FF1-892C-28D69FD1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275-27DF-49EA-A475-DDF25EB7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D53A-E6C8-429B-820E-E3DBA2E21D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уди відхиляється промінь при переході з менш оптично густого в більш оптично густе середовищ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5:37Z</dcterms:modified>
  <cp:revision>2</cp:revision>
  <dc:subject/>
  <dc:title>Слайд 1</dc:title>
</cp:coreProperties>
</file>