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870F-00E6-4E72-855B-8AB47C127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6516-9F57-420E-BEE1-F823E3AFE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A78A-5276-48C1-95CF-2E46627C7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DE8C-F7D0-44B5-9689-6A305E251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E093-0B9C-4213-9B7C-A2A8B12FE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4243-2A7A-4767-A815-712C8698A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A9C0-3391-4FE9-9218-ECDD86E82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EC9D-684E-481A-B1B8-953B2BFF1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1409-AF39-494B-8AC5-E623680EE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003F-4915-4996-9CDA-FA4783FF9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BD06-F6C3-4F42-B849-859CE51A3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48FA-ABCE-4467-AF75-D2EB19572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6EC25-AE41-4B9A-A898-3EF646A0E2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сновний елемент спектроскоп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roman</cp:lastModifiedBy>
  <dcterms:modified xsi:type="dcterms:W3CDTF">2008-02-15T08:37:44Z</dcterms:modified>
  <cp:revision>2</cp:revision>
  <dc:subject/>
  <dc:title>Слайд 1</dc:title>
</cp:coreProperties>
</file>