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B163-6EBC-4258-8117-C3A03EAD8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57ED-97AC-4BE8-8A29-A9C2052B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A7C3-A8F5-4F49-AECE-3B0511CA4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26EC-929F-45C4-81F8-D8FF19BA9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D1D7-C438-4C0B-8E1D-5B51FC1A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7B42-6F3E-4E48-B665-FE552249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1C38-BA82-4525-A304-616635E8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2902-0C44-45A7-93E3-1CF739AD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09B3-237D-4A62-A375-B82076B3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A900-AE03-4322-9090-50B67BCD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EFB3-5C81-4D67-A1EC-80B1AF3F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6408-ABA8-42E4-9418-14A44EEE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F574-F361-4820-917F-B620AEC231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звіть кольори дисперсійного спек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36:17Z</dcterms:modified>
  <cp:revision>2</cp:revision>
  <dc:subject/>
  <dc:title>Слайд 1</dc:title>
</cp:coreProperties>
</file>