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8D4-56DD-41E7-BB8B-A60ADC8E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B6E-EDEE-459C-A361-437EC57A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06E-9FC1-4140-A94C-3D51DCC3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F3F-AFE1-4046-8D9D-6EB8BCC8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1CA-7926-438B-94F6-3008888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830-B371-4DC3-9818-45A5A544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EC6-F989-4BAF-A16C-39039AF2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180-F841-4674-AD00-F401AA5F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F5C-FDC8-4F09-903F-6153E2F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D06-9EC8-49AA-9BA0-DB16C15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389-369F-4275-A712-E6DBD87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CB3-090F-417D-AF83-6EAFEF1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5FF1-6E8F-4621-8013-F5AFCEA6C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улюйте  другий закон відб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1:46Z</dcterms:modified>
  <cp:revision>2</cp:revision>
  <dc:subject/>
  <dc:title>Слайд 1</dc:title>
</cp:coreProperties>
</file>