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EE38-5FFC-4C9F-9EED-34FA3108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4FAA-02B3-40C3-9B45-7FAEA671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9AD-5A41-4764-A832-855A69F0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A40-CC4F-449C-835F-98563D9B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BA6-1A51-4C84-9012-28ABE128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825-2ADF-42D9-BA94-9FB98F6A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EA09-DD35-436D-BFB6-95B91153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1E3D-E276-41C0-B7DB-58E6F499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FED2-CDAD-4FE0-966F-1D932741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D697-1C65-4A3A-A822-39692C3E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396A-EEDA-4BBB-BF9C-49CEB5A2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FA4-166C-4EA1-A5F5-E375E66C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C2B3-DB8D-4856-AEE8-791864974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т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іж падаючим і відбитим променем 4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Чому дорівнює кут падіння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дорівнює швидкість поширення світлової хвилі в  середовищі з абсолютним показником n=2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ломлення світлових променів з земній атмосфер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е явище лежить в основі будови світловод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падає на поверхню під кутом 6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Чому дорівнює кут паді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називається показник заломлення, якщо світло заломлюється на межі «вакуум – прозоре середовище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дорівнює кут заломлення, якщо кут падіння 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 відбуваються зміщення променя, що падає з повітря під кутом 3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на скляну плоскопаралельну пластин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 чого залежить граничний кут повного внутрішнього відби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речовина є оптично більш густо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 чого вимірюють кут заломле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довжина світлової хвилі під час переходу з вакууму в прозоре середовище з абсолютним показником заломлення n=1,5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28:22Z</dcterms:modified>
  <cp:revision>3</cp:revision>
  <dc:subject/>
  <dc:title>Слайд 1</dc:title>
</cp:coreProperties>
</file>