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07C-2D54-42BF-9875-33B98CC0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2D9-4ACF-4751-A78A-91EACA9B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A1A-CAEA-45EE-B289-41F6E56A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0A7-5F17-45BF-85A4-B6B4ECC7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1DC-DF6B-4A8E-8A41-2FFBE09A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126-B752-4298-84A9-3F103000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0D7-FD12-4D6A-80F3-11B69431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386-0034-4942-A12C-8482A73D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CD3-4145-44F5-8F16-77EFC8CB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147-F112-4F2F-AEB4-5DB55E26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5CE-A697-4163-8832-46809F9B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FA9-1E7A-4C84-86AF-C5F4DF49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C149-2DC4-48F8-9B62-C42019D5D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таке кут заломле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5:04Z</dcterms:modified>
  <cp:revision>2</cp:revision>
  <dc:subject/>
  <dc:title>Слайд 1</dc:title>
</cp:coreProperties>
</file>