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D6A-8AFA-469F-91AA-04A5DFB4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5EE-15F7-4170-8444-97FDE0C7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81E-B7B0-4504-ABFA-87DE14DE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133-689B-409E-8762-A742430F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945-D9F4-465E-A78C-1F4AC7BF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A90-541C-47B4-A209-B8E8C193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61D-B889-4CBC-8218-4584CE01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4D0-34A4-4705-A58E-E56357C6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D45-E748-471E-A3DE-FB758D0A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6B0-F447-4791-976A-89D0D41E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F64-707F-4B7D-9A5F-4B3351A6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AAD-E4C0-44B8-943B-02EDE6E2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BEBF-6DD3-4CAD-9637-295F86C1CB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ближча до нас зо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59Z</dcterms:modified>
  <cp:revision>2</cp:revision>
  <dc:subject/>
  <dc:title>Слайд 1</dc:title>
</cp:coreProperties>
</file>