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294-5CE7-4148-9879-337895EF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921-EFB6-466C-ACBB-EDD1B2EB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2F1-557D-4904-BEEE-8AF1B59B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029-5DC7-4739-B35C-AD4B06B7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244-1415-4930-B5B3-7738714F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5D0-B1BB-4EEE-99A2-177DC98E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F63-BA6E-421D-BD06-7D28ACC1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476-5961-42B4-B922-BCB14E78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935-1DD9-43B9-A6F6-0AAA48B7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8CC-D95B-410D-89E1-687FA241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974-F185-468D-8811-5C16D9D3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3FF-8452-4BC9-9AEE-A2859774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75EB-98E0-4A18-AB9C-AE87A4A9B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ли промінь не заломлюється на межі двох середовищ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4:28Z</dcterms:modified>
  <cp:revision>2</cp:revision>
  <dc:subject/>
  <dc:title>Слайд 1</dc:title>
</cp:coreProperties>
</file>