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AF9-06BA-4E73-AAFA-F0796AB4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C00-36DD-40D0-B406-6081D24C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B31E-99E1-4E4B-9B89-14A1DD2E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7786-E17E-4FC5-83E5-232E340E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BFE-AD67-434A-9392-69693155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520-942F-4950-B2B1-8F3EDE4E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392-B2CB-4875-AA38-1F009B45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7F62-6893-4EB1-A46D-23DE5948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4352-F6BD-46A3-8DB8-EE6CFDC0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792-1896-4BB8-BB7D-C649C104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BFDF-794D-49D5-B928-650C9BB6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01B8-F1CC-42F2-856E-418CF118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EF3D-6989-4A92-B3FE-ED3355FD73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раїнський вчений, винахідник – творець електронної системи передачі на відстань рухомого зображенн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30:01Z</dcterms:modified>
  <cp:revision>2</cp:revision>
  <dc:subject/>
  <dc:title>Слайд 1</dc:title>
</cp:coreProperties>
</file>