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E5EA-C755-44C7-A302-526C813EC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03B4-BDB6-48DF-BDBB-2AFC7F99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FEBD-F2F5-4A0E-9D56-757A028B5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EE9F-9A48-4333-A6A8-0A635C60A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0BF5-D6BA-4622-80E1-8BC525F83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EFB9-DE03-4F04-8DB5-7F5D90C46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1CC3-2E7E-4CE4-90F4-4253F3480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058A-BE94-4090-AED6-819D0BE85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6F8E-6C69-4BE3-B24B-575A052BA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5E91-6571-48E8-AD91-22F76926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775F-C5AA-4B4C-B243-ABAD8D98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E020-EB0B-4EC1-92CB-75A15B3A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EC2F1-2AF4-4A72-952A-52184B3A19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Що таке кут заломленн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7:35:04Z</dcterms:modified>
  <cp:revision>2</cp:revision>
  <dc:subject/>
  <dc:title>Слайд 1</dc:title>
</cp:coreProperties>
</file>