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5D96-AB5F-4B8B-ACE3-945C2592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AF5B-F382-4D65-A1AB-EB9DFE7E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B7F-53CD-4763-B90F-600CE038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C68-E344-400E-AAD6-16ACDB1A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ECE2-5F67-474D-A5EE-F47DD781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8FC-5BE5-4610-9F11-D8B8834C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2C3-D72E-4963-8B67-4EE91626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3B2-929C-4546-B4DF-19DD79E6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80E-195D-4EB2-B64E-5E94EBEC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C20-7356-4E22-ADEB-ECC54FCD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20E-8CD8-4B20-A2FB-EDFFC5FE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AFD-8F8D-4A9B-B9F8-4B07B778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97C6-7491-4563-8E20-587808A2FB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мобільного зв’яз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19:53Z</dcterms:modified>
  <cp:revision>2</cp:revision>
  <dc:subject/>
  <dc:title>Слайд 1</dc:title>
</cp:coreProperties>
</file>