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A82E-0315-4BC0-BE9B-7D2CFBD00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3B4F-5954-419D-9745-DD0A992BB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7DB1-83C4-4656-BB81-59DC72BD9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CE01-275B-442D-9A8A-A2EBAEB64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6138-B8F3-4E3B-974B-4176D3A77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1C7B-0F6C-4D45-A528-CB3BC26A6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5222-147C-4296-9F9E-06FA8AE84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4BB8-D524-42D6-A4C3-F77B5463A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3478-D89F-44A2-B04A-27165C5E1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F712-1FBB-4DE4-B2A3-AFB89B04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D32D-02A3-40C1-8960-CD6791A5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B9E5-97C9-4E03-9412-2FDA4462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14718-99E9-4BAD-9FBF-BA82F7525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птичний прилад для спостереження за небесними світил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датність кришталика змінювати свою кривизну в разі зміни відстані до предме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Лінія, що вказує, напрямок поширення світлового пуч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більшуване скл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птичний прилад  біолог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Телескоп, побудований на  базі лінзової оптичної систе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Телескоп, побудований на базі дзеркальної оптичної систе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Хто вперше побудував телескоп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Хто вперше побудував телескоп-рефлектор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озоре тіло, обмежене з двох боків сферичними поверхня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 яких одиницях вимірюють оптичну сил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ідстань від оптичного центра лінзи до фокус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8:51:13Z</dcterms:created>
  <dc:creator>Роман</dc:creator>
  <dc:description/>
  <dc:language>en-US</dc:language>
  <cp:lastModifiedBy>Роман</cp:lastModifiedBy>
  <dcterms:modified xsi:type="dcterms:W3CDTF">2008-02-12T17:45:17Z</dcterms:modified>
  <cp:revision>3</cp:revision>
  <dc:subject/>
  <dc:title>Слайд 1</dc:title>
</cp:coreProperties>
</file>