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F32-8149-4921-A799-19019769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8DA-13FE-441A-A67C-BD032AB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C2D-108F-4402-B90A-B401235D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F76-2BA1-4C58-A98D-BD8D5505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692-BCF7-4090-B331-64286F40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FDC-A618-4BBB-B00F-84FCAD5D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C03-5990-445B-94AA-C595FC3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40B-027B-45DF-A2B3-F7169234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C6B-CD7A-4E2A-ADF0-184FB5B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816-C999-4981-81CC-A9D91A7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7AD-01DE-454D-96A8-735D42A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0E1-EC5C-4B09-AF79-7D8BD15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581-69D3-491A-9AAB-B80FC5FC0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електромагнітної теор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дослідив дисперсію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вчений, автор відкриття Х-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перше здійснив дослідже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експериментально довів існування електромагнітних хвиль і досліди їд властив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радіоприйм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патенту на застосування електромагнітних хвиль для бездротового зв’я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у належить перша спроба визначити швидкість світла прямим мето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визначив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андський фізик, автор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та фізик, автор 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ідкрив спосіб просвітлення оп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3:53Z</dcterms:modified>
  <cp:revision>6</cp:revision>
  <dc:subject/>
  <dc:title>Слайд 1</dc:title>
</cp:coreProperties>
</file>