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F60-FD39-4AA2-AAEC-431CFE81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DD1-D23C-4B94-8213-7FD5C611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F05-4DBF-4E79-A3F6-B0623CED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837-DC8B-425D-BBEE-79B148D7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5E9-9573-4FF7-B716-EB8504B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5BE-2FBC-47B1-98EB-04F7426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5D1-CC13-4C66-8631-8CCA6F1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402-9C94-44A1-A16E-9E037C53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854-540C-4C86-A308-3495FEF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16F-54E3-4D74-B256-D62E6CA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E69-B95B-43FE-A927-549AD43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4A4-CD6A-4ABF-A405-0D9DF74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3A2-B221-4EFF-84B2-4B9F47ACC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утворе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0:43Z</dcterms:modified>
  <cp:revision>2</cp:revision>
  <dc:subject/>
  <dc:title>Слайд 1</dc:title>
</cp:coreProperties>
</file>