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6CED-A65A-42E0-9676-1FDD3D3169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5407-FBD4-4A03-BFF8-BDDB4CB81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C702-968C-4F66-99FC-DC3420F34C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3F1-D4CA-45CB-A681-6AABE1DE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F91-9903-4D15-BB28-FBD5FBB7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5966-19FE-4C57-900A-BB5B64802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30E-E3FF-48C7-8695-6EA903A3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B78-D789-44DD-8F1B-283AF61D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35A5-C44E-438E-85C6-92A08CB3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817-4F94-49F6-AA9D-B3FADC28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D5E-0F6E-4F3A-A7C4-6504810F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25B-039D-41EC-A9A7-55840E46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55F-1DA3-428B-84B6-26D692B0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679-329C-4AB2-B536-88017693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622-261F-4084-8ACB-57FE5394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A6A3-AAD1-456C-9E34-DACB6CD1081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85920" y="1428480"/>
            <a:ext cx="7407360" cy="31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330033"/>
                </a:solidFill>
                <a:latin typeface="Arial"/>
              </a:rPr>
              <a:t>Іван Пулюй – перший український фізик світового рівня</a:t>
            </a:r>
            <a:r>
              <a:rPr b="1" lang="ru-RU" sz="48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Rectangle 1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DB3A-0279-432D-9299-28570EC9CF8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2CDA-5016-4766-BFB5-BA6BA06D3A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330033"/>
                </a:solidFill>
                <a:latin typeface="Times New Roman"/>
              </a:rPr>
              <a:t>Спокутування провин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04" name="Picture 6" descr="images4"/>
          <p:cNvPicPr/>
          <p:nvPr/>
        </p:nvPicPr>
        <p:blipFill>
          <a:blip r:embed="rId1"/>
          <a:stretch/>
        </p:blipFill>
        <p:spPr>
          <a:xfrm>
            <a:off x="669960" y="1474920"/>
            <a:ext cx="2390760" cy="2127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nechui892"/>
          <p:cNvPicPr/>
          <p:nvPr/>
        </p:nvPicPr>
        <p:blipFill>
          <a:blip r:embed="rId2"/>
          <a:stretch/>
        </p:blipFill>
        <p:spPr>
          <a:xfrm>
            <a:off x="857160" y="3643200"/>
            <a:ext cx="1801800" cy="29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987640" y="2142720"/>
            <a:ext cx="558504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свідомлюючи величезну роль рідної мови в пізнанні Святого Письма, разом з українським письменником Пантелеймоном Кулішем він здійснив переклад тексту Нового Заповіту на українську мову. У співдружності з класиком нашої літератури Іваном Нечуєм-Левицьким Пулюй перевів на український і Старий Запові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0" descr="biblia_ridnoju_mowoju"/>
          <p:cNvPicPr/>
          <p:nvPr/>
        </p:nvPicPr>
        <p:blipFill>
          <a:blip r:embed="rId3"/>
          <a:stretch/>
        </p:blipFill>
        <p:spPr>
          <a:xfrm>
            <a:off x="7643880" y="142920"/>
            <a:ext cx="130644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040" y="142560"/>
            <a:ext cx="77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Один правий суд для всіх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AE86-921E-4337-BE2E-D68755B4F0A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Содержимое 8" descr="250px-Einstein.jpg"/>
          <p:cNvPicPr/>
          <p:nvPr/>
        </p:nvPicPr>
        <p:blipFill>
          <a:blip r:embed="rId1"/>
          <a:stretch/>
        </p:blipFill>
        <p:spPr>
          <a:xfrm>
            <a:off x="712800" y="1500120"/>
            <a:ext cx="2146320" cy="2481480"/>
          </a:xfrm>
          <a:prstGeom prst="rect">
            <a:avLst/>
          </a:prstGeom>
          <a:ln w="0">
            <a:noFill/>
          </a:ln>
        </p:spPr>
      </p:pic>
      <p:grpSp>
        <p:nvGrpSpPr>
          <p:cNvPr id="411" name="Загнутый угол 11"/>
          <p:cNvGrpSpPr/>
          <p:nvPr/>
        </p:nvGrpSpPr>
        <p:grpSpPr>
          <a:xfrm>
            <a:off x="2908440" y="1195560"/>
            <a:ext cx="5894280" cy="2754000"/>
            <a:chOff x="2908440" y="1195560"/>
            <a:chExt cx="5894280" cy="2754000"/>
          </a:xfrm>
        </p:grpSpPr>
        <p:pic>
          <p:nvPicPr>
            <p:cNvPr id="412" name="Загнутый угол 11" descr=""/>
            <p:cNvPicPr/>
            <p:nvPr/>
          </p:nvPicPr>
          <p:blipFill>
            <a:blip r:embed="rId2"/>
            <a:stretch/>
          </p:blipFill>
          <p:spPr>
            <a:xfrm>
              <a:off x="2908440" y="1195560"/>
              <a:ext cx="5894280" cy="27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928960" y="1214280"/>
              <a:ext cx="5857920" cy="22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Box 12"/>
          <p:cNvSpPr/>
          <p:nvPr/>
        </p:nvSpPr>
        <p:spPr>
          <a:xfrm>
            <a:off x="3000240" y="1285920"/>
            <a:ext cx="557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Не можу Вас нічим утішити: що відбулося – не змінити. Хай залишається при Вас сатисфакція, що і Ви вклали свою частинку в епохальне відкриття. Хіба цього мало? А якщо на тверезу голову, то все має логіку. Хто стоїть за Вами, русинами, – яка культура, які акції? Прикро Вам це слухати, але куди подінешся від своєї долі? А за Рентгеном - вся Європа»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(Енште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Содержимое 15" descr="Снимок8.PNG"/>
          <p:cNvPicPr/>
          <p:nvPr/>
        </p:nvPicPr>
        <p:blipFill>
          <a:blip r:embed="rId3"/>
          <a:stretch/>
        </p:blipFill>
        <p:spPr>
          <a:xfrm>
            <a:off x="6072120" y="3925800"/>
            <a:ext cx="2217960" cy="2719440"/>
          </a:xfrm>
          <a:prstGeom prst="rect">
            <a:avLst/>
          </a:prstGeom>
          <a:ln w="0">
            <a:noFill/>
          </a:ln>
        </p:spPr>
      </p:pic>
      <p:sp>
        <p:nvSpPr>
          <p:cNvPr id="416" name="Загнутый угол 16"/>
          <p:cNvSpPr/>
          <p:nvPr/>
        </p:nvSpPr>
        <p:spPr>
          <a:xfrm>
            <a:off x="785880" y="4214880"/>
            <a:ext cx="5000400" cy="2214360"/>
          </a:xfrm>
          <a:prstGeom prst="foldedCorner">
            <a:avLst>
              <a:gd name="adj" fmla="val 16666"/>
            </a:avLst>
          </a:prstGeom>
          <a:gradFill rotWithShape="0">
            <a:gsLst>
              <a:gs pos="0">
                <a:srgbClr val="989862"/>
              </a:gs>
              <a:gs pos="100000">
                <a:srgbClr val="ffffab"/>
              </a:gs>
            </a:gsLst>
            <a:lin ang="18900000"/>
          </a:gradFill>
          <a:ln w="25560">
            <a:solidFill>
              <a:srgbClr val="bcbc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928800" y="4429080"/>
            <a:ext cx="471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«Що повинне відбутися – відбудеться обов’язково, і те, що відбудеться, буде якнайкращим, тому що така воля Господня!»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(І.Пулю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A471-968D-44AD-9223-07F1AB7763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Що повинне відбутися - відбудеться обов'язково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2714760" cy="4471920"/>
          </a:xfrm>
          <a:prstGeom prst="rect">
            <a:avLst/>
          </a:prstGeom>
          <a:gradFill rotWithShape="0">
            <a:gsLst>
              <a:gs pos="0">
                <a:srgbClr val="769a52"/>
              </a:gs>
              <a:gs pos="100000">
                <a:srgbClr val="ccff91"/>
              </a:gs>
            </a:gsLst>
            <a:lin ang="18900000"/>
          </a:gradFill>
          <a:ln w="9360">
            <a:solidFill>
              <a:srgbClr val="454526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відки черпав сили і знаходив час батько п'ятнадцяти дітей для праць бажаних і Богові і людству - розуму не зрозуміло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6" descr="a_4"/>
          <p:cNvPicPr/>
          <p:nvPr/>
        </p:nvPicPr>
        <p:blipFill>
          <a:blip r:embed="rId1"/>
          <a:stretch/>
        </p:blipFill>
        <p:spPr>
          <a:xfrm>
            <a:off x="3462480" y="1603440"/>
            <a:ext cx="527364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275-C7B2-41EC-95AA-35741D0190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Сенсаційне відкритт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214520" y="1628280"/>
            <a:ext cx="45003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 той далекий січневий вечір завідувач кафедрою фізики Німецької вищої технічної школи в Празі професор Іван Павлович Пулюй поспішав в лабораторію, щоб переконатися у феномені відкриття Рентгена. І він зрозумів: німецький колега зробив той крок до моменту істини, який сам він не зробив, знаходячись в напівкроці від розгадки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И.П. Пулюй"/>
          <p:cNvPicPr/>
          <p:nvPr/>
        </p:nvPicPr>
        <p:blipFill>
          <a:blip r:embed="rId1"/>
          <a:stretch/>
        </p:blipFill>
        <p:spPr>
          <a:xfrm>
            <a:off x="622440" y="1352520"/>
            <a:ext cx="3979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0D4A-4C7B-4D02-BDF1-29CEA2D6D4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Початок шляху до відкриття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47149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ейняв мистецтво виробництва трубок у Пулюя і подружився з ним Нікола Тесла, що також  стажувався у професора Августа Кундта. Разом з винахідником №2 в світі після Едісона (список Тесла  налічує 700 патентів!) вони провели цілий ряд досліджень з газорозрядними трубками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images3"/>
          <p:cNvPicPr/>
          <p:nvPr/>
        </p:nvPicPr>
        <p:blipFill>
          <a:blip r:embed="rId1"/>
          <a:stretch/>
        </p:blipFill>
        <p:spPr>
          <a:xfrm>
            <a:off x="5187960" y="1695600"/>
            <a:ext cx="3803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Таємниця невидимих променів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69" name="Содержимое 5" descr="Снимок1.PNG"/>
          <p:cNvPicPr/>
          <p:nvPr/>
        </p:nvPicPr>
        <p:blipFill>
          <a:blip r:embed="rId1"/>
          <a:stretch/>
        </p:blipFill>
        <p:spPr>
          <a:xfrm>
            <a:off x="928800" y="1600200"/>
            <a:ext cx="2523960" cy="3543480"/>
          </a:xfrm>
          <a:prstGeom prst="rect">
            <a:avLst/>
          </a:prstGeom>
          <a:ln cap="sq" w="38160">
            <a:solidFill>
              <a:srgbClr val="3131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370" name="Текст 3"/>
          <p:cNvGrpSpPr/>
          <p:nvPr/>
        </p:nvGrpSpPr>
        <p:grpSpPr>
          <a:xfrm>
            <a:off x="3633840" y="1590840"/>
            <a:ext cx="5065560" cy="4554360"/>
            <a:chOff x="3633840" y="1590840"/>
            <a:chExt cx="5065560" cy="4554360"/>
          </a:xfrm>
        </p:grpSpPr>
        <p:pic>
          <p:nvPicPr>
            <p:cNvPr id="371" name="Текст 3" descr=""/>
            <p:cNvPicPr/>
            <p:nvPr/>
          </p:nvPicPr>
          <p:blipFill>
            <a:blip r:embed="rId2"/>
            <a:stretch/>
          </p:blipFill>
          <p:spPr>
            <a:xfrm>
              <a:off x="3633840" y="1590840"/>
              <a:ext cx="506556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3643200" y="1600200"/>
              <a:ext cx="5043600" cy="45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Лампа Пулюя” – прилад, в якому був встановлений антикато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Антикатод був вмонтованою в трубку скляною пластинкою. Лампа створювала невидиме випромінювання, яке можна було зробити видимим за допомогою барієво – платиново – ціаністого екран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ED39-CF55-4D44-8F0D-0B8DE157D0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6"/>
          <p:cNvSpPr/>
          <p:nvPr/>
        </p:nvSpPr>
        <p:spPr>
          <a:xfrm>
            <a:off x="428760" y="5214960"/>
            <a:ext cx="407196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77797"/>
              </a:gs>
              <a:gs pos="100000">
                <a:srgbClr val="ffceff"/>
              </a:gs>
            </a:gsLst>
            <a:lin ang="16200000"/>
          </a:gradFill>
          <a:ln w="2556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571680" y="5214960"/>
            <a:ext cx="37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 світовій електротехнічній виставці в Парижі винахід був нагороджений срібною медаллю (188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Таємниця невидимих променів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77" name="Содержимое 5" descr="Снимок.PNG"/>
          <p:cNvPicPr/>
          <p:nvPr/>
        </p:nvPicPr>
        <p:blipFill>
          <a:blip r:embed="rId1"/>
          <a:stretch/>
        </p:blipFill>
        <p:spPr>
          <a:xfrm>
            <a:off x="981000" y="1620720"/>
            <a:ext cx="2475000" cy="3657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000320" y="1600200"/>
            <a:ext cx="4686120" cy="4043520"/>
          </a:xfrm>
          <a:prstGeom prst="rect">
            <a:avLst/>
          </a:prstGeom>
          <a:gradFill rotWithShape="0">
            <a:gsLst>
              <a:gs pos="0">
                <a:srgbClr val="529a76"/>
              </a:gs>
              <a:gs pos="100000">
                <a:srgbClr val="91ffcc"/>
              </a:gs>
            </a:gsLst>
            <a:lin ang="8100000"/>
          </a:gradFill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удучи приват-доцентом Віденського університету, І.Пулюй продовжує займатися вивченням явищ  в трубках. Фізик винаходить так звану “лампу Пулюя”. Результати експериментів з нею публікуються протягом 1880-1882 рокі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9A9-1668-494C-B327-4B8E6F7FA6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6"/>
          <p:cNvSpPr/>
          <p:nvPr/>
        </p:nvSpPr>
        <p:spPr>
          <a:xfrm>
            <a:off x="642960" y="53578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Фотографія “лампи Пулю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A994-9B88-4AA5-AE9F-26AA7321CA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Таємниця невидимих променів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3" name="Picture 7" descr="6"/>
          <p:cNvPicPr/>
          <p:nvPr/>
        </p:nvPicPr>
        <p:blipFill>
          <a:blip r:embed="rId1"/>
          <a:stretch/>
        </p:blipFill>
        <p:spPr>
          <a:xfrm>
            <a:off x="463680" y="1401840"/>
            <a:ext cx="3028680" cy="364644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7680" y="1600200"/>
            <a:ext cx="36432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аким чином, на противагу Рентгену Івану Пулюю властиво було гармонійне єднання дуже високого рівня експериментальних досліджень і глибини їх теоретичного осмислення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w_roentgen"/>
          <p:cNvPicPr/>
          <p:nvPr/>
        </p:nvPicPr>
        <p:blipFill>
          <a:blip r:embed="rId2"/>
          <a:stretch/>
        </p:blipFill>
        <p:spPr>
          <a:xfrm>
            <a:off x="6248520" y="3614760"/>
            <a:ext cx="273024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7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90BE-4BA0-4EAC-8226-783CDC5C37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0033"/>
                </a:solidFill>
                <a:latin typeface="Times New Roman"/>
              </a:rPr>
              <a:t>Безцінний дар для медицини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88" name="Rectangle 4"/>
          <p:cNvGrpSpPr/>
          <p:nvPr/>
        </p:nvGrpSpPr>
        <p:grpSpPr>
          <a:xfrm>
            <a:off x="847800" y="1633680"/>
            <a:ext cx="4125960" cy="4754520"/>
            <a:chOff x="847800" y="1633680"/>
            <a:chExt cx="4125960" cy="4754520"/>
          </a:xfrm>
        </p:grpSpPr>
        <p:pic>
          <p:nvPicPr>
            <p:cNvPr id="389" name="Rectangle 4" descr=""/>
            <p:cNvPicPr/>
            <p:nvPr/>
          </p:nvPicPr>
          <p:blipFill>
            <a:blip r:embed="rId1"/>
            <a:stretch/>
          </p:blipFill>
          <p:spPr>
            <a:xfrm>
              <a:off x="847800" y="1633680"/>
              <a:ext cx="4125960" cy="47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857160" y="1643040"/>
              <a:ext cx="4105440" cy="47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Рентген знімків в плані медицини не мав. В той же час Пулюй успішно вирішив проблему концентрації променів в пучок, що феноменально скоротило час витримки до... 2-5 секунд. Іван Павлович особисто сам зробив вперше в світовій практиці знімок скелета мертвонародженої дитини.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Picture 8" descr="Снимок"/>
          <p:cNvPicPr/>
          <p:nvPr/>
        </p:nvPicPr>
        <p:blipFill>
          <a:blip r:embed="rId2"/>
          <a:stretch/>
        </p:blipFill>
        <p:spPr>
          <a:xfrm>
            <a:off x="5643720" y="1143000"/>
            <a:ext cx="22143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Безцінний дар для медицин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4443480" cy="4530600"/>
          </a:xfrm>
          <a:prstGeom prst="rect">
            <a:avLst/>
          </a:prstGeom>
          <a:gradFill rotWithShape="0">
            <a:gsLst>
              <a:gs pos="0">
                <a:srgbClr val="6f6f48"/>
              </a:gs>
              <a:gs pos="100000">
                <a:srgbClr val="c0c081"/>
              </a:gs>
            </a:gsLst>
            <a:lin ang="8100000"/>
          </a:gradFill>
          <a:ln w="9360">
            <a:solidFill>
              <a:srgbClr val="1c1c0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ротягом 1890 – 1895 років у різних часописах були опубліковані знімки, одержані І.Пулюєм під час експериментів з ламп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езультати своїх досліджень учений публікує в статті “Сяюча матерія і четвертий стан речовин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Содержимое 5" descr="Снимок5.PNG"/>
          <p:cNvPicPr/>
          <p:nvPr/>
        </p:nvPicPr>
        <p:blipFill>
          <a:blip r:embed="rId1"/>
          <a:stretch/>
        </p:blipFill>
        <p:spPr>
          <a:xfrm>
            <a:off x="5572080" y="1643040"/>
            <a:ext cx="2755800" cy="453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95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BBE2-8A1C-4602-93E1-4E6FF8934F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0033"/>
                </a:solidFill>
                <a:latin typeface="Times New Roman"/>
              </a:rPr>
              <a:t>Безцінний дар для медицин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97" name="Текст 2"/>
          <p:cNvGrpSpPr/>
          <p:nvPr/>
        </p:nvGrpSpPr>
        <p:grpSpPr>
          <a:xfrm>
            <a:off x="774720" y="1590840"/>
            <a:ext cx="5095800" cy="4206600"/>
            <a:chOff x="774720" y="1590840"/>
            <a:chExt cx="5095800" cy="4206600"/>
          </a:xfrm>
        </p:grpSpPr>
        <p:pic>
          <p:nvPicPr>
            <p:cNvPr id="398" name="Текст 2" descr=""/>
            <p:cNvPicPr/>
            <p:nvPr/>
          </p:nvPicPr>
          <p:blipFill>
            <a:blip r:embed="rId1"/>
            <a:stretch/>
          </p:blipFill>
          <p:spPr>
            <a:xfrm>
              <a:off x="774720" y="1590840"/>
              <a:ext cx="5095800" cy="42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85880" y="1600200"/>
              <a:ext cx="5072040" cy="41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І. Пулюй виконав серію знімків органів людини, які чітко виявили патологічні зміни в їх організмах. Це радикально змінило хірургію і підняло на новий рівень терапію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1896 рік – у Київському університеті була проведена операція із залученням засобів променевої діагностик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C51C-0E5B-4241-B90C-26E5F89253F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180px-Roentgen-x-ray-von-kollikers-hand"/>
          <p:cNvPicPr/>
          <p:nvPr/>
        </p:nvPicPr>
        <p:blipFill>
          <a:blip r:embed="rId2"/>
          <a:stretch/>
        </p:blipFill>
        <p:spPr>
          <a:xfrm>
            <a:off x="6143760" y="1857240"/>
            <a:ext cx="2286000" cy="3581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7:39:36Z</dcterms:created>
  <dc:creator>Бондаренко</dc:creator>
  <dc:description/>
  <dc:language>en-US</dc:language>
  <cp:lastModifiedBy>Admin</cp:lastModifiedBy>
  <dcterms:modified xsi:type="dcterms:W3CDTF">2011-05-02T08:45:33Z</dcterms:modified>
  <cp:revision>6</cp:revision>
  <dc:subject/>
  <dc:title>Іван Пулюй – перший український фізик світового рівн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b000000000001024140</vt:lpwstr>
  </property>
</Properties>
</file>