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8308-2F63-4F68-8E32-F4F9DFA864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1B1F-A3A0-49AE-9AAB-5A9F5866E9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914B-BB32-4857-A8AE-CB3BF36AC5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366B-196D-43A9-9708-39B66828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DD3A-6813-4CE7-8CAE-D104A3E5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E62-9887-4FB9-802F-543D949B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CEA4-7472-4597-A564-4915A1FF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F5A-EE72-4BE9-A650-2E06A4B1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8EB9-5397-4AC7-8A18-4603B695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F83-1EA5-458E-97EE-06894DB6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1BC-476F-4B37-8EBD-B474DE46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D074-3387-46C7-9AB7-E959017E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3381-7FCA-4B49-A395-D8E9D222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DA93-62CA-4799-B930-09F1738D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9D65-3179-4DE0-84D5-05F6A8B3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D837-0381-4F48-9908-9DC67C476CD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85920" y="1428480"/>
            <a:ext cx="740736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330033"/>
                </a:solidFill>
                <a:latin typeface="Arial"/>
              </a:rPr>
              <a:t>Іван Пулюй – перший український фізик світового рівня</a:t>
            </a:r>
            <a:r>
              <a:rPr b="1" lang="ru-RU" sz="4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BB7B-A33F-44CD-8391-AC309AE5163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Номер слайда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762F-EC17-4C02-A31E-9E036E26D0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330033"/>
                </a:solidFill>
                <a:latin typeface="Times New Roman"/>
              </a:rPr>
              <a:t>Спокутування провин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04" name="Picture 6" descr="images4"/>
          <p:cNvPicPr/>
          <p:nvPr/>
        </p:nvPicPr>
        <p:blipFill>
          <a:blip r:embed="rId1"/>
          <a:stretch/>
        </p:blipFill>
        <p:spPr>
          <a:xfrm>
            <a:off x="669960" y="1474920"/>
            <a:ext cx="2390760" cy="21272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nechui892"/>
          <p:cNvPicPr/>
          <p:nvPr/>
        </p:nvPicPr>
        <p:blipFill>
          <a:blip r:embed="rId2"/>
          <a:stretch/>
        </p:blipFill>
        <p:spPr>
          <a:xfrm>
            <a:off x="857160" y="3643200"/>
            <a:ext cx="1801800" cy="292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987640" y="2142720"/>
            <a:ext cx="558504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свідомлюючи величезну роль рідної мови в пізнанні Святого Письма, разом з українським письменником Пантелеймоном Кулішем він здійснив переклад тексту Нового Заповіту на українську мову. У співдружності з класиком нашої літератури Іваном Нечуєм-Левицьким Пулюй перевів на український і Старий Запові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0" descr="biblia_ridnoju_mowoju"/>
          <p:cNvPicPr/>
          <p:nvPr/>
        </p:nvPicPr>
        <p:blipFill>
          <a:blip r:embed="rId3"/>
          <a:stretch/>
        </p:blipFill>
        <p:spPr>
          <a:xfrm>
            <a:off x="7643880" y="142920"/>
            <a:ext cx="130644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040" y="14256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Один правий суд для всіх…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6D12-B4A6-4C3C-B895-01029B25F6F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Содержимое 8" descr="250px-Einstein.jpg"/>
          <p:cNvPicPr/>
          <p:nvPr/>
        </p:nvPicPr>
        <p:blipFill>
          <a:blip r:embed="rId1"/>
          <a:stretch/>
        </p:blipFill>
        <p:spPr>
          <a:xfrm>
            <a:off x="712800" y="1500120"/>
            <a:ext cx="2146320" cy="2481480"/>
          </a:xfrm>
          <a:prstGeom prst="rect">
            <a:avLst/>
          </a:prstGeom>
          <a:ln w="0">
            <a:noFill/>
          </a:ln>
        </p:spPr>
      </p:pic>
      <p:grpSp>
        <p:nvGrpSpPr>
          <p:cNvPr id="411" name="Загнутый угол 11"/>
          <p:cNvGrpSpPr/>
          <p:nvPr/>
        </p:nvGrpSpPr>
        <p:grpSpPr>
          <a:xfrm>
            <a:off x="2908440" y="1195560"/>
            <a:ext cx="5894280" cy="2754000"/>
            <a:chOff x="2908440" y="1195560"/>
            <a:chExt cx="5894280" cy="2754000"/>
          </a:xfrm>
        </p:grpSpPr>
        <p:pic>
          <p:nvPicPr>
            <p:cNvPr id="412" name="Загнутый угол 11" descr=""/>
            <p:cNvPicPr/>
            <p:nvPr/>
          </p:nvPicPr>
          <p:blipFill>
            <a:blip r:embed="rId2"/>
            <a:stretch/>
          </p:blipFill>
          <p:spPr>
            <a:xfrm>
              <a:off x="2908440" y="1195560"/>
              <a:ext cx="5894280" cy="27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2928960" y="1214280"/>
              <a:ext cx="5857920" cy="22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Box 12"/>
          <p:cNvSpPr/>
          <p:nvPr/>
        </p:nvSpPr>
        <p:spPr>
          <a:xfrm>
            <a:off x="3000240" y="1285920"/>
            <a:ext cx="5572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«Не можу Вас нічим утішити: що відбулося – не змінити. Хай залишається при Вас сатисфакція, що і Ви вклали свою частинку в епохальне відкриття. Хіба цього мало? А якщо на тверезу голову, то все має логіку. Хто стоїть за Вами, русинами, – яка культура, які акції? Прикро Вам це слухати, але куди подінешся від своєї долі? А за Рентгеном - вся Європа»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(Енштей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Содержимое 15" descr="Снимок8.PNG"/>
          <p:cNvPicPr/>
          <p:nvPr/>
        </p:nvPicPr>
        <p:blipFill>
          <a:blip r:embed="rId3"/>
          <a:stretch/>
        </p:blipFill>
        <p:spPr>
          <a:xfrm>
            <a:off x="6072120" y="3925800"/>
            <a:ext cx="2217960" cy="2719440"/>
          </a:xfrm>
          <a:prstGeom prst="rect">
            <a:avLst/>
          </a:prstGeom>
          <a:ln w="0">
            <a:noFill/>
          </a:ln>
        </p:spPr>
      </p:pic>
      <p:sp>
        <p:nvSpPr>
          <p:cNvPr id="416" name="Загнутый угол 16"/>
          <p:cNvSpPr/>
          <p:nvPr/>
        </p:nvSpPr>
        <p:spPr>
          <a:xfrm>
            <a:off x="785880" y="4214880"/>
            <a:ext cx="5000400" cy="221436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989862"/>
              </a:gs>
              <a:gs pos="100000">
                <a:srgbClr val="ffffab"/>
              </a:gs>
            </a:gsLst>
            <a:lin ang="18900000"/>
          </a:gradFill>
          <a:ln w="25560">
            <a:solidFill>
              <a:srgbClr val="bcbc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928800" y="4429080"/>
            <a:ext cx="471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«Що повинне відбутися – відбудеться обов’язково, і те, що відбудеться, буде якнайкращим, тому що така воля Господня!»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(І.Пулю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FB60-2FB3-41CE-9487-DCDB551807B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Що повинне відбутися - відбудеться обов'язково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2714760" cy="4471920"/>
          </a:xfrm>
          <a:prstGeom prst="rect">
            <a:avLst/>
          </a:prstGeom>
          <a:gradFill rotWithShape="0">
            <a:gsLst>
              <a:gs pos="0">
                <a:srgbClr val="769a52"/>
              </a:gs>
              <a:gs pos="100000">
                <a:srgbClr val="ccff91"/>
              </a:gs>
            </a:gsLst>
            <a:lin ang="18900000"/>
          </a:gradFill>
          <a:ln w="9360">
            <a:solidFill>
              <a:srgbClr val="454526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відки черпав сили і знаходив час батько п'ятнадцяти дітей для праць бажаних і Богові і людству - розуму не зрозуміло!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6" descr="a_4"/>
          <p:cNvPicPr/>
          <p:nvPr/>
        </p:nvPicPr>
        <p:blipFill>
          <a:blip r:embed="rId1"/>
          <a:stretch/>
        </p:blipFill>
        <p:spPr>
          <a:xfrm>
            <a:off x="3462480" y="1603440"/>
            <a:ext cx="52736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AF21-FB7D-4025-8F8F-223E8836609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Сенсаційне відкриття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214520" y="1628280"/>
            <a:ext cx="45003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 той далекий січневий вечір завідувач кафедрою фізики Німецької вищої технічної школи в Празі професор Іван Павлович Пулюй поспішав в лабораторію, щоб переконатися у феномені відкриття Рентгена. І він зрозумів: німецький колега зробив той крок до моменту істини, який сам він не зробив, знаходячись в напівкроці від розгадк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8" descr="И.П. Пулюй"/>
          <p:cNvPicPr/>
          <p:nvPr/>
        </p:nvPicPr>
        <p:blipFill>
          <a:blip r:embed="rId1"/>
          <a:stretch/>
        </p:blipFill>
        <p:spPr>
          <a:xfrm>
            <a:off x="622440" y="1352520"/>
            <a:ext cx="397980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F62E-EBB3-442E-9D22-251FF11D0E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Початок шляху до відкриття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42600" y="1557360"/>
            <a:ext cx="47149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ерейняв мистецтво виробництва трубок у Пулюя і подружився з ним Нікола Тесла, що також  стажувався у професора Августа Кундта. Разом з винахідником №2 в світі після Едісона (список Тесла  налічує 700 патентів!) вони провели цілий ряд досліджень з газорозрядними трубками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6" descr="images3"/>
          <p:cNvPicPr/>
          <p:nvPr/>
        </p:nvPicPr>
        <p:blipFill>
          <a:blip r:embed="rId1"/>
          <a:stretch/>
        </p:blipFill>
        <p:spPr>
          <a:xfrm>
            <a:off x="5187960" y="1695600"/>
            <a:ext cx="380376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0033"/>
                </a:solidFill>
                <a:latin typeface="Times New Roman"/>
              </a:rPr>
              <a:t>Таємниця невидимих променів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69" name="Содержимое 5" descr="Снимок1.PNG"/>
          <p:cNvPicPr/>
          <p:nvPr/>
        </p:nvPicPr>
        <p:blipFill>
          <a:blip r:embed="rId1"/>
          <a:stretch/>
        </p:blipFill>
        <p:spPr>
          <a:xfrm>
            <a:off x="928800" y="1600200"/>
            <a:ext cx="2523960" cy="3543480"/>
          </a:xfrm>
          <a:prstGeom prst="rect">
            <a:avLst/>
          </a:prstGeom>
          <a:ln cap="sq" w="38160">
            <a:solidFill>
              <a:srgbClr val="3131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370" name="Текст 3"/>
          <p:cNvGrpSpPr/>
          <p:nvPr/>
        </p:nvGrpSpPr>
        <p:grpSpPr>
          <a:xfrm>
            <a:off x="3633840" y="1590840"/>
            <a:ext cx="5065560" cy="4554360"/>
            <a:chOff x="3633840" y="1590840"/>
            <a:chExt cx="5065560" cy="4554360"/>
          </a:xfrm>
        </p:grpSpPr>
        <p:pic>
          <p:nvPicPr>
            <p:cNvPr id="371" name="Текст 3" descr=""/>
            <p:cNvPicPr/>
            <p:nvPr/>
          </p:nvPicPr>
          <p:blipFill>
            <a:blip r:embed="rId2"/>
            <a:stretch/>
          </p:blipFill>
          <p:spPr>
            <a:xfrm>
              <a:off x="3633840" y="1590840"/>
              <a:ext cx="5065560" cy="45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3643200" y="1600200"/>
              <a:ext cx="5043600" cy="45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Лампа Пулюя” – прилад, в якому був встановлений антикатод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Антикатод був вмонтованою в трубку скляною пластинкою. Лампа створювала невидиме випромінювання, яке можна було зробити видимим за допомогою барієво – платиново – ціаністого екран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E138-FDB7-462B-8C13-99691F5438A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кругленный прямоугольник 6"/>
          <p:cNvSpPr/>
          <p:nvPr/>
        </p:nvSpPr>
        <p:spPr>
          <a:xfrm>
            <a:off x="428760" y="5214960"/>
            <a:ext cx="40719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77797"/>
              </a:gs>
              <a:gs pos="100000">
                <a:srgbClr val="ffceff"/>
              </a:gs>
            </a:gsLst>
            <a:lin ang="16200000"/>
          </a:gradFill>
          <a:ln w="25560">
            <a:solidFill>
              <a:srgbClr val="a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571680" y="5214960"/>
            <a:ext cx="37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 світовій електротехнічній виставці в Парижі винахід був нагороджений срібною медаллю (188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8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0033"/>
                </a:solidFill>
                <a:latin typeface="Times New Roman"/>
              </a:rPr>
              <a:t>Таємниця невидимих променів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77" name="Содержимое 5" descr="Снимок.PNG"/>
          <p:cNvPicPr/>
          <p:nvPr/>
        </p:nvPicPr>
        <p:blipFill>
          <a:blip r:embed="rId1"/>
          <a:stretch/>
        </p:blipFill>
        <p:spPr>
          <a:xfrm>
            <a:off x="981000" y="1620720"/>
            <a:ext cx="2475000" cy="36576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000320" y="1600200"/>
            <a:ext cx="4686120" cy="4043520"/>
          </a:xfrm>
          <a:prstGeom prst="rect">
            <a:avLst/>
          </a:prstGeom>
          <a:gradFill rotWithShape="0">
            <a:gsLst>
              <a:gs pos="0">
                <a:srgbClr val="529a76"/>
              </a:gs>
              <a:gs pos="100000">
                <a:srgbClr val="91ffcc"/>
              </a:gs>
            </a:gsLst>
            <a:lin ang="8100000"/>
          </a:gradFill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Будучи приват-доцентом Віденського університету, І.Пулюй продовжує займатися вивченням явищ  в трубках. Фізик винаходить так звану “лампу Пулюя”. Результати експериментів з нею публікуються протягом 1880-1882 рок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FEFD-7AC0-41B3-B67A-3CB0D75FD3C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6"/>
          <p:cNvSpPr/>
          <p:nvPr/>
        </p:nvSpPr>
        <p:spPr>
          <a:xfrm>
            <a:off x="642960" y="53578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Фотографія “лампи Пулю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Номер слайда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3F29-80AD-4330-BE01-9A46D004869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Таємниця невидимих променів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83" name="Picture 7" descr="6"/>
          <p:cNvPicPr/>
          <p:nvPr/>
        </p:nvPicPr>
        <p:blipFill>
          <a:blip r:embed="rId1"/>
          <a:stretch/>
        </p:blipFill>
        <p:spPr>
          <a:xfrm>
            <a:off x="463680" y="1401840"/>
            <a:ext cx="3028680" cy="364644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57680" y="1600200"/>
            <a:ext cx="36432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аким чином, на противагу Рентгену Івану Пулюю властиво було гармонійне єднання дуже високого рівня експериментальних досліджень і глибини їх теоретичного осмислення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8" descr="w_roentgen"/>
          <p:cNvPicPr/>
          <p:nvPr/>
        </p:nvPicPr>
        <p:blipFill>
          <a:blip r:embed="rId2"/>
          <a:stretch/>
        </p:blipFill>
        <p:spPr>
          <a:xfrm>
            <a:off x="6248520" y="3614760"/>
            <a:ext cx="273024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Номер слайда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9A53-FEA0-47FF-8180-E33ADC7DFB5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Безцінний дар для медицини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388" name="Rectangle 4"/>
          <p:cNvGrpSpPr/>
          <p:nvPr/>
        </p:nvGrpSpPr>
        <p:grpSpPr>
          <a:xfrm>
            <a:off x="847800" y="1633680"/>
            <a:ext cx="4125960" cy="4754520"/>
            <a:chOff x="847800" y="1633680"/>
            <a:chExt cx="4125960" cy="4754520"/>
          </a:xfrm>
        </p:grpSpPr>
        <p:pic>
          <p:nvPicPr>
            <p:cNvPr id="389" name="Rectangle 4" descr=""/>
            <p:cNvPicPr/>
            <p:nvPr/>
          </p:nvPicPr>
          <p:blipFill>
            <a:blip r:embed="rId1"/>
            <a:stretch/>
          </p:blipFill>
          <p:spPr>
            <a:xfrm>
              <a:off x="847800" y="1633680"/>
              <a:ext cx="4125960" cy="47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857160" y="1643040"/>
              <a:ext cx="4105440" cy="47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Рентген знімків в плані медицини не мав. В той же час Пулюй успішно вирішив проблему концентрації променів в пучок, що феноменально скоротило час витримки до... 2-5 секунд. Іван Павлович особисто сам зробив вперше в світовій практиці знімок скелета мертвонародженої дитини.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Picture 8" descr="Снимок"/>
          <p:cNvPicPr/>
          <p:nvPr/>
        </p:nvPicPr>
        <p:blipFill>
          <a:blip r:embed="rId2"/>
          <a:stretch/>
        </p:blipFill>
        <p:spPr>
          <a:xfrm>
            <a:off x="5643720" y="1143000"/>
            <a:ext cx="22143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0033"/>
                </a:solidFill>
                <a:latin typeface="Times New Roman"/>
              </a:rPr>
              <a:t>Безцінний дар для медицин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443480" cy="4530600"/>
          </a:xfrm>
          <a:prstGeom prst="rect">
            <a:avLst/>
          </a:prstGeom>
          <a:gradFill rotWithShape="0">
            <a:gsLst>
              <a:gs pos="0">
                <a:srgbClr val="6f6f48"/>
              </a:gs>
              <a:gs pos="100000">
                <a:srgbClr val="c0c081"/>
              </a:gs>
            </a:gsLst>
            <a:lin ang="8100000"/>
          </a:gradFill>
          <a:ln w="9360">
            <a:solidFill>
              <a:srgbClr val="1c1c0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ротягом 1890 – 1895 років у різних часописах були опубліковані знімки, одержані І.Пулюєм під час експериментів з ламп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езультати своїх досліджень учений публікує в статті “Сяюча матерія і четвертий стан речовин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Содержимое 5" descr="Снимок5.PNG"/>
          <p:cNvPicPr/>
          <p:nvPr/>
        </p:nvPicPr>
        <p:blipFill>
          <a:blip r:embed="rId1"/>
          <a:stretch/>
        </p:blipFill>
        <p:spPr>
          <a:xfrm>
            <a:off x="5572080" y="1643040"/>
            <a:ext cx="2755800" cy="4530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95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162F-3BA6-460F-874D-D8F055D8937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0033"/>
                </a:solidFill>
                <a:latin typeface="Times New Roman"/>
              </a:rPr>
              <a:t>Безцінний дар для медицин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397" name="Текст 2"/>
          <p:cNvGrpSpPr/>
          <p:nvPr/>
        </p:nvGrpSpPr>
        <p:grpSpPr>
          <a:xfrm>
            <a:off x="774720" y="1590840"/>
            <a:ext cx="5095800" cy="4206600"/>
            <a:chOff x="774720" y="1590840"/>
            <a:chExt cx="5095800" cy="4206600"/>
          </a:xfrm>
        </p:grpSpPr>
        <p:pic>
          <p:nvPicPr>
            <p:cNvPr id="398" name="Текст 2" descr=""/>
            <p:cNvPicPr/>
            <p:nvPr/>
          </p:nvPicPr>
          <p:blipFill>
            <a:blip r:embed="rId1"/>
            <a:stretch/>
          </p:blipFill>
          <p:spPr>
            <a:xfrm>
              <a:off x="774720" y="1590840"/>
              <a:ext cx="5095800" cy="42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785880" y="1600200"/>
              <a:ext cx="5072040" cy="41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І. Пулюй виконав серію знімків органів людини, які чітко виявили патологічні зміни в їх організмах. Це радикально змінило хірургію і підняло на новий рівень терапію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1896 рік – у Київському університеті була проведена операція із залученням засобів променевої діагностики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F217-DAFE-478D-AC7C-3057A1E8340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7" descr="180px-Roentgen-x-ray-von-kollikers-hand"/>
          <p:cNvPicPr/>
          <p:nvPr/>
        </p:nvPicPr>
        <p:blipFill>
          <a:blip r:embed="rId2"/>
          <a:stretch/>
        </p:blipFill>
        <p:spPr>
          <a:xfrm>
            <a:off x="6143760" y="1857240"/>
            <a:ext cx="2286000" cy="3581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7:39:36Z</dcterms:created>
  <dc:creator>Бондаренко</dc:creator>
  <dc:description/>
  <dc:language>en-US</dc:language>
  <cp:lastModifiedBy>Admin</cp:lastModifiedBy>
  <dcterms:modified xsi:type="dcterms:W3CDTF">2011-05-02T08:45:33Z</dcterms:modified>
  <cp:revision>6</cp:revision>
  <dc:subject/>
  <dc:title>Іван Пулюй – перший український фізик світового рівн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1b000000000001024140</vt:lpwstr>
  </property>
</Properties>
</file>