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5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image9.jpeg" ContentType="image/jpeg"/>
  <Override PartName="/ppt/media/image45.jpeg" ContentType="image/jpeg"/>
  <Override PartName="/ppt/media/image48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71.jpeg" ContentType="image/jpeg"/>
  <Override PartName="/ppt/media/image61.png" ContentType="image/png"/>
  <Override PartName="/ppt/media/image21.jpeg" ContentType="image/jpeg"/>
  <Override PartName="/ppt/media/image29.png" ContentType="image/png"/>
  <Override PartName="/ppt/media/image62.jpeg" ContentType="image/jpeg"/>
  <Override PartName="/ppt/media/image23.jpeg" ContentType="image/jpeg"/>
  <Override PartName="/ppt/media/image69.png" ContentType="image/png"/>
  <Override PartName="/ppt/media/image67.jpeg" ContentType="image/jpeg"/>
  <Override PartName="/ppt/media/image16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25.png" ContentType="image/png"/>
  <Override PartName="/ppt/media/image19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70.jpeg" ContentType="image/jpeg"/>
  <Override PartName="/ppt/media/image5.png" ContentType="image/png"/>
  <Override PartName="/ppt/media/image43.jpeg" ContentType="image/jpeg"/>
  <Override PartName="/ppt/media/image26.jpeg" ContentType="image/jpe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38.jpeg" ContentType="image/jpeg"/>
  <Override PartName="/ppt/media/image72.png" ContentType="image/png"/>
  <Override PartName="/ppt/media/image1.png" ContentType="image/png"/>
  <Override PartName="/ppt/media/image13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media/image40.jpeg" ContentType="image/jpeg"/>
  <Override PartName="/ppt/media/image4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4B34-1F6D-4D93-B50D-C927575E3E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C3F-8446-4F23-A2D3-04134D40A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BD19-09A1-4A29-9BCF-183A22A01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07C-FEF8-4ED1-8501-A65D6931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54D-A548-4B4D-8EA8-4C3ADEF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CA21-0B69-4646-BA1D-9398DCD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C5265-CEC4-4F87-874C-D1DA4EF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348CA-94FA-4DB4-9128-9186D77C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721C1-AD45-4FC4-9AA9-FF07591D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78E96-8CB8-401B-96EC-115D02C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E3EBC-B8F8-4DA2-8DC6-C8FF512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889A5-6FDC-4E8A-9D5E-FBC3C6A2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3C2C1-73A2-4072-9117-3170D06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2AE1-73AF-42F0-B9BB-852CCBEA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4089A-F166-48C1-BF62-A9C2EA84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7B2-96D7-4117-8BBF-8AEEE680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00560-94DD-4391-AD97-8FDA4BC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31671-0F55-4091-B065-42C7F08C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6FD1C-BF4D-47B6-A14A-51D17F40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3FD5F-7A96-417B-8568-A564618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DFAE9-B538-4726-8A89-8E69A69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2A9C-F9E9-4EF0-9D9B-6562CD1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ADE0-93EA-4EBD-B2E2-2E92B99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131A6-1F91-4B38-86DB-68FE79D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FB0C0-66F2-4F1E-B069-25265C2F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2A54B-8016-495F-BEEF-CEDA89F8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A80-1FC8-465A-AD48-82E83BBF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E3153-BFC1-4252-BCBB-E496D107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2ABE7-8738-4621-8EA0-41349DC8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E5BEA-DD9D-4F42-B7E1-CCDFA67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FAA33-B625-4EA7-AF70-9F1BC45A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084E5-0AFF-41EB-9403-78CA883C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3F65-5636-484F-9E5D-2108930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22674-DA81-4092-97A7-6336E943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9FABA-62DD-456D-8896-E01FE89C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91C36-5B61-4A00-8C81-A96999AF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76FB-A1AA-4864-9EA7-ABB0243F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90A-45A9-43E8-BBA4-10247918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9CC98-66CE-40F5-B3B5-031FD6B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7CF79-C43D-4FA0-AC54-AB7DC75A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945C2-92DF-41DC-82C6-834E9C32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3A6C5-538D-4B3A-A193-7BF5F3B5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AAC04-723B-4605-B6A4-DE0364A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C6A6-D91D-44B9-A216-C6B09CF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C9B69-A910-458D-A654-797B7FE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602E8-717A-46E2-B5DA-1C85627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A975E-46FF-47A6-9E2F-9D5C446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D252-3219-4029-A96A-109DB9E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3108-EA4C-4EC7-81C9-A0781A8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453F6-D524-40F6-B346-7E2DAE52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54C5C-98EB-40D4-8390-26306C2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0A77A-3DB2-4ECC-80BB-D2C5AC9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EC29E-C6A2-4139-ABE7-92BF30B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3302A-2F73-4F15-9B96-5FB47E93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AE3-89B0-410B-B6EC-2421E8E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8F1-F5BA-4371-892F-7D15C92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C55-6900-4369-95FA-A3CA3BD2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0DA-D4F5-44F1-BDC9-DF1DFD31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E99A-50C9-4A06-8707-2A6C0A4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256-1DD6-4A7A-8328-5738D16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22BF-3B6A-4961-9DC3-9F2378F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385C-0D94-4304-ABC5-20DC5E3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85E5-2E39-4FDB-8F45-8F90702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F0D7-8FEA-459B-A24E-8D714205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D343-300F-4C55-A605-46820A1F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A99C-6E92-4647-A435-C831B6AB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C25A-F131-4E30-988A-06FBFA2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99E0-1F30-4C00-8473-DA7078A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0161-B486-4AA2-AD38-28DF557A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66D1-6635-4EE5-B372-D3F22EE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F63-6FD8-4D21-9A92-68C8972E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1282-B70C-4D59-8515-3AAE91CD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92B5-465A-428A-B49E-78AA618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BEE3-9B7C-4188-B633-68F0888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8193-7F34-47A6-90FC-6F6B086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634D-CB1F-40F5-B922-DE5BB085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F42B-2517-47ED-84A0-5EB16D6A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0ADF-69B0-4A94-B10E-A61E0870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ADBC-4E1F-46F8-8682-9E0496D9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9105-D4FB-44ED-A622-B1DF71C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820C-B69B-431C-8093-F1A41DD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84B-D0CF-4F0A-BE7C-1592186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A048-8C4D-4761-9CB0-11F42237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8BCD-DDEA-4DF4-9393-D0B08D08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9F1D-CB8E-405C-B7C3-9BBC06D0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1266-D800-4FEA-9662-880238E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159F-950D-4B40-A62B-A743619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E30D-7E8C-4045-A519-2895D83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278A-AAAE-479F-8B35-40689F92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CB96-E7A5-453F-93D1-F39C1EAC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AA7B-F548-433A-B622-BE8BF8B6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CE99-B980-472C-BA48-5E30E538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9F8-F3B8-44F0-A805-C787A21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1750-0F92-4350-AE48-277AEA84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53A93-D83D-447B-B820-227603F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E866-E845-439E-969A-6F068F0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246A-238F-4FFA-AB8B-D2845F6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E83C-B900-4590-8B3F-6DA82D9C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3A03B-278C-439C-9465-C88986F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C1D48-194F-4F5E-9DFA-F9A2C4C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8F6E-5617-4838-B702-1366BA9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01DA-3271-4CFC-9E13-5464ECEA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56CAE-0536-4966-A313-98F8876C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826-F641-4902-A1A3-134FA645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2A0B-81B1-45E3-B631-4618036C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2E8E-9CB6-4C47-B02C-B2DAD7B5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9D8A-12C8-471E-B33E-0033098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ED3D-DBBC-4396-AFDE-E2A7F8F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0563-2104-4009-AD57-9580F4C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0CB31-A80C-4A5D-8AD6-0DF2B9A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C120-81CC-482E-8009-F131F2A2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D0C2-94A9-4D3E-BA02-47D60DC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7A26-A0F8-4EFA-8A37-D7B6D7CC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DC51-0AF9-4BBD-B33C-D2A3AD8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081-4898-415E-BE58-F0A228A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149EE-FE79-4315-BD94-2318902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0618-42A4-4835-BB7E-E3EBBD43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EA6A-78C7-430A-934D-F92DFF1A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4BE3A-B6DB-47B7-A106-39895423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00FB-8089-43D0-9E36-2A29FA20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E2BC9-1F81-41F6-9ACD-AF718A7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182C-E230-41C3-BBB4-45A8368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2427-34CF-4A01-B00D-1B294BF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ACAD-4413-42C7-A2CD-298E4FB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C291-4414-4BC0-9040-AE27333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B14-A0A8-4A2A-A122-28B54D1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C561-2EA5-46EB-A7A7-049E419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EF3D-98D5-43FF-AF18-6EF6B5D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FF3B1-FC28-4490-A28C-89553CA2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B2697-CFFE-421A-AD4B-8035EDF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6739-D633-4854-8F60-E2F3B873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E6198-1E55-4028-89E1-6D50E12C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2186-4157-4009-99AE-989F051A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C0864-28EE-4998-8CF6-9ED8D25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32BC6-C801-4044-B0F2-3D80049C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719D-8F3D-4DEF-B5FA-65320D0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831-FF99-4621-9BF1-BCDA86F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A25D6-12CC-4981-855B-1C1651F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BC27-BEC4-436B-B631-9910BBD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68CB-F1F2-48D0-86D3-BFB761E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741B4-D45F-4E36-9163-AFB605D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802D-3594-4396-876A-FECA4C2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E35B3-929B-4D20-BD86-1E7DD9DF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9FAA5-9A4A-4977-8E63-752881AF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BD4C0-FCAC-4B60-B6D2-A6F5953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DC2E9-DD80-4F13-A82B-1994848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C58B7-2FB7-4F9A-BCF5-FF5F8F7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F3A-54F4-4061-9F27-FE2E20B2E0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16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400-0E92-4941-8357-61F5DDBBD3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8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0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091-3FA0-46C7-B4C4-9E09044DFE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6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7"/>
            <p:cNvSpPr/>
            <p:nvPr/>
          </p:nvSpPr>
          <p:spPr>
            <a:xfrm flipH="1" rot="5400000">
              <a:off x="3331440" y="3384360"/>
              <a:ext cx="686736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flipH="1" rot="5400000">
              <a:off x="6352560" y="2514600"/>
              <a:ext cx="82548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flipH="1" rot="5400000">
              <a:off x="6353280" y="1689840"/>
              <a:ext cx="8236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flipH="1" rot="5400000">
              <a:off x="6353280" y="865800"/>
              <a:ext cx="82368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3E21-13B3-40FE-BA8E-064F00BBDC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12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16D-F620-45D9-9923-3033FF4776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14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59E-3EF0-4D8C-A1B0-03A0D6A147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13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E70-4313-479B-A545-523157E68D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15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D881-E95E-406D-89D6-34D767AF41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17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A17A-E840-4EB5-A1C5-E1068DD20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13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C829-7244-4AA0-A722-99AE2802C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11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FE2-A16B-4FAD-B669-ACF3456F07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14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596-4E3F-46D7-8545-4541F21B1B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AutoShape 2" descr=""/>
          <p:cNvPicPr/>
          <p:nvPr/>
        </p:nvPicPr>
        <p:blipFill>
          <a:blip r:embed="rId1"/>
          <a:stretch/>
        </p:blipFill>
        <p:spPr>
          <a:xfrm>
            <a:off x="-304920" y="450720"/>
            <a:ext cx="9966600" cy="246852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427280" y="3715920"/>
            <a:ext cx="4157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8 к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Rectangle 3" descr=""/>
          <p:cNvPicPr/>
          <p:nvPr/>
        </p:nvPicPr>
        <p:blipFill>
          <a:blip r:embed="rId2"/>
          <a:stretch/>
        </p:blipFill>
        <p:spPr>
          <a:xfrm>
            <a:off x="317520" y="5052960"/>
            <a:ext cx="555948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0"/>
          <p:cNvSpPr/>
          <p:nvPr/>
        </p:nvSpPr>
        <p:spPr>
          <a:xfrm>
            <a:off x="0" y="2349360"/>
            <a:ext cx="33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міна об’є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и в залеж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ід ступеня її нагрі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ладено в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строю рід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і термометри з'яви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16 столітті вони б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515376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ди термои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Рисунок 6" descr="10_02.jpg"/>
          <p:cNvPicPr/>
          <p:nvPr/>
        </p:nvPicPr>
        <p:blipFill>
          <a:blip r:embed="rId2"/>
          <a:srcRect l="0" t="0" r="-46" b="157"/>
          <a:stretch/>
        </p:blipFill>
        <p:spPr>
          <a:xfrm>
            <a:off x="3173400" y="2205000"/>
            <a:ext cx="57769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AutoShape 2" descr=""/>
          <p:cNvPicPr/>
          <p:nvPr/>
        </p:nvPicPr>
        <p:blipFill>
          <a:blip r:embed="rId1"/>
          <a:stretch/>
        </p:blipFill>
        <p:spPr>
          <a:xfrm>
            <a:off x="603360" y="133200"/>
            <a:ext cx="7937280" cy="12020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7"/>
          <p:cNvSpPr/>
          <p:nvPr/>
        </p:nvSpPr>
        <p:spPr>
          <a:xfrm>
            <a:off x="3564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скоп Галіл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5961600" y="5373720"/>
            <a:ext cx="26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улька з повітр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у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исота води в труб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705960" y="4581360"/>
            <a:ext cx="39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стійні точки рідин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 намічалися до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йбільшій спекі і найбільш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холоду в даній місцевості, 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мір температури було вел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бли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2664000" cy="3209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3"/>
          <a:stretch/>
        </p:blipFill>
        <p:spPr>
          <a:xfrm>
            <a:off x="6189840" y="1484280"/>
            <a:ext cx="2419200" cy="3809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"/>
          <p:cNvPicPr/>
          <p:nvPr/>
        </p:nvPicPr>
        <p:blipFill>
          <a:blip r:embed="rId4"/>
          <a:stretch/>
        </p:blipFill>
        <p:spPr>
          <a:xfrm>
            <a:off x="4511520" y="2120760"/>
            <a:ext cx="1621080" cy="3122640"/>
          </a:xfrm>
          <a:prstGeom prst="rect">
            <a:avLst/>
          </a:prstGeom>
          <a:ln w="0">
            <a:noFill/>
          </a:ln>
        </p:spPr>
      </p:pic>
      <p:sp>
        <p:nvSpPr>
          <p:cNvPr id="691" name="TextBox 72"/>
          <p:cNvSpPr/>
          <p:nvPr/>
        </p:nvSpPr>
        <p:spPr>
          <a:xfrm>
            <a:off x="900000" y="1052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Галілео Галі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ject 0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1482480" cy="217980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790640" cy="2170080"/>
          </a:xfrm>
          <a:prstGeom prst="rect">
            <a:avLst/>
          </a:prstGeom>
          <a:ln w="0">
            <a:noFill/>
          </a:ln>
        </p:spPr>
      </p:pic>
      <p:pic>
        <p:nvPicPr>
          <p:cNvPr id="694" name="AutoShap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5" name="Line 6"/>
          <p:cNvSpPr/>
          <p:nvPr/>
        </p:nvSpPr>
        <p:spPr>
          <a:xfrm>
            <a:off x="147636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>
            <a:off x="161928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1476360" y="31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3"/>
          <p:cNvSpPr/>
          <p:nvPr/>
        </p:nvSpPr>
        <p:spPr>
          <a:xfrm>
            <a:off x="1476360" y="537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4"/>
          <p:cNvSpPr/>
          <p:nvPr/>
        </p:nvSpPr>
        <p:spPr>
          <a:xfrm>
            <a:off x="1476360" y="3284640"/>
            <a:ext cx="142920" cy="0"/>
          </a:xfrm>
          <a:prstGeom prst="line">
            <a:avLst/>
          </a:prstGeom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5"/>
          <p:cNvSpPr/>
          <p:nvPr/>
        </p:nvSpPr>
        <p:spPr>
          <a:xfrm flipV="1">
            <a:off x="169236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6"/>
          <p:cNvSpPr/>
          <p:nvPr/>
        </p:nvSpPr>
        <p:spPr>
          <a:xfrm>
            <a:off x="5148360" y="53737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V="1">
            <a:off x="514836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1692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97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226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2484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2771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3059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3348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370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6"/>
          <p:cNvSpPr/>
          <p:nvPr/>
        </p:nvSpPr>
        <p:spPr>
          <a:xfrm>
            <a:off x="3995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7"/>
          <p:cNvSpPr/>
          <p:nvPr/>
        </p:nvSpPr>
        <p:spPr>
          <a:xfrm>
            <a:off x="4284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8"/>
          <p:cNvSpPr/>
          <p:nvPr/>
        </p:nvSpPr>
        <p:spPr>
          <a:xfrm>
            <a:off x="464328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3"/>
          <p:cNvSpPr/>
          <p:nvPr/>
        </p:nvSpPr>
        <p:spPr>
          <a:xfrm>
            <a:off x="493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4"/>
          <p:cNvSpPr/>
          <p:nvPr/>
        </p:nvSpPr>
        <p:spPr>
          <a:xfrm>
            <a:off x="521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5"/>
          <p:cNvSpPr/>
          <p:nvPr/>
        </p:nvSpPr>
        <p:spPr>
          <a:xfrm>
            <a:off x="5508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6"/>
          <p:cNvSpPr/>
          <p:nvPr/>
        </p:nvSpPr>
        <p:spPr>
          <a:xfrm>
            <a:off x="5867280" y="32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8"/>
          <p:cNvSpPr/>
          <p:nvPr/>
        </p:nvSpPr>
        <p:spPr>
          <a:xfrm>
            <a:off x="6084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9"/>
          <p:cNvSpPr/>
          <p:nvPr/>
        </p:nvSpPr>
        <p:spPr>
          <a:xfrm>
            <a:off x="637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0"/>
          <p:cNvSpPr/>
          <p:nvPr/>
        </p:nvSpPr>
        <p:spPr>
          <a:xfrm>
            <a:off x="6659640" y="3284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1"/>
          <p:cNvSpPr/>
          <p:nvPr/>
        </p:nvSpPr>
        <p:spPr>
          <a:xfrm>
            <a:off x="7020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2"/>
          <p:cNvSpPr/>
          <p:nvPr/>
        </p:nvSpPr>
        <p:spPr>
          <a:xfrm>
            <a:off x="7308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4"/>
          <p:cNvSpPr/>
          <p:nvPr/>
        </p:nvSpPr>
        <p:spPr>
          <a:xfrm>
            <a:off x="7667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5"/>
          <p:cNvSpPr/>
          <p:nvPr/>
        </p:nvSpPr>
        <p:spPr>
          <a:xfrm>
            <a:off x="79567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6"/>
          <p:cNvSpPr/>
          <p:nvPr/>
        </p:nvSpPr>
        <p:spPr>
          <a:xfrm>
            <a:off x="8244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7"/>
          <p:cNvSpPr/>
          <p:nvPr/>
        </p:nvSpPr>
        <p:spPr>
          <a:xfrm>
            <a:off x="1817640" y="352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8"/>
          <p:cNvSpPr/>
          <p:nvPr/>
        </p:nvSpPr>
        <p:spPr>
          <a:xfrm>
            <a:off x="1405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9"/>
          <p:cNvSpPr/>
          <p:nvPr/>
        </p:nvSpPr>
        <p:spPr>
          <a:xfrm>
            <a:off x="443448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0"/>
          <p:cNvSpPr/>
          <p:nvPr/>
        </p:nvSpPr>
        <p:spPr>
          <a:xfrm>
            <a:off x="5273640" y="23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1"/>
          <p:cNvSpPr/>
          <p:nvPr/>
        </p:nvSpPr>
        <p:spPr>
          <a:xfrm>
            <a:off x="4913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2"/>
          <p:cNvSpPr/>
          <p:nvPr/>
        </p:nvSpPr>
        <p:spPr>
          <a:xfrm>
            <a:off x="839520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9"/>
          <p:cNvSpPr/>
          <p:nvPr/>
        </p:nvSpPr>
        <p:spPr>
          <a:xfrm>
            <a:off x="2127240" y="5300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танетя 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0"/>
          <p:cNvSpPr/>
          <p:nvPr/>
        </p:nvSpPr>
        <p:spPr>
          <a:xfrm>
            <a:off x="5586120" y="2781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кипіння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1"/>
          <p:cNvSpPr/>
          <p:nvPr/>
        </p:nvSpPr>
        <p:spPr>
          <a:xfrm flipV="1">
            <a:off x="1763640" y="5373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2"/>
          <p:cNvSpPr/>
          <p:nvPr/>
        </p:nvSpPr>
        <p:spPr>
          <a:xfrm flipV="1">
            <a:off x="5580000" y="3284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3"/>
          <p:cNvSpPr/>
          <p:nvPr/>
        </p:nvSpPr>
        <p:spPr>
          <a:xfrm>
            <a:off x="1111320" y="5667480"/>
            <a:ext cx="76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змінність температур танення льоду і кипіння води (опор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чки) при нормальному атмосферному тиску була експере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становлена в 1665 році, що і покладено в основу граду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0"/>
          <p:cNvSpPr/>
          <p:nvPr/>
        </p:nvSpPr>
        <p:spPr>
          <a:xfrm>
            <a:off x="5148360" y="3141720"/>
            <a:ext cx="2663640" cy="142920"/>
          </a:xfrm>
          <a:prstGeom prst="rect">
            <a:avLst/>
          </a:prstGeom>
          <a:solidFill>
            <a:srgbClr val="f97c55"/>
          </a:solidFill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"/>
          <p:cNvSpPr/>
          <p:nvPr/>
        </p:nvSpPr>
        <p:spPr>
          <a:xfrm>
            <a:off x="1692360" y="5229360"/>
            <a:ext cx="259236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0"/>
          <p:cNvSpPr/>
          <p:nvPr/>
        </p:nvSpPr>
        <p:spPr>
          <a:xfrm>
            <a:off x="1835280" y="5084640"/>
            <a:ext cx="5905440" cy="360360"/>
          </a:xfrm>
          <a:prstGeom prst="rect">
            <a:avLst/>
          </a:prstGeom>
          <a:solidFill>
            <a:srgbClr val="7d7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AutoShape 2" descr=""/>
          <p:cNvPicPr/>
          <p:nvPr/>
        </p:nvPicPr>
        <p:blipFill>
          <a:blip r:embed="rId1"/>
          <a:stretch/>
        </p:blipFill>
        <p:spPr>
          <a:xfrm>
            <a:off x="603360" y="-85680"/>
            <a:ext cx="7937280" cy="1073160"/>
          </a:xfrm>
          <a:prstGeom prst="rect">
            <a:avLst/>
          </a:prstGeom>
          <a:ln w="0">
            <a:noFill/>
          </a:ln>
        </p:spPr>
      </p:pic>
      <p:sp>
        <p:nvSpPr>
          <p:cNvPr id="741" name="Line 4"/>
          <p:cNvSpPr/>
          <p:nvPr/>
        </p:nvSpPr>
        <p:spPr>
          <a:xfrm>
            <a:off x="1835280" y="2781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1835280" y="2852640"/>
            <a:ext cx="5832360" cy="360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916360" y="2852640"/>
            <a:ext cx="287280" cy="316872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4788000" y="2852640"/>
            <a:ext cx="28728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588000" y="2852640"/>
            <a:ext cx="28764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1837080" y="250524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Голландія 1714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4006440" y="2492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Франція 174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6237360" y="2492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веція 1742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H="1">
            <a:off x="291636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H="1">
            <a:off x="291636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6"/>
          <p:cNvSpPr/>
          <p:nvPr/>
        </p:nvSpPr>
        <p:spPr>
          <a:xfrm flipH="1">
            <a:off x="291636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3203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9"/>
          <p:cNvSpPr/>
          <p:nvPr/>
        </p:nvSpPr>
        <p:spPr>
          <a:xfrm flipH="1">
            <a:off x="291636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0"/>
          <p:cNvSpPr/>
          <p:nvPr/>
        </p:nvSpPr>
        <p:spPr>
          <a:xfrm flipH="1">
            <a:off x="2916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1"/>
          <p:cNvSpPr/>
          <p:nvPr/>
        </p:nvSpPr>
        <p:spPr>
          <a:xfrm flipH="1">
            <a:off x="2916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2"/>
          <p:cNvSpPr/>
          <p:nvPr/>
        </p:nvSpPr>
        <p:spPr>
          <a:xfrm flipH="1">
            <a:off x="291636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3"/>
          <p:cNvSpPr/>
          <p:nvPr/>
        </p:nvSpPr>
        <p:spPr>
          <a:xfrm flipH="1">
            <a:off x="2916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4"/>
          <p:cNvSpPr/>
          <p:nvPr/>
        </p:nvSpPr>
        <p:spPr>
          <a:xfrm flipH="1">
            <a:off x="291636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5"/>
          <p:cNvSpPr/>
          <p:nvPr/>
        </p:nvSpPr>
        <p:spPr>
          <a:xfrm flipH="1">
            <a:off x="291636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6"/>
          <p:cNvSpPr/>
          <p:nvPr/>
        </p:nvSpPr>
        <p:spPr>
          <a:xfrm flipH="1">
            <a:off x="291636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7"/>
          <p:cNvSpPr/>
          <p:nvPr/>
        </p:nvSpPr>
        <p:spPr>
          <a:xfrm flipH="1">
            <a:off x="291636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8"/>
          <p:cNvSpPr/>
          <p:nvPr/>
        </p:nvSpPr>
        <p:spPr>
          <a:xfrm>
            <a:off x="3203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9"/>
          <p:cNvSpPr/>
          <p:nvPr/>
        </p:nvSpPr>
        <p:spPr>
          <a:xfrm flipH="1">
            <a:off x="2916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1"/>
          <p:cNvSpPr/>
          <p:nvPr/>
        </p:nvSpPr>
        <p:spPr>
          <a:xfrm>
            <a:off x="1835280" y="58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778320" y="2708280"/>
            <a:ext cx="9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п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4"/>
          <p:cNvSpPr/>
          <p:nvPr/>
        </p:nvSpPr>
        <p:spPr>
          <a:xfrm>
            <a:off x="846360" y="4653000"/>
            <a:ext cx="9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831240" y="5589720"/>
            <a:ext cx="9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мі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3281400" y="342900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інге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5438160" y="34290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ом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239240" y="34290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с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28428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5251680" y="4365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16184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3426840" y="2852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5516280" y="2852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6885000" y="2852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3499560" y="50846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100640" y="5084640"/>
            <a:ext cx="6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5448960" y="508464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349416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5294160" y="58053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09452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3498840" y="5445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3"/>
          <p:cNvSpPr/>
          <p:nvPr/>
        </p:nvSpPr>
        <p:spPr>
          <a:xfrm>
            <a:off x="478800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54"/>
          <p:cNvSpPr/>
          <p:nvPr/>
        </p:nvSpPr>
        <p:spPr>
          <a:xfrm>
            <a:off x="478800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55"/>
          <p:cNvSpPr/>
          <p:nvPr/>
        </p:nvSpPr>
        <p:spPr>
          <a:xfrm>
            <a:off x="4788000" y="3716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56"/>
          <p:cNvSpPr/>
          <p:nvPr/>
        </p:nvSpPr>
        <p:spPr>
          <a:xfrm>
            <a:off x="478800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57"/>
          <p:cNvSpPr/>
          <p:nvPr/>
        </p:nvSpPr>
        <p:spPr>
          <a:xfrm>
            <a:off x="4788000" y="429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8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9"/>
          <p:cNvSpPr/>
          <p:nvPr/>
        </p:nvSpPr>
        <p:spPr>
          <a:xfrm>
            <a:off x="478800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0"/>
          <p:cNvSpPr/>
          <p:nvPr/>
        </p:nvSpPr>
        <p:spPr>
          <a:xfrm>
            <a:off x="478800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1"/>
          <p:cNvSpPr/>
          <p:nvPr/>
        </p:nvSpPr>
        <p:spPr>
          <a:xfrm>
            <a:off x="6588000" y="306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62"/>
          <p:cNvSpPr/>
          <p:nvPr/>
        </p:nvSpPr>
        <p:spPr>
          <a:xfrm>
            <a:off x="658800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3"/>
          <p:cNvSpPr/>
          <p:nvPr/>
        </p:nvSpPr>
        <p:spPr>
          <a:xfrm>
            <a:off x="658800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64"/>
          <p:cNvSpPr/>
          <p:nvPr/>
        </p:nvSpPr>
        <p:spPr>
          <a:xfrm>
            <a:off x="658800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5"/>
          <p:cNvSpPr/>
          <p:nvPr/>
        </p:nvSpPr>
        <p:spPr>
          <a:xfrm>
            <a:off x="658800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66"/>
          <p:cNvSpPr/>
          <p:nvPr/>
        </p:nvSpPr>
        <p:spPr>
          <a:xfrm>
            <a:off x="6588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7"/>
          <p:cNvSpPr/>
          <p:nvPr/>
        </p:nvSpPr>
        <p:spPr>
          <a:xfrm>
            <a:off x="6588000" y="43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8"/>
          <p:cNvSpPr/>
          <p:nvPr/>
        </p:nvSpPr>
        <p:spPr>
          <a:xfrm>
            <a:off x="658800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9"/>
          <p:cNvSpPr/>
          <p:nvPr/>
        </p:nvSpPr>
        <p:spPr>
          <a:xfrm>
            <a:off x="658800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0"/>
          <p:cNvSpPr/>
          <p:nvPr/>
        </p:nvSpPr>
        <p:spPr>
          <a:xfrm>
            <a:off x="658800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1"/>
          <p:cNvSpPr/>
          <p:nvPr/>
        </p:nvSpPr>
        <p:spPr>
          <a:xfrm>
            <a:off x="6588000" y="522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2"/>
          <p:cNvSpPr/>
          <p:nvPr/>
        </p:nvSpPr>
        <p:spPr>
          <a:xfrm>
            <a:off x="1122480" y="61135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одних і тих же опорних точках шкали можуть бути різ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начення темпер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0"/>
          <p:cNvSpPr/>
          <p:nvPr/>
        </p:nvSpPr>
        <p:spPr>
          <a:xfrm>
            <a:off x="572652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67" descr="220px-Anders-Celsius.jpeg"/>
          <p:cNvPicPr/>
          <p:nvPr/>
        </p:nvPicPr>
        <p:blipFill>
          <a:blip r:embed="rId2"/>
          <a:stretch/>
        </p:blipFill>
        <p:spPr>
          <a:xfrm>
            <a:off x="6227640" y="1389240"/>
            <a:ext cx="865440" cy="1152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68" descr="faren.jpg"/>
          <p:cNvPicPr/>
          <p:nvPr/>
        </p:nvPicPr>
        <p:blipFill>
          <a:blip r:embed="rId3"/>
          <a:stretch/>
        </p:blipFill>
        <p:spPr>
          <a:xfrm>
            <a:off x="2411280" y="1389240"/>
            <a:ext cx="1176480" cy="117612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9" descr="RAUMUR~1.JPG"/>
          <p:cNvPicPr/>
          <p:nvPr/>
        </p:nvPicPr>
        <p:blipFill>
          <a:blip r:embed="rId4"/>
          <a:srcRect l="0" t="0" r="-76" b="-58"/>
          <a:stretch/>
        </p:blipFill>
        <p:spPr>
          <a:xfrm>
            <a:off x="4572000" y="1390680"/>
            <a:ext cx="895320" cy="1174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1" descr=""/>
          <p:cNvPicPr/>
          <p:nvPr/>
        </p:nvPicPr>
        <p:blipFill>
          <a:blip r:embed="rId5"/>
          <a:stretch/>
        </p:blipFill>
        <p:spPr>
          <a:xfrm>
            <a:off x="7740720" y="1389240"/>
            <a:ext cx="934920" cy="11397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71"/>
          <p:cNvSpPr/>
          <p:nvPr/>
        </p:nvSpPr>
        <p:spPr>
          <a:xfrm>
            <a:off x="2124000" y="836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Фаренгейт Габріель Дані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2"/>
          <p:cNvSpPr/>
          <p:nvPr/>
        </p:nvSpPr>
        <p:spPr>
          <a:xfrm>
            <a:off x="4356000" y="8366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омю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не Анту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3"/>
          <p:cNvSpPr/>
          <p:nvPr/>
        </p:nvSpPr>
        <p:spPr>
          <a:xfrm>
            <a:off x="5940360" y="1052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Цельсій Андер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4"/>
          <p:cNvSpPr/>
          <p:nvPr/>
        </p:nvSpPr>
        <p:spPr>
          <a:xfrm>
            <a:off x="7596360" y="105264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арл Лін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1"/>
          <p:cNvPicPr/>
          <p:nvPr/>
        </p:nvPicPr>
        <p:blipFill>
          <a:blip r:embed="rId2"/>
          <a:stretch/>
        </p:blipFill>
        <p:spPr>
          <a:xfrm>
            <a:off x="7380360" y="3933720"/>
            <a:ext cx="1492200" cy="2117880"/>
          </a:xfrm>
          <a:prstGeom prst="rect">
            <a:avLst/>
          </a:prstGeom>
          <a:ln w="0">
            <a:noFill/>
          </a:ln>
        </p:spPr>
      </p:pic>
      <p:pic>
        <p:nvPicPr>
          <p:cNvPr id="815" name="Object 0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1505160" cy="2151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1257480" y="2487600"/>
            <a:ext cx="63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дичні термометри відносяться до максималь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8"/>
          <p:cNvSpPr/>
          <p:nvPr/>
        </p:nvSpPr>
        <p:spPr>
          <a:xfrm>
            <a:off x="1332000" y="508464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9"/>
          <p:cNvSpPr/>
          <p:nvPr/>
        </p:nvSpPr>
        <p:spPr>
          <a:xfrm>
            <a:off x="1403280" y="5084640"/>
            <a:ext cx="122400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rc 12"/>
          <p:cNvSpPr/>
          <p:nvPr/>
        </p:nvSpPr>
        <p:spPr>
          <a:xfrm flipV="1" rot="10800000">
            <a:off x="2627280" y="3715200"/>
            <a:ext cx="1511280" cy="1427400"/>
          </a:xfrm>
          <a:custGeom>
            <a:avLst/>
            <a:gdLst>
              <a:gd name="textAreaLeft" fmla="*/ 0 w 1511280"/>
              <a:gd name="textAreaRight" fmla="*/ 1511640 w 1511280"/>
              <a:gd name="textAreaTop" fmla="*/ -360 h 1427400"/>
              <a:gd name="textAreaBottom" fmla="*/ 1427400 h 1427400"/>
            </a:gdLst>
            <a:ahLst/>
            <a:rect l="textAreaLeft" t="textAreaTop" r="textAreaRight" b="textAreaBottom"/>
            <a:pathLst>
              <a:path fill="none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</a:path>
              <a:path stroke="0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  <a:lnTo>
                  <a:pt x="0" y="21406"/>
                </a:lnTo>
                <a:close/>
              </a:path>
            </a:pathLst>
          </a:custGeom>
          <a:noFill/>
          <a:ln w="3816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4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5"/>
          <p:cNvSpPr/>
          <p:nvPr/>
        </p:nvSpPr>
        <p:spPr>
          <a:xfrm>
            <a:off x="3851280" y="3789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6"/>
          <p:cNvSpPr/>
          <p:nvPr/>
        </p:nvSpPr>
        <p:spPr>
          <a:xfrm>
            <a:off x="2627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7"/>
          <p:cNvSpPr/>
          <p:nvPr/>
        </p:nvSpPr>
        <p:spPr>
          <a:xfrm>
            <a:off x="38512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8"/>
          <p:cNvSpPr/>
          <p:nvPr/>
        </p:nvSpPr>
        <p:spPr>
          <a:xfrm>
            <a:off x="1476360" y="5300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627280" y="530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906840" y="2924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1049760" y="486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4"/>
          <p:cNvSpPr/>
          <p:nvPr/>
        </p:nvSpPr>
        <p:spPr>
          <a:xfrm>
            <a:off x="4071600" y="508464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5"/>
          <p:cNvSpPr/>
          <p:nvPr/>
        </p:nvSpPr>
        <p:spPr>
          <a:xfrm>
            <a:off x="957600" y="352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8"/>
          <p:cNvSpPr/>
          <p:nvPr/>
        </p:nvSpPr>
        <p:spPr>
          <a:xfrm flipV="1">
            <a:off x="1403280" y="2997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1266120" y="5157720"/>
            <a:ext cx="300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контакт з тіл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2991960" y="57326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729320" y="3068640"/>
            <a:ext cx="39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 тіло вимірю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 порушуючи контакту резерву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1263600" y="611352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азання термометра знімають через деякий час піс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ведення його в контакт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0"/>
          <p:cNvSpPr/>
          <p:nvPr/>
        </p:nvSpPr>
        <p:spPr>
          <a:xfrm>
            <a:off x="1625400" y="57326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0" descr="3"/>
          <p:cNvPicPr/>
          <p:nvPr/>
        </p:nvPicPr>
        <p:blipFill>
          <a:blip r:embed="rId2"/>
          <a:stretch/>
        </p:blipFill>
        <p:spPr>
          <a:xfrm>
            <a:off x="3635280" y="1844640"/>
            <a:ext cx="2005200" cy="196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1258920" y="4724280"/>
          <a:ext cx="4603680" cy="1785960"/>
        </p:xfrm>
        <a:graphic>
          <a:graphicData uri="http://schemas.openxmlformats.org/drawingml/2006/table">
            <a:tbl>
              <a:tblPr/>
              <a:tblGrid>
                <a:gridCol w="1150920"/>
                <a:gridCol w="1150920"/>
                <a:gridCol w="1150920"/>
                <a:gridCol w="11509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9" name="Object 55" descr=""/>
          <p:cNvPicPr/>
          <p:nvPr/>
        </p:nvPicPr>
        <p:blipFill>
          <a:blip r:embed="rId3"/>
          <a:stretch/>
        </p:blipFill>
        <p:spPr>
          <a:xfrm>
            <a:off x="893880" y="5103720"/>
            <a:ext cx="3657600" cy="181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0" descr="Без имени-1"/>
          <p:cNvPicPr/>
          <p:nvPr/>
        </p:nvPicPr>
        <p:blipFill>
          <a:blip r:embed="rId4"/>
          <a:stretch/>
        </p:blipFill>
        <p:spPr>
          <a:xfrm>
            <a:off x="6372360" y="1836720"/>
            <a:ext cx="2376360" cy="262584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5"/>
          <p:cNvSpPr/>
          <p:nvPr/>
        </p:nvSpPr>
        <p:spPr>
          <a:xfrm>
            <a:off x="1198440" y="40053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ріст довжини у метр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рижнів при нагрі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5"/>
          <p:cNvSpPr/>
          <p:nvPr/>
        </p:nvSpPr>
        <p:spPr>
          <a:xfrm flipV="1">
            <a:off x="1258920" y="5013360"/>
            <a:ext cx="4608360" cy="14400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6"/>
          <p:cNvSpPr/>
          <p:nvPr/>
        </p:nvSpPr>
        <p:spPr>
          <a:xfrm flipV="1">
            <a:off x="1258920" y="5300640"/>
            <a:ext cx="4608360" cy="1152720"/>
          </a:xfrm>
          <a:prstGeom prst="line">
            <a:avLst/>
          </a:prstGeom>
          <a:ln w="9360">
            <a:solidFill>
              <a:srgbClr val="ac1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7"/>
          <p:cNvSpPr/>
          <p:nvPr/>
        </p:nvSpPr>
        <p:spPr>
          <a:xfrm flipV="1">
            <a:off x="1258920" y="5589360"/>
            <a:ext cx="4608360" cy="863640"/>
          </a:xfrm>
          <a:prstGeom prst="line">
            <a:avLst/>
          </a:prstGeom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8"/>
          <p:cNvSpPr/>
          <p:nvPr/>
        </p:nvSpPr>
        <p:spPr>
          <a:xfrm flipV="1">
            <a:off x="1258920" y="5876640"/>
            <a:ext cx="4608360" cy="57636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9"/>
          <p:cNvSpPr/>
          <p:nvPr/>
        </p:nvSpPr>
        <p:spPr>
          <a:xfrm>
            <a:off x="5942160" y="479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0"/>
          <p:cNvSpPr/>
          <p:nvPr/>
        </p:nvSpPr>
        <p:spPr>
          <a:xfrm>
            <a:off x="5942160" y="51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1"/>
          <p:cNvSpPr/>
          <p:nvPr/>
        </p:nvSpPr>
        <p:spPr>
          <a:xfrm>
            <a:off x="5942520" y="5445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5942160" y="5805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4"/>
          <p:cNvSpPr/>
          <p:nvPr/>
        </p:nvSpPr>
        <p:spPr>
          <a:xfrm>
            <a:off x="808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0"/>
          <p:cNvSpPr/>
          <p:nvPr/>
        </p:nvSpPr>
        <p:spPr>
          <a:xfrm>
            <a:off x="2202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3426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2"/>
          <p:cNvSpPr/>
          <p:nvPr/>
        </p:nvSpPr>
        <p:spPr>
          <a:xfrm>
            <a:off x="4507560" y="6491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3"/>
          <p:cNvSpPr/>
          <p:nvPr/>
        </p:nvSpPr>
        <p:spPr>
          <a:xfrm>
            <a:off x="901800" y="5734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4"/>
          <p:cNvSpPr/>
          <p:nvPr/>
        </p:nvSpPr>
        <p:spPr>
          <a:xfrm>
            <a:off x="757440" y="458136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5"/>
          <p:cNvSpPr/>
          <p:nvPr/>
        </p:nvSpPr>
        <p:spPr>
          <a:xfrm>
            <a:off x="6512760" y="45086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ізна роз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 при нагріва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пев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нтервалі темпера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користовуєтьс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готов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біметалі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Object 0" descr=""/>
          <p:cNvPicPr/>
          <p:nvPr/>
        </p:nvPicPr>
        <p:blipFill>
          <a:blip r:embed="rId5"/>
          <a:stretch/>
        </p:blipFill>
        <p:spPr>
          <a:xfrm>
            <a:off x="1116000" y="184464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0" descr="Без имени-3"/>
          <p:cNvPicPr/>
          <p:nvPr/>
        </p:nvPicPr>
        <p:blipFill>
          <a:blip r:embed="rId1"/>
          <a:stretch/>
        </p:blipFill>
        <p:spPr>
          <a:xfrm>
            <a:off x="468360" y="1671480"/>
            <a:ext cx="2921040" cy="3629160"/>
          </a:xfrm>
          <a:prstGeom prst="rect">
            <a:avLst/>
          </a:prstGeom>
          <a:ln w="0">
            <a:noFill/>
          </a:ln>
        </p:spPr>
      </p:pic>
      <p:pic>
        <p:nvPicPr>
          <p:cNvPr id="859" name="AutoShape 2" descr=""/>
          <p:cNvPicPr/>
          <p:nvPr/>
        </p:nvPicPr>
        <p:blipFill>
          <a:blip r:embed="rId2"/>
          <a:stretch/>
        </p:blipFill>
        <p:spPr>
          <a:xfrm>
            <a:off x="450720" y="-268200"/>
            <a:ext cx="8328240" cy="1811160"/>
          </a:xfrm>
          <a:prstGeom prst="rect">
            <a:avLst/>
          </a:prstGeom>
          <a:ln w="0">
            <a:noFill/>
          </a:ln>
        </p:spPr>
      </p:pic>
      <p:sp>
        <p:nvSpPr>
          <p:cNvPr id="860" name="Line 4"/>
          <p:cNvSpPr/>
          <p:nvPr/>
        </p:nvSpPr>
        <p:spPr>
          <a:xfrm flipV="1">
            <a:off x="3780000" y="2492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3564000" y="4221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761280" y="42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3710880" y="4653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342108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6307920" y="422100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6358320" y="4745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3780000" y="3645000"/>
            <a:ext cx="1152360" cy="576000"/>
          </a:xfrm>
          <a:prstGeom prst="line">
            <a:avLst/>
          </a:prstGeom>
          <a:ln w="2844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Line 14"/>
          <p:cNvGrpSpPr/>
          <p:nvPr/>
        </p:nvGrpSpPr>
        <p:grpSpPr>
          <a:xfrm>
            <a:off x="4863960" y="2876400"/>
            <a:ext cx="1500480" cy="860400"/>
            <a:chOff x="4863960" y="2876400"/>
            <a:chExt cx="1500480" cy="860400"/>
          </a:xfrm>
        </p:grpSpPr>
        <p:pic>
          <p:nvPicPr>
            <p:cNvPr id="870" name="Line 14" descr=""/>
            <p:cNvPicPr/>
            <p:nvPr/>
          </p:nvPicPr>
          <p:blipFill>
            <a:blip r:embed="rId3"/>
            <a:stretch/>
          </p:blipFill>
          <p:spPr>
            <a:xfrm>
              <a:off x="4863960" y="2876400"/>
              <a:ext cx="1500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4932000" y="36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15"/>
          <p:cNvSpPr/>
          <p:nvPr/>
        </p:nvSpPr>
        <p:spPr>
          <a:xfrm>
            <a:off x="5219640" y="350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5202720" y="416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52945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9"/>
          <p:cNvSpPr/>
          <p:nvPr/>
        </p:nvSpPr>
        <p:spPr>
          <a:xfrm>
            <a:off x="7099920" y="2852640"/>
            <a:ext cx="433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0"/>
          <p:cNvSpPr/>
          <p:nvPr/>
        </p:nvSpPr>
        <p:spPr>
          <a:xfrm>
            <a:off x="7072200" y="3162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1"/>
          <p:cNvSpPr/>
          <p:nvPr/>
        </p:nvSpPr>
        <p:spPr>
          <a:xfrm>
            <a:off x="710028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100280" y="28526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7525800" y="299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7819200" y="27813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78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77929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9"/>
          <p:cNvSpPr/>
          <p:nvPr/>
        </p:nvSpPr>
        <p:spPr>
          <a:xfrm>
            <a:off x="7819200" y="31417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7171200" y="3789360"/>
            <a:ext cx="5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752580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7730640" y="38084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73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8152560" y="380844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8526960" y="378936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 </a:t>
            </a:r>
            <a:r>
              <a:rPr b="1" lang="ru-RU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1827720" y="553716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 газу при постійному об'ємі збільшу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гріванні пропорційно температур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2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8360" y="1628640"/>
            <a:ext cx="3956040" cy="4934160"/>
          </a:xfrm>
          <a:prstGeom prst="rect">
            <a:avLst/>
          </a:prstGeom>
          <a:ln w="0">
            <a:noFill/>
          </a:ln>
        </p:spPr>
      </p:pic>
      <p:pic>
        <p:nvPicPr>
          <p:cNvPr id="891" name="AutoShape 5" descr=""/>
          <p:cNvPicPr/>
          <p:nvPr/>
        </p:nvPicPr>
        <p:blipFill>
          <a:blip r:embed="rId2"/>
          <a:stretch/>
        </p:blipFill>
        <p:spPr>
          <a:xfrm>
            <a:off x="450720" y="-182520"/>
            <a:ext cx="8242560" cy="165744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"/>
          <p:cNvSpPr/>
          <p:nvPr/>
        </p:nvSpPr>
        <p:spPr>
          <a:xfrm>
            <a:off x="4794840" y="2997360"/>
            <a:ext cx="32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я залежність покла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основу конструкції газ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- еталон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ворення температур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кал. Громіздк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межує прак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астосування термо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ього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Object 0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548080" cy="4948200"/>
          </a:xfrm>
          <a:prstGeom prst="rect">
            <a:avLst/>
          </a:prstGeom>
          <a:ln w="0">
            <a:noFill/>
          </a:ln>
        </p:spPr>
      </p:pic>
      <p:pic>
        <p:nvPicPr>
          <p:cNvPr id="894" name="AutoShape 2" descr=""/>
          <p:cNvPicPr/>
          <p:nvPr/>
        </p:nvPicPr>
        <p:blipFill>
          <a:blip r:embed="rId2"/>
          <a:stretch/>
        </p:blipFill>
        <p:spPr>
          <a:xfrm>
            <a:off x="523800" y="42840"/>
            <a:ext cx="7961400" cy="1292400"/>
          </a:xfrm>
          <a:prstGeom prst="rect">
            <a:avLst/>
          </a:prstGeom>
          <a:ln w="0">
            <a:noFill/>
          </a:ln>
        </p:spPr>
      </p:pic>
      <p:pic>
        <p:nvPicPr>
          <p:cNvPr id="895" name="Text Box 2" descr=""/>
          <p:cNvPicPr/>
          <p:nvPr/>
        </p:nvPicPr>
        <p:blipFill>
          <a:blip r:embed="rId3"/>
          <a:stretch/>
        </p:blipFill>
        <p:spPr>
          <a:xfrm>
            <a:off x="4248000" y="1438200"/>
            <a:ext cx="4962600" cy="98748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3"/>
          <p:cNvSpPr/>
          <p:nvPr/>
        </p:nvSpPr>
        <p:spPr>
          <a:xfrm>
            <a:off x="6372360" y="2708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церна г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лив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"/>
          <p:cNvSpPr/>
          <p:nvPr/>
        </p:nvSpPr>
        <p:spPr>
          <a:xfrm>
            <a:off x="4088160" y="450864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резистором називається вимірюва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ч, опір якого зміню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зміні температури. Датчики темпе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 терморезисторами називаються терм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пору. Є два види термомет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"/>
          <p:cNvSpPr/>
          <p:nvPr/>
        </p:nvSpPr>
        <p:spPr>
          <a:xfrm flipH="1">
            <a:off x="5076360" y="5877000"/>
            <a:ext cx="108108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7"/>
          <p:cNvSpPr/>
          <p:nvPr/>
        </p:nvSpPr>
        <p:spPr>
          <a:xfrm>
            <a:off x="6804000" y="5877000"/>
            <a:ext cx="115272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4502880" y="6237360"/>
            <a:ext cx="126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6886440" y="6165720"/>
            <a:ext cx="20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напівпровідник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Рисунок 12" descr="temp.jpg"/>
          <p:cNvPicPr/>
          <p:nvPr/>
        </p:nvPicPr>
        <p:blipFill>
          <a:blip r:embed="rId6"/>
          <a:stretch/>
        </p:blipFill>
        <p:spPr>
          <a:xfrm>
            <a:off x="2716200" y="2492280"/>
            <a:ext cx="36781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Object 3" descr=""/>
          <p:cNvPicPr/>
          <p:nvPr/>
        </p:nvPicPr>
        <p:blipFill>
          <a:blip r:embed="rId1"/>
          <a:stretch/>
        </p:blipFill>
        <p:spPr>
          <a:xfrm>
            <a:off x="100080" y="3141720"/>
            <a:ext cx="43894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4" name="Object 6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34040" cy="28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5" name="AutoShape 7" descr=""/>
          <p:cNvPicPr/>
          <p:nvPr/>
        </p:nvPicPr>
        <p:blipFill>
          <a:blip r:embed="rId3"/>
          <a:stretch/>
        </p:blipFill>
        <p:spPr>
          <a:xfrm>
            <a:off x="450720" y="648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9"/>
          <p:cNvSpPr/>
          <p:nvPr/>
        </p:nvSpPr>
        <p:spPr>
          <a:xfrm>
            <a:off x="489240" y="1628640"/>
            <a:ext cx="3695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ля температурного впл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 термостабілізації різ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б'єктів виготовлені програмова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ичні термостати, кам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а і хо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806000" y="4508640"/>
            <a:ext cx="355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останні роки великого по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тримали портативні електри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 і багатоканаль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функціональні мікропроцесор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utoShap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156960" cy="1701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0" descr="005"/>
          <p:cNvPicPr/>
          <p:nvPr/>
        </p:nvPicPr>
        <p:blipFill>
          <a:blip r:embed="rId2"/>
          <a:stretch/>
        </p:blipFill>
        <p:spPr>
          <a:xfrm>
            <a:off x="406440" y="2629080"/>
            <a:ext cx="55339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5" name="Picture 1" descr="002"/>
          <p:cNvPicPr/>
          <p:nvPr/>
        </p:nvPicPr>
        <p:blipFill>
          <a:blip r:embed="rId3"/>
          <a:stretch/>
        </p:blipFill>
        <p:spPr>
          <a:xfrm>
            <a:off x="6227640" y="3141720"/>
            <a:ext cx="264348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6" name="Picture 3" descr="002а"/>
          <p:cNvPicPr/>
          <p:nvPr/>
        </p:nvPicPr>
        <p:blipFill>
          <a:blip r:embed="rId4"/>
          <a:stretch/>
        </p:blipFill>
        <p:spPr>
          <a:xfrm>
            <a:off x="4859280" y="4724280"/>
            <a:ext cx="2730600" cy="19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Text Box 4"/>
          <p:cNvSpPr/>
          <p:nvPr/>
        </p:nvSpPr>
        <p:spPr>
          <a:xfrm>
            <a:off x="1116000" y="458136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дичні  і біолог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дослідження житте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37236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теоролог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0"/>
          <p:cNvSpPr/>
          <p:nvPr/>
        </p:nvSpPr>
        <p:spPr>
          <a:xfrm>
            <a:off x="1340280" y="19162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Температура  </a:t>
            </a:r>
            <a:r>
              <a:rPr b="1" lang="ru-RU" sz="2400" spc="-1" strike="noStrike" baseline="30000">
                <a:solidFill>
                  <a:srgbClr val="0536b3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Object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357640" cy="3240000"/>
          </a:xfrm>
          <a:prstGeom prst="rect">
            <a:avLst/>
          </a:prstGeom>
          <a:ln w="0">
            <a:noFill/>
          </a:ln>
        </p:spPr>
      </p:pic>
      <p:pic>
        <p:nvPicPr>
          <p:cNvPr id="909" name="AutoShape 2" descr=""/>
          <p:cNvPicPr/>
          <p:nvPr/>
        </p:nvPicPr>
        <p:blipFill>
          <a:blip r:embed="rId2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2"/>
          <p:cNvSpPr/>
          <p:nvPr/>
        </p:nvSpPr>
        <p:spPr>
          <a:xfrm>
            <a:off x="324000" y="4653000"/>
            <a:ext cx="3743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- термоелемен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ваний у вимірювальних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льних пристро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нцип дії його заснований на тому, що нагрівання або охолодження контактів між провід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Супроводжується виникне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орушійної с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4810320" y="1628640"/>
            <a:ext cx="3190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складається з дво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, зварених на од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інці. Ця частина її поміща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місці виміру темпера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ва вільні кінці підключаю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 вимірювальної схемою (мілі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ольтметр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"/>
          <p:cNvPicPr/>
          <p:nvPr/>
        </p:nvPicPr>
        <p:blipFill>
          <a:blip r:embed="rId3"/>
          <a:srcRect l="0" t="0" r="0" b="34"/>
          <a:stretch/>
        </p:blipFill>
        <p:spPr>
          <a:xfrm>
            <a:off x="4086360" y="4076640"/>
            <a:ext cx="493848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AutoShape 2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8626320" cy="1461960"/>
          </a:xfrm>
          <a:prstGeom prst="rect">
            <a:avLst/>
          </a:prstGeom>
          <a:ln w="0">
            <a:noFill/>
          </a:ln>
        </p:spPr>
      </p:pic>
      <p:sp>
        <p:nvSpPr>
          <p:cNvPr id="914" name="Rectangle 5"/>
          <p:cNvSpPr/>
          <p:nvPr/>
        </p:nvSpPr>
        <p:spPr>
          <a:xfrm>
            <a:off x="5651640" y="2565360"/>
            <a:ext cx="1944720" cy="647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5651640" y="3213000"/>
            <a:ext cx="1944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651640" y="3860640"/>
            <a:ext cx="194472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651640" y="4508640"/>
            <a:ext cx="194472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651640" y="5157720"/>
            <a:ext cx="194472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5651640" y="5805360"/>
            <a:ext cx="194472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7808760" y="263700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-55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7892640" y="33577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7893000" y="4076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7893360" y="465300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7893360" y="530064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793584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"/>
          <p:cNvSpPr/>
          <p:nvPr/>
        </p:nvSpPr>
        <p:spPr>
          <a:xfrm>
            <a:off x="7944120" y="589752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0"/>
          <p:cNvSpPr/>
          <p:nvPr/>
        </p:nvSpPr>
        <p:spPr>
          <a:xfrm>
            <a:off x="913320" y="5877000"/>
            <a:ext cx="473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свідчені майстри безпомилково визнач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мпературу нагрітого металу за його кольору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Рисунок 18" descr="p49_img_0084.jpg"/>
          <p:cNvPicPr/>
          <p:nvPr/>
        </p:nvPicPr>
        <p:blipFill>
          <a:blip r:embed="rId2"/>
          <a:stretch/>
        </p:blipFill>
        <p:spPr>
          <a:xfrm>
            <a:off x="2195640" y="1484280"/>
            <a:ext cx="3335040" cy="2503440"/>
          </a:xfrm>
          <a:prstGeom prst="rect">
            <a:avLst/>
          </a:prstGeom>
          <a:ln w="0">
            <a:noFill/>
          </a:ln>
        </p:spPr>
      </p:pic>
      <p:pic>
        <p:nvPicPr>
          <p:cNvPr id="929" name="Рисунок 19" descr="25655.jpg"/>
          <p:cNvPicPr/>
          <p:nvPr/>
        </p:nvPicPr>
        <p:blipFill>
          <a:blip r:embed="rId3"/>
          <a:stretch/>
        </p:blipFill>
        <p:spPr>
          <a:xfrm>
            <a:off x="179280" y="3645000"/>
            <a:ext cx="3380040" cy="229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"/>
          <p:cNvPicPr/>
          <p:nvPr/>
        </p:nvPicPr>
        <p:blipFill>
          <a:blip r:embed="rId1"/>
          <a:stretch/>
        </p:blipFill>
        <p:spPr>
          <a:xfrm>
            <a:off x="158760" y="2708280"/>
            <a:ext cx="432108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1" name="Picture 7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462560" cy="33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2" name="AutoShape 8" descr=""/>
          <p:cNvPicPr/>
          <p:nvPr/>
        </p:nvPicPr>
        <p:blipFill>
          <a:blip r:embed="rId3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0"/>
          <p:cNvSpPr/>
          <p:nvPr/>
        </p:nvSpPr>
        <p:spPr>
          <a:xfrm>
            <a:off x="698040" y="177336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адіаційний і мікропроцесор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іром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"/>
          <p:cNvSpPr/>
          <p:nvPr/>
        </p:nvSpPr>
        <p:spPr>
          <a:xfrm>
            <a:off x="4653000" y="4941720"/>
            <a:ext cx="418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ються в електроустановк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технологічних процесі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стану механіз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ухомого складу залізничного транспор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контролі контактних з'єдна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оенергетиц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AutoShape 5" descr=""/>
          <p:cNvPicPr/>
          <p:nvPr/>
        </p:nvPicPr>
        <p:blipFill>
          <a:blip r:embed="rId1"/>
          <a:stretch/>
        </p:blipFill>
        <p:spPr>
          <a:xfrm>
            <a:off x="146160" y="6480"/>
            <a:ext cx="8851680" cy="129852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"/>
          <p:cNvSpPr/>
          <p:nvPr/>
        </p:nvSpPr>
        <p:spPr>
          <a:xfrm>
            <a:off x="1547640" y="3357720"/>
            <a:ext cx="649440" cy="35856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1547640" y="3716280"/>
            <a:ext cx="649440" cy="216000"/>
          </a:xfrm>
          <a:prstGeom prst="rect">
            <a:avLst/>
          </a:prstGeom>
          <a:solidFill>
            <a:srgbClr val="f8eb8c"/>
          </a:solidFill>
          <a:ln w="9360">
            <a:solidFill>
              <a:srgbClr val="f8e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1547640" y="3933720"/>
            <a:ext cx="649440" cy="287280"/>
          </a:xfrm>
          <a:prstGeom prst="rect">
            <a:avLst/>
          </a:prstGeom>
          <a:solidFill>
            <a:srgbClr val="fcf6c8"/>
          </a:solidFill>
          <a:ln w="9360">
            <a:solidFill>
              <a:srgbClr val="fcf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1547640" y="4221000"/>
            <a:ext cx="649440" cy="289080"/>
          </a:xfrm>
          <a:prstGeom prst="rect">
            <a:avLst/>
          </a:prstGeom>
          <a:solidFill>
            <a:srgbClr val="ec99ff"/>
          </a:solidFill>
          <a:ln w="9360">
            <a:solidFill>
              <a:srgbClr val="e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1547640" y="4508640"/>
            <a:ext cx="64944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6"/>
          <p:cNvSpPr/>
          <p:nvPr/>
        </p:nvSpPr>
        <p:spPr>
          <a:xfrm>
            <a:off x="1476360" y="2708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476360" y="33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1476360" y="407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11600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47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"/>
          <p:cNvSpPr/>
          <p:nvPr/>
        </p:nvSpPr>
        <p:spPr>
          <a:xfrm>
            <a:off x="1476360" y="5445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5"/>
          <p:cNvSpPr/>
          <p:nvPr/>
        </p:nvSpPr>
        <p:spPr>
          <a:xfrm>
            <a:off x="1476360" y="486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1547640" y="2421000"/>
            <a:ext cx="64944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7"/>
          <p:cNvSpPr/>
          <p:nvPr/>
        </p:nvSpPr>
        <p:spPr>
          <a:xfrm>
            <a:off x="1547640" y="2924280"/>
            <a:ext cx="649440" cy="431640"/>
          </a:xfrm>
          <a:prstGeom prst="rect">
            <a:avLst/>
          </a:prstGeom>
          <a:solidFill>
            <a:srgbClr val="ff5353"/>
          </a:solidFill>
          <a:ln w="9360">
            <a:solidFill>
              <a:srgbClr val="ff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1547640" y="5661000"/>
            <a:ext cx="649440" cy="747720"/>
          </a:xfrm>
          <a:prstGeom prst="rect">
            <a:avLst/>
          </a:prstGeom>
          <a:solidFill>
            <a:srgbClr val="b36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757080" y="2492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809640" y="3112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828360" y="386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90144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973080" y="522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973080" y="587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696960" y="54450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2237760" y="262260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ература поверхні Сонця (60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2348640" y="3068640"/>
            <a:ext cx="24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заліза (18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9"/>
          <p:cNvSpPr/>
          <p:nvPr/>
        </p:nvSpPr>
        <p:spPr>
          <a:xfrm flipH="1">
            <a:off x="2195640" y="27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0"/>
          <p:cNvSpPr/>
          <p:nvPr/>
        </p:nvSpPr>
        <p:spPr>
          <a:xfrm flipH="1">
            <a:off x="2195640" y="3213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2347200" y="357336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олова (50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2346480" y="3789360"/>
            <a:ext cx="22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еня криги  (273,16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3"/>
          <p:cNvSpPr/>
          <p:nvPr/>
        </p:nvSpPr>
        <p:spPr>
          <a:xfrm flipH="1">
            <a:off x="2195640" y="3789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4"/>
          <p:cNvSpPr/>
          <p:nvPr/>
        </p:nvSpPr>
        <p:spPr>
          <a:xfrm flipH="1">
            <a:off x="2195640" y="3933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5"/>
          <p:cNvSpPr/>
          <p:nvPr/>
        </p:nvSpPr>
        <p:spPr>
          <a:xfrm>
            <a:off x="2351160" y="4076640"/>
            <a:ext cx="21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90,1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6"/>
          <p:cNvSpPr/>
          <p:nvPr/>
        </p:nvSpPr>
        <p:spPr>
          <a:xfrm flipH="1">
            <a:off x="2195640" y="4221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7"/>
          <p:cNvSpPr/>
          <p:nvPr/>
        </p:nvSpPr>
        <p:spPr>
          <a:xfrm>
            <a:off x="2352240" y="450864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20.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8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9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2195640" y="472428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1"/>
          <p:cNvSpPr/>
          <p:nvPr/>
        </p:nvSpPr>
        <p:spPr>
          <a:xfrm>
            <a:off x="2346120" y="501336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гелій (4,2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3"/>
          <p:cNvSpPr/>
          <p:nvPr/>
        </p:nvSpPr>
        <p:spPr>
          <a:xfrm flipH="1">
            <a:off x="2195640" y="5157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337840" y="5815080"/>
            <a:ext cx="571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У наукових дослідженнях температуру вимірюють за шкал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а, введеної англійським вченим В. Томсоном (лор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ом). За нуль цієї шкали прийнята точка -273,16 0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Градус Кельвіна співпадає з градусом Цельсі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Рисунок 43" descr="Thomson_2.jpeg"/>
          <p:cNvPicPr/>
          <p:nvPr/>
        </p:nvPicPr>
        <p:blipFill>
          <a:blip r:embed="rId2"/>
          <a:stretch/>
        </p:blipFill>
        <p:spPr>
          <a:xfrm>
            <a:off x="5580000" y="1557360"/>
            <a:ext cx="33782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Object 0" descr=""/>
          <p:cNvPicPr/>
          <p:nvPr/>
        </p:nvPicPr>
        <p:blipFill>
          <a:blip r:embed="rId1"/>
          <a:stretch/>
        </p:blipFill>
        <p:spPr>
          <a:xfrm>
            <a:off x="4584600" y="2647800"/>
            <a:ext cx="4334040" cy="3384720"/>
          </a:xfrm>
          <a:prstGeom prst="rect">
            <a:avLst/>
          </a:prstGeom>
          <a:ln w="0">
            <a:noFill/>
          </a:ln>
        </p:spPr>
      </p:pic>
      <p:pic>
        <p:nvPicPr>
          <p:cNvPr id="977" name="AutoShape 5" descr=""/>
          <p:cNvPicPr/>
          <p:nvPr/>
        </p:nvPicPr>
        <p:blipFill>
          <a:blip r:embed="rId2"/>
          <a:stretch/>
        </p:blipFill>
        <p:spPr>
          <a:xfrm>
            <a:off x="79200" y="42840"/>
            <a:ext cx="8912520" cy="129240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2"/>
          <p:cNvSpPr/>
          <p:nvPr/>
        </p:nvSpPr>
        <p:spPr>
          <a:xfrm>
            <a:off x="442944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8318520" y="573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4439160" y="3284640"/>
            <a:ext cx="46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4433760" y="4437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4573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5946480" y="5734080"/>
            <a:ext cx="38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7536240" y="5734080"/>
            <a:ext cx="45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9"/>
          <p:cNvSpPr/>
          <p:nvPr/>
        </p:nvSpPr>
        <p:spPr>
          <a:xfrm>
            <a:off x="558000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0"/>
          <p:cNvSpPr/>
          <p:nvPr/>
        </p:nvSpPr>
        <p:spPr>
          <a:xfrm>
            <a:off x="6372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781308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2"/>
          <p:cNvSpPr/>
          <p:nvPr/>
        </p:nvSpPr>
        <p:spPr>
          <a:xfrm>
            <a:off x="179280" y="2205000"/>
            <a:ext cx="40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Градус Кельвіна (0К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одиниця вимірювання температури по термодинамічної температурної шкалою, в якій для потрійної точки води встановлено на 273,16 0К (система СІ. ГОСТ 9867-6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Потрійний точкою води </a:t>
            </a: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називається температура, при якій всі три стани (лід, вода, пара) знаходяться в рівновазі. Це можливо при Р = 458 мм.рт.ст. і t = 0,0075 0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0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4535280" cy="3024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tw_ld"/>
          <p:cNvPicPr/>
          <p:nvPr/>
        </p:nvPicPr>
        <p:blipFill>
          <a:blip r:embed="rId2"/>
          <a:stretch/>
        </p:blipFill>
        <p:spPr>
          <a:xfrm>
            <a:off x="4788000" y="2714760"/>
            <a:ext cx="4230720" cy="2946240"/>
          </a:xfrm>
          <a:prstGeom prst="rect">
            <a:avLst/>
          </a:prstGeom>
          <a:ln w="0">
            <a:noFill/>
          </a:ln>
        </p:spPr>
      </p:pic>
      <p:pic>
        <p:nvPicPr>
          <p:cNvPr id="602" name="AutoShape 2" descr=""/>
          <p:cNvPicPr/>
          <p:nvPr/>
        </p:nvPicPr>
        <p:blipFill>
          <a:blip r:embed="rId3"/>
          <a:stretch/>
        </p:blipFill>
        <p:spPr>
          <a:xfrm>
            <a:off x="-6480" y="182520"/>
            <a:ext cx="9047160" cy="11224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828360" y="19162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536b3"/>
                </a:solidFill>
                <a:latin typeface="Arial"/>
              </a:rPr>
              <a:t>Холодильне устат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5148360" y="162864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с  Дью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ля зберіг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рідинного гел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0"/>
          <p:cNvSpPr/>
          <p:nvPr/>
        </p:nvSpPr>
        <p:spPr>
          <a:xfrm>
            <a:off x="1786680" y="595008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аукове і промислове використання зрідженного г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Содержимое 14" descr="hassanein-plasma.jpg"/>
          <p:cNvPicPr/>
          <p:nvPr/>
        </p:nvPicPr>
        <p:blipFill>
          <a:blip r:embed="rId1"/>
          <a:stretch/>
        </p:blipFill>
        <p:spPr>
          <a:xfrm>
            <a:off x="671400" y="1628640"/>
            <a:ext cx="2963880" cy="3795840"/>
          </a:xfrm>
          <a:prstGeom prst="rect">
            <a:avLst/>
          </a:prstGeom>
          <a:ln w="0">
            <a:noFill/>
          </a:ln>
        </p:spPr>
      </p:pic>
      <p:pic>
        <p:nvPicPr>
          <p:cNvPr id="607" name="AutoShape 2" descr=""/>
          <p:cNvPicPr/>
          <p:nvPr/>
        </p:nvPicPr>
        <p:blipFill>
          <a:blip r:embed="rId2"/>
          <a:stretch/>
        </p:blipFill>
        <p:spPr>
          <a:xfrm>
            <a:off x="-42840" y="146160"/>
            <a:ext cx="9406080" cy="1158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4"/>
          <p:cNvSpPr/>
          <p:nvPr/>
        </p:nvSpPr>
        <p:spPr>
          <a:xfrm>
            <a:off x="1114920" y="544500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хнологічні проце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талургії та хім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5507280" y="1628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плотехні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16" descr="teplotehnika.jpg"/>
          <p:cNvPicPr/>
          <p:nvPr/>
        </p:nvPicPr>
        <p:blipFill>
          <a:blip r:embed="rId3"/>
          <a:stretch/>
        </p:blipFill>
        <p:spPr>
          <a:xfrm>
            <a:off x="4427640" y="2060640"/>
            <a:ext cx="43956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AutoShape 2" descr=""/>
          <p:cNvPicPr/>
          <p:nvPr/>
        </p:nvPicPr>
        <p:blipFill>
          <a:blip r:embed="rId1"/>
          <a:stretch/>
        </p:blipFill>
        <p:spPr>
          <a:xfrm>
            <a:off x="171360" y="311040"/>
            <a:ext cx="8728200" cy="16034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0" descr="001"/>
          <p:cNvPicPr/>
          <p:nvPr/>
        </p:nvPicPr>
        <p:blipFill>
          <a:blip r:embed="rId2"/>
          <a:stretch/>
        </p:blipFill>
        <p:spPr>
          <a:xfrm>
            <a:off x="539640" y="2087640"/>
            <a:ext cx="431964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3" name="Text Box 4"/>
          <p:cNvSpPr/>
          <p:nvPr/>
        </p:nvSpPr>
        <p:spPr>
          <a:xfrm>
            <a:off x="842040" y="5300640"/>
            <a:ext cx="33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Астрофізичні 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086160" y="198900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ядер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Рисунок 8" descr="64746m_3.jpg"/>
          <p:cNvPicPr/>
          <p:nvPr/>
        </p:nvPicPr>
        <p:blipFill>
          <a:blip r:embed="rId3"/>
          <a:stretch/>
        </p:blipFill>
        <p:spPr>
          <a:xfrm>
            <a:off x="5003640" y="3068640"/>
            <a:ext cx="39452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9"/>
          <p:cNvSpPr/>
          <p:nvPr/>
        </p:nvSpPr>
        <p:spPr>
          <a:xfrm>
            <a:off x="4775040" y="3425760"/>
            <a:ext cx="2054520" cy="1378080"/>
          </a:xfrm>
          <a:custGeom>
            <a:avLst/>
            <a:gdLst>
              <a:gd name="textAreaLeft" fmla="*/ 0 w 2054520"/>
              <a:gd name="textAreaRight" fmla="*/ 2054880 w 20545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294" h="868">
                <a:moveTo>
                  <a:pt x="218" y="261"/>
                </a:moveTo>
                <a:cubicBezTo>
                  <a:pt x="167" y="265"/>
                  <a:pt x="114" y="264"/>
                  <a:pt x="64" y="274"/>
                </a:cubicBezTo>
                <a:cubicBezTo>
                  <a:pt x="25" y="282"/>
                  <a:pt x="0" y="376"/>
                  <a:pt x="0" y="376"/>
                </a:cubicBezTo>
                <a:cubicBezTo>
                  <a:pt x="14" y="456"/>
                  <a:pt x="38" y="530"/>
                  <a:pt x="64" y="607"/>
                </a:cubicBezTo>
                <a:cubicBezTo>
                  <a:pt x="69" y="622"/>
                  <a:pt x="77" y="637"/>
                  <a:pt x="90" y="645"/>
                </a:cubicBezTo>
                <a:cubicBezTo>
                  <a:pt x="113" y="659"/>
                  <a:pt x="166" y="671"/>
                  <a:pt x="166" y="671"/>
                </a:cubicBezTo>
                <a:cubicBezTo>
                  <a:pt x="483" y="666"/>
                  <a:pt x="935" y="868"/>
                  <a:pt x="1114" y="607"/>
                </a:cubicBezTo>
                <a:cubicBezTo>
                  <a:pt x="1150" y="490"/>
                  <a:pt x="1107" y="386"/>
                  <a:pt x="1216" y="312"/>
                </a:cubicBezTo>
                <a:cubicBezTo>
                  <a:pt x="1234" y="259"/>
                  <a:pt x="1262" y="205"/>
                  <a:pt x="1293" y="159"/>
                </a:cubicBezTo>
                <a:cubicBezTo>
                  <a:pt x="1275" y="0"/>
                  <a:pt x="1294" y="38"/>
                  <a:pt x="1139" y="18"/>
                </a:cubicBezTo>
                <a:cubicBezTo>
                  <a:pt x="1109" y="22"/>
                  <a:pt x="1079" y="22"/>
                  <a:pt x="1050" y="31"/>
                </a:cubicBezTo>
                <a:cubicBezTo>
                  <a:pt x="1035" y="35"/>
                  <a:pt x="1011" y="56"/>
                  <a:pt x="1011" y="56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"/>
          <p:cNvSpPr/>
          <p:nvPr/>
        </p:nvSpPr>
        <p:spPr>
          <a:xfrm>
            <a:off x="990720" y="3149640"/>
            <a:ext cx="2631960" cy="163656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1658" h="1031">
                <a:moveTo>
                  <a:pt x="362" y="128"/>
                </a:moveTo>
                <a:cubicBezTo>
                  <a:pt x="299" y="107"/>
                  <a:pt x="249" y="118"/>
                  <a:pt x="195" y="154"/>
                </a:cubicBezTo>
                <a:cubicBezTo>
                  <a:pt x="178" y="179"/>
                  <a:pt x="161" y="205"/>
                  <a:pt x="144" y="230"/>
                </a:cubicBezTo>
                <a:cubicBezTo>
                  <a:pt x="129" y="252"/>
                  <a:pt x="67" y="256"/>
                  <a:pt x="67" y="256"/>
                </a:cubicBezTo>
                <a:cubicBezTo>
                  <a:pt x="54" y="265"/>
                  <a:pt x="39" y="270"/>
                  <a:pt x="29" y="282"/>
                </a:cubicBezTo>
                <a:cubicBezTo>
                  <a:pt x="0" y="319"/>
                  <a:pt x="25" y="416"/>
                  <a:pt x="29" y="435"/>
                </a:cubicBezTo>
                <a:cubicBezTo>
                  <a:pt x="42" y="499"/>
                  <a:pt x="57" y="542"/>
                  <a:pt x="118" y="563"/>
                </a:cubicBezTo>
                <a:cubicBezTo>
                  <a:pt x="132" y="605"/>
                  <a:pt x="158" y="635"/>
                  <a:pt x="170" y="678"/>
                </a:cubicBezTo>
                <a:cubicBezTo>
                  <a:pt x="201" y="791"/>
                  <a:pt x="188" y="938"/>
                  <a:pt x="310" y="998"/>
                </a:cubicBezTo>
                <a:cubicBezTo>
                  <a:pt x="342" y="1014"/>
                  <a:pt x="395" y="1019"/>
                  <a:pt x="426" y="1024"/>
                </a:cubicBezTo>
                <a:cubicBezTo>
                  <a:pt x="618" y="1018"/>
                  <a:pt x="813" y="1031"/>
                  <a:pt x="1002" y="998"/>
                </a:cubicBezTo>
                <a:cubicBezTo>
                  <a:pt x="1060" y="988"/>
                  <a:pt x="1132" y="946"/>
                  <a:pt x="1181" y="922"/>
                </a:cubicBezTo>
                <a:cubicBezTo>
                  <a:pt x="1227" y="899"/>
                  <a:pt x="1283" y="913"/>
                  <a:pt x="1334" y="909"/>
                </a:cubicBezTo>
                <a:cubicBezTo>
                  <a:pt x="1411" y="870"/>
                  <a:pt x="1467" y="816"/>
                  <a:pt x="1539" y="768"/>
                </a:cubicBezTo>
                <a:cubicBezTo>
                  <a:pt x="1569" y="748"/>
                  <a:pt x="1616" y="691"/>
                  <a:pt x="1616" y="691"/>
                </a:cubicBezTo>
                <a:cubicBezTo>
                  <a:pt x="1625" y="665"/>
                  <a:pt x="1633" y="640"/>
                  <a:pt x="1642" y="614"/>
                </a:cubicBezTo>
                <a:cubicBezTo>
                  <a:pt x="1658" y="566"/>
                  <a:pt x="1636" y="512"/>
                  <a:pt x="1629" y="461"/>
                </a:cubicBezTo>
                <a:cubicBezTo>
                  <a:pt x="1623" y="418"/>
                  <a:pt x="1586" y="377"/>
                  <a:pt x="1565" y="346"/>
                </a:cubicBezTo>
                <a:cubicBezTo>
                  <a:pt x="1557" y="335"/>
                  <a:pt x="1560" y="318"/>
                  <a:pt x="1552" y="307"/>
                </a:cubicBezTo>
                <a:cubicBezTo>
                  <a:pt x="1516" y="252"/>
                  <a:pt x="1461" y="209"/>
                  <a:pt x="1424" y="154"/>
                </a:cubicBezTo>
                <a:cubicBezTo>
                  <a:pt x="1399" y="80"/>
                  <a:pt x="1390" y="54"/>
                  <a:pt x="1334" y="0"/>
                </a:cubicBezTo>
                <a:cubicBezTo>
                  <a:pt x="1113" y="13"/>
                  <a:pt x="1189" y="13"/>
                  <a:pt x="1104" y="13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4"/>
          <p:cNvSpPr/>
          <p:nvPr/>
        </p:nvSpPr>
        <p:spPr>
          <a:xfrm>
            <a:off x="1547640" y="2708280"/>
            <a:ext cx="121464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5148360" y="2781360"/>
            <a:ext cx="121428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060720" y="24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804000" y="24922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689280" y="3610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7165800" y="3716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971640" y="51786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контакті більш нагрітого тіла А з менш нагрітим тілом 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е тіло остигає, а друге нагрів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годом обидва тіла приходять у стан теплової рівнов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бто А і В стають однаково нагріт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4"/>
          <p:cNvSpPr/>
          <p:nvPr/>
        </p:nvSpPr>
        <p:spPr>
          <a:xfrm>
            <a:off x="1332000" y="357336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780000" y="3645000"/>
            <a:ext cx="914400" cy="121428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6372360" y="371628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7596360" y="3716280"/>
            <a:ext cx="914400" cy="121464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1476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3708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6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2701800" y="39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5078160" y="400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73416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788652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5078880" y="278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2702520" y="28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455840" y="55389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329480" y="5157720"/>
            <a:ext cx="645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Два тіла - А і В, кожна з яких знаходи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з третім тілом С, знаходя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один з одним. У цьому разі тіло С може служ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ладом, що вимірює ступінь нагрітості тел А і В, тобто ї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Object 0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84800" cy="4330800"/>
          </a:xfrm>
          <a:prstGeom prst="rect">
            <a:avLst/>
          </a:prstGeom>
          <a:ln w="0">
            <a:noFill/>
          </a:ln>
        </p:spPr>
      </p:pic>
      <p:pic>
        <p:nvPicPr>
          <p:cNvPr id="642" name="AutoShape 2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"/>
          <p:cNvSpPr/>
          <p:nvPr/>
        </p:nvSpPr>
        <p:spPr>
          <a:xfrm>
            <a:off x="1095480" y="2627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539640" y="3213000"/>
            <a:ext cx="463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536b3"/>
                </a:solidFill>
                <a:latin typeface="Arial"/>
              </a:rPr>
              <a:t>Температур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це внутрішній пара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системи, який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одне і те ж 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в будь-якій частині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при тепловій рівноваз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2" descr=""/>
          <p:cNvPicPr/>
          <p:nvPr/>
        </p:nvPicPr>
        <p:blipFill>
          <a:blip r:embed="rId1"/>
          <a:stretch/>
        </p:blipFill>
        <p:spPr>
          <a:xfrm>
            <a:off x="469800" y="75564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0" descr="Воронкова1"/>
          <p:cNvPicPr/>
          <p:nvPr/>
        </p:nvPicPr>
        <p:blipFill>
          <a:blip r:embed="rId2"/>
          <a:stretch/>
        </p:blipFill>
        <p:spPr>
          <a:xfrm>
            <a:off x="395280" y="3284640"/>
            <a:ext cx="1512720" cy="1828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Воронкова2"/>
          <p:cNvPicPr/>
          <p:nvPr/>
        </p:nvPicPr>
        <p:blipFill>
          <a:blip r:embed="rId3"/>
          <a:stretch/>
        </p:blipFill>
        <p:spPr>
          <a:xfrm>
            <a:off x="1908000" y="3284640"/>
            <a:ext cx="1584360" cy="1861920"/>
          </a:xfrm>
          <a:prstGeom prst="rect">
            <a:avLst/>
          </a:prstGeom>
          <a:ln w="0">
            <a:noFill/>
          </a:ln>
        </p:spPr>
      </p:pic>
      <p:pic>
        <p:nvPicPr>
          <p:cNvPr id="648" name="Object 6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1301760" cy="1457280"/>
          </a:xfrm>
          <a:prstGeom prst="rect">
            <a:avLst/>
          </a:prstGeom>
          <a:ln w="0">
            <a:noFill/>
          </a:ln>
        </p:spPr>
      </p:pic>
      <p:pic>
        <p:nvPicPr>
          <p:cNvPr id="649" name="Object 11" descr=""/>
          <p:cNvPicPr/>
          <p:nvPr/>
        </p:nvPicPr>
        <p:blipFill>
          <a:blip r:embed="rId5"/>
          <a:stretch/>
        </p:blipFill>
        <p:spPr>
          <a:xfrm>
            <a:off x="3492360" y="3716280"/>
            <a:ext cx="1300320" cy="14493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9"/>
          <p:cNvSpPr/>
          <p:nvPr/>
        </p:nvSpPr>
        <p:spPr>
          <a:xfrm>
            <a:off x="1149480" y="2421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’єму ті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1"/>
          <p:cNvSpPr/>
          <p:nvPr/>
        </p:nvSpPr>
        <p:spPr>
          <a:xfrm>
            <a:off x="197964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4"/>
          <p:cNvSpPr/>
          <p:nvPr/>
        </p:nvSpPr>
        <p:spPr>
          <a:xfrm>
            <a:off x="2916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5"/>
          <p:cNvSpPr/>
          <p:nvPr/>
        </p:nvSpPr>
        <p:spPr>
          <a:xfrm>
            <a:off x="298764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4008240" y="2367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36b3"/>
                </a:solidFill>
                <a:latin typeface="Arial"/>
              </a:rPr>
              <a:t>змі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4071960" y="28526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6324480" y="27082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електрохіміч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ара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"/>
          <p:cNvSpPr/>
          <p:nvPr/>
        </p:nvSpPr>
        <p:spPr>
          <a:xfrm flipV="1">
            <a:off x="6300720" y="3500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"/>
          <p:cNvSpPr/>
          <p:nvPr/>
        </p:nvSpPr>
        <p:spPr>
          <a:xfrm flipV="1">
            <a:off x="6300720" y="5516280"/>
            <a:ext cx="230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99472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5921640" y="33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8534160" y="54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"/>
          <p:cNvSpPr/>
          <p:nvPr/>
        </p:nvSpPr>
        <p:spPr>
          <a:xfrm flipV="1">
            <a:off x="6300720" y="378900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 flipV="1">
            <a:off x="6300720" y="4076640"/>
            <a:ext cx="158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 flipV="1">
            <a:off x="6300720" y="501300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6569640" y="366552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7506000" y="3881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8153280" y="4384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622520" y="55166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л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6"/>
          <p:cNvSpPr/>
          <p:nvPr/>
        </p:nvSpPr>
        <p:spPr>
          <a:xfrm>
            <a:off x="1403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d474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7"/>
          <p:cNvSpPr/>
          <p:nvPr/>
        </p:nvSpPr>
        <p:spPr>
          <a:xfrm>
            <a:off x="1835280" y="5950080"/>
            <a:ext cx="504720" cy="493560"/>
          </a:xfrm>
          <a:prstGeom prst="cube">
            <a:avLst>
              <a:gd name="adj" fmla="val 25000"/>
            </a:avLst>
          </a:prstGeom>
          <a:solidFill>
            <a:srgbClr val="f97c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30"/>
          <p:cNvSpPr/>
          <p:nvPr/>
        </p:nvSpPr>
        <p:spPr>
          <a:xfrm>
            <a:off x="2195640" y="5950080"/>
            <a:ext cx="576000" cy="49356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2"/>
          <p:cNvSpPr/>
          <p:nvPr/>
        </p:nvSpPr>
        <p:spPr>
          <a:xfrm>
            <a:off x="169488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3"/>
          <p:cNvSpPr/>
          <p:nvPr/>
        </p:nvSpPr>
        <p:spPr>
          <a:xfrm>
            <a:off x="219816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4"/>
          <p:cNvSpPr/>
          <p:nvPr/>
        </p:nvSpPr>
        <p:spPr>
          <a:xfrm>
            <a:off x="2630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6"/>
          <p:cNvSpPr/>
          <p:nvPr/>
        </p:nvSpPr>
        <p:spPr>
          <a:xfrm>
            <a:off x="2627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3742560" y="5667480"/>
            <a:ext cx="47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даний час для 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ристуються змінами параметрів т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зміні ступеня їх нагріт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0"/>
          <p:cNvSpPr/>
          <p:nvPr/>
        </p:nvSpPr>
        <p:spPr>
          <a:xfrm>
            <a:off x="3206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0"/>
          <p:cNvSpPr/>
          <p:nvPr/>
        </p:nvSpPr>
        <p:spPr>
          <a:xfrm>
            <a:off x="126144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9"/>
          <p:cNvSpPr/>
          <p:nvPr/>
        </p:nvSpPr>
        <p:spPr>
          <a:xfrm>
            <a:off x="307332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44:17Z</dcterms:created>
  <dc:creator>1</dc:creator>
  <dc:description/>
  <dc:language>en-US</dc:language>
  <cp:lastModifiedBy>ALEX-NANYA</cp:lastModifiedBy>
  <dcterms:modified xsi:type="dcterms:W3CDTF">2011-03-18T14:36:39Z</dcterms:modified>
  <cp:revision>144</cp:revision>
  <dc:subject/>
  <dc:title>ИЗМЕРЕНИЕ ТЕМПЕРА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f000000000001024140</vt:lpwstr>
  </property>
</Properties>
</file>