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58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49.png" ContentType="image/png"/>
  <Override PartName="/ppt/media/image65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7.png" ContentType="image/png"/>
  <Override PartName="/ppt/media/image35.jpeg" ContentType="image/jpeg"/>
  <Override PartName="/ppt/media/image9.png" ContentType="image/png"/>
  <Override PartName="/ppt/media/image22.jpeg" ContentType="image/jpeg"/>
  <Override PartName="/ppt/media/image72.gif" ContentType="image/gif"/>
  <Override PartName="/ppt/media/image24.jpeg" ContentType="image/jpeg"/>
  <Override PartName="/ppt/media/image32.jpeg" ContentType="image/jpeg"/>
  <Override PartName="/ppt/media/image1.jpeg" ContentType="image/jpeg"/>
  <Override PartName="/ppt/media/image21.png" ContentType="image/png"/>
  <Override PartName="/ppt/media/image67.jpeg" ContentType="image/jpeg"/>
  <Override PartName="/ppt/media/image19.png" ContentType="image/png"/>
  <Override PartName="/ppt/media/image64.jpeg" ContentType="image/jpeg"/>
  <Override PartName="/ppt/media/image70.png" ContentType="image/png"/>
  <Override PartName="/ppt/media/image71.jpeg" ContentType="image/jpeg"/>
  <Override PartName="/ppt/media/image73.gif" ContentType="image/gif"/>
  <Override PartName="/ppt/media/image66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40.png" ContentType="image/png"/>
  <Override PartName="/ppt/media/image69.jpeg" ContentType="image/jpeg"/>
  <Override PartName="/ppt/media/image41.png" ContentType="image/png"/>
  <Override PartName="/ppt/media/image68.jpeg" ContentType="image/jpeg"/>
  <Override PartName="/ppt/media/image31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61.jpeg" ContentType="image/jpeg"/>
  <Override PartName="/ppt/media/image74.png" ContentType="image/png"/>
  <Override PartName="/ppt/media/image27.png" ContentType="image/png"/>
  <Override PartName="/ppt/media/image60.png" ContentType="image/png"/>
  <Override PartName="/ppt/media/image5.jpeg" ContentType="image/jpeg"/>
  <Override PartName="/ppt/media/image10.jpeg" ContentType="image/jpeg"/>
  <Override PartName="/ppt/media/image63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7.jpeg" ContentType="image/jpeg"/>
  <Override PartName="/ppt/media/image16.png" ContentType="image/png"/>
  <Override PartName="/ppt/media/image12.jpeg" ContentType="image/jpeg"/>
  <Override PartName="/ppt/media/image34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17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7.png" ContentType="image/png"/>
  <Override PartName="/ppt/media/image55.jpeg" ContentType="image/jpeg"/>
  <Override PartName="/ppt/media/image43.png" ContentType="image/png"/>
  <Override PartName="/ppt/media/image56.jpeg" ContentType="image/jpeg"/>
  <Override PartName="/ppt/media/image50.gif" ContentType="image/gif"/>
  <Override PartName="/ppt/media/image5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273-BEA8-46DB-BAC6-E5C9C628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948-36C0-4196-BF42-1DDB9C6E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1968B-1F96-4998-AA6C-2505442F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31AE7-ED44-4D02-B1B7-0C42F435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54EF7-208F-4852-B2B8-29C2D34D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307CE-D494-4CF4-B38C-43538D0F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F89DF-99C0-4A81-B6C4-417D532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BFD78-1945-4480-A16C-487A3AFB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3161A-0E9F-4730-B407-BAA83C24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D1A6C-EB18-489C-B8C0-FE46D416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ADB72-DCDD-4EDB-A025-AB88C06A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85768-1B59-4A0B-AFFD-D6FB2E98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882-C9E8-41E2-AE70-725F0813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3F443-121F-4B4A-A6FC-2894121B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37265-3172-40AF-B1AD-685B13C7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A098F-D347-459D-9EC5-4EACF5F9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9051B-4192-4509-8620-5CB8BAC9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0AEB7-9142-4041-A630-B2737AE5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8B323-428B-4B06-AA2C-82C6927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B8095-B9F7-43B4-BAEE-FAB910B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884D1-C7EA-4152-9E1A-052AAEB9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B56AD-00EE-47A1-9F7D-D21399E1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CE9B3-3252-4E57-AB58-3A8CF45A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88D-749A-420D-8FC5-36068724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A78C6-FFF9-4785-8291-1D30857E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590C-CFB6-47E3-941E-67644EDB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E919-FB6B-480F-A8DC-EC45E391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41DB-12FD-44DC-8B3E-6F0BDCBF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95D6-0970-4E59-8E6C-F8E4D34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0A70-6E01-49BB-9EA4-1DBBAC92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E702-EA8B-441F-9D87-7B1813C3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A56C-8F5B-430E-B472-C1BCD44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3FF-944A-4D5D-9479-6F6CBFC9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EF2D-CFC0-478C-BBB4-2F38280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C041-CD17-4154-A8B9-0175166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3352-E6EC-496F-85BE-5999A23A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6547-E6A9-4E63-96DC-6578F069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64E1-3984-4D5D-A0E8-0C82363E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D5AF-49DB-40E2-92D6-FAD95CB2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CD89-DA37-46F1-A545-D3D03DF4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7BE8-2D2C-4A3C-BADF-912CC512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7909-7106-4B81-A572-3497E140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3892-DD19-47A3-9DF8-DFD3728F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042-92AE-4B6D-9310-C0F68FBD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BFAE-F108-4BC3-8CC7-FF8AEF8D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62DE-CD3D-4D4D-AE9D-0D87E33B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0371-1F94-47FE-9092-A62A8D1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884B-4045-487A-BFEC-64EDFF5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B838-D8D8-436F-B717-4D06D9DE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86FA-7C07-484B-81DC-9E005519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24E0-D5C6-4799-A246-A05187C8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FA0E8-F6A0-484C-A428-97CB7167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ECE38-1F63-4E4B-95F6-EDFA67F9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8E23-272E-4241-BD7F-CB2BBB55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277-8F56-4808-9682-A5A2CE3E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433D-940F-4943-85D1-9673E270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32D05-1ECF-4AFD-8D5E-E31CDDEC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65EB-A9F6-4AFD-B3BA-CE8A402F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3C95-71F9-417D-9958-26626F6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B255-232F-411B-8CC6-A26A83E9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3FC7-8A7A-43F5-9B98-E1B89D4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526B-E30F-47E3-800C-07FDF18E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5AD88-B37E-4F55-8361-3BF58EB8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C54D-F4FC-4138-9BBA-56229686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9590-B088-4363-A7E0-D2C79681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74B-D44A-406C-A39F-23307682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6229-67C9-42DC-9CE8-00782901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405B-D8DA-4A6D-9BF7-8287F80C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81CA-7005-45D0-98B6-D6F5CAF0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4435C-D83C-41A6-9781-5646054F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296A6-9AC7-4C3F-993E-D2A6F16F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97BC-0001-4E73-9455-68BDD532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928E4-6529-49A0-BF43-E0F5A00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B3775-B034-4226-A758-1B085FB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3EEED-E116-46E5-91B1-852739BF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AE68C-589D-456D-B856-48D4233F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358-2E91-48F3-8738-968606A2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4F460-1583-4BA8-BD81-6197445D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85CA-FD1F-4102-853E-713AFD7F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7AD6-6D2F-4F64-B49B-36A9C3DD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EA7E6-405A-4006-8FA9-15A4D7F2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1249-0875-4182-A7EC-0DE464FD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B5999-771D-4241-B357-CFD83D8D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44640-8320-478F-883D-E09337F5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5B865-21E1-453A-A84C-E111D61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BF17B-544A-4317-85BF-6B8B3376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A10DF-5A90-4366-9B76-93507E06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50D-1E63-4E88-8735-C49D55BA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692D-344D-49AE-9A06-B2917D2C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51BC0-D189-4B6C-9A8B-60A5CEC3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9DCB1-54A3-4E2D-9929-3E274495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2573F-CD75-424B-9F3F-5F02683D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F1C4C-392F-4E8A-9899-F637E4F5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5E995-517A-4657-8471-7A6DBBA4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1AB9A-F3E1-49F2-8FD7-22B65E01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A6FCD-A374-4925-B5B7-1BCFDCC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8F65-4662-42FF-8954-F91754D6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2F1DA-6B69-4D76-9A84-B1946E67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BAA-FC3E-4910-A7F3-2BB524D2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B34AA-C18B-41B9-9FAD-25B38A1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E78A0-94BA-45B3-96D9-AA5BC6E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9B2CE-466A-47C3-B882-674BC809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9EB86-5016-4DAF-BB35-FE6A87D7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2A78-25E4-4BE4-8166-CADA35B0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60EC3-2045-45FD-9940-4A50A341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51F9E-C737-42DA-AD86-AABFC5BE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5062F-83B8-43DE-AE19-14066E64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4DE15-E20D-4548-BDA3-931A39A0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22D25-6A47-4A06-B97A-F73091FF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835-544F-4F41-9406-0427C270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DDB26-EC92-41AF-81A9-368A03F1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FEC9B-0306-4EB9-B5DA-43623355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895B3-09A5-4700-A9B7-692B5F89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AC5B7-F5E0-4EC4-8F4A-6B9DB75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FAB4C-78A8-46A9-9AC1-3A614D6C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6E179-304A-4FF1-A734-892C3BF7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624D8-8789-4F49-B4E9-BD04DE37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75EDB-3F04-4807-A965-0FBB92CA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DD055-7833-4006-9330-F72F8455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12D7C-0DA5-4177-A8F3-5FCA0DC9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FCC5-1A77-4865-9833-F2A9D553D1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F64D-880F-4085-BAD6-2A65A102C9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51C2-BD88-4330-83B6-6168DB3998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A97E-C088-4C8D-95D7-D9F6B5246F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A560-896C-40D1-B0C6-D6F4D2206D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77BA-E6EE-4D6E-95F0-914168DB13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E3A0-69F0-4BA7-A42A-7730CF7EDB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9492-1158-4071-BD67-AC01DDBBE7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2EBB-0007-4BDE-985B-282FBAF925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B192-FF4F-406F-A94F-6D4B1D85A1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gif"/><Relationship Id="rId3" Type="http://schemas.openxmlformats.org/officeDocument/2006/relationships/image" Target="../media/image73.gif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hyperlink" Target="http://uk.wikipedia.org/wiki/&#1060;&#1072;&#1081;&#1083;:Pyramids_of_Egypt1.jpg" TargetMode="External"/><Relationship Id="rId5" Type="http://schemas.openxmlformats.org/officeDocument/2006/relationships/hyperlink" Target="http://uk.wikipedia.org/wiki/&#1060;&#1072;&#1081;&#1083;:Pyramids_of_Egypt1.jpg" TargetMode="External"/><Relationship Id="rId6" Type="http://schemas.openxmlformats.org/officeDocument/2006/relationships/hyperlink" Target="http://uk.wikipedia.org/wiki/&#1060;&#1072;&#1081;&#1083;:Pyramids_of_Egypt1.jpg" TargetMode="External"/><Relationship Id="rId7" Type="http://schemas.openxmlformats.org/officeDocument/2006/relationships/image" Target="../media/image25.jpeg"/><Relationship Id="rId8" Type="http://schemas.openxmlformats.org/officeDocument/2006/relationships/hyperlink" Target="http://uk.wikipedia.org/wiki/&#1060;&#1072;&#1081;&#1083;:Pyramids_of_Egypt1.jpg" TargetMode="External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hyperlink" Target="http://uk.wikipedia.org/wiki/&#1060;&#1072;&#1081;&#1083;:Saqqara_BW_5.jpg" TargetMode="External"/><Relationship Id="rId12" Type="http://schemas.openxmlformats.org/officeDocument/2006/relationships/hyperlink" Target="http://uk.wikipedia.org/wiki/&#1060;&#1072;&#1081;&#1083;:Saqqara_BW_5.jpg" TargetMode="External"/><Relationship Id="rId13" Type="http://schemas.openxmlformats.org/officeDocument/2006/relationships/hyperlink" Target="http://uk.wikipedia.org/wiki/&#1060;&#1072;&#1081;&#1083;:Saqqara_BW_5.jpg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uk.wikipedia.org/wiki/&#1060;&#1072;&#1081;&#1083;:Saqqara_BW_5.jpg" TargetMode="External"/><Relationship Id="rId16" Type="http://schemas.openxmlformats.org/officeDocument/2006/relationships/image" Target="../media/image26.png"/><Relationship Id="rId17" Type="http://schemas.openxmlformats.org/officeDocument/2006/relationships/image" Target="../media/image29.png"/><Relationship Id="rId18" Type="http://schemas.openxmlformats.org/officeDocument/2006/relationships/hyperlink" Target="http://uk.wikipedia.org/wiki/&#1060;&#1072;&#1081;&#1083;:Egypt.Dashur.RedPyramid.01.jpg" TargetMode="External"/><Relationship Id="rId19" Type="http://schemas.openxmlformats.org/officeDocument/2006/relationships/hyperlink" Target="http://uk.wikipedia.org/wiki/&#1060;&#1072;&#1081;&#1083;:Egypt.Dashur.RedPyramid.01.jpg" TargetMode="External"/><Relationship Id="rId20" Type="http://schemas.openxmlformats.org/officeDocument/2006/relationships/hyperlink" Target="http://uk.wikipedia.org/wiki/&#1060;&#1072;&#1081;&#1083;:Egypt.Dashur.RedPyramid.01.jpg" TargetMode="External"/><Relationship Id="rId21" Type="http://schemas.openxmlformats.org/officeDocument/2006/relationships/image" Target="../media/image30.jpeg"/><Relationship Id="rId22" Type="http://schemas.openxmlformats.org/officeDocument/2006/relationships/hyperlink" Target="http://uk.wikipedia.org/wiki/&#1060;&#1072;&#1081;&#1083;:Egypt.Dashur.RedPyramid.01.jpg" TargetMode="External"/><Relationship Id="rId23" Type="http://schemas.openxmlformats.org/officeDocument/2006/relationships/image" Target="../media/image26.png"/><Relationship Id="rId24" Type="http://schemas.openxmlformats.org/officeDocument/2006/relationships/image" Target="../media/image31.png"/><Relationship Id="rId25" Type="http://schemas.openxmlformats.org/officeDocument/2006/relationships/hyperlink" Target="http://uk.wikipedia.org/wiki/&#1060;&#1072;&#1081;&#1083;:Gizeh_Cheops_BW_1.jpg" TargetMode="External"/><Relationship Id="rId26" Type="http://schemas.openxmlformats.org/officeDocument/2006/relationships/hyperlink" Target="http://uk.wikipedia.org/wiki/&#1060;&#1072;&#1081;&#1083;:Gizeh_Cheops_BW_1.jpg" TargetMode="External"/><Relationship Id="rId27" Type="http://schemas.openxmlformats.org/officeDocument/2006/relationships/hyperlink" Target="http://uk.wikipedia.org/wiki/&#1060;&#1072;&#1081;&#1083;:Gizeh_Cheops_BW_1.jpg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uk.wikipedia.org/wiki/&#1060;&#1072;&#1081;&#1083;:Gizeh_Cheops_BW_1.jpg" TargetMode="External"/><Relationship Id="rId30" Type="http://schemas.openxmlformats.org/officeDocument/2006/relationships/image" Target="../media/image26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pn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2"/>
          <a:stretch/>
        </p:blipFill>
        <p:spPr>
          <a:xfrm>
            <a:off x="1566720" y="128520"/>
            <a:ext cx="7096320" cy="2376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Рычаг2"/>
          <p:cNvPicPr/>
          <p:nvPr/>
        </p:nvPicPr>
        <p:blipFill>
          <a:blip r:embed="rId3"/>
          <a:stretch/>
        </p:blipFill>
        <p:spPr>
          <a:xfrm>
            <a:off x="152280" y="2514600"/>
            <a:ext cx="4800600" cy="28987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2209680" y="26668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0" y="533412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4" name="Picture 7" descr="РічагСм2"/>
          <p:cNvPicPr/>
          <p:nvPr/>
        </p:nvPicPr>
        <p:blipFill>
          <a:blip r:embed="rId4"/>
          <a:stretch/>
        </p:blipFill>
        <p:spPr>
          <a:xfrm>
            <a:off x="4929120" y="3500280"/>
            <a:ext cx="4343400" cy="32068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4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4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356000" y="1557360"/>
            <a:ext cx="46087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f0"/>
                </a:solidFill>
                <a:latin typeface="Franklin Gothic Book"/>
              </a:rPr>
              <a:t>Архіме́дів гвинт — один з перших типів насосів, водопідйомна машина, вал із гвинтовою поверхнею, встановлений у похилій трубі, нижній кінець якої занурений у вод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6" name="Picture 6" descr="album_0308220619_3729"/>
          <p:cNvPicPr/>
          <p:nvPr/>
        </p:nvPicPr>
        <p:blipFill>
          <a:blip r:embed="rId3"/>
          <a:stretch/>
        </p:blipFill>
        <p:spPr>
          <a:xfrm>
            <a:off x="7885080" y="333360"/>
            <a:ext cx="863640" cy="738360"/>
          </a:xfrm>
          <a:prstGeom prst="rect">
            <a:avLst/>
          </a:prstGeom>
          <a:ln w="0">
            <a:noFill/>
          </a:ln>
        </p:spPr>
      </p:pic>
      <p:pic>
        <p:nvPicPr>
          <p:cNvPr id="537" name="Object 8" descr=""/>
          <p:cNvPicPr/>
          <p:nvPr/>
        </p:nvPicPr>
        <p:blipFill>
          <a:blip r:embed="rId4"/>
          <a:stretch/>
        </p:blipFill>
        <p:spPr>
          <a:xfrm>
            <a:off x="179280" y="1268280"/>
            <a:ext cx="410544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6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6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714920" y="1499760"/>
            <a:ext cx="39607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При обертанні (наприклад, вітряного чи іншого двигуна) гвинтова поверхня вала переміщає воду по трубі на висоту до чотирьох метрі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Гвинт дотепер використовується для підйому води в дельті Нілу в Єгипті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0" name="Object 5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3960720" cy="3527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album_0308220619_3729"/>
          <p:cNvPicPr/>
          <p:nvPr/>
        </p:nvPicPr>
        <p:blipFill>
          <a:blip r:embed="rId4"/>
          <a:stretch/>
        </p:blipFill>
        <p:spPr>
          <a:xfrm>
            <a:off x="7885080" y="333360"/>
            <a:ext cx="863640" cy="7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Rectangle 2" descr=""/>
          <p:cNvPicPr/>
          <p:nvPr/>
        </p:nvPicPr>
        <p:blipFill>
          <a:blip r:embed="rId2"/>
          <a:stretch/>
        </p:blipFill>
        <p:spPr>
          <a:xfrm>
            <a:off x="225360" y="165240"/>
            <a:ext cx="8467920" cy="12668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285800" y="1428840"/>
            <a:ext cx="460548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Franklin Gothic Book"/>
              </a:rPr>
              <a:t>Інженерний геній Архімеда з силою проявився при облозі Сіракуз, багатого торгового міста на острові Сицилія. Воїнів римського консула Марцелла було надовго затримано біля стін міста небаченими машинам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4" name="Picture 4" descr="Рисунок2"/>
          <p:cNvPicPr/>
          <p:nvPr/>
        </p:nvPicPr>
        <p:blipFill>
          <a:blip r:embed="rId3"/>
          <a:stretch/>
        </p:blipFill>
        <p:spPr>
          <a:xfrm>
            <a:off x="179280" y="1197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4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2"/>
          <a:stretch/>
        </p:blipFill>
        <p:spPr>
          <a:xfrm>
            <a:off x="5857920" y="285840"/>
            <a:ext cx="3000240" cy="3927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3"/>
          <a:stretch/>
        </p:blipFill>
        <p:spPr>
          <a:xfrm>
            <a:off x="5643720" y="4714920"/>
            <a:ext cx="3252600" cy="15717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3"/>
          <p:cNvSpPr/>
          <p:nvPr/>
        </p:nvSpPr>
        <p:spPr>
          <a:xfrm>
            <a:off x="571680" y="571680"/>
            <a:ext cx="4572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Коловорот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— </a:t>
            </a:r>
            <a:r>
              <a:rPr b="0" lang="uk-UA" sz="3200" spc="-1" strike="noStrike">
                <a:solidFill>
                  <a:srgbClr val="c00000"/>
                </a:solidFill>
                <a:latin typeface="Franklin Gothic Book"/>
              </a:rPr>
              <a:t>ручний інструмент для свердління отворів у дереві та інших м'яких матеріалів, з ручкою у вигляді скоби та патроном для за жиму свердел, та інших знарядь, які вимагають дії обертання навколо осі і тиснення уздовж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її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4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4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рямоугольник 1"/>
          <p:cNvSpPr/>
          <p:nvPr/>
        </p:nvSpPr>
        <p:spPr>
          <a:xfrm>
            <a:off x="214200" y="142920"/>
            <a:ext cx="3286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Блок - простий механічний пристрій, що дозволяє регулювати силу, вісь якого закріплена при підйомі вантажів, не піднімається і не опускається. Являє собою колесо з жолобом по колу, що обертається навколо своєї осі. Жолоб призначений для каната, ланцюга, ременя і т. п. Вісь блоку міститься в обіймах, прикріплених на балці або стіні, такий блок називається нерухомим, коли ж до цих обойма прикріплюється вантаж, і блок разом з ними може рухатися, то такий блок називається рухоми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Franklin Gothic Book"/>
              </a:rPr>
              <a:t>Нерухомий блок вживається для підйому невеликих вантажів або для зміни напрямку сили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Прямоугольник 2"/>
          <p:cNvSpPr/>
          <p:nvPr/>
        </p:nvSpPr>
        <p:spPr>
          <a:xfrm>
            <a:off x="6357960" y="214200"/>
            <a:ext cx="25718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Franklin Gothic Book"/>
              </a:rPr>
              <a:t>Рухомий блок має вільну вісь і призначений для зміни величини прикладених зусиль.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Якщо кінці мотузки, охоплюючий блок, складають з горизонтом рівні між собою кути, то діюча на вантаж сила належить до його вагою, як радіус блоку до хорди дуги, обхопленной канатом; звідси, якщо мотузки паралельні (тобто коли дуга, охоплює мотузкою, дорівнює напівокружності), то для підйому вантажу сили буде потрібно вдвічі менше, ніж вагу вантажу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2"/>
          <a:stretch/>
        </p:blipFill>
        <p:spPr>
          <a:xfrm>
            <a:off x="3454560" y="500040"/>
            <a:ext cx="2832120" cy="3263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3"/>
          <a:stretch/>
        </p:blipFill>
        <p:spPr>
          <a:xfrm>
            <a:off x="3309840" y="4214880"/>
            <a:ext cx="2905200" cy="21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2"/>
          <a:stretch/>
        </p:blipFill>
        <p:spPr>
          <a:xfrm>
            <a:off x="201600" y="85680"/>
            <a:ext cx="8491680" cy="1365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356000" y="1413000"/>
            <a:ext cx="46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Franklin Gothic Book"/>
              </a:rPr>
              <a:t>У Росії в 1654 році майстри – ливарники вилили “Цар – дзвін” масою близько 130 т. Який піднімали на дзвіницю протягом дев'яти місяців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1136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5" name="Picture 6" descr="http://upload.wikimedia.org/wikipedia/uk/thumb/6/66/Tsar_kolokol_Foto_Sherer.jpg/200px-Tsar_kolokol_Foto_Sherer.jpg"/>
          <p:cNvPicPr/>
          <p:nvPr/>
        </p:nvPicPr>
        <p:blipFill>
          <a:blip r:embed="rId3"/>
          <a:stretch/>
        </p:blipFill>
        <p:spPr>
          <a:xfrm>
            <a:off x="179280" y="1268280"/>
            <a:ext cx="4176720" cy="4969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9"/>
          <p:cNvSpPr/>
          <p:nvPr/>
        </p:nvSpPr>
        <p:spPr>
          <a:xfrm>
            <a:off x="4600440" y="354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Rectangle 2" descr=""/>
          <p:cNvPicPr/>
          <p:nvPr/>
        </p:nvPicPr>
        <p:blipFill>
          <a:blip r:embed="rId2"/>
          <a:stretch/>
        </p:blipFill>
        <p:spPr>
          <a:xfrm>
            <a:off x="1944720" y="281160"/>
            <a:ext cx="4541760" cy="11509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Який простий механізм застосовували у Єгипті під час спорудження пірамід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Які є прості механізм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Що таке важіл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Де використовують важелі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плоскогубцы"/>
          <p:cNvPicPr/>
          <p:nvPr/>
        </p:nvPicPr>
        <p:blipFill>
          <a:blip r:embed="rId2"/>
          <a:stretch/>
        </p:blipFill>
        <p:spPr>
          <a:xfrm>
            <a:off x="214200" y="4929120"/>
            <a:ext cx="2428920" cy="1811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гонд4"/>
          <p:cNvPicPr/>
          <p:nvPr/>
        </p:nvPicPr>
        <p:blipFill>
          <a:blip r:embed="rId3"/>
          <a:stretch/>
        </p:blipFill>
        <p:spPr>
          <a:xfrm>
            <a:off x="6286680" y="142920"/>
            <a:ext cx="2724120" cy="3552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весы2"/>
          <p:cNvPicPr/>
          <p:nvPr/>
        </p:nvPicPr>
        <p:blipFill>
          <a:blip r:embed="rId4"/>
          <a:stretch/>
        </p:blipFill>
        <p:spPr>
          <a:xfrm>
            <a:off x="142920" y="142920"/>
            <a:ext cx="2678040" cy="3657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тач1"/>
          <p:cNvPicPr/>
          <p:nvPr/>
        </p:nvPicPr>
        <p:blipFill>
          <a:blip r:embed="rId5"/>
          <a:stretch/>
        </p:blipFill>
        <p:spPr>
          <a:xfrm>
            <a:off x="5857920" y="4929120"/>
            <a:ext cx="3124080" cy="1800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1" descr=""/>
          <p:cNvPicPr/>
          <p:nvPr/>
        </p:nvPicPr>
        <p:blipFill>
          <a:blip r:embed="rId6"/>
          <a:stretch/>
        </p:blipFill>
        <p:spPr>
          <a:xfrm>
            <a:off x="2928960" y="2357280"/>
            <a:ext cx="3259080" cy="24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13208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5" name="Picture 6" descr="http://sp.bdpu.org/software/ph79libr/7_class/01_06_01_10.jpg"/>
          <p:cNvPicPr/>
          <p:nvPr/>
        </p:nvPicPr>
        <p:blipFill>
          <a:blip r:embed="rId2"/>
          <a:stretch/>
        </p:blipFill>
        <p:spPr>
          <a:xfrm>
            <a:off x="642960" y="1071720"/>
            <a:ext cx="7797600" cy="53830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8"/>
          <p:cNvSpPr/>
          <p:nvPr/>
        </p:nvSpPr>
        <p:spPr>
          <a:xfrm>
            <a:off x="1908000" y="26028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Franklin Gothic Book"/>
              </a:rPr>
              <a:t>Будівельні роботи колись і тепер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2" descr=""/>
          <p:cNvPicPr/>
          <p:nvPr/>
        </p:nvPicPr>
        <p:blipFill>
          <a:blip r:embed="rId2"/>
          <a:stretch/>
        </p:blipFill>
        <p:spPr>
          <a:xfrm>
            <a:off x="1676520" y="-176040"/>
            <a:ext cx="6456240" cy="10238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§</a:t>
            </a:r>
            <a:r>
              <a:rPr b="0" lang="ru-RU" sz="3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§</a:t>
            </a:r>
            <a:r>
              <a:rPr b="0" lang="ru-RU" sz="3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37.38</a:t>
            </a: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Заповнити таблиц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Приклади застосування важелів,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 ,</a:t>
            </a: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блоків, коловорот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95280" y="4000680"/>
          <a:ext cx="7848720" cy="1779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2016000"/>
                <a:gridCol w="2087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б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ехні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Шкільна майстер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и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2"/>
          <a:stretch/>
        </p:blipFill>
        <p:spPr>
          <a:xfrm>
            <a:off x="255600" y="450720"/>
            <a:ext cx="8894880" cy="11527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5"/>
          <p:cNvSpPr/>
          <p:nvPr/>
        </p:nvSpPr>
        <p:spPr>
          <a:xfrm>
            <a:off x="1443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Picture 4" descr="http://sp.bdpu.org/software/ph79libr/7_class/01_05_02_05.jpg"/>
          <p:cNvPicPr/>
          <p:nvPr/>
        </p:nvPicPr>
        <p:blipFill>
          <a:blip r:embed="rId3"/>
          <a:stretch/>
        </p:blipFill>
        <p:spPr>
          <a:xfrm>
            <a:off x="144360" y="1341360"/>
            <a:ext cx="3203640" cy="1656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6"/>
          <p:cNvSpPr/>
          <p:nvPr/>
        </p:nvSpPr>
        <p:spPr>
          <a:xfrm>
            <a:off x="250920" y="31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Ножиці садові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42958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0" name="Picture 7" descr="http://sp.bdpu.org/software/ph79libr/7_class/01_05_02_04.jpg"/>
          <p:cNvPicPr/>
          <p:nvPr/>
        </p:nvPicPr>
        <p:blipFill>
          <a:blip r:embed="rId4"/>
          <a:stretch/>
        </p:blipFill>
        <p:spPr>
          <a:xfrm>
            <a:off x="4859280" y="1484280"/>
            <a:ext cx="2665440" cy="18003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9"/>
          <p:cNvSpPr/>
          <p:nvPr/>
        </p:nvSpPr>
        <p:spPr>
          <a:xfrm>
            <a:off x="4572000" y="3357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Ручні галь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7053120" y="25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3" name="Picture 10" descr="http://sp.bdpu.org/software/ph79libr/7_class/01_05_02_08.jpg"/>
          <p:cNvPicPr/>
          <p:nvPr/>
        </p:nvPicPr>
        <p:blipFill>
          <a:blip r:embed="rId5"/>
          <a:stretch/>
        </p:blipFill>
        <p:spPr>
          <a:xfrm>
            <a:off x="6300720" y="371628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3" descr="01_05_02_07"/>
          <p:cNvPicPr/>
          <p:nvPr/>
        </p:nvPicPr>
        <p:blipFill>
          <a:blip r:embed="rId6"/>
          <a:stretch/>
        </p:blipFill>
        <p:spPr>
          <a:xfrm>
            <a:off x="1258920" y="3860640"/>
            <a:ext cx="3095640" cy="237672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4"/>
          <p:cNvSpPr/>
          <p:nvPr/>
        </p:nvSpPr>
        <p:spPr>
          <a:xfrm>
            <a:off x="826920" y="6381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Журавел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6156360" y="544500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ередавальний механізм велосипед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album_0308100613_3102"/>
          <p:cNvPicPr/>
          <p:nvPr/>
        </p:nvPicPr>
        <p:blipFill>
          <a:blip r:embed="rId2"/>
          <a:stretch/>
        </p:blipFill>
        <p:spPr>
          <a:xfrm>
            <a:off x="6659640" y="3860640"/>
            <a:ext cx="1944720" cy="2376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album_0308172145_5623"/>
          <p:cNvPicPr/>
          <p:nvPr/>
        </p:nvPicPr>
        <p:blipFill>
          <a:blip r:embed="rId3"/>
          <a:stretch/>
        </p:blipFill>
        <p:spPr>
          <a:xfrm>
            <a:off x="684360" y="260280"/>
            <a:ext cx="934920" cy="1440000"/>
          </a:xfrm>
          <a:prstGeom prst="rect">
            <a:avLst/>
          </a:prstGeom>
          <a:ln w="0">
            <a:noFill/>
          </a:ln>
        </p:spPr>
      </p:pic>
      <p:pic>
        <p:nvPicPr>
          <p:cNvPr id="572" name="Прямоугольник 4" descr=""/>
          <p:cNvPicPr/>
          <p:nvPr/>
        </p:nvPicPr>
        <p:blipFill>
          <a:blip r:embed="rId4"/>
          <a:stretch/>
        </p:blipFill>
        <p:spPr>
          <a:xfrm>
            <a:off x="152280" y="1438200"/>
            <a:ext cx="84250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10" descr=""/>
          <p:cNvPicPr/>
          <p:nvPr/>
        </p:nvPicPr>
        <p:blipFill>
          <a:blip r:embed="rId2"/>
          <a:stretch/>
        </p:blipFill>
        <p:spPr>
          <a:xfrm>
            <a:off x="165240" y="2408400"/>
            <a:ext cx="3840120" cy="1036440"/>
          </a:xfrm>
          <a:prstGeom prst="rect">
            <a:avLst/>
          </a:prstGeom>
          <a:ln w="0">
            <a:noFill/>
          </a:ln>
        </p:spPr>
      </p:pic>
      <p:pic>
        <p:nvPicPr>
          <p:cNvPr id="468" name="Rectangle 8" descr=""/>
          <p:cNvPicPr/>
          <p:nvPr/>
        </p:nvPicPr>
        <p:blipFill>
          <a:blip r:embed="rId3"/>
          <a:stretch/>
        </p:blipFill>
        <p:spPr>
          <a:xfrm>
            <a:off x="1895400" y="579600"/>
            <a:ext cx="5280120" cy="699840"/>
          </a:xfrm>
          <a:prstGeom prst="rect">
            <a:avLst/>
          </a:prstGeom>
          <a:ln w="0">
            <a:noFill/>
          </a:ln>
        </p:spPr>
      </p:pic>
      <p:pic>
        <p:nvPicPr>
          <p:cNvPr id="469" name="Rectangle 11" descr=""/>
          <p:cNvPicPr/>
          <p:nvPr/>
        </p:nvPicPr>
        <p:blipFill>
          <a:blip r:embed="rId4"/>
          <a:stretch/>
        </p:blipFill>
        <p:spPr>
          <a:xfrm>
            <a:off x="4346640" y="2408400"/>
            <a:ext cx="4632120" cy="1036440"/>
          </a:xfrm>
          <a:prstGeom prst="rect">
            <a:avLst/>
          </a:prstGeom>
          <a:ln w="0">
            <a:noFill/>
          </a:ln>
        </p:spPr>
      </p:pic>
      <p:sp>
        <p:nvSpPr>
          <p:cNvPr id="470" name="Line 12"/>
          <p:cNvSpPr/>
          <p:nvPr/>
        </p:nvSpPr>
        <p:spPr>
          <a:xfrm flipH="1">
            <a:off x="2268360" y="1268280"/>
            <a:ext cx="2159280" cy="115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Line 13"/>
          <p:cNvSpPr/>
          <p:nvPr/>
        </p:nvSpPr>
        <p:spPr>
          <a:xfrm>
            <a:off x="4427640" y="1268280"/>
            <a:ext cx="2232000" cy="115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2" name="Rectangle 14" descr=""/>
          <p:cNvPicPr/>
          <p:nvPr/>
        </p:nvPicPr>
        <p:blipFill>
          <a:blip r:embed="rId5"/>
          <a:stretch/>
        </p:blipFill>
        <p:spPr>
          <a:xfrm>
            <a:off x="189000" y="4243320"/>
            <a:ext cx="1620720" cy="809640"/>
          </a:xfrm>
          <a:prstGeom prst="rect">
            <a:avLst/>
          </a:prstGeom>
          <a:ln w="0">
            <a:noFill/>
          </a:ln>
        </p:spPr>
      </p:pic>
      <p:pic>
        <p:nvPicPr>
          <p:cNvPr id="473" name="Rectangle 15" descr=""/>
          <p:cNvPicPr/>
          <p:nvPr/>
        </p:nvPicPr>
        <p:blipFill>
          <a:blip r:embed="rId6"/>
          <a:stretch/>
        </p:blipFill>
        <p:spPr>
          <a:xfrm>
            <a:off x="2127240" y="4352760"/>
            <a:ext cx="2011320" cy="669960"/>
          </a:xfrm>
          <a:prstGeom prst="rect">
            <a:avLst/>
          </a:prstGeom>
          <a:ln w="0">
            <a:noFill/>
          </a:ln>
        </p:spPr>
      </p:pic>
      <p:sp>
        <p:nvSpPr>
          <p:cNvPr id="474" name="Line 16"/>
          <p:cNvSpPr/>
          <p:nvPr/>
        </p:nvSpPr>
        <p:spPr>
          <a:xfrm flipH="1">
            <a:off x="971640" y="3429000"/>
            <a:ext cx="10792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Line 17"/>
          <p:cNvSpPr/>
          <p:nvPr/>
        </p:nvSpPr>
        <p:spPr>
          <a:xfrm>
            <a:off x="2050920" y="3429000"/>
            <a:ext cx="10810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6" name="Rectangle 18" descr=""/>
          <p:cNvPicPr/>
          <p:nvPr/>
        </p:nvPicPr>
        <p:blipFill>
          <a:blip r:embed="rId7"/>
          <a:stretch/>
        </p:blipFill>
        <p:spPr>
          <a:xfrm>
            <a:off x="4413240" y="4243320"/>
            <a:ext cx="2116080" cy="809640"/>
          </a:xfrm>
          <a:prstGeom prst="rect">
            <a:avLst/>
          </a:prstGeom>
          <a:ln w="0">
            <a:noFill/>
          </a:ln>
        </p:spPr>
      </p:pic>
      <p:pic>
        <p:nvPicPr>
          <p:cNvPr id="477" name="Rectangle 19" descr=""/>
          <p:cNvPicPr/>
          <p:nvPr/>
        </p:nvPicPr>
        <p:blipFill>
          <a:blip r:embed="rId8"/>
          <a:stretch/>
        </p:blipFill>
        <p:spPr>
          <a:xfrm>
            <a:off x="7010280" y="4254480"/>
            <a:ext cx="1895760" cy="774720"/>
          </a:xfrm>
          <a:prstGeom prst="rect">
            <a:avLst/>
          </a:prstGeom>
          <a:ln w="0">
            <a:noFill/>
          </a:ln>
        </p:spPr>
      </p:pic>
      <p:sp>
        <p:nvSpPr>
          <p:cNvPr id="478" name="Line 21"/>
          <p:cNvSpPr/>
          <p:nvPr/>
        </p:nvSpPr>
        <p:spPr>
          <a:xfrm flipH="1">
            <a:off x="5435280" y="3429000"/>
            <a:ext cx="136836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Line 22"/>
          <p:cNvSpPr/>
          <p:nvPr/>
        </p:nvSpPr>
        <p:spPr>
          <a:xfrm>
            <a:off x="6804000" y="3429000"/>
            <a:ext cx="115272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2"/>
          <a:stretch/>
        </p:blipFill>
        <p:spPr>
          <a:xfrm>
            <a:off x="4900680" y="2408400"/>
            <a:ext cx="4024080" cy="26510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пирамиды1"/>
          <p:cNvPicPr/>
          <p:nvPr/>
        </p:nvPicPr>
        <p:blipFill>
          <a:blip r:embed="rId3"/>
          <a:stretch/>
        </p:blipFill>
        <p:spPr>
          <a:xfrm>
            <a:off x="2357280" y="2571840"/>
            <a:ext cx="2943360" cy="200016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0" y="-128520"/>
            <a:ext cx="1585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3" name="Picture 4" descr="http://upload.wikimedia.org/wikipedia/commons/thumb/5/53/Pyramids_of_Egypt1.jpg/220px-Pyramids_of_Egypt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2920" y="142920"/>
            <a:ext cx="2095560" cy="1371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http://bits.wikimedia.org/skins-1.5/common/images/magnify-clip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4200" y="10717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85" name="Прямоугольник 8" descr=""/>
          <p:cNvPicPr/>
          <p:nvPr/>
        </p:nvPicPr>
        <p:blipFill>
          <a:blip r:embed="rId10"/>
          <a:stretch/>
        </p:blipFill>
        <p:spPr>
          <a:xfrm>
            <a:off x="-55440" y="1468440"/>
            <a:ext cx="2743200" cy="4096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6"/>
          <p:cNvSpPr/>
          <p:nvPr/>
        </p:nvSpPr>
        <p:spPr>
          <a:xfrm>
            <a:off x="0" y="18360"/>
            <a:ext cx="9144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11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12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7" name="Picture 7" descr="http://upload.wikimedia.org/wikipedia/commons/thumb/6/60/Saqqara_BW_5.jpg/220px-Saqqara_BW_5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29280" y="4643280"/>
            <a:ext cx="2095560" cy="14004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http://bits.wikimedia.org/skins-1.5/common/images/magnify-clip.pn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55520" y="3967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12" descr=""/>
          <p:cNvPicPr/>
          <p:nvPr/>
        </p:nvPicPr>
        <p:blipFill>
          <a:blip r:embed="rId17"/>
          <a:stretch/>
        </p:blipFill>
        <p:spPr>
          <a:xfrm>
            <a:off x="6827760" y="6016680"/>
            <a:ext cx="2359080" cy="7081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9"/>
          <p:cNvSpPr/>
          <p:nvPr/>
        </p:nvSpPr>
        <p:spPr>
          <a:xfrm>
            <a:off x="0" y="-127800"/>
            <a:ext cx="158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8"/>
              </a:rPr>
              <a:t>  </a:t>
            </a:r>
            <a:r>
              <a:rPr b="0" lang="ru-RU" sz="9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9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1" name="Picture 10" descr="http://upload.wikimedia.org/wikipedia/commons/thumb/4/4c/Egypt.Dashur.RedPyramid.01.jpg/220px-Egypt.Dashur.RedPyramid.01.jp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14200" y="47149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1" descr="http://bits.wikimedia.org/skins-1.5/common/images/magnify-clip.pn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55520" y="4795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93" name="Прямоугольник 16" descr=""/>
          <p:cNvPicPr/>
          <p:nvPr/>
        </p:nvPicPr>
        <p:blipFill>
          <a:blip r:embed="rId24"/>
          <a:stretch/>
        </p:blipFill>
        <p:spPr>
          <a:xfrm>
            <a:off x="-103320" y="6156360"/>
            <a:ext cx="3359160" cy="51912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2"/>
          <p:cNvSpPr/>
          <p:nvPr/>
        </p:nvSpPr>
        <p:spPr>
          <a:xfrm>
            <a:off x="0" y="-128520"/>
            <a:ext cx="1585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25"/>
              </a:rPr>
              <a:t>  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26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5" name="Picture 13" descr="http://upload.wikimedia.org/wikipedia/commons/thumb/d/d1/Gizeh_Cheops_BW_1.jpg/220px-Gizeh_Cheops_BW_1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929280" y="142920"/>
            <a:ext cx="2095560" cy="1400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4" descr="http://bits.wikimedia.org/skins-1.5/common/images/magnify-clip.pn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55520" y="3967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97" name="Прямоугольник 20" descr=""/>
          <p:cNvPicPr/>
          <p:nvPr/>
        </p:nvPicPr>
        <p:blipFill>
          <a:blip r:embed="rId31"/>
          <a:stretch/>
        </p:blipFill>
        <p:spPr>
          <a:xfrm>
            <a:off x="6303960" y="1511280"/>
            <a:ext cx="27734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6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Rectangle 2" descr=""/>
          <p:cNvPicPr/>
          <p:nvPr/>
        </p:nvPicPr>
        <p:blipFill>
          <a:blip r:embed="rId2"/>
          <a:stretch/>
        </p:blipFill>
        <p:spPr>
          <a:xfrm>
            <a:off x="-291960" y="-30240"/>
            <a:ext cx="8528040" cy="15177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0328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Піраміда була побудована XVII столітті до н. е. Припускають, що будівництво тривало 23 ро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Збудовано її з 2300 тисяч кам'яних плит масою 2,5 т кожн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Висота піраміди становила близько 147 метрі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На думку Геродота, який першим докладно описав піраміди, на будівництві піраміди Хеопса було зайнято сто тисяч рабі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0" name="Picture 12" descr="180px-Pyramide_Kheops"/>
          <p:cNvPicPr/>
          <p:nvPr/>
        </p:nvPicPr>
        <p:blipFill>
          <a:blip r:embed="rId3"/>
          <a:stretch/>
        </p:blipFill>
        <p:spPr>
          <a:xfrm>
            <a:off x="142920" y="1357200"/>
            <a:ext cx="475308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2"/>
          <a:stretch/>
        </p:blipFill>
        <p:spPr>
          <a:xfrm>
            <a:off x="907920" y="-122400"/>
            <a:ext cx="8242560" cy="1884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6" descr="РічагСм"/>
          <p:cNvPicPr/>
          <p:nvPr/>
        </p:nvPicPr>
        <p:blipFill>
          <a:blip r:embed="rId3"/>
          <a:stretch/>
        </p:blipFill>
        <p:spPr>
          <a:xfrm>
            <a:off x="1000080" y="1143000"/>
            <a:ext cx="7315200" cy="52563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8"/>
          <p:cNvSpPr/>
          <p:nvPr/>
        </p:nvSpPr>
        <p:spPr>
          <a:xfrm>
            <a:off x="10666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3857760" y="5072040"/>
            <a:ext cx="990360" cy="914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3357720" y="4500720"/>
            <a:ext cx="0" cy="129528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1523880" y="5029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72388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6858000" y="5181480"/>
            <a:ext cx="0" cy="129564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685800" y="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1"/>
          <p:cNvPicPr/>
          <p:nvPr/>
        </p:nvPicPr>
        <p:blipFill>
          <a:blip r:embed="rId2"/>
          <a:stretch/>
        </p:blipFill>
        <p:spPr>
          <a:xfrm>
            <a:off x="1981080" y="1066680"/>
            <a:ext cx="6324840" cy="5083200"/>
          </a:xfrm>
          <a:prstGeom prst="rect">
            <a:avLst/>
          </a:prstGeom>
          <a:ln w="0">
            <a:noFill/>
          </a:ln>
        </p:spPr>
      </p:pic>
      <p:sp>
        <p:nvSpPr>
          <p:cNvPr id="511" name="Line 11"/>
          <p:cNvSpPr/>
          <p:nvPr/>
        </p:nvSpPr>
        <p:spPr>
          <a:xfrm>
            <a:off x="5181480" y="5562720"/>
            <a:ext cx="0" cy="129528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42670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Line 13"/>
          <p:cNvSpPr/>
          <p:nvPr/>
        </p:nvSpPr>
        <p:spPr>
          <a:xfrm flipV="1">
            <a:off x="4038480" y="2971440"/>
            <a:ext cx="0" cy="20574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3352680" y="2209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Line 15"/>
          <p:cNvSpPr/>
          <p:nvPr/>
        </p:nvSpPr>
        <p:spPr>
          <a:xfrm flipH="1" flipV="1">
            <a:off x="5791320" y="5638320"/>
            <a:ext cx="1218960" cy="3812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8672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0" y="304920"/>
            <a:ext cx="8143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c000"/>
                </a:solidFill>
                <a:latin typeface="Arial"/>
              </a:rPr>
              <a:t>Важіль ІІ роду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Rectangle 2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2016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858920" y="1125000"/>
            <a:ext cx="40338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Відкрив закони важел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Йому належить крилатий ви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лів "</a:t>
            </a:r>
            <a:r>
              <a:rPr b="1" i="1" lang="uk-UA" sz="3200" spc="-1" strike="noStrike">
                <a:solidFill>
                  <a:srgbClr val="9966ff"/>
                </a:solidFill>
                <a:latin typeface="Franklin Gothic Book"/>
              </a:rPr>
              <a:t>Дайте мені точку опори, і я переверну  Землю</a:t>
            </a:r>
            <a:r>
              <a:rPr b="1" i="1" lang="uk-UA" sz="3200" spc="-1" strike="noStrike">
                <a:solidFill>
                  <a:srgbClr val="4e3b30"/>
                </a:solidFill>
                <a:latin typeface="Franklin Gothic Book"/>
              </a:rPr>
              <a:t>"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0" name="Object 4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4464000" cy="46087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539640" y="611568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(287 до н.е. - 212 до н.е.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3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2"/>
          <a:stretch/>
        </p:blipFill>
        <p:spPr>
          <a:xfrm>
            <a:off x="1420920" y="-6480"/>
            <a:ext cx="6815160" cy="13654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15a-i1"/>
          <p:cNvPicPr/>
          <p:nvPr/>
        </p:nvPicPr>
        <p:blipFill>
          <a:blip r:embed="rId3"/>
          <a:stretch/>
        </p:blipFill>
        <p:spPr>
          <a:xfrm>
            <a:off x="0" y="1628640"/>
            <a:ext cx="2957400" cy="18734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15a-i2"/>
          <p:cNvPicPr/>
          <p:nvPr/>
        </p:nvPicPr>
        <p:blipFill>
          <a:blip r:embed="rId4"/>
          <a:stretch/>
        </p:blipFill>
        <p:spPr>
          <a:xfrm>
            <a:off x="5867280" y="1773360"/>
            <a:ext cx="3276720" cy="1944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15a-i3"/>
          <p:cNvPicPr/>
          <p:nvPr/>
        </p:nvPicPr>
        <p:blipFill>
          <a:blip r:embed="rId5"/>
          <a:stretch/>
        </p:blipFill>
        <p:spPr>
          <a:xfrm>
            <a:off x="0" y="443700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колесо"/>
          <p:cNvPicPr/>
          <p:nvPr/>
        </p:nvPicPr>
        <p:blipFill>
          <a:blip r:embed="rId6"/>
          <a:stretch/>
        </p:blipFill>
        <p:spPr>
          <a:xfrm>
            <a:off x="6119640" y="5013360"/>
            <a:ext cx="3024360" cy="16574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6"/>
          <p:cNvSpPr/>
          <p:nvPr/>
        </p:nvSpPr>
        <p:spPr>
          <a:xfrm>
            <a:off x="324000" y="1125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Franklin Gothic Book"/>
              </a:rPr>
              <a:t>клин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5148360" y="126828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похила площин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250920" y="3933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Franklin Gothic Book"/>
              </a:rPr>
              <a:t>гвин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5164200" y="428292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7380360" y="4581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anklin Gothic Book"/>
              </a:rPr>
              <a:t>колес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2" name="Object 13" descr=""/>
          <p:cNvPicPr/>
          <p:nvPr/>
        </p:nvPicPr>
        <p:blipFill>
          <a:blip r:embed="rId7"/>
          <a:stretch/>
        </p:blipFill>
        <p:spPr>
          <a:xfrm>
            <a:off x="3348000" y="3573360"/>
            <a:ext cx="2963880" cy="190512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14"/>
          <p:cNvSpPr/>
          <p:nvPr/>
        </p:nvSpPr>
        <p:spPr>
          <a:xfrm>
            <a:off x="3635280" y="3068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коловоро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2:43:34Z</dcterms:created>
  <dc:creator>XTreme</dc:creator>
  <dc:description/>
  <dc:language>en-US</dc:language>
  <cp:lastModifiedBy>Admin</cp:lastModifiedBy>
  <dcterms:modified xsi:type="dcterms:W3CDTF">2011-03-12T09:44:46Z</dcterms:modified>
  <cp:revision>41</cp:revision>
  <dc:subject/>
  <dc:title>Урок на тему:  « Машини та механізми Прості механізм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48000000000001024140</vt:lpwstr>
  </property>
</Properties>
</file>