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57.jpeg" ContentType="image/jpeg"/>
  <Override PartName="/ppt/media/image63.png" ContentType="image/png"/>
  <Override PartName="/ppt/media/image54.png" ContentType="image/png"/>
  <Override PartName="/ppt/media/image53.jpeg" ContentType="image/jpeg"/>
  <Override PartName="/ppt/media/image50.jpeg" ContentType="image/jpeg"/>
  <Override PartName="/ppt/media/image49.wmf" ContentType="image/x-wmf"/>
  <Override PartName="/ppt/media/image46.jpeg" ContentType="image/jpeg"/>
  <Override PartName="/ppt/media/image44.gif" ContentType="image/gif"/>
  <Override PartName="/ppt/media/image43.gif" ContentType="image/gif"/>
  <Override PartName="/ppt/media/image42.gif" ContentType="image/gif"/>
  <Override PartName="/ppt/media/CAMERA.WAV" ContentType="audio/x-wav"/>
  <Override PartName="/ppt/media/image41.gif" ContentType="image/gif"/>
  <Override PartName="/ppt/media/image55.wmf" ContentType="image/x-wmf"/>
  <Override PartName="/ppt/media/image6.jpeg" ContentType="image/jpeg"/>
  <Override PartName="/ppt/media/image36.gif" ContentType="image/gif"/>
  <Override PartName="/ppt/media/image21.jpeg" ContentType="image/jpeg"/>
  <Override PartName="/ppt/media/image65.png" ContentType="image/png"/>
  <Override PartName="/ppt/media/image9.png" ContentType="image/png"/>
  <Override PartName="/ppt/media/image22.jpeg" ContentType="image/jpeg"/>
  <Override PartName="/ppt/media/image51.jpeg" ContentType="image/jpeg"/>
  <Override PartName="/ppt/media/image27.gif" ContentType="image/gif"/>
  <Override PartName="/ppt/media/image52.wmf" ContentType="image/x-wmf"/>
  <Override PartName="/ppt/media/image12.png" ContentType="image/png"/>
  <Override PartName="/ppt/media/image23.jpeg" ContentType="image/jpeg"/>
  <Override PartName="/ppt/media/image15.png" ContentType="image/png"/>
  <Override PartName="/ppt/media/image3.png" ContentType="image/png"/>
  <Override PartName="/ppt/media/image40.gif" ContentType="image/gif"/>
  <Override PartName="/ppt/media/image61.jpeg" ContentType="image/jpeg"/>
  <Override PartName="/ppt/media/image8.wmf" ContentType="image/x-wmf"/>
  <Override PartName="/ppt/media/image4.jpeg" ContentType="image/jpeg"/>
  <Override PartName="/ppt/media/image69.gif" ContentType="image/gif"/>
  <Override PartName="/ppt/media/image19.jpeg" ContentType="image/jpeg"/>
  <Override PartName="/ppt/media/image32.gif" ContentType="image/gif"/>
  <Override PartName="/ppt/media/image16.png" ContentType="image/png"/>
  <Override PartName="/ppt/media/image60.jpeg" ContentType="image/jpeg"/>
  <Override PartName="/ppt/media/image67.jpeg" ContentType="image/jpeg"/>
  <Override PartName="/ppt/media/image18.png" ContentType="image/png"/>
  <Override PartName="/ppt/media/image59.jpeg" ContentType="image/jpeg"/>
  <Override PartName="/ppt/media/image28.gif" ContentType="image/gif"/>
  <Override PartName="/ppt/media/image66.png" ContentType="image/png"/>
  <Override PartName="/ppt/media/image68.gif" ContentType="image/gif"/>
  <Override PartName="/ppt/media/image31.gif" ContentType="image/gif"/>
  <Override PartName="/ppt/media/image39.gif" ContentType="image/gif"/>
  <Override PartName="/ppt/media/image64.wmf" ContentType="image/x-wmf"/>
  <Override PartName="/ppt/media/image62.jpeg" ContentType="image/jpeg"/>
  <Override PartName="/ppt/media/image5.jpeg" ContentType="image/jpeg"/>
  <Override PartName="/ppt/media/image48.wmf" ContentType="image/x-wmf"/>
  <Override PartName="/ppt/media/image58.jpeg" ContentType="image/jpeg"/>
  <Override PartName="/ppt/media/image70.png" ContentType="image/png"/>
  <Override PartName="/ppt/media/image35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1.png" ContentType="image/png"/>
  <Override PartName="/ppt/media/image13.png" ContentType="image/png"/>
  <Override PartName="/ppt/media/image45.wmf" ContentType="image/x-wmf"/>
  <Override PartName="/ppt/media/image14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WHOOSH.WAV" ContentType="audio/x-wav"/>
  <Override PartName="/ppt/media/image11.png" ContentType="image/pn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5.jpeg" ContentType="image/jpeg"/>
  <Override PartName="/ppt/media/image37.gif" ContentType="image/gif"/>
  <Override PartName="/ppt/media/image33.gif" ContentType="image/gif"/>
  <Override PartName="/ppt/media/image34.gif" ContentType="image/gif"/>
  <Override PartName="/ppt/media/image3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8FC-C150-4E9E-B5B6-E7C3658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7C3-E777-4ABD-97D2-44EC5C2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4F0-119E-4EB4-BC54-75D41AF8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9A0-3E70-4454-A790-47C89403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3891-66E2-4945-BECC-E7B2AFB3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F3DC-597A-4B73-BD25-D3643294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1991-1AA1-4FA9-8850-0DF60A0D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269C-3FB3-40DB-8940-592322B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2F5-DA07-4E90-B26C-A3B2EC4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F1D-1164-465B-B23F-7A74C9D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9884-9C25-434B-999D-C832F24F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C40-BCF4-42E7-B7F4-BF747F0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2667-3C88-4706-9C72-21107A1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9A9F-6E69-4AB5-B834-4A316B6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A065-5D02-43A0-AA2C-71F46BE4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831A-7D38-4995-B4FD-360C34C1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0546-8323-4DAC-B4F0-E664C206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AF1C-BF6D-4F3B-A25E-D3DC7D57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0B08-3DA9-4F77-9AC4-9B5369A8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8A24-92EF-4E37-BDD8-6FD58D1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7166-7D57-4FB6-B415-7083253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C4F4-2E4A-44C7-9CDE-B365F8B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57C-8C42-4816-9443-6551EE2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A59C-4233-4184-99A3-3C47674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F37D-09F7-4C6D-9AB7-B223010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7154-1361-4B77-9B6A-16D700F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5186-122E-45F8-B757-EAF3DEE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1381-87A7-445E-A782-92E1C3C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FDC4-B07B-4A5A-B6A1-A76A67F2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6776-2694-4921-88E9-09F31385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26C4-318F-4425-8F4E-B77AD832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1484-AEF2-45A4-89AD-D8BB79E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ED52-DC73-4381-9FD0-3A12460B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24A-E45A-492B-AB40-76F0C192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E477-A4B6-47E7-B5F7-43D6232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2907-2253-40B0-A5F9-8F3FE744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BDFE-6ED3-41AC-9990-62295D4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048B-5BB3-446E-8D53-90D8927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F08D-65D9-4C38-8822-EAB88F2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4E6A-A010-486A-B82C-87C7C0E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5918-00F9-4AB0-BF9C-349C6810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DAA6-647F-43B3-BE79-8136402C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26B74-C694-4CED-B927-98B12975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6B6D-B14D-4277-8C78-3222F36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646-3510-43EF-A154-D0606EAD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BD6E-E58A-44EE-9427-1663EA77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7B748-D790-461A-B115-A0B4C17F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6D07-1016-43F4-A229-DFE56B0C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76C8-BBA3-4CEF-A519-7442820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9C9C-26E2-46CA-8C02-D84D2D6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3D9F-FCEC-4075-A395-F2CE818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7286-8A64-490C-8198-C215AF4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D6BF-05C6-4553-BD19-2B9254B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0D38-AE33-4AB0-A3DE-9246C7F3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9659A-1C00-4D96-AC7D-9CD2F6A1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2BD-6CF5-479F-8C0A-1679E97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4771-8F4A-4310-9C82-DDF74CD1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574-7D2D-45E5-885B-318C328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723-AC74-4C76-BC78-FEA47ED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02A-7AF6-4084-904A-05ECEB4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E62-B991-4C3B-A6E2-483321D08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077B-9726-407F-B400-88EED6069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756B-09D6-4CA6-A859-19C4E5A61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12F-FD7E-4A6A-B308-55D5BD378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1A55-4634-4A20-A2A2-DA46BEB60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image" Target="../media/image42.gif"/><Relationship Id="rId13" Type="http://schemas.openxmlformats.org/officeDocument/2006/relationships/image" Target="../media/image43.gif"/><Relationship Id="rId14" Type="http://schemas.openxmlformats.org/officeDocument/2006/relationships/image" Target="../media/image44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wmf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image" Target="../media/image55.wmf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hyperlink" Target="file:///OUTPUT_OUTPUT_%7BE76D3850-9646-4FE1-B725-8BA87B001685%7D.wmv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briefly.ru/paskal/mysli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4572000" y="857160"/>
          <a:ext cx="394020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857160"/>
                    <a:ext cx="39402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3"/>
          <p:cNvSpPr/>
          <p:nvPr/>
        </p:nvSpPr>
        <p:spPr>
          <a:xfrm>
            <a:off x="250920" y="642960"/>
            <a:ext cx="396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Лисиця дійсно прийшла через кілька днів, сіла на березі і знову заговор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кучила я за тобою, качечко… Виходь сюди, а якщо не хочешь, то я сама до тебе прийду. Я не гор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 лисиця почала повзти </a:t>
            </a:r>
            <a:r>
              <a:rPr b="1" i="1" lang="uk-UA" sz="2800" spc="-1" strike="noStrike">
                <a:solidFill>
                  <a:srgbClr val="ff3300"/>
                </a:solidFill>
                <a:latin typeface="Calibri"/>
              </a:rPr>
              <a:t>обережно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о льоду до самої ополонки. У Сірої Шийки завмерло серце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92869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ff33"/>
                </a:solidFill>
                <a:latin typeface="Calibri"/>
              </a:rPr>
              <a:t>Тиск в 1 Па малий. На практиці застосовують кратні одиниц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гПа = 100 П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кПа = 1000 П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МПа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= 1000000 Па 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           </a:t>
            </a: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Тиск кінчика жала оси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3,1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колеса легкового   автомобіля на дорог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-  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Нормальний атмосферний                                               тиск                                 -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трактора на грунт       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фундаменту на гру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Останкінської телевежі                                                                                      -   </a:t>
            </a:r>
            <a:r>
              <a:rPr b="1" lang="uk-UA" sz="2800" spc="-1" strike="noStrike">
                <a:solidFill>
                  <a:srgbClr val="66ff33"/>
                </a:solidFill>
                <a:latin typeface="Calibri"/>
                <a:ea typeface="Arial"/>
              </a:rPr>
              <a:t>2,7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014_03s"/>
          <p:cNvPicPr/>
          <p:nvPr/>
        </p:nvPicPr>
        <p:blipFill>
          <a:blip r:embed="rId5"/>
          <a:stretch/>
        </p:blipFill>
        <p:spPr>
          <a:xfrm>
            <a:off x="7143840" y="500076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50920" y="928800"/>
            <a:ext cx="2963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В Амазонці є піран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а вигляд рибка так собі. Але якщо засунешь пальця в воду, перекусить вмить й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Documents and Settings\Admin\Рабочий стол\forindex03.jpg"/>
          <p:cNvPicPr/>
          <p:nvPr/>
        </p:nvPicPr>
        <p:blipFill>
          <a:blip r:embed="rId1"/>
          <a:stretch/>
        </p:blipFill>
        <p:spPr>
          <a:xfrm>
            <a:off x="3214800" y="428760"/>
            <a:ext cx="565776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714240" y="4797360"/>
            <a:ext cx="4937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ff33"/>
                </a:solidFill>
                <a:latin typeface="Calibri"/>
              </a:rPr>
              <a:t>Чому ж на верблюді возять поклажу і їздять лю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356000" y="549360"/>
            <a:ext cx="428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Ось верблюд, а на верблю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озять поклажу і їздять 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живе серед пус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Їсть несмачні кущ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у роботі круглий рі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C:\Documents and Settings\Admin\Рабочий стол\camelus_anime.gif"/>
          <p:cNvPicPr/>
          <p:nvPr/>
        </p:nvPicPr>
        <p:blipFill>
          <a:blip r:embed="rId1"/>
          <a:stretch/>
        </p:blipFill>
        <p:spPr>
          <a:xfrm>
            <a:off x="6357960" y="500076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Admin\Рабочий стол\bactrianus.jpg"/>
          <p:cNvPicPr/>
          <p:nvPr/>
        </p:nvPicPr>
        <p:blipFill>
          <a:blip r:embed="rId2"/>
          <a:stretch/>
        </p:blipFill>
        <p:spPr>
          <a:xfrm>
            <a:off x="428760" y="571680"/>
            <a:ext cx="3809880" cy="36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4500720" y="214200"/>
            <a:ext cx="435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Їжак сердитий, сірий їж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уди, скажи, йде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олючий весь такий, що не взяти тебе руко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Чому ж їжак колюч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Admin\Рабочий стол\ezhiki_09.jpg"/>
          <p:cNvPicPr/>
          <p:nvPr/>
        </p:nvPicPr>
        <p:blipFill>
          <a:blip r:embed="rId1"/>
          <a:stretch/>
        </p:blipFill>
        <p:spPr>
          <a:xfrm>
            <a:off x="500040" y="2571840"/>
            <a:ext cx="642924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1" descr="43"/>
          <p:cNvPicPr/>
          <p:nvPr/>
        </p:nvPicPr>
        <p:blipFill>
          <a:blip r:embed="rId1"/>
          <a:stretch/>
        </p:blipFill>
        <p:spPr>
          <a:xfrm>
            <a:off x="1071720" y="3143160"/>
            <a:ext cx="2214360" cy="3016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071720" y="7142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джілка - трудівник відом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арує людям мед і віс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А ворогам покаже жа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удуть пам'ятати цілий рі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bee"/>
          <p:cNvPicPr/>
          <p:nvPr/>
        </p:nvPicPr>
        <p:blipFill>
          <a:blip r:embed="rId2"/>
          <a:stretch/>
        </p:blipFill>
        <p:spPr>
          <a:xfrm>
            <a:off x="5072040" y="3071880"/>
            <a:ext cx="307188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5286240" y="1000080"/>
            <a:ext cx="3500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Як-то раз запитали троян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Чому, чаруя 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Ти колючими ши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Нас шкрябаєш жорст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Admin\Рабочий стол\cvety-rasteniya-rozy-8066.jpg"/>
          <p:cNvPicPr/>
          <p:nvPr/>
        </p:nvPicPr>
        <p:blipFill>
          <a:blip r:embed="rId1"/>
          <a:stretch/>
        </p:blipFill>
        <p:spPr>
          <a:xfrm>
            <a:off x="1928880" y="314316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cvety-rasteniya-rozy-10152.jpg"/>
          <p:cNvPicPr/>
          <p:nvPr/>
        </p:nvPicPr>
        <p:blipFill>
          <a:blip r:embed="rId2"/>
          <a:stretch/>
        </p:blipFill>
        <p:spPr>
          <a:xfrm>
            <a:off x="285840" y="262080"/>
            <a:ext cx="292896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1187280" y="404640"/>
          <a:ext cx="66978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4640"/>
                    <a:ext cx="66978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D:\Мои документы\фото\рисунки\Office\ANIMATED\J0178112.GIF"/>
          <p:cNvPicPr/>
          <p:nvPr/>
        </p:nvPicPr>
        <p:blipFill>
          <a:blip r:embed="rId1"/>
          <a:stretch/>
        </p:blipFill>
        <p:spPr>
          <a:xfrm>
            <a:off x="380880" y="15228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D:\Мои документы\фото\рисунки\Office\ANIMATED\J0178111.GIF"/>
          <p:cNvPicPr/>
          <p:nvPr/>
        </p:nvPicPr>
        <p:blipFill>
          <a:blip r:embed="rId2"/>
          <a:stretch/>
        </p:blipFill>
        <p:spPr>
          <a:xfrm>
            <a:off x="4191120" y="2743200"/>
            <a:ext cx="476280" cy="1400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D:\Мои документы\фото\рисунки\Office\ANIMATED\J0186498.GIF"/>
          <p:cNvPicPr/>
          <p:nvPr/>
        </p:nvPicPr>
        <p:blipFill>
          <a:blip r:embed="rId3"/>
          <a:stretch/>
        </p:blipFill>
        <p:spPr>
          <a:xfrm>
            <a:off x="7391520" y="762120"/>
            <a:ext cx="154296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D:\Мои документы\фото\рисунки\Office\ANIMATED\J0186495.GIF"/>
          <p:cNvPicPr/>
          <p:nvPr/>
        </p:nvPicPr>
        <p:blipFill>
          <a:blip r:embed="rId4"/>
          <a:stretch/>
        </p:blipFill>
        <p:spPr>
          <a:xfrm>
            <a:off x="457200" y="2438280"/>
            <a:ext cx="1219320" cy="933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D:\Мои документы\фото\рисунки\Office\ANIMATED\J0189251.GIF"/>
          <p:cNvPicPr/>
          <p:nvPr/>
        </p:nvPicPr>
        <p:blipFill>
          <a:blip r:embed="rId5"/>
          <a:stretch/>
        </p:blipFill>
        <p:spPr>
          <a:xfrm>
            <a:off x="41911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D:\Мои документы\фото\рисунки\Office\ANIMATED\J0219118.GIF"/>
          <p:cNvPicPr/>
          <p:nvPr/>
        </p:nvPicPr>
        <p:blipFill>
          <a:blip r:embed="rId6"/>
          <a:stretch/>
        </p:blipFill>
        <p:spPr>
          <a:xfrm>
            <a:off x="6477120" y="5105520"/>
            <a:ext cx="165708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D:\Мои документы\фото\рисунки\Office\ANIMATED\J0223731.GIF"/>
          <p:cNvPicPr/>
          <p:nvPr/>
        </p:nvPicPr>
        <p:blipFill>
          <a:blip r:embed="rId7"/>
          <a:stretch/>
        </p:blipFill>
        <p:spPr>
          <a:xfrm>
            <a:off x="685800" y="5105520"/>
            <a:ext cx="14288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D:\Мои документы\фото\рисунки\Office\ANIMATED\J0223745.GIF"/>
          <p:cNvPicPr/>
          <p:nvPr/>
        </p:nvPicPr>
        <p:blipFill>
          <a:blip r:embed="rId8"/>
          <a:stretch/>
        </p:blipFill>
        <p:spPr>
          <a:xfrm>
            <a:off x="2209680" y="3124080"/>
            <a:ext cx="92412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D:\Мои документы\фото\рисунки\Office\ANIMATED\J0223744.GIF"/>
          <p:cNvPicPr/>
          <p:nvPr/>
        </p:nvPicPr>
        <p:blipFill>
          <a:blip r:embed="rId9"/>
          <a:stretch/>
        </p:blipFill>
        <p:spPr>
          <a:xfrm>
            <a:off x="5257800" y="3886200"/>
            <a:ext cx="1380960" cy="128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D:\Мои документы\фото\рисунки\Office\ANIMATED\J0236456.GIF"/>
          <p:cNvPicPr/>
          <p:nvPr/>
        </p:nvPicPr>
        <p:blipFill>
          <a:blip r:embed="rId10"/>
          <a:stretch/>
        </p:blipFill>
        <p:spPr>
          <a:xfrm>
            <a:off x="7086600" y="3352680"/>
            <a:ext cx="1266840" cy="1247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D:\Мои документы\фото\рисунки\Office\ANIMATED\J0236462.GIF"/>
          <p:cNvPicPr/>
          <p:nvPr/>
        </p:nvPicPr>
        <p:blipFill>
          <a:blip r:embed="rId11"/>
          <a:stretch/>
        </p:blipFill>
        <p:spPr>
          <a:xfrm>
            <a:off x="32767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D:\Мои документы\фото\рисунки\Office\ANIMATED\J0236463.GIF"/>
          <p:cNvPicPr/>
          <p:nvPr/>
        </p:nvPicPr>
        <p:blipFill>
          <a:blip r:embed="rId12"/>
          <a:stretch/>
        </p:blipFill>
        <p:spPr>
          <a:xfrm>
            <a:off x="6629400" y="1828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D:\Мои документы\фото\рисунки\Office\ANIMATED\J0254426.GIF"/>
          <p:cNvPicPr/>
          <p:nvPr/>
        </p:nvPicPr>
        <p:blipFill>
          <a:blip r:embed="rId13"/>
          <a:stretch/>
        </p:blipFill>
        <p:spPr>
          <a:xfrm>
            <a:off x="2057400" y="1295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8" descr="D:\Мои документы\фото\рисунки\Office\ANIMATED\J0254423.GIF"/>
          <p:cNvPicPr/>
          <p:nvPr/>
        </p:nvPicPr>
        <p:blipFill>
          <a:blip r:embed="rId14"/>
          <a:stretch/>
        </p:blipFill>
        <p:spPr>
          <a:xfrm>
            <a:off x="4572000" y="1523880"/>
            <a:ext cx="1390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голки, журавлини, кігті, зуби, ікла, жала, рога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571680" y="1066680"/>
          <a:ext cx="225576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66680"/>
                    <a:ext cx="225576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5" descr="3"/>
          <p:cNvPicPr/>
          <p:nvPr/>
        </p:nvPicPr>
        <p:blipFill>
          <a:blip r:embed="rId3"/>
          <a:stretch/>
        </p:blipFill>
        <p:spPr>
          <a:xfrm rot="568200">
            <a:off x="6056280" y="1266840"/>
            <a:ext cx="2594160" cy="2619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j0149627"/>
          <p:cNvPicPr/>
          <p:nvPr/>
        </p:nvPicPr>
        <p:blipFill>
          <a:blip r:embed="rId4"/>
          <a:stretch/>
        </p:blipFill>
        <p:spPr>
          <a:xfrm rot="20930400">
            <a:off x="518760" y="4113360"/>
            <a:ext cx="3178080" cy="2460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4"/>
          <p:cNvSpPr/>
          <p:nvPr/>
        </p:nvSpPr>
        <p:spPr>
          <a:xfrm>
            <a:off x="0" y="2514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5"/>
          <a:srcRect l="32298" t="28612" r="11042" b="16808"/>
          <a:stretch/>
        </p:blipFill>
        <p:spPr>
          <a:xfrm>
            <a:off x="3214800" y="20718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j0332364"/>
          <p:cNvPicPr/>
          <p:nvPr/>
        </p:nvPicPr>
        <p:blipFill>
          <a:blip r:embed="rId6"/>
          <a:stretch/>
        </p:blipFill>
        <p:spPr>
          <a:xfrm>
            <a:off x="5143680" y="3571920"/>
            <a:ext cx="31273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Тиск. </a:t>
            </a:r>
            <a:br>
              <a:rPr sz="6600"/>
            </a:b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Сила тиск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жучі і колючі предмети та інструмен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чуємо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9" descr="1"/>
          <p:cNvPicPr/>
          <p:nvPr/>
        </p:nvPicPr>
        <p:blipFill>
          <a:blip r:embed="rId1"/>
          <a:stretch/>
        </p:blipFill>
        <p:spPr>
          <a:xfrm>
            <a:off x="357120" y="1143000"/>
            <a:ext cx="1970280" cy="2714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штык -нож"/>
          <p:cNvPicPr/>
          <p:nvPr/>
        </p:nvPicPr>
        <p:blipFill>
          <a:blip r:embed="rId2">
            <a:alphaModFix amt="57000"/>
          </a:blip>
          <a:stretch/>
        </p:blipFill>
        <p:spPr>
          <a:xfrm>
            <a:off x="3571920" y="2071800"/>
            <a:ext cx="14666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Picture 11" descr="j0298653"/>
          <p:cNvPicPr/>
          <p:nvPr/>
        </p:nvPicPr>
        <p:blipFill>
          <a:blip r:embed="rId3"/>
          <a:stretch/>
        </p:blipFill>
        <p:spPr>
          <a:xfrm>
            <a:off x="428760" y="4286160"/>
            <a:ext cx="1704960" cy="216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0000016928-thumb"/>
          <p:cNvPicPr/>
          <p:nvPr/>
        </p:nvPicPr>
        <p:blipFill>
          <a:blip r:embed="rId4"/>
          <a:stretch/>
        </p:blipFill>
        <p:spPr>
          <a:xfrm>
            <a:off x="5857920" y="1785960"/>
            <a:ext cx="2951280" cy="2041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08-03"/>
          <p:cNvPicPr/>
          <p:nvPr/>
        </p:nvPicPr>
        <p:blipFill>
          <a:blip r:embed="rId5"/>
          <a:srcRect l="71845" t="28242" r="-514" b="48501"/>
          <a:stretch/>
        </p:blipFill>
        <p:spPr>
          <a:xfrm>
            <a:off x="6929280" y="4357800"/>
            <a:ext cx="1873440" cy="2089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6"/>
          <a:srcRect l="20058" t="31623" r="2680" b="17060"/>
          <a:stretch/>
        </p:blipFill>
        <p:spPr>
          <a:xfrm>
            <a:off x="3071880" y="4714920"/>
            <a:ext cx="280836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07"/>
          <p:cNvPicPr/>
          <p:nvPr/>
        </p:nvPicPr>
        <p:blipFill>
          <a:blip r:embed="rId1"/>
          <a:stretch/>
        </p:blipFill>
        <p:spPr>
          <a:xfrm>
            <a:off x="250920" y="3357720"/>
            <a:ext cx="4249800" cy="3284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logo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2892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05"/>
          <p:cNvPicPr/>
          <p:nvPr/>
        </p:nvPicPr>
        <p:blipFill>
          <a:blip r:embed="rId3"/>
          <a:stretch/>
        </p:blipFill>
        <p:spPr>
          <a:xfrm>
            <a:off x="4932360" y="3357720"/>
            <a:ext cx="3851280" cy="3306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kv_85_1"/>
          <p:cNvPicPr/>
          <p:nvPr/>
        </p:nvPicPr>
        <p:blipFill>
          <a:blip r:embed="rId4"/>
          <a:stretch/>
        </p:blipFill>
        <p:spPr>
          <a:xfrm>
            <a:off x="250920" y="260280"/>
            <a:ext cx="4032000" cy="28796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8587080" y="6429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  <a:ea typeface="Arial"/>
              </a:rPr>
              <a:t>Задні колеса вантажівок   подвоєні, гусениці танків, тракторів та лижи роблять широкими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═&gt;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 р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танк2"/>
          <p:cNvPicPr/>
          <p:nvPr/>
        </p:nvPicPr>
        <p:blipFill>
          <a:blip r:embed="rId1"/>
          <a:stretch/>
        </p:blipFill>
        <p:spPr>
          <a:xfrm>
            <a:off x="6100920" y="1447920"/>
            <a:ext cx="2809800" cy="3047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лыжи"/>
          <p:cNvPicPr/>
          <p:nvPr/>
        </p:nvPicPr>
        <p:blipFill>
          <a:blip r:embed="rId2"/>
          <a:stretch/>
        </p:blipFill>
        <p:spPr>
          <a:xfrm>
            <a:off x="3554280" y="2438280"/>
            <a:ext cx="2291040" cy="3364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esA975DCAD-264D-4ACE-88FE-8EEB520ED82A"/>
          <p:cNvPicPr/>
          <p:nvPr/>
        </p:nvPicPr>
        <p:blipFill>
          <a:blip r:embed="rId3"/>
          <a:stretch/>
        </p:blipFill>
        <p:spPr>
          <a:xfrm>
            <a:off x="208080" y="1371600"/>
            <a:ext cx="261936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resB297BB82-E860-4705-944A-21890FE156F3"/>
          <p:cNvPicPr/>
          <p:nvPr/>
        </p:nvPicPr>
        <p:blipFill>
          <a:blip r:embed="rId4"/>
          <a:stretch/>
        </p:blipFill>
        <p:spPr>
          <a:xfrm>
            <a:off x="6070680" y="4724280"/>
            <a:ext cx="3073320" cy="191448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8658360" y="6500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5"/>
          <a:srcRect l="31250" t="23345" r="29965" b="4228"/>
          <a:stretch/>
        </p:blipFill>
        <p:spPr>
          <a:xfrm>
            <a:off x="642960" y="3857760"/>
            <a:ext cx="2286000" cy="27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5" descr=""/>
          <p:cNvPicPr/>
          <p:nvPr/>
        </p:nvPicPr>
        <p:blipFill>
          <a:blip r:embed="rId2"/>
          <a:stretch/>
        </p:blipFill>
        <p:spPr>
          <a:xfrm>
            <a:off x="-60480" y="-122400"/>
            <a:ext cx="925992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бчислити тиск твердого тіла на о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560" y="1000080"/>
            <a:ext cx="88930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Calibri"/>
              </a:rPr>
              <a:t>Обладнання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инамометр лабораторний, дерев'яний брусок, ліній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lang="uk-UA" sz="2400" spc="-1" strike="noStrike">
                <a:solidFill>
                  <a:srgbClr val="0000ff"/>
                </a:solidFill>
                <a:latin typeface="Calibri"/>
              </a:rPr>
              <a:t>Порядок виконання робо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силу тиску бруска на стіл (вагу брус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ширину, довжину і висоту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користовуючи всі отримані дані, обчисліть площу найбільшої і найменшої граней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числіть тиск, який утворює брусок на стіл найбільшою і найменшою гра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и запишіть в зош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 основі отриманих даних, зробіть вис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2857680" y="5135400"/>
            <a:ext cx="343836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25160" y="1142640"/>
            <a:ext cx="8366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Ім</a:t>
            </a:r>
            <a:r>
              <a:rPr b="1" lang="el-GR" sz="2000" spc="-1" strike="noStrike">
                <a:solidFill>
                  <a:srgbClr val="ff3300"/>
                </a:solidFill>
                <a:latin typeface="Calibri"/>
              </a:rPr>
              <a:t>΄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ям,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го вченого названа одиниця виміру тиску у Міжнародній системі одиниць (Сі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алілей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В. Ньют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. Гук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Г. Паска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2. За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ю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формулою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визначається тис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N=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 t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F/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S / F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F = m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3. В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му випадку брусок оказує на стіл найменший тиск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590840" y="4724280"/>
            <a:ext cx="1672920" cy="1143000"/>
          </a:xfrm>
          <a:prstGeom prst="cube">
            <a:avLst>
              <a:gd name="adj" fmla="val 17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990960" y="4800600"/>
            <a:ext cx="1746360" cy="91440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 rot="16200000">
            <a:off x="5949720" y="4857480"/>
            <a:ext cx="1828800" cy="80028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61840" y="457200"/>
            <a:ext cx="722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4.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На столі лежить спічечний коробок. Його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овернули і поставили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бокову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грань. Тому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площа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опори коробк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еншилася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в 2, 2 рази. Як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інився тиск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сті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. Не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мінив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. Зменшився в 2,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. Збільшився в 2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5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. Хто оказує більший тиск на почву – слон або коз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А. С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.  К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. Вони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оказують однаковий т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ВІР СЕБ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8600" y="1828800"/>
          <a:ext cx="7929360" cy="2438280"/>
        </p:xfrm>
        <a:graphic>
          <a:graphicData uri="http://schemas.openxmlformats.org/drawingml/2006/table">
            <a:tbl>
              <a:tblPr/>
              <a:tblGrid>
                <a:gridCol w="3054240"/>
                <a:gridCol w="1009800"/>
                <a:gridCol w="977760"/>
                <a:gridCol w="979560"/>
                <a:gridCol w="976320"/>
                <a:gridCol w="931680"/>
              </a:tblGrid>
              <a:tr h="106452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№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пит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ильний варіант відповід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Rectangle 75"/>
          <p:cNvSpPr/>
          <p:nvPr/>
        </p:nvSpPr>
        <p:spPr>
          <a:xfrm>
            <a:off x="498600" y="4267080"/>
            <a:ext cx="305568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люч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4"/>
          <p:cNvSpPr/>
          <p:nvPr/>
        </p:nvSpPr>
        <p:spPr>
          <a:xfrm>
            <a:off x="3554280" y="4267080"/>
            <a:ext cx="101772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6"/>
          <p:cNvSpPr/>
          <p:nvPr/>
        </p:nvSpPr>
        <p:spPr>
          <a:xfrm>
            <a:off x="457200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7"/>
          <p:cNvSpPr/>
          <p:nvPr/>
        </p:nvSpPr>
        <p:spPr>
          <a:xfrm>
            <a:off x="5518080" y="4267080"/>
            <a:ext cx="101916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8"/>
          <p:cNvSpPr/>
          <p:nvPr/>
        </p:nvSpPr>
        <p:spPr>
          <a:xfrm>
            <a:off x="653724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9"/>
          <p:cNvSpPr/>
          <p:nvPr/>
        </p:nvSpPr>
        <p:spPr>
          <a:xfrm>
            <a:off x="7483320" y="4267080"/>
            <a:ext cx="94464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якою фізичною величиною ви познайомились сьогодні на уроц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у силу називають силою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Що таке ти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а основна одиниця вимірювання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571840" y="714240"/>
            <a:ext cx="37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ff33"/>
                </a:solidFill>
                <a:latin typeface="Calibri"/>
              </a:rPr>
              <a:t>Підсу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67262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14320" y="1071360"/>
            <a:ext cx="6725880" cy="5476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§17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прав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7 (1 -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42960" y="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нформація про домашнє завданн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003640" y="609300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Розрахуйте тис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857680" y="1500120"/>
            <a:ext cx="55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рахуйте тис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!cid_image006"/>
          <p:cNvPicPr/>
          <p:nvPr/>
        </p:nvPicPr>
        <p:blipFill>
          <a:blip r:embed="rId1"/>
          <a:stretch/>
        </p:blipFill>
        <p:spPr>
          <a:xfrm>
            <a:off x="2071800" y="2500200"/>
            <a:ext cx="2857320" cy="408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Picture 3" descr="!cid_image024"/>
          <p:cNvPicPr/>
          <p:nvPr/>
        </p:nvPicPr>
        <p:blipFill>
          <a:blip r:embed="rId2"/>
          <a:stretch/>
        </p:blipFill>
        <p:spPr>
          <a:xfrm>
            <a:off x="5286240" y="2500200"/>
            <a:ext cx="2857680" cy="407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Тиск різко падає, можливі оп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Захисники команди “Спартака” не витримали тиску нападаючих команди “Динамо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У хворого раптово підвищився тис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Наутилус” занурився в бездонні глибини, не зважаючи на великий тиск зовнішнього серед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- Це була жінка, - сказав комісар Мегре, - тільки тоненька шпилька жіночих черевичків могла спричинити такий ти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user-1653-1177355155"/>
          <p:cNvPicPr/>
          <p:nvPr/>
        </p:nvPicPr>
        <p:blipFill>
          <a:blip r:embed="rId1"/>
          <a:stretch/>
        </p:blipFill>
        <p:spPr>
          <a:xfrm>
            <a:off x="250920" y="836640"/>
            <a:ext cx="8532720" cy="5565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2071800" y="1428840"/>
            <a:ext cx="5286240" cy="236052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На кого з них ти бу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хож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ьогодні на уроці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29272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0 ба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492360" y="616572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1 б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97964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2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3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 rot="20713200">
            <a:off x="461520" y="2188800"/>
            <a:ext cx="8450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cfd"/>
                  </a:solidFill>
                  <a:miter/>
                </a:ln>
                <a:gradFill rotWithShape="0">
                  <a:gsLst>
                    <a:gs pos="0">
                      <a:srgbClr val="84b1ff"/>
                    </a:gs>
                    <a:gs pos="100000">
                      <a:srgbClr val="385d8a"/>
                    </a:gs>
                  </a:gsLst>
                  <a:lin ang="6288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</a:t>
            </a:r>
            <a:endParaRPr b="1" lang="en-US" sz="1800" spc="1" strike="noStrike">
              <a:ln w="17640">
                <a:solidFill>
                  <a:srgbClr val="fcfcfd"/>
                </a:solidFill>
                <a:miter/>
              </a:ln>
              <a:gradFill rotWithShape="0">
                <a:gsLst>
                  <a:gs pos="0">
                    <a:srgbClr val="84b1ff"/>
                  </a:gs>
                  <a:gs pos="100000">
                    <a:srgbClr val="385d8a"/>
                  </a:gs>
                </a:gsLst>
                <a:lin ang="6288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549000"/>
            <a:ext cx="8521560" cy="4165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 таке си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Які сили ви вже знає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ід чого залежить результат дії с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Силу, яка прикладається перпендикулярно до поверхні, називають силою тиску на цю поверхню і позначають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1" lang="uk-UA" sz="3200" spc="-1" strike="noStrike" baseline="-25000">
                <a:solidFill>
                  <a:srgbClr val="800080"/>
                </a:solidFill>
                <a:latin typeface="Calibri"/>
              </a:rPr>
              <a:t>т</a:t>
            </a: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7" descr="http://class-fizika.narod.ru/7_class/7_davl/davl.gif"/>
          <p:cNvPicPr/>
          <p:nvPr/>
        </p:nvPicPr>
        <p:blipFill>
          <a:blip r:embed="rId1"/>
          <a:stretch/>
        </p:blipFill>
        <p:spPr>
          <a:xfrm>
            <a:off x="4929120" y="4500720"/>
            <a:ext cx="165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6"/>
          <p:cNvGrpSpPr/>
          <p:nvPr/>
        </p:nvGrpSpPr>
        <p:grpSpPr>
          <a:xfrm>
            <a:off x="1428840" y="1857240"/>
            <a:ext cx="6572160" cy="3786120"/>
            <a:chOff x="1428840" y="1857240"/>
            <a:chExt cx="6572160" cy="3786120"/>
          </a:xfrm>
        </p:grpSpPr>
        <p:sp>
          <p:nvSpPr>
            <p:cNvPr id="214" name="AutoShape 17"/>
            <p:cNvSpPr/>
            <p:nvPr/>
          </p:nvSpPr>
          <p:spPr>
            <a:xfrm>
              <a:off x="1428840" y="1857240"/>
              <a:ext cx="6572160" cy="378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1436400" y="2446920"/>
              <a:ext cx="2003400" cy="2027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5989320" y="3604680"/>
              <a:ext cx="2003400" cy="202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1800360" y="2737440"/>
              <a:ext cx="1274400" cy="288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6354720" y="3025800"/>
              <a:ext cx="1275840" cy="28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982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2711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1982160" y="2158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1800360" y="215820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6"/>
            <p:cNvSpPr/>
            <p:nvPr/>
          </p:nvSpPr>
          <p:spPr>
            <a:xfrm>
              <a:off x="2529360" y="215820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7"/>
            <p:cNvSpPr/>
            <p:nvPr/>
          </p:nvSpPr>
          <p:spPr>
            <a:xfrm>
              <a:off x="653616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726552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6354720" y="4184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7082280" y="41842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1"/>
            <p:cNvSpPr/>
            <p:nvPr/>
          </p:nvSpPr>
          <p:spPr>
            <a:xfrm>
              <a:off x="2165400" y="215820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2"/>
            <p:cNvSpPr/>
            <p:nvPr/>
          </p:nvSpPr>
          <p:spPr>
            <a:xfrm>
              <a:off x="6718320" y="244692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Відеофрагмент_x000b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571680" y="2743200"/>
            <a:ext cx="341928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 дії сили                          залежить ві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деформація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тіл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при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ї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взаємодії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uk-UA" sz="20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990960" y="3962520"/>
            <a:ext cx="174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573732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737320" y="1523880"/>
            <a:ext cx="72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464160" y="714240"/>
            <a:ext cx="2109960" cy="119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ам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5737320" y="3809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5737320" y="5791320"/>
            <a:ext cx="65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6391440" y="4495680"/>
            <a:ext cx="225576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ло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оверхні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яку ц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ді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934920" y="4648320"/>
            <a:ext cx="2837160" cy="914400"/>
          </a:xfrm>
          <a:prstGeom prst="rect">
            <a:avLst/>
          </a:prstGeom>
          <a:solidFill>
            <a:srgbClr val="99ccff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т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827760" y="1905120"/>
            <a:ext cx="1382760" cy="990360"/>
          </a:xfrm>
          <a:prstGeom prst="rect">
            <a:avLst/>
          </a:prstGeom>
          <a:solidFill>
            <a:srgbClr val="cc99ff">
              <a:alpha val="3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827760" y="3352680"/>
            <a:ext cx="1382760" cy="1143000"/>
          </a:xfrm>
          <a:prstGeom prst="rect">
            <a:avLst/>
          </a:prstGeom>
          <a:solidFill>
            <a:srgbClr val="ffff99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1517760" y="5562720"/>
            <a:ext cx="1817640" cy="838080"/>
          </a:xfrm>
          <a:prstGeom prst="rect">
            <a:avLst/>
          </a:prstGeom>
          <a:solidFill>
            <a:srgbClr val="3366ff">
              <a:alpha val="3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85840" y="285480"/>
            <a:ext cx="8640720" cy="221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Calibri"/>
              </a:rPr>
              <a:t>Величина, що характеризує дію сили на фізичне тіло і чисельно дорівнює відношенню сили, яка діє перпендикулярно поверхні, до площі цієї поверхні, називається механічним тис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3311280" cy="2000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5857920" y="3000240"/>
            <a:ext cx="2843280" cy="199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{5E85F754-9643-4406-BC30-522144BE5AE4}"/>
          <p:cNvPicPr/>
          <p:nvPr/>
        </p:nvPicPr>
        <p:blipFill>
          <a:blip r:embed="rId3"/>
          <a:srcRect l="3983" t="2702" r="62165" b="56762"/>
          <a:stretch/>
        </p:blipFill>
        <p:spPr>
          <a:xfrm>
            <a:off x="3500280" y="4572000"/>
            <a:ext cx="2347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504d"/>
                </a:solidFill>
                <a:latin typeface="Calibri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71600" y="114300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1 Паскаль – це такий тиск, що його чинить сила 1 Н на поверхню площею 1 м</a:t>
            </a:r>
            <a:r>
              <a:rPr b="1" lang="uk-UA" sz="25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 перпендикулярно до цієї площ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879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785880" y="2928960"/>
            <a:ext cx="7929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системні одиниці тис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) технічна атмосфера (а т): 1 а т = 9,8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) Фізична  атмосфера (а т м), дорівнює тиску, який створює стовп ртуті висотою 760 мм:  1 а т м = 1,013 а т = 1,013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) міліметр ртутного стовпа (мм р т. с т.): 1 мм р т. ст. = 133,3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4) бар (в метеорології  використовують мілібар): 1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, 1 м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053040" y="1779480"/>
            <a:ext cx="2975040" cy="832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6" descr=""/>
          <p:cNvPicPr/>
          <p:nvPr/>
        </p:nvPicPr>
        <p:blipFill>
          <a:blip r:embed="rId2"/>
          <a:stretch/>
        </p:blipFill>
        <p:spPr>
          <a:xfrm>
            <a:off x="706320" y="85680"/>
            <a:ext cx="7656480" cy="1152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2928960" y="12142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cademia"/>
              </a:rPr>
              <a:t>(1623-16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8091360" y="214200"/>
            <a:ext cx="1052640" cy="1540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4"/>
          <a:stretch/>
        </p:blipFill>
        <p:spPr>
          <a:xfrm>
            <a:off x="214200" y="0"/>
            <a:ext cx="952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"/>
          <p:cNvPicPr/>
          <p:nvPr/>
        </p:nvPicPr>
        <p:blipFill>
          <a:blip r:embed="rId5"/>
          <a:stretch/>
        </p:blipFill>
        <p:spPr>
          <a:xfrm>
            <a:off x="214200" y="3571920"/>
            <a:ext cx="1071720" cy="1628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"/>
          <a:stretch/>
        </p:blipFill>
        <p:spPr>
          <a:xfrm>
            <a:off x="214200" y="1643040"/>
            <a:ext cx="1214640" cy="1851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7"/>
          <a:stretch/>
        </p:blipFill>
        <p:spPr>
          <a:xfrm>
            <a:off x="214200" y="5319720"/>
            <a:ext cx="1047960" cy="15382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4"/>
          <p:cNvSpPr/>
          <p:nvPr/>
        </p:nvSpPr>
        <p:spPr>
          <a:xfrm>
            <a:off x="1500120" y="19288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HeinrichScript"/>
              </a:rPr>
              <a:t> </a:t>
            </a:r>
            <a:r>
              <a:rPr b="1" i="1" lang="uk-UA" sz="2800" spc="-1" strike="noStrike">
                <a:solidFill>
                  <a:srgbClr val="d7e4bd"/>
                </a:solidFill>
                <a:latin typeface="HeinrichScript"/>
              </a:rPr>
              <a:t>Французький         математик, фізик   релігіозний філософ та письм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 rot="20845800">
            <a:off x="1556280" y="3866040"/>
            <a:ext cx="51530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усть же человек знает, чего он стоит. Пусть любит себя, ибо он способен к добру», «пусть презирает себя, ибо способность к добру остается в нем втуне»… 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54:39Z</dcterms:created>
  <dc:creator>Admin</dc:creator>
  <dc:description/>
  <dc:language>en-US</dc:language>
  <cp:lastModifiedBy>Admin</cp:lastModifiedBy>
  <dcterms:modified xsi:type="dcterms:W3CDTF">2011-02-15T10:00:08Z</dcterms:modified>
  <cp:revision>9</cp:revision>
  <dc:subject/>
  <dc:title>Слайд 1</dc:title>
</cp:coreProperties>
</file>