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57.jpeg" ContentType="image/jpeg"/>
  <Override PartName="/ppt/media/image63.png" ContentType="image/png"/>
  <Override PartName="/ppt/media/image54.png" ContentType="image/png"/>
  <Override PartName="/ppt/media/image53.jpeg" ContentType="image/jpeg"/>
  <Override PartName="/ppt/media/image50.jpeg" ContentType="image/jpeg"/>
  <Override PartName="/ppt/media/image49.wmf" ContentType="image/x-wmf"/>
  <Override PartName="/ppt/media/image46.jpeg" ContentType="image/jpeg"/>
  <Override PartName="/ppt/media/image44.gif" ContentType="image/gif"/>
  <Override PartName="/ppt/media/image43.gif" ContentType="image/gif"/>
  <Override PartName="/ppt/media/image42.gif" ContentType="image/gif"/>
  <Override PartName="/ppt/media/CAMERA.WAV" ContentType="audio/x-wav"/>
  <Override PartName="/ppt/media/image41.gif" ContentType="image/gif"/>
  <Override PartName="/ppt/media/image55.wmf" ContentType="image/x-wmf"/>
  <Override PartName="/ppt/media/image6.jpeg" ContentType="image/jpeg"/>
  <Override PartName="/ppt/media/image36.gif" ContentType="image/gif"/>
  <Override PartName="/ppt/media/image21.jpeg" ContentType="image/jpeg"/>
  <Override PartName="/ppt/media/image65.png" ContentType="image/png"/>
  <Override PartName="/ppt/media/image9.png" ContentType="image/png"/>
  <Override PartName="/ppt/media/image22.jpeg" ContentType="image/jpeg"/>
  <Override PartName="/ppt/media/image51.jpeg" ContentType="image/jpeg"/>
  <Override PartName="/ppt/media/image27.gif" ContentType="image/gif"/>
  <Override PartName="/ppt/media/image52.wmf" ContentType="image/x-wmf"/>
  <Override PartName="/ppt/media/image12.png" ContentType="image/png"/>
  <Override PartName="/ppt/media/image23.jpeg" ContentType="image/jpeg"/>
  <Override PartName="/ppt/media/image15.png" ContentType="image/png"/>
  <Override PartName="/ppt/media/image3.png" ContentType="image/png"/>
  <Override PartName="/ppt/media/image40.gif" ContentType="image/gif"/>
  <Override PartName="/ppt/media/image61.jpeg" ContentType="image/jpeg"/>
  <Override PartName="/ppt/media/image8.wmf" ContentType="image/x-wmf"/>
  <Override PartName="/ppt/media/image4.jpeg" ContentType="image/jpeg"/>
  <Override PartName="/ppt/media/image69.gif" ContentType="image/gif"/>
  <Override PartName="/ppt/media/image19.jpeg" ContentType="image/jpeg"/>
  <Override PartName="/ppt/media/image32.gif" ContentType="image/gif"/>
  <Override PartName="/ppt/media/image16.png" ContentType="image/png"/>
  <Override PartName="/ppt/media/image60.jpeg" ContentType="image/jpeg"/>
  <Override PartName="/ppt/media/image67.jpeg" ContentType="image/jpeg"/>
  <Override PartName="/ppt/media/image18.png" ContentType="image/png"/>
  <Override PartName="/ppt/media/image59.jpeg" ContentType="image/jpeg"/>
  <Override PartName="/ppt/media/image28.gif" ContentType="image/gif"/>
  <Override PartName="/ppt/media/image66.png" ContentType="image/png"/>
  <Override PartName="/ppt/media/image68.gif" ContentType="image/gif"/>
  <Override PartName="/ppt/media/image31.gif" ContentType="image/gif"/>
  <Override PartName="/ppt/media/image39.gif" ContentType="image/gif"/>
  <Override PartName="/ppt/media/image64.wmf" ContentType="image/x-wmf"/>
  <Override PartName="/ppt/media/image62.jpeg" ContentType="image/jpeg"/>
  <Override PartName="/ppt/media/image5.jpeg" ContentType="image/jpeg"/>
  <Override PartName="/ppt/media/image48.wmf" ContentType="image/x-wmf"/>
  <Override PartName="/ppt/media/image58.jpeg" ContentType="image/jpeg"/>
  <Override PartName="/ppt/media/image70.png" ContentType="image/png"/>
  <Override PartName="/ppt/media/image35.gif" ContentType="image/gif"/>
  <Override PartName="/ppt/media/image24.gif" ContentType="image/gif"/>
  <Override PartName="/ppt/media/image17.png" ContentType="image/png"/>
  <Override PartName="/ppt/media/image26.jpeg" ContentType="image/jpeg"/>
  <Override PartName="/ppt/media/image1.png" ContentType="image/png"/>
  <Override PartName="/ppt/media/image13.png" ContentType="image/png"/>
  <Override PartName="/ppt/media/image45.wmf" ContentType="image/x-wmf"/>
  <Override PartName="/ppt/media/image14.png" ContentType="image/png"/>
  <Override PartName="/ppt/media/image2.png" ContentType="image/png"/>
  <Override PartName="/ppt/media/image56.jpeg" ContentType="image/jpeg"/>
  <Override PartName="/ppt/media/image10.wmf" ContentType="image/x-wmf"/>
  <Override PartName="/ppt/media/image47.wmf" ContentType="image/x-wmf"/>
  <Override PartName="/ppt/media/WHOOSH.WAV" ContentType="audio/x-wav"/>
  <Override PartName="/ppt/media/image11.png" ContentType="image/png"/>
  <Override PartName="/ppt/media/image20.jpeg" ContentType="image/jpeg"/>
  <Override PartName="/ppt/media/image7.wmf" ContentType="image/x-wmf"/>
  <Override PartName="/ppt/media/image30.jpeg" ContentType="image/jpeg"/>
  <Override PartName="/ppt/media/image29.jpeg" ContentType="image/jpeg"/>
  <Override PartName="/ppt/media/image25.jpeg" ContentType="image/jpeg"/>
  <Override PartName="/ppt/media/image37.gif" ContentType="image/gif"/>
  <Override PartName="/ppt/media/image33.gif" ContentType="image/gif"/>
  <Override PartName="/ppt/media/image34.gif" ContentType="image/gif"/>
  <Override PartName="/ppt/media/image3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2BE-B45F-4000-8C01-247C0F8C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4C7-EB91-4DFB-A73E-83812F25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BBF-DBBE-4A5D-A366-F6C3B79C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207-FC66-4DA6-98DF-CF20B146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41EF-30F6-47F1-9B1A-9D9BA814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AAD9-E0D7-4B8C-A252-E590D92E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9EA6-C253-49EF-8B1A-7D6296B8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7826-7D63-49BF-94B5-C3888866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5948-A8DF-4738-B61C-3C759C90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98F1-B893-40F3-9212-68B56917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47F2-1E20-49AC-83E9-1C69E312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034-5FCF-48A1-9165-93C587BA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2692-D235-4584-B7DC-9CFFD46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0C80-B3C2-4AAD-8F16-9955E987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07F5-4643-41BB-B007-2A15170E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A1DE-60CA-4277-B1C5-D1E70A79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62EF-641F-45FA-9790-3F4CB515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619C-C619-42D0-B936-A1703A59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FA921-1D4B-46CC-B4DD-569EEC9D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FCF9E-A806-402E-8CDC-54EB2C9C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AC16E-9F01-4C43-B319-CBD7E74D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B6BBD-BAB2-484F-B31B-9C697776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728-6B03-4ACA-9817-DC00E788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4772-2150-42B9-803E-F797BD73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4375B-D300-41C9-B7A1-84644079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84446-6ADF-4E67-9178-43DB89F0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DE370-F1B0-464A-9D24-D6CFA550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6891-30DE-4C7B-B378-EF618D24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FDA0B-833C-404D-9B74-58A0BE41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3D6C-D41D-4902-A2E7-6108A152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331DB-6673-4760-A735-7B149F58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8D194-B7ED-465F-BD50-02003B6D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BA8B2-CEFA-4B53-83BC-2F71594A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970-833B-4B36-A6C4-0A2A8030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99347-7859-422E-A56C-923E4238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D83FA-F67E-41FD-90ED-D9A900AD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81143-B836-4AE3-97F2-57A40EF5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A4BD8-DEEF-4438-87C1-FA6E084C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D2CFF-4602-400C-BE76-07398CB8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58102-4A8B-473C-BC65-AB04573F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0357E-38AE-415C-B789-9C7AB236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766CC-64AA-49B0-B075-AF7ACE2D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37AD3-496F-4C28-89A5-EA8DA03C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5FFF3-6EFF-4EF4-A294-DB75B468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2BE-23D3-4518-AD4F-9EC8CACB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F2039-6B84-4044-AC4B-DD51F63A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64E23-02E2-44E8-9DD2-8E62F14E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5EA94-AE31-4847-A596-B1D406E8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37A00-ECB1-4D98-A9C3-E703498A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8FC08-366D-41D5-91A8-8D8DF719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632D0-8A90-4776-8D51-29DC45E3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ABD8B-EA87-446D-83A7-8903C870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6A11B-111F-41F0-8F4C-0C120450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F91E7-3B4C-4D74-A62A-EA5E5BE0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484F9-1B9D-44D4-8E04-BABF5452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6DA-8DC1-46A4-9425-1AE8B11D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FAC0D-4319-42F9-8DF0-7E5B7E2E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52E-1061-4438-AE4A-73F3F5A0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E3F-DF18-4D55-9DAD-6FCCB6C5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DA3-21AC-407F-AEC2-7CE7245B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684D-18F2-4EC7-9B78-CE92A32090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1DF1-4C41-4478-846D-69AD0CADA8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DE90-AAED-4AC7-8AB7-B72AFC3764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70D0-AEFC-426A-AD92-90E56F9745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D329-FCA9-473E-9395-001806488E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image" Target="../media/image39.gif"/><Relationship Id="rId10" Type="http://schemas.openxmlformats.org/officeDocument/2006/relationships/image" Target="../media/image40.gif"/><Relationship Id="rId11" Type="http://schemas.openxmlformats.org/officeDocument/2006/relationships/image" Target="../media/image41.gif"/><Relationship Id="rId12" Type="http://schemas.openxmlformats.org/officeDocument/2006/relationships/image" Target="../media/image42.gif"/><Relationship Id="rId13" Type="http://schemas.openxmlformats.org/officeDocument/2006/relationships/image" Target="../media/image43.gif"/><Relationship Id="rId14" Type="http://schemas.openxmlformats.org/officeDocument/2006/relationships/image" Target="../media/image44.gi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jpeg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wmf"/><Relationship Id="rId4" Type="http://schemas.openxmlformats.org/officeDocument/2006/relationships/image" Target="../media/image53.jpeg"/><Relationship Id="rId5" Type="http://schemas.openxmlformats.org/officeDocument/2006/relationships/image" Target="../media/image54.png"/><Relationship Id="rId6" Type="http://schemas.openxmlformats.org/officeDocument/2006/relationships/image" Target="../media/image55.wmf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png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hyperlink" Target="file:///OUTPUT_OUTPUT_%7BE76D3850-9646-4FE1-B725-8BA87B001685%7D.wmv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hyperlink" Target="http://briefly.ru/paskal/mysli/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Object 2"/>
          <p:cNvGraphicFramePr/>
          <p:nvPr/>
        </p:nvGraphicFramePr>
        <p:xfrm>
          <a:off x="4572000" y="857160"/>
          <a:ext cx="394020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857160"/>
                    <a:ext cx="394020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3"/>
          <p:cNvSpPr/>
          <p:nvPr/>
        </p:nvSpPr>
        <p:spPr>
          <a:xfrm>
            <a:off x="250920" y="642960"/>
            <a:ext cx="396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“… 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Лисиця дійсно прийшла через кілька днів, сіла на березі і знову заговор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Скучила я за тобою, качечко… Виходь сюди, а якщо не хочешь, то я сама до тебе прийду. Я не гор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І лисиця почала повзти </a:t>
            </a:r>
            <a:r>
              <a:rPr b="1" i="1" lang="uk-UA" sz="2800" spc="-1" strike="noStrike">
                <a:solidFill>
                  <a:srgbClr val="ff3300"/>
                </a:solidFill>
                <a:latin typeface="Calibri"/>
              </a:rPr>
              <a:t>обережно 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по льоду до самої ополонки. У Сірої Шийки завмерло серце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928692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66ff33"/>
                </a:solidFill>
                <a:latin typeface="Calibri"/>
              </a:rPr>
              <a:t>Тиск в 1 Па малий. На практиці застосовують кратні одиниці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Calibri"/>
              </a:rPr>
              <a:t>1 гПа = 100 Па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Calibri"/>
              </a:rPr>
              <a:t>1 кПа = 1000 П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Calibri"/>
              </a:rPr>
              <a:t>1 МПа</a:t>
            </a:r>
            <a:r>
              <a:rPr b="1" lang="en-US" sz="6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uk-UA" sz="6600" spc="-1" strike="noStrike">
                <a:solidFill>
                  <a:srgbClr val="ffff00"/>
                </a:solidFill>
                <a:latin typeface="Calibri"/>
              </a:rPr>
              <a:t>= 1000000 Па </a:t>
            </a:r>
            <a:r>
              <a:rPr b="1" lang="en-US" sz="6600" spc="-1" strike="noStrike">
                <a:solidFill>
                  <a:srgbClr val="ffff00"/>
                </a:solidFill>
                <a:latin typeface="Calibri"/>
              </a:rPr>
              <a:t>            </a:t>
            </a:r>
            <a:r>
              <a:rPr b="1" lang="ru-RU" sz="6600" spc="-1" strike="noStrike">
                <a:solidFill>
                  <a:srgbClr val="ffff00"/>
                </a:solidFill>
                <a:latin typeface="Calibri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Тиск кінчика жала оси   -  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3,1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  <a:ea typeface="Arial"/>
              </a:rPr>
              <a:t>·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 baseline="30000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 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Тиск колеса легкового   автомобіля на дорог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        </a:t>
            </a: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-     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  <a:ea typeface="Arial"/>
              </a:rPr>
              <a:t>·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 baseline="30000">
                <a:solidFill>
                  <a:srgbClr val="66ff33"/>
                </a:solidFill>
                <a:latin typeface="Calibri"/>
              </a:rPr>
              <a:t>5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Па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Нормальний атмосферний                                               тиск                                 -   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 baseline="30000">
                <a:solidFill>
                  <a:srgbClr val="66ff33"/>
                </a:solidFill>
                <a:latin typeface="Calibri"/>
              </a:rPr>
              <a:t>5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Па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Тиск трактора на грунт          -  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  <a:ea typeface="Arial"/>
              </a:rPr>
              <a:t>·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 baseline="30000">
                <a:solidFill>
                  <a:srgbClr val="66ff33"/>
                </a:solidFill>
                <a:latin typeface="Calibri"/>
              </a:rPr>
              <a:t>4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Тиск фундаменту на гру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     </a:t>
            </a:r>
            <a:r>
              <a:rPr b="1" lang="uk-UA" sz="2400" spc="-1" strike="noStrike">
                <a:solidFill>
                  <a:srgbClr val="66ff33"/>
                </a:solidFill>
                <a:latin typeface="Calibri"/>
              </a:rPr>
              <a:t>Останкінської телевежі                                                                                      -   </a:t>
            </a:r>
            <a:r>
              <a:rPr b="1" lang="uk-UA" sz="2800" spc="-1" strike="noStrike">
                <a:solidFill>
                  <a:srgbClr val="66ff33"/>
                </a:solidFill>
                <a:latin typeface="Calibri"/>
                <a:ea typeface="Arial"/>
              </a:rPr>
              <a:t>2,7</a:t>
            </a:r>
            <a:r>
              <a:rPr b="1" lang="en-US" sz="2800" spc="-1" strike="noStrike">
                <a:solidFill>
                  <a:srgbClr val="66ff33"/>
                </a:solidFill>
                <a:latin typeface="Calibri"/>
                <a:ea typeface="Arial"/>
              </a:rPr>
              <a:t>·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10</a:t>
            </a:r>
            <a:r>
              <a:rPr b="1" lang="ru-RU" sz="2800" spc="-1" strike="noStrike" baseline="30000">
                <a:solidFill>
                  <a:srgbClr val="66ff33"/>
                </a:solidFill>
                <a:latin typeface="Calibri"/>
              </a:rPr>
              <a:t>4 </a:t>
            </a:r>
            <a:r>
              <a:rPr b="1" lang="ru-RU" sz="2800" spc="-1" strike="noStrike">
                <a:solidFill>
                  <a:srgbClr val="66ff33"/>
                </a:solidFill>
                <a:latin typeface="Calibri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Безымянный5"/>
          <p:cNvPicPr/>
          <p:nvPr/>
        </p:nvPicPr>
        <p:blipFill>
          <a:blip r:embed="rId1"/>
          <a:stretch/>
        </p:blipFill>
        <p:spPr>
          <a:xfrm>
            <a:off x="7308720" y="189000"/>
            <a:ext cx="1008360" cy="784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014_04s"/>
          <p:cNvPicPr/>
          <p:nvPr/>
        </p:nvPicPr>
        <p:blipFill>
          <a:blip r:embed="rId2"/>
          <a:stretch/>
        </p:blipFill>
        <p:spPr>
          <a:xfrm>
            <a:off x="7164360" y="134136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014_05s"/>
          <p:cNvPicPr/>
          <p:nvPr/>
        </p:nvPicPr>
        <p:blipFill>
          <a:blip r:embed="rId3"/>
          <a:stretch/>
        </p:blipFill>
        <p:spPr>
          <a:xfrm>
            <a:off x="7093080" y="2565360"/>
            <a:ext cx="1341360" cy="1006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014_06s"/>
          <p:cNvPicPr/>
          <p:nvPr/>
        </p:nvPicPr>
        <p:blipFill>
          <a:blip r:embed="rId4"/>
          <a:stretch/>
        </p:blipFill>
        <p:spPr>
          <a:xfrm>
            <a:off x="7093080" y="3645000"/>
            <a:ext cx="1366560" cy="1174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014_03s"/>
          <p:cNvPicPr/>
          <p:nvPr/>
        </p:nvPicPr>
        <p:blipFill>
          <a:blip r:embed="rId5"/>
          <a:stretch/>
        </p:blipFill>
        <p:spPr>
          <a:xfrm>
            <a:off x="7143840" y="5000760"/>
            <a:ext cx="12700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5"/>
          <p:cNvSpPr/>
          <p:nvPr/>
        </p:nvSpPr>
        <p:spPr>
          <a:xfrm>
            <a:off x="250920" y="928800"/>
            <a:ext cx="2963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В Амазонці є піран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на вигляд рибка так собі. Але якщо засунешь пальця в воду, перекусить вмить й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C:\Documents and Settings\Admin\Рабочий стол\forindex03.jpg"/>
          <p:cNvPicPr/>
          <p:nvPr/>
        </p:nvPicPr>
        <p:blipFill>
          <a:blip r:embed="rId1"/>
          <a:stretch/>
        </p:blipFill>
        <p:spPr>
          <a:xfrm>
            <a:off x="3214800" y="428760"/>
            <a:ext cx="5657760" cy="55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5"/>
          <p:cNvSpPr/>
          <p:nvPr/>
        </p:nvSpPr>
        <p:spPr>
          <a:xfrm>
            <a:off x="714240" y="4797360"/>
            <a:ext cx="4937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ff33"/>
                </a:solidFill>
                <a:latin typeface="Calibri"/>
              </a:rPr>
              <a:t>Чому ж на верблюді возять поклажу і їздять люд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4356000" y="549360"/>
            <a:ext cx="4287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Ось верблюд, а на верблю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Возять поклажу і їздять лю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Він живе серед пусте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Їсть несмачні кущ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Він у роботі круглий рік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C:\Documents and Settings\Admin\Рабочий стол\camelus_anime.gif"/>
          <p:cNvPicPr/>
          <p:nvPr/>
        </p:nvPicPr>
        <p:blipFill>
          <a:blip r:embed="rId1"/>
          <a:stretch/>
        </p:blipFill>
        <p:spPr>
          <a:xfrm>
            <a:off x="6357960" y="5000760"/>
            <a:ext cx="1325520" cy="1325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C:\Documents and Settings\Admin\Рабочий стол\bactrianus.jpg"/>
          <p:cNvPicPr/>
          <p:nvPr/>
        </p:nvPicPr>
        <p:blipFill>
          <a:blip r:embed="rId2"/>
          <a:stretch/>
        </p:blipFill>
        <p:spPr>
          <a:xfrm>
            <a:off x="428760" y="571680"/>
            <a:ext cx="3809880" cy="3695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4500720" y="214200"/>
            <a:ext cx="435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libri"/>
              </a:rPr>
              <a:t>Їжак сердитий, сірий їжа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libri"/>
              </a:rPr>
              <a:t>Ти куди, скажи, йде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libri"/>
              </a:rPr>
              <a:t>Ти колючий весь такий, що не взяти тебе руко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libri"/>
              </a:rPr>
              <a:t>Чому ж їжак колюч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C:\Documents and Settings\Admin\Рабочий стол\ezhiki_09.jpg"/>
          <p:cNvPicPr/>
          <p:nvPr/>
        </p:nvPicPr>
        <p:blipFill>
          <a:blip r:embed="rId1"/>
          <a:stretch/>
        </p:blipFill>
        <p:spPr>
          <a:xfrm>
            <a:off x="500040" y="2571840"/>
            <a:ext cx="6429240" cy="428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1" descr="43"/>
          <p:cNvPicPr/>
          <p:nvPr/>
        </p:nvPicPr>
        <p:blipFill>
          <a:blip r:embed="rId1"/>
          <a:stretch/>
        </p:blipFill>
        <p:spPr>
          <a:xfrm>
            <a:off x="1071720" y="3143160"/>
            <a:ext cx="2214360" cy="30164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6"/>
          <p:cNvSpPr/>
          <p:nvPr/>
        </p:nvSpPr>
        <p:spPr>
          <a:xfrm>
            <a:off x="1071720" y="714240"/>
            <a:ext cx="700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Бджілка - трудівник відом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Дарує людям мед і віс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А ворогам покаже жал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Будуть пам'ятати цілий рі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bee"/>
          <p:cNvPicPr/>
          <p:nvPr/>
        </p:nvPicPr>
        <p:blipFill>
          <a:blip r:embed="rId2"/>
          <a:stretch/>
        </p:blipFill>
        <p:spPr>
          <a:xfrm>
            <a:off x="5072040" y="3071880"/>
            <a:ext cx="3071880" cy="31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5286240" y="1000080"/>
            <a:ext cx="3500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66ff33"/>
                </a:solidFill>
                <a:latin typeface="Calibri"/>
              </a:rPr>
              <a:t>Як-то раз запитали троян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ff33"/>
                </a:solidFill>
                <a:latin typeface="Calibri"/>
              </a:rPr>
              <a:t>Чому, чаруя 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ff33"/>
                </a:solidFill>
                <a:latin typeface="Calibri"/>
              </a:rPr>
              <a:t>Ти колючими шип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ff33"/>
                </a:solidFill>
                <a:latin typeface="Calibri"/>
              </a:rPr>
              <a:t>Нас шкрябаєш жорсток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Documents and Settings\Admin\Рабочий стол\cvety-rasteniya-rozy-8066.jpg"/>
          <p:cNvPicPr/>
          <p:nvPr/>
        </p:nvPicPr>
        <p:blipFill>
          <a:blip r:embed="rId1"/>
          <a:stretch/>
        </p:blipFill>
        <p:spPr>
          <a:xfrm>
            <a:off x="1928880" y="3143160"/>
            <a:ext cx="3500280" cy="3714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C:\Documents and Settings\Admin\Рабочий стол\cvety-rasteniya-rozy-10152.jpg"/>
          <p:cNvPicPr/>
          <p:nvPr/>
        </p:nvPicPr>
        <p:blipFill>
          <a:blip r:embed="rId2"/>
          <a:stretch/>
        </p:blipFill>
        <p:spPr>
          <a:xfrm>
            <a:off x="285840" y="262080"/>
            <a:ext cx="2928960" cy="35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1187280" y="404640"/>
          <a:ext cx="6697800" cy="57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04640"/>
                    <a:ext cx="6697800" cy="57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фізкультхвили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5" descr="D:\Мои документы\фото\рисунки\Office\ANIMATED\J0178112.GIF"/>
          <p:cNvPicPr/>
          <p:nvPr/>
        </p:nvPicPr>
        <p:blipFill>
          <a:blip r:embed="rId1"/>
          <a:stretch/>
        </p:blipFill>
        <p:spPr>
          <a:xfrm>
            <a:off x="380880" y="15228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D:\Мои документы\фото\рисунки\Office\ANIMATED\J0178111.GIF"/>
          <p:cNvPicPr/>
          <p:nvPr/>
        </p:nvPicPr>
        <p:blipFill>
          <a:blip r:embed="rId2"/>
          <a:stretch/>
        </p:blipFill>
        <p:spPr>
          <a:xfrm>
            <a:off x="4191120" y="2743200"/>
            <a:ext cx="476280" cy="1400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D:\Мои документы\фото\рисунки\Office\ANIMATED\J0186498.GIF"/>
          <p:cNvPicPr/>
          <p:nvPr/>
        </p:nvPicPr>
        <p:blipFill>
          <a:blip r:embed="rId3"/>
          <a:stretch/>
        </p:blipFill>
        <p:spPr>
          <a:xfrm>
            <a:off x="7391520" y="762120"/>
            <a:ext cx="1542960" cy="609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D:\Мои документы\фото\рисунки\Office\ANIMATED\J0186495.GIF"/>
          <p:cNvPicPr/>
          <p:nvPr/>
        </p:nvPicPr>
        <p:blipFill>
          <a:blip r:embed="rId4"/>
          <a:stretch/>
        </p:blipFill>
        <p:spPr>
          <a:xfrm>
            <a:off x="457200" y="2438280"/>
            <a:ext cx="1219320" cy="933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D:\Мои документы\фото\рисунки\Office\ANIMATED\J0189251.GIF"/>
          <p:cNvPicPr/>
          <p:nvPr/>
        </p:nvPicPr>
        <p:blipFill>
          <a:blip r:embed="rId5"/>
          <a:stretch/>
        </p:blipFill>
        <p:spPr>
          <a:xfrm>
            <a:off x="419112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D:\Мои документы\фото\рисунки\Office\ANIMATED\J0219118.GIF"/>
          <p:cNvPicPr/>
          <p:nvPr/>
        </p:nvPicPr>
        <p:blipFill>
          <a:blip r:embed="rId6"/>
          <a:stretch/>
        </p:blipFill>
        <p:spPr>
          <a:xfrm>
            <a:off x="6477120" y="5105520"/>
            <a:ext cx="1657080" cy="1143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D:\Мои документы\фото\рисунки\Office\ANIMATED\J0223731.GIF"/>
          <p:cNvPicPr/>
          <p:nvPr/>
        </p:nvPicPr>
        <p:blipFill>
          <a:blip r:embed="rId7"/>
          <a:stretch/>
        </p:blipFill>
        <p:spPr>
          <a:xfrm>
            <a:off x="685800" y="5105520"/>
            <a:ext cx="142884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D:\Мои документы\фото\рисунки\Office\ANIMATED\J0223745.GIF"/>
          <p:cNvPicPr/>
          <p:nvPr/>
        </p:nvPicPr>
        <p:blipFill>
          <a:blip r:embed="rId8"/>
          <a:stretch/>
        </p:blipFill>
        <p:spPr>
          <a:xfrm>
            <a:off x="2209680" y="3124080"/>
            <a:ext cx="924120" cy="1371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D:\Мои документы\фото\рисунки\Office\ANIMATED\J0223744.GIF"/>
          <p:cNvPicPr/>
          <p:nvPr/>
        </p:nvPicPr>
        <p:blipFill>
          <a:blip r:embed="rId9"/>
          <a:stretch/>
        </p:blipFill>
        <p:spPr>
          <a:xfrm>
            <a:off x="5257800" y="3886200"/>
            <a:ext cx="1380960" cy="1285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D:\Мои документы\фото\рисунки\Office\ANIMATED\J0236456.GIF"/>
          <p:cNvPicPr/>
          <p:nvPr/>
        </p:nvPicPr>
        <p:blipFill>
          <a:blip r:embed="rId10"/>
          <a:stretch/>
        </p:blipFill>
        <p:spPr>
          <a:xfrm>
            <a:off x="7086600" y="3352680"/>
            <a:ext cx="1266840" cy="1247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5" descr="D:\Мои документы\фото\рисунки\Office\ANIMATED\J0236462.GIF"/>
          <p:cNvPicPr/>
          <p:nvPr/>
        </p:nvPicPr>
        <p:blipFill>
          <a:blip r:embed="rId11"/>
          <a:stretch/>
        </p:blipFill>
        <p:spPr>
          <a:xfrm>
            <a:off x="3276720" y="5410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6" descr="D:\Мои документы\фото\рисунки\Office\ANIMATED\J0236463.GIF"/>
          <p:cNvPicPr/>
          <p:nvPr/>
        </p:nvPicPr>
        <p:blipFill>
          <a:blip r:embed="rId12"/>
          <a:stretch/>
        </p:blipFill>
        <p:spPr>
          <a:xfrm>
            <a:off x="6629400" y="18288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7" descr="D:\Мои документы\фото\рисунки\Office\ANIMATED\J0254426.GIF"/>
          <p:cNvPicPr/>
          <p:nvPr/>
        </p:nvPicPr>
        <p:blipFill>
          <a:blip r:embed="rId13"/>
          <a:stretch/>
        </p:blipFill>
        <p:spPr>
          <a:xfrm>
            <a:off x="2057400" y="1295280"/>
            <a:ext cx="1428840" cy="1276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8" descr="D:\Мои документы\фото\рисунки\Office\ANIMATED\J0254423.GIF"/>
          <p:cNvPicPr/>
          <p:nvPr/>
        </p:nvPicPr>
        <p:blipFill>
          <a:blip r:embed="rId14"/>
          <a:stretch/>
        </p:blipFill>
        <p:spPr>
          <a:xfrm>
            <a:off x="4572000" y="1523880"/>
            <a:ext cx="13906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голки, журавлини, кігті, зуби, ікла, жала, рога</a:t>
            </a:r>
            <a:br>
              <a:rPr sz="2500"/>
            </a:b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4100" spc="-1" strike="noStrike">
                <a:solidFill>
                  <a:srgbClr val="000000"/>
                </a:solidFill>
                <a:latin typeface="Calibri"/>
                <a:ea typeface="Arial"/>
              </a:rPr>
              <a:t>↓ ═&gt;</a:t>
            </a:r>
            <a:r>
              <a:rPr b="1" lang="ru-RU" sz="4100" spc="-1" strike="noStrike">
                <a:solidFill>
                  <a:srgbClr val="000000"/>
                </a:solidFill>
                <a:latin typeface="Calibri"/>
                <a:ea typeface="Arial"/>
              </a:rPr>
              <a:t> р↑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1" name="Object 2"/>
          <p:cNvGraphicFramePr/>
          <p:nvPr/>
        </p:nvGraphicFramePr>
        <p:xfrm>
          <a:off x="571680" y="1066680"/>
          <a:ext cx="2255760" cy="24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066680"/>
                    <a:ext cx="225576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3" name="Picture 5" descr="3"/>
          <p:cNvPicPr/>
          <p:nvPr/>
        </p:nvPicPr>
        <p:blipFill>
          <a:blip r:embed="rId3"/>
          <a:stretch/>
        </p:blipFill>
        <p:spPr>
          <a:xfrm rot="568200">
            <a:off x="6056280" y="1266840"/>
            <a:ext cx="2594160" cy="2619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j0149627"/>
          <p:cNvPicPr/>
          <p:nvPr/>
        </p:nvPicPr>
        <p:blipFill>
          <a:blip r:embed="rId4"/>
          <a:stretch/>
        </p:blipFill>
        <p:spPr>
          <a:xfrm rot="20930400">
            <a:off x="518760" y="4113360"/>
            <a:ext cx="3178080" cy="24606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4"/>
          <p:cNvSpPr/>
          <p:nvPr/>
        </p:nvSpPr>
        <p:spPr>
          <a:xfrm>
            <a:off x="0" y="2514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"/>
          <p:cNvPicPr/>
          <p:nvPr/>
        </p:nvPicPr>
        <p:blipFill>
          <a:blip r:embed="rId5"/>
          <a:srcRect l="32298" t="28612" r="11042" b="16808"/>
          <a:stretch/>
        </p:blipFill>
        <p:spPr>
          <a:xfrm>
            <a:off x="3214800" y="207180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j0332364"/>
          <p:cNvPicPr/>
          <p:nvPr/>
        </p:nvPicPr>
        <p:blipFill>
          <a:blip r:embed="rId6"/>
          <a:stretch/>
        </p:blipFill>
        <p:spPr>
          <a:xfrm>
            <a:off x="5143680" y="3571920"/>
            <a:ext cx="312732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66ff33"/>
                </a:solidFill>
                <a:latin typeface="Calibri"/>
              </a:rPr>
              <a:t>Тиск. </a:t>
            </a:r>
            <a:br>
              <a:rPr sz="6600"/>
            </a:br>
            <a:r>
              <a:rPr b="1" i="1" lang="uk-UA" sz="6600" spc="-1" strike="noStrike">
                <a:solidFill>
                  <a:srgbClr val="66ff33"/>
                </a:solidFill>
                <a:latin typeface="Calibri"/>
              </a:rPr>
              <a:t>Сила тиску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жучі і колючі предмети та інструмент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 </a:t>
            </a:r>
            <a:r>
              <a:rPr b="1" lang="uk-U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чуємо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  <a:ea typeface="Arial"/>
              </a:rPr>
              <a:t>↓ ═&gt;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  <a:ea typeface="Arial"/>
              </a:rPr>
              <a:t> р↑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9" descr="1"/>
          <p:cNvPicPr/>
          <p:nvPr/>
        </p:nvPicPr>
        <p:blipFill>
          <a:blip r:embed="rId1"/>
          <a:stretch/>
        </p:blipFill>
        <p:spPr>
          <a:xfrm>
            <a:off x="357120" y="1143000"/>
            <a:ext cx="1970280" cy="2714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штык -нож"/>
          <p:cNvPicPr/>
          <p:nvPr/>
        </p:nvPicPr>
        <p:blipFill>
          <a:blip r:embed="rId2">
            <a:alphaModFix amt="57000"/>
          </a:blip>
          <a:stretch/>
        </p:blipFill>
        <p:spPr>
          <a:xfrm>
            <a:off x="3571920" y="2071800"/>
            <a:ext cx="146664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2" name="Picture 11" descr="j0298653"/>
          <p:cNvPicPr/>
          <p:nvPr/>
        </p:nvPicPr>
        <p:blipFill>
          <a:blip r:embed="rId3"/>
          <a:stretch/>
        </p:blipFill>
        <p:spPr>
          <a:xfrm>
            <a:off x="428760" y="4286160"/>
            <a:ext cx="1704960" cy="216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0000016928-thumb"/>
          <p:cNvPicPr/>
          <p:nvPr/>
        </p:nvPicPr>
        <p:blipFill>
          <a:blip r:embed="rId4"/>
          <a:stretch/>
        </p:blipFill>
        <p:spPr>
          <a:xfrm>
            <a:off x="5857920" y="1785960"/>
            <a:ext cx="2951280" cy="2041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08-03"/>
          <p:cNvPicPr/>
          <p:nvPr/>
        </p:nvPicPr>
        <p:blipFill>
          <a:blip r:embed="rId5"/>
          <a:srcRect l="71845" t="28242" r="-514" b="48501"/>
          <a:stretch/>
        </p:blipFill>
        <p:spPr>
          <a:xfrm>
            <a:off x="6929280" y="4357800"/>
            <a:ext cx="1873440" cy="2089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"/>
          <p:cNvPicPr/>
          <p:nvPr/>
        </p:nvPicPr>
        <p:blipFill>
          <a:blip r:embed="rId6"/>
          <a:srcRect l="20058" t="31623" r="2680" b="17060"/>
          <a:stretch/>
        </p:blipFill>
        <p:spPr>
          <a:xfrm>
            <a:off x="3071880" y="4714920"/>
            <a:ext cx="280836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07"/>
          <p:cNvPicPr/>
          <p:nvPr/>
        </p:nvPicPr>
        <p:blipFill>
          <a:blip r:embed="rId1"/>
          <a:stretch/>
        </p:blipFill>
        <p:spPr>
          <a:xfrm>
            <a:off x="250920" y="3357720"/>
            <a:ext cx="4249800" cy="3284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logo"/>
          <p:cNvPicPr/>
          <p:nvPr/>
        </p:nvPicPr>
        <p:blipFill>
          <a:blip r:embed="rId2"/>
          <a:stretch/>
        </p:blipFill>
        <p:spPr>
          <a:xfrm>
            <a:off x="4859280" y="260280"/>
            <a:ext cx="3962520" cy="28926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05"/>
          <p:cNvPicPr/>
          <p:nvPr/>
        </p:nvPicPr>
        <p:blipFill>
          <a:blip r:embed="rId3"/>
          <a:stretch/>
        </p:blipFill>
        <p:spPr>
          <a:xfrm>
            <a:off x="4932360" y="3357720"/>
            <a:ext cx="3851280" cy="3306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kv_85_1"/>
          <p:cNvPicPr/>
          <p:nvPr/>
        </p:nvPicPr>
        <p:blipFill>
          <a:blip r:embed="rId4"/>
          <a:stretch/>
        </p:blipFill>
        <p:spPr>
          <a:xfrm>
            <a:off x="250920" y="260280"/>
            <a:ext cx="4032000" cy="2879640"/>
          </a:xfrm>
          <a:prstGeom prst="rect">
            <a:avLst/>
          </a:prstGeom>
          <a:ln w="0">
            <a:noFill/>
          </a:ln>
        </p:spPr>
      </p:pic>
      <p:sp>
        <p:nvSpPr>
          <p:cNvPr id="320" name="TextBox 5"/>
          <p:cNvSpPr/>
          <p:nvPr/>
        </p:nvSpPr>
        <p:spPr>
          <a:xfrm>
            <a:off x="8587080" y="6429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uk-UA" sz="2500" spc="-1" strike="noStrike">
                <a:solidFill>
                  <a:srgbClr val="000000"/>
                </a:solidFill>
                <a:latin typeface="Calibri"/>
                <a:ea typeface="Arial"/>
              </a:rPr>
              <a:t>Задні колеса вантажівок   подвоєні, гусениці танків, тракторів та лижи роблять широкими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↑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═&gt;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 р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8" descr="танк2"/>
          <p:cNvPicPr/>
          <p:nvPr/>
        </p:nvPicPr>
        <p:blipFill>
          <a:blip r:embed="rId1"/>
          <a:stretch/>
        </p:blipFill>
        <p:spPr>
          <a:xfrm>
            <a:off x="6100920" y="1447920"/>
            <a:ext cx="2809800" cy="3047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лыжи"/>
          <p:cNvPicPr/>
          <p:nvPr/>
        </p:nvPicPr>
        <p:blipFill>
          <a:blip r:embed="rId2"/>
          <a:stretch/>
        </p:blipFill>
        <p:spPr>
          <a:xfrm>
            <a:off x="3554280" y="2438280"/>
            <a:ext cx="2291040" cy="3364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1" descr="resA975DCAD-264D-4ACE-88FE-8EEB520ED82A"/>
          <p:cNvPicPr/>
          <p:nvPr/>
        </p:nvPicPr>
        <p:blipFill>
          <a:blip r:embed="rId3"/>
          <a:stretch/>
        </p:blipFill>
        <p:spPr>
          <a:xfrm>
            <a:off x="208080" y="1371600"/>
            <a:ext cx="2619360" cy="2438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3" descr="resB297BB82-E860-4705-944A-21890FE156F3"/>
          <p:cNvPicPr/>
          <p:nvPr/>
        </p:nvPicPr>
        <p:blipFill>
          <a:blip r:embed="rId4"/>
          <a:stretch/>
        </p:blipFill>
        <p:spPr>
          <a:xfrm>
            <a:off x="6070680" y="4724280"/>
            <a:ext cx="3073320" cy="1914480"/>
          </a:xfrm>
          <a:prstGeom prst="rect">
            <a:avLst/>
          </a:prstGeom>
          <a:ln w="0">
            <a:noFill/>
          </a:ln>
        </p:spPr>
      </p:pic>
      <p:sp>
        <p:nvSpPr>
          <p:cNvPr id="327" name="TextBox 8"/>
          <p:cNvSpPr/>
          <p:nvPr/>
        </p:nvSpPr>
        <p:spPr>
          <a:xfrm>
            <a:off x="8658360" y="65008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"/>
          <p:cNvPicPr/>
          <p:nvPr/>
        </p:nvPicPr>
        <p:blipFill>
          <a:blip r:embed="rId5"/>
          <a:srcRect l="31250" t="23345" r="29965" b="4228"/>
          <a:stretch/>
        </p:blipFill>
        <p:spPr>
          <a:xfrm>
            <a:off x="642960" y="3857760"/>
            <a:ext cx="2286000" cy="2744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TextBox 5" descr=""/>
          <p:cNvPicPr/>
          <p:nvPr/>
        </p:nvPicPr>
        <p:blipFill>
          <a:blip r:embed="rId2"/>
          <a:stretch/>
        </p:blipFill>
        <p:spPr>
          <a:xfrm>
            <a:off x="-60480" y="-122400"/>
            <a:ext cx="9259920" cy="1951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Обчислити тиск твердого тіла на опо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0560" y="1000080"/>
            <a:ext cx="889308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Calibri"/>
              </a:rPr>
              <a:t>Обладнання: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динамометр лабораторний, дерев'яний брусок, ліній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                   </a:t>
            </a:r>
            <a:r>
              <a:rPr b="0" lang="uk-UA" sz="2400" spc="-1" strike="noStrike">
                <a:solidFill>
                  <a:srgbClr val="0000ff"/>
                </a:solidFill>
                <a:latin typeface="Calibri"/>
              </a:rPr>
              <a:t>Порядок виконання робо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иміряйте силу тиску бруска на стіл (вагу бруск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иміряйте ширину, довжину і висоту брус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икористовуючи всі отримані дані, обчисліть площу найбільшої і найменшої граней брус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бчисліть тиск, який утворює брусок на стіл найбільшою і найменшою гран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езультати запишіть в зоши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а основі отриманих даних, зробіть виснов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2857680" y="5135400"/>
            <a:ext cx="3438360" cy="17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25160" y="1142640"/>
            <a:ext cx="8366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.  </a:t>
            </a:r>
            <a:r>
              <a:rPr b="1" lang="uk-UA" sz="2000" spc="-1" strike="noStrike">
                <a:solidFill>
                  <a:srgbClr val="ff3300"/>
                </a:solidFill>
                <a:latin typeface="Calibri"/>
              </a:rPr>
              <a:t>Ім</a:t>
            </a:r>
            <a:r>
              <a:rPr b="1" lang="el-GR" sz="2000" spc="-1" strike="noStrike">
                <a:solidFill>
                  <a:srgbClr val="ff3300"/>
                </a:solidFill>
                <a:latin typeface="Calibri"/>
              </a:rPr>
              <a:t>΄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ям, </a:t>
            </a:r>
            <a:r>
              <a:rPr b="1" lang="uk-UA" sz="2000" spc="-1" strike="noStrike">
                <a:solidFill>
                  <a:srgbClr val="ff3300"/>
                </a:solidFill>
                <a:latin typeface="Calibri"/>
              </a:rPr>
              <a:t>якого вченого названа одиниця виміру тиску у Міжнародній системі одиниць (Сі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Галілей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В. Ньют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Б. Гук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Г. Паска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2. За </a:t>
            </a:r>
            <a:r>
              <a:rPr b="1" lang="uk-UA" sz="2000" spc="-1" strike="noStrike">
                <a:solidFill>
                  <a:srgbClr val="ff3300"/>
                </a:solidFill>
                <a:latin typeface="Calibri"/>
              </a:rPr>
              <a:t>якою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 формулою </a:t>
            </a:r>
            <a:r>
              <a:rPr b="1" lang="uk-UA" sz="2000" spc="-1" strike="noStrike">
                <a:solidFill>
                  <a:srgbClr val="ff3300"/>
                </a:solidFill>
                <a:latin typeface="Calibri"/>
              </a:rPr>
              <a:t>визначається тиск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 N=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/ t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= F/ 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= S / F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.  F = m 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3. В </a:t>
            </a:r>
            <a:r>
              <a:rPr b="1" lang="uk-UA" sz="2000" spc="-1" strike="noStrike">
                <a:solidFill>
                  <a:srgbClr val="ff3300"/>
                </a:solidFill>
                <a:latin typeface="Calibri"/>
              </a:rPr>
              <a:t>якому випадку брусок оказує на стіл найменший тиск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1590840" y="4724280"/>
            <a:ext cx="1672920" cy="1143000"/>
          </a:xfrm>
          <a:prstGeom prst="cube">
            <a:avLst>
              <a:gd name="adj" fmla="val 173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3990960" y="4800600"/>
            <a:ext cx="1746360" cy="914400"/>
          </a:xfrm>
          <a:prstGeom prst="cube">
            <a:avLst>
              <a:gd name="adj" fmla="val 569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 rot="16200000">
            <a:off x="5949720" y="4857480"/>
            <a:ext cx="1828800" cy="800280"/>
          </a:xfrm>
          <a:prstGeom prst="cube">
            <a:avLst>
              <a:gd name="adj" fmla="val 569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0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5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5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75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61840" y="457200"/>
            <a:ext cx="7228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4.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На столі лежить спічечний коробок. Його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повернули і поставили на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бокову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грань. Тому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площа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 опори коробка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зменшилася 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в 2, 2 рази. Як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змінився тиск</a:t>
            </a: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 на 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сті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. Не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мінив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Б. Зменшився в 2,2 ра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В. Збільшився в 2,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 ра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.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Недостатньо даних для відповіді на запит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5</a:t>
            </a:r>
            <a:r>
              <a:rPr b="1" lang="uk-UA" sz="2400" spc="-1" strike="noStrike">
                <a:solidFill>
                  <a:srgbClr val="ff3300"/>
                </a:solidFill>
                <a:latin typeface="Calibri"/>
              </a:rPr>
              <a:t>. Хто оказує більший тиск на почву – слон або коз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А. Сл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.  К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. Вони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оказують однаковий ти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.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Недостатньо даних для відповіді на запит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0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10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70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10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8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ЕВІР СЕБ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98600" y="1828800"/>
          <a:ext cx="7929360" cy="2438280"/>
        </p:xfrm>
        <a:graphic>
          <a:graphicData uri="http://schemas.openxmlformats.org/drawingml/2006/table">
            <a:tbl>
              <a:tblPr/>
              <a:tblGrid>
                <a:gridCol w="3054240"/>
                <a:gridCol w="1009800"/>
                <a:gridCol w="977760"/>
                <a:gridCol w="979560"/>
                <a:gridCol w="976320"/>
                <a:gridCol w="931680"/>
              </a:tblGrid>
              <a:tr h="1064520"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№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пит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вильний варіант відповід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Rectangle 75"/>
          <p:cNvSpPr/>
          <p:nvPr/>
        </p:nvSpPr>
        <p:spPr>
          <a:xfrm>
            <a:off x="498600" y="4267080"/>
            <a:ext cx="3055680" cy="1219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Ключо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4"/>
          <p:cNvSpPr/>
          <p:nvPr/>
        </p:nvSpPr>
        <p:spPr>
          <a:xfrm>
            <a:off x="3554280" y="4267080"/>
            <a:ext cx="101772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6"/>
          <p:cNvSpPr/>
          <p:nvPr/>
        </p:nvSpPr>
        <p:spPr>
          <a:xfrm>
            <a:off x="4572000" y="4267080"/>
            <a:ext cx="94608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7"/>
          <p:cNvSpPr/>
          <p:nvPr/>
        </p:nvSpPr>
        <p:spPr>
          <a:xfrm>
            <a:off x="5518080" y="4267080"/>
            <a:ext cx="101916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8"/>
          <p:cNvSpPr/>
          <p:nvPr/>
        </p:nvSpPr>
        <p:spPr>
          <a:xfrm>
            <a:off x="6537240" y="4267080"/>
            <a:ext cx="94608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9"/>
          <p:cNvSpPr/>
          <p:nvPr/>
        </p:nvSpPr>
        <p:spPr>
          <a:xfrm>
            <a:off x="7483320" y="4267080"/>
            <a:ext cx="944640" cy="121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 якою фізичною величиною ви познайомились сьогодні на уроці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у силу називають силою тис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Що таке тис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а основна одиниця вимірювання тис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2571840" y="714240"/>
            <a:ext cx="378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ff33"/>
                </a:solidFill>
                <a:latin typeface="Calibri"/>
              </a:rPr>
              <a:t>Підсум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672624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14320" y="1071360"/>
            <a:ext cx="6725880" cy="54766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§17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права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7 (1 -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642960" y="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Інформація про домашнє завдання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003640" y="6093000"/>
            <a:ext cx="38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libri"/>
              </a:rPr>
              <a:t>Розрахуйте тис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2857680" y="1500120"/>
            <a:ext cx="55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Розрахуйте тиск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!cid_image006"/>
          <p:cNvPicPr/>
          <p:nvPr/>
        </p:nvPicPr>
        <p:blipFill>
          <a:blip r:embed="rId1"/>
          <a:stretch/>
        </p:blipFill>
        <p:spPr>
          <a:xfrm>
            <a:off x="2071800" y="2500200"/>
            <a:ext cx="2857320" cy="408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9" name="Picture 3" descr="!cid_image024"/>
          <p:cNvPicPr/>
          <p:nvPr/>
        </p:nvPicPr>
        <p:blipFill>
          <a:blip r:embed="rId2"/>
          <a:stretch/>
        </p:blipFill>
        <p:spPr>
          <a:xfrm>
            <a:off x="5286240" y="2500200"/>
            <a:ext cx="2857680" cy="4071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9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9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Тиск різко падає, можливі опад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Захисники команди “Спартака” не витримали тиску нападаючих команди “Динамо”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У хворого раптово підвищився тис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Наутилус” занурився в бездонні глибини, не зважаючи на великий тиск зовнішнього середовищ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Calibri"/>
              </a:rPr>
              <a:t>- Це була жінка, - сказав комісар Мегре, - тільки тоненька шпилька жіночих черевичків могла спричинити такий тис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user-1653-1177355155"/>
          <p:cNvPicPr/>
          <p:nvPr/>
        </p:nvPicPr>
        <p:blipFill>
          <a:blip r:embed="rId1"/>
          <a:stretch/>
        </p:blipFill>
        <p:spPr>
          <a:xfrm>
            <a:off x="250920" y="836640"/>
            <a:ext cx="8532720" cy="5565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2071800" y="1428840"/>
            <a:ext cx="5286240" cy="2360520"/>
          </a:xfrm>
          <a:prstGeom prst="rect">
            <a:avLst/>
          </a:prstGeom>
          <a:solidFill>
            <a:srgbClr val="00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00"/>
                </a:solidFill>
                <a:latin typeface="Script MT Bold"/>
              </a:rPr>
              <a:t>На кого з них ти бу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00"/>
                </a:solidFill>
                <a:latin typeface="Script MT Bold"/>
              </a:rPr>
              <a:t>схож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00"/>
                </a:solidFill>
                <a:latin typeface="Script MT Bold"/>
              </a:rPr>
              <a:t>сьогодні на уроці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5292720" y="616572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66"/>
                </a:solidFill>
                <a:latin typeface="Tahoma"/>
              </a:rPr>
              <a:t>0 бал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3492360" y="616572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66"/>
                </a:solidFill>
                <a:latin typeface="Tahoma"/>
              </a:rPr>
              <a:t>1 ба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979640" y="616572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66"/>
                </a:solidFill>
                <a:latin typeface="Tahoma"/>
              </a:rPr>
              <a:t>2 ба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24000" y="616572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66"/>
                </a:solidFill>
                <a:latin typeface="Tahoma"/>
              </a:rPr>
              <a:t>3 ба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2"/>
          <p:cNvSpPr txBox="1"/>
          <p:nvPr/>
        </p:nvSpPr>
        <p:spPr>
          <a:xfrm rot="20713200">
            <a:off x="461520" y="2188800"/>
            <a:ext cx="845028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35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cfcfd"/>
                  </a:solidFill>
                  <a:miter/>
                </a:ln>
                <a:gradFill rotWithShape="0">
                  <a:gsLst>
                    <a:gs pos="0">
                      <a:srgbClr val="84b1ff"/>
                    </a:gs>
                    <a:gs pos="100000">
                      <a:srgbClr val="385d8a"/>
                    </a:gs>
                  </a:gsLst>
                  <a:lin ang="6288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        </a:t>
            </a:r>
            <a:endParaRPr b="1" lang="en-US" sz="1800" spc="1" strike="noStrike">
              <a:ln w="17640">
                <a:solidFill>
                  <a:srgbClr val="fcfcfd"/>
                </a:solidFill>
                <a:miter/>
              </a:ln>
              <a:gradFill rotWithShape="0">
                <a:gsLst>
                  <a:gs pos="0">
                    <a:srgbClr val="84b1ff"/>
                  </a:gs>
                  <a:gs pos="100000">
                    <a:srgbClr val="385d8a"/>
                  </a:gs>
                </a:gsLst>
                <a:lin ang="6288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549000"/>
            <a:ext cx="8521560" cy="4165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Що таке си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Які сили ви вже знає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ід чого залежить результат дії с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Calibri"/>
              </a:rPr>
              <a:t>Силу, яка прикладається перпендикулярно до поверхні, називають силою тиску на цю поверхню і позначають 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F</a:t>
            </a:r>
            <a:r>
              <a:rPr b="1" lang="uk-UA" sz="3200" spc="-1" strike="noStrike" baseline="-25000">
                <a:solidFill>
                  <a:srgbClr val="800080"/>
                </a:solidFill>
                <a:latin typeface="Calibri"/>
              </a:rPr>
              <a:t>т</a:t>
            </a:r>
            <a:r>
              <a:rPr b="1" lang="uk-UA" sz="3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37" descr="http://class-fizika.narod.ru/7_class/7_davl/davl.gif"/>
          <p:cNvPicPr/>
          <p:nvPr/>
        </p:nvPicPr>
        <p:blipFill>
          <a:blip r:embed="rId1"/>
          <a:stretch/>
        </p:blipFill>
        <p:spPr>
          <a:xfrm>
            <a:off x="4929120" y="4500720"/>
            <a:ext cx="1656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6"/>
          <p:cNvGrpSpPr/>
          <p:nvPr/>
        </p:nvGrpSpPr>
        <p:grpSpPr>
          <a:xfrm>
            <a:off x="1428840" y="1857240"/>
            <a:ext cx="6572160" cy="3786120"/>
            <a:chOff x="1428840" y="1857240"/>
            <a:chExt cx="6572160" cy="3786120"/>
          </a:xfrm>
        </p:grpSpPr>
        <p:sp>
          <p:nvSpPr>
            <p:cNvPr id="214" name="AutoShape 17"/>
            <p:cNvSpPr/>
            <p:nvPr/>
          </p:nvSpPr>
          <p:spPr>
            <a:xfrm>
              <a:off x="1428840" y="1857240"/>
              <a:ext cx="6572160" cy="3786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1436400" y="2446920"/>
              <a:ext cx="2003400" cy="2027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5989320" y="3604680"/>
              <a:ext cx="2003400" cy="202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20"/>
            <p:cNvSpPr/>
            <p:nvPr/>
          </p:nvSpPr>
          <p:spPr>
            <a:xfrm>
              <a:off x="1800360" y="2737440"/>
              <a:ext cx="1274400" cy="288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1"/>
            <p:cNvSpPr/>
            <p:nvPr/>
          </p:nvSpPr>
          <p:spPr>
            <a:xfrm>
              <a:off x="6354720" y="3025800"/>
              <a:ext cx="1275840" cy="288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2"/>
            <p:cNvSpPr/>
            <p:nvPr/>
          </p:nvSpPr>
          <p:spPr>
            <a:xfrm>
              <a:off x="1982160" y="2158200"/>
              <a:ext cx="0" cy="17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3"/>
            <p:cNvSpPr/>
            <p:nvPr/>
          </p:nvSpPr>
          <p:spPr>
            <a:xfrm>
              <a:off x="2711160" y="2158200"/>
              <a:ext cx="0" cy="17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4"/>
            <p:cNvSpPr/>
            <p:nvPr/>
          </p:nvSpPr>
          <p:spPr>
            <a:xfrm>
              <a:off x="1982160" y="21582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5"/>
            <p:cNvSpPr/>
            <p:nvPr/>
          </p:nvSpPr>
          <p:spPr>
            <a:xfrm>
              <a:off x="1800360" y="215820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6"/>
            <p:cNvSpPr/>
            <p:nvPr/>
          </p:nvSpPr>
          <p:spPr>
            <a:xfrm>
              <a:off x="2529360" y="215820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7"/>
            <p:cNvSpPr/>
            <p:nvPr/>
          </p:nvSpPr>
          <p:spPr>
            <a:xfrm>
              <a:off x="6536160" y="2446920"/>
              <a:ext cx="0" cy="17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8"/>
            <p:cNvSpPr/>
            <p:nvPr/>
          </p:nvSpPr>
          <p:spPr>
            <a:xfrm>
              <a:off x="7265520" y="2446920"/>
              <a:ext cx="0" cy="173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9"/>
            <p:cNvSpPr/>
            <p:nvPr/>
          </p:nvSpPr>
          <p:spPr>
            <a:xfrm>
              <a:off x="6354720" y="41842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0"/>
            <p:cNvSpPr/>
            <p:nvPr/>
          </p:nvSpPr>
          <p:spPr>
            <a:xfrm>
              <a:off x="7082280" y="418428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31"/>
            <p:cNvSpPr/>
            <p:nvPr/>
          </p:nvSpPr>
          <p:spPr>
            <a:xfrm>
              <a:off x="2165400" y="2158200"/>
              <a:ext cx="363600" cy="578880"/>
            </a:xfrm>
            <a:prstGeom prst="can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32"/>
            <p:cNvSpPr/>
            <p:nvPr/>
          </p:nvSpPr>
          <p:spPr>
            <a:xfrm>
              <a:off x="6718320" y="2446920"/>
              <a:ext cx="363600" cy="578880"/>
            </a:xfrm>
            <a:prstGeom prst="can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Відеофрагмент_x000b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571680" y="2743200"/>
            <a:ext cx="3419280" cy="1905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Результат дії сили                          залежить ві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деформація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тіл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при </a:t>
            </a: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ї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взаємодії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1" lang="uk-UA" sz="20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3990960" y="3962520"/>
            <a:ext cx="174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5737320" y="15238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5737320" y="1523880"/>
            <a:ext cx="72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6464160" y="714240"/>
            <a:ext cx="2109960" cy="119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знач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само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с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5737320" y="38098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5737320" y="5791320"/>
            <a:ext cx="65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6391440" y="4495680"/>
            <a:ext cx="2255760" cy="1600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площ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поверхні,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яку ця 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497d"/>
                </a:solidFill>
                <a:latin typeface="Calibri"/>
              </a:rPr>
              <a:t>ді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934920" y="4648320"/>
            <a:ext cx="2837160" cy="914400"/>
          </a:xfrm>
          <a:prstGeom prst="rect">
            <a:avLst/>
          </a:prstGeom>
          <a:solidFill>
            <a:srgbClr val="99ccff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uk-UA" sz="4400" spc="-1" strike="noStrike">
                <a:solidFill>
                  <a:srgbClr val="1f497d"/>
                </a:solidFill>
                <a:latin typeface="Calibri"/>
              </a:rPr>
              <a:t>ти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6827760" y="1905120"/>
            <a:ext cx="1382760" cy="990360"/>
          </a:xfrm>
          <a:prstGeom prst="rect">
            <a:avLst/>
          </a:prstGeom>
          <a:solidFill>
            <a:srgbClr val="cc99ff">
              <a:alpha val="3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6827760" y="3352680"/>
            <a:ext cx="1382760" cy="1143000"/>
          </a:xfrm>
          <a:prstGeom prst="rect">
            <a:avLst/>
          </a:prstGeom>
          <a:solidFill>
            <a:srgbClr val="ffff99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1517760" y="5562720"/>
            <a:ext cx="1817640" cy="838080"/>
          </a:xfrm>
          <a:prstGeom prst="rect">
            <a:avLst/>
          </a:prstGeom>
          <a:solidFill>
            <a:srgbClr val="3366ff">
              <a:alpha val="3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85840" y="285480"/>
            <a:ext cx="8640720" cy="2214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Calibri"/>
              </a:rPr>
              <a:t>Величина, що характеризує дію сили на фізичне тіло і чисельно дорівнює відношенню сили, яка діє перпендикулярно поверхні, до площі цієї поверхні, називається механічним тиск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428760" y="3071880"/>
            <a:ext cx="3311280" cy="2000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5857920" y="3000240"/>
            <a:ext cx="2843280" cy="1992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{5E85F754-9643-4406-BC30-522144BE5AE4}"/>
          <p:cNvPicPr/>
          <p:nvPr/>
        </p:nvPicPr>
        <p:blipFill>
          <a:blip r:embed="rId3"/>
          <a:srcRect l="3983" t="2702" r="62165" b="56762"/>
          <a:stretch/>
        </p:blipFill>
        <p:spPr>
          <a:xfrm>
            <a:off x="3500280" y="4572000"/>
            <a:ext cx="2347920" cy="20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0504d"/>
                </a:solidFill>
                <a:latin typeface="Calibri"/>
              </a:rPr>
              <a:t>Одиниця вимірювання тиску в системі С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71600" y="1143000"/>
            <a:ext cx="47862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alibri"/>
              </a:rPr>
              <a:t>1 Паскаль – це такий тиск, що його чинить сила 1 Н на поверхню площею 1 м</a:t>
            </a:r>
            <a:r>
              <a:rPr b="1" lang="uk-UA" sz="25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uk-UA" sz="2500" spc="-1" strike="noStrike">
                <a:solidFill>
                  <a:srgbClr val="ffffff"/>
                </a:solidFill>
                <a:latin typeface="Calibri"/>
              </a:rPr>
              <a:t> перпендикулярно до цієї площі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3387960" cy="153180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5"/>
          <p:cNvSpPr/>
          <p:nvPr/>
        </p:nvSpPr>
        <p:spPr>
          <a:xfrm>
            <a:off x="785880" y="2928960"/>
            <a:ext cx="79293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системні одиниці тиск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1) технічна атмосфера (а т): 1 а т = 9,8 * 10</a:t>
            </a:r>
            <a:r>
              <a:rPr b="1" lang="uk-UA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П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) Фізична  атмосфера (а т м), дорівнює тиску, який створює стовп ртуті висотою 760 мм:  1 а т м = 1,013 а т = 1,013 * 10</a:t>
            </a:r>
            <a:r>
              <a:rPr b="1" lang="uk-UA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3) міліметр ртутного стовпа (мм р т. с т.): 1 мм р т. ст. = 133,3 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4) бар (в метеорології  використовують мілібар): 1 бар = 10</a:t>
            </a:r>
            <a:r>
              <a:rPr b="1" lang="uk-UA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Па, 1 м бар = 10</a:t>
            </a:r>
            <a:r>
              <a:rPr b="1" lang="uk-UA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6053040" y="1779480"/>
            <a:ext cx="2975040" cy="832824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6" descr=""/>
          <p:cNvPicPr/>
          <p:nvPr/>
        </p:nvPicPr>
        <p:blipFill>
          <a:blip r:embed="rId2"/>
          <a:stretch/>
        </p:blipFill>
        <p:spPr>
          <a:xfrm>
            <a:off x="706320" y="85680"/>
            <a:ext cx="7656480" cy="11527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8"/>
          <p:cNvSpPr/>
          <p:nvPr/>
        </p:nvSpPr>
        <p:spPr>
          <a:xfrm>
            <a:off x="2928960" y="121428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cademia"/>
              </a:rPr>
              <a:t>(1623-16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3"/>
          <a:stretch/>
        </p:blipFill>
        <p:spPr>
          <a:xfrm>
            <a:off x="8091360" y="214200"/>
            <a:ext cx="1052640" cy="1540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4"/>
          <a:stretch/>
        </p:blipFill>
        <p:spPr>
          <a:xfrm>
            <a:off x="214200" y="0"/>
            <a:ext cx="952560" cy="1504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"/>
          <p:cNvPicPr/>
          <p:nvPr/>
        </p:nvPicPr>
        <p:blipFill>
          <a:blip r:embed="rId5"/>
          <a:stretch/>
        </p:blipFill>
        <p:spPr>
          <a:xfrm>
            <a:off x="214200" y="3571920"/>
            <a:ext cx="1071720" cy="1628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6"/>
          <a:stretch/>
        </p:blipFill>
        <p:spPr>
          <a:xfrm>
            <a:off x="214200" y="1643040"/>
            <a:ext cx="1214640" cy="1851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7"/>
          <a:stretch/>
        </p:blipFill>
        <p:spPr>
          <a:xfrm>
            <a:off x="214200" y="5319720"/>
            <a:ext cx="1047960" cy="153828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14"/>
          <p:cNvSpPr/>
          <p:nvPr/>
        </p:nvSpPr>
        <p:spPr>
          <a:xfrm>
            <a:off x="1500120" y="1928880"/>
            <a:ext cx="400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HeinrichScript"/>
              </a:rPr>
              <a:t> </a:t>
            </a:r>
            <a:r>
              <a:rPr b="1" i="1" lang="uk-UA" sz="2800" spc="-1" strike="noStrike">
                <a:solidFill>
                  <a:srgbClr val="d7e4bd"/>
                </a:solidFill>
                <a:latin typeface="HeinrichScript"/>
              </a:rPr>
              <a:t>Французький         математик, фізик   релігіозний філософ та письме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5"/>
          <p:cNvSpPr/>
          <p:nvPr/>
        </p:nvSpPr>
        <p:spPr>
          <a:xfrm rot="20845800">
            <a:off x="1556280" y="3866040"/>
            <a:ext cx="515304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Мы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усть же человек знает, чего он стоит. Пусть любит себя, ибо он способен к добру», «пусть презирает себя, ибо способность к добру остается в нем втуне»… 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Паск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0:54:39Z</dcterms:created>
  <dc:creator>Admin</dc:creator>
  <dc:description/>
  <dc:language>en-US</dc:language>
  <cp:lastModifiedBy>Admin</cp:lastModifiedBy>
  <dcterms:modified xsi:type="dcterms:W3CDTF">2011-02-15T10:00:08Z</dcterms:modified>
  <cp:revision>9</cp:revision>
  <dc:subject/>
  <dc:title>Слайд 1</dc:title>
</cp:coreProperties>
</file>