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4.png" ContentType="image/png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2821-8508-4239-8609-78FC81E5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605D-C8EE-4023-81C1-F0F6D25F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96EAC-227C-4794-ADB9-8525A144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B04BF-C81D-437F-8A92-226F8F7F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053FB-C348-4F0F-B0EF-EAB959FC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C3521-DED5-445F-AA0E-737F9CD5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A2C7C-DCB2-43A5-AD58-7E583007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46050-6E19-4BFE-AF0D-FE4F3F29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1D4EF-7CD2-4E83-B26A-CF4296E2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08829-B1C2-4672-8935-313097DCB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41103B-7E0B-4D5F-A642-5E6A13D9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DF31A3-DA40-4E76-995F-B3458073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8CDC-05C4-41E6-899A-96D6DAE3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BC765-8378-4D51-B5FA-B847D5F6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559391-A74B-4551-9A88-4857CA22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BAC18-D8CB-4768-BFAD-2FDDDF64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F36C7-891B-4C67-9BD9-BC2CCE60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505FA-A221-42B0-9335-1CE2B5E5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91F5D-11D6-44AF-93AF-BA742D51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505AFD-2CC0-4D21-9CB8-8C634985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2A98C-22D8-4B36-BB47-D620C60A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AEB306-D800-466D-B8F3-DBBFD4E2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B0C72-38B5-487E-90D0-61D1A376B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7B02-5E56-4A0F-820D-D0436D6A3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54EE2-9B8E-48AD-B2AC-7AB13DC8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8DC04-56EE-4A22-A63C-3336606B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2DA54-06E3-4573-BF5D-D8691A53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E8187-CD81-4CE3-B962-CA339C6F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4D758-EEE7-4CF0-B82A-7C68A765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3A20F-218D-494C-8FEF-0AEA4E61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4F55F-BB59-4D04-BDBA-98D2F831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384B1-CD0C-400C-8985-ADF835E6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64EE4-68B7-499D-AB90-CE501ED7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FC49B-D3C5-4E18-8E1C-5F7A42F6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41E4-0EAA-40B5-BF2D-A759E309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5ADFB-CDB1-4859-992F-BF5F6F0B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A8058-1B81-4ABB-A60E-DD25B115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0ADE5-937C-4C86-B3F5-161E5CBCA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60535-DFFB-4A7F-949C-132E7DA4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691DD-1F01-4852-851D-A307A8F4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AC4606-10D3-4A62-80B3-ED248EC4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15C37-1FDA-49AA-9E12-EF777170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62481C-8A32-4436-B25B-C4539604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43FA5E-6C95-4BF6-B12D-6E5BFBC7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948066-A25C-44BD-BBAF-660A7C0A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ACE1-FCA6-4E43-B15A-0ACF66A8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4D6D3-7C28-42CE-9276-D9E48703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8C23B2-54C9-49E3-A2CF-E65FF7A7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DDC3A-AB0F-404F-AD07-65694DCA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4821A9-ECFD-4E92-A908-F9C14662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BE13B5-9617-4728-A414-05B502734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FABF52-F33A-4115-8F9B-6898534C0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D750F7-2B54-45D6-9D12-3D71E99D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880351-DF62-421D-90B4-5F49A54E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C58955-A40A-45FE-804A-F507DB0C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A11C5E-A009-46A9-B55B-EC82DFB3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8ABA-1CEA-4305-AED6-B9EC6AE3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2CBD32-7757-455E-BD96-5CC10632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157F2C-3FE1-4841-944E-1946CF82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9101A1-F653-45E6-9DA8-FB68070B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648C36-2BC9-49A4-B1C6-01283424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552898-5E17-40C0-96FE-D128A270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849D8D-3195-453B-A1FE-6A863A823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122536-D855-421F-AD62-469054F3F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DC1B-7E66-4249-B126-95735099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0679-2C8F-46CC-9652-4D680B67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A644-B336-42CA-A67A-4D9339F3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5325-1141-4C64-B689-EB8DA74D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FBE4-A552-481C-A480-DB4DEE38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1232-9724-420E-B599-6EBFC49B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C250-0310-41A2-AD71-9C992286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CA18-8EA1-4B2D-9BA6-A39B5C68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25FD-C651-4F55-94C0-E311B183F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534B-8111-44B0-985E-F1DBF021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84864-1356-4061-9DC6-AB1F5B45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8347F-C60F-4F04-A7CA-E09E08F2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FDCEC-D089-444B-81F5-62F1A951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A16A5-0647-4F40-822C-69B4D44E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703BA-4570-423B-8D38-11886BE0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101F-1C77-47C6-86AA-6A5C73E1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D763B-DF56-4DBD-9A95-176978FF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C9CD2-D6CC-463D-A5A7-91A80C6D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38528-808B-4D98-ACC1-CC0800BC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79AD2-EFA3-4AA5-B2CB-527EFC34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39A61-9B24-4540-9F9C-1EF0993B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714B0-8F09-4858-9127-A2331AEB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2B692-4A08-4985-BADF-286E074FF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4D18E-C1F8-4ED1-B5D5-C5B361DB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5931B-97F5-4D04-AD41-D7385313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6882B-AEB8-4D2A-9122-145AAEC2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90F8-ED3D-4A54-9DE7-11AC8DD7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76B35-6341-41DC-BEF5-F59597DB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B6DD0-3359-4A28-A174-FE53A006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6E4F1-AD16-4B61-AECF-629D76ED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E68F0-B238-4D9E-B05B-933866B4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7F58C-015C-4037-A6C2-FC44B51F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81613-878A-4A2F-8E74-6A37F2B3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70211-6906-40D1-9CB0-92AAD328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6222F-BF24-4FB0-AACF-F74CE1C7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B7C92-7AA4-48E5-8645-7AA186D0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0B102-7350-4B7F-8E6E-AF9F5A0B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F3EC-5F47-4758-9B9B-9E4D9B4F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1DCCB-8DFD-4AA8-B1B4-A09D7FDE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87BFD-8474-40FB-9892-069BE681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7AFEC-4085-4544-9DDB-0B4F5079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EB640-983E-422B-94D6-F7C54302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26CD1-273F-479E-B53F-6257408F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BCB31-E3E8-4B33-A598-EFB89D3A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DA9B5-A911-4411-965A-25A5CAF3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0C9A0-7A99-4E34-B648-5D7C6562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B2A6A-FC40-40B4-ACF7-C4B4BA63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427BB-E78B-48CE-AEDB-B90F41D8E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80EF-3E3B-4792-89F9-233FDB63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DF0EE-41B0-48D3-87C4-795494857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8632F-0402-4DE9-90C3-7A8EE9088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B2507-24C0-4976-A8C0-FF5D5106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E8CFB-C980-4E03-9C90-7E2A5D12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D07B4-D615-436A-96BE-9C0FAA76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D9392-2282-40AD-AF01-98DAC573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F6D54-ABDF-480F-BFA5-9AF30D5B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6D7EE-D65B-40E7-9A9A-E5BAD903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EC43A-9905-4DAE-A9F3-927BEF63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D2830-BA1F-44F9-AD76-3AAA651F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245C-813F-49E2-9477-B444897C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0982A-ACB3-41FE-B5CD-2B323DD5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5C485-25AC-4F46-A0E1-1B5270DEC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BE264-E5E3-4917-9852-D2E61EEFF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FD9A5-9C89-48B4-A641-C8152050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9045E-279C-4A40-8FEB-8274B3C2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D6339-331D-44FE-9AD5-2BC361BE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3221A-E534-491A-9245-6DAB1A0D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3443C-9277-4755-926D-6FB4FC27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0FE25-333A-4AAC-B6DE-C122A19A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DD15D-35E0-4DCE-A2E6-119B4E0E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4B8D-D73E-4BEB-AF1E-A3284D1E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F53A6-D92D-4ADB-9C83-2A46B3CB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AC9E6-A348-4A12-A01E-5A3AA1AE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4286D-5967-47CE-9089-AB73F249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CA7C1-4E22-4095-A7A0-2C108C6AB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74B8F-8480-4DDB-8891-4835529E9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A130D-A35C-42C9-9D94-6B58D380A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9E72E-85D3-46D7-9954-0E9D724E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AF0DC-959E-4F08-B6C9-A51292AE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27BBC-54BA-4737-A8B7-8F4DC8AF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F7A77-99A7-4A84-9297-7D3EBE5D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8D2D-B1A4-4F2D-A51A-83C762E5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B5A2E-574A-4D93-91BA-D8BA9DB3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28585-26B5-4818-AF22-5AE608F7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18850-5B20-4123-A538-8644F080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63DA5-1BC4-4725-AC12-A6F6D8A2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C7FCA-432B-4A14-AB0E-76400494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415AC-109F-4F37-BDD3-2A1FCB2DC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BDCBB-475C-4C2C-9438-4B2D21DB4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F08CD-6854-4E26-8A3A-09D2A7A9A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7C89A-5CE7-4BFF-9C93-6627247F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7A3E0-917D-4131-92C7-B074F70B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7893-A124-46FA-8C4F-258C7872F2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529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33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558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9827-8CF3-45F4-A51B-1EC48663B48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607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611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4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636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02C0-6608-47EC-BC88-511F32F812D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637D-250E-4650-8F54-A862B4BC884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73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73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73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dt" idx="3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ftr" idx="3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sldNum" idx="3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117D-76C1-46CA-B15E-3E28DEFC7070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51C4-6342-416F-B6D0-B8D4161A62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F1A0-F828-4336-BD5E-EAC554DCCF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FF21-A857-442C-AB66-4165111898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79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92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5EA1-71A9-46D1-947F-86253EACC3C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59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72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4B20-8605-4472-AF15-A501C8FCA4C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F1D2-992B-4428-8B38-6A794B74C67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4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7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7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7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7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9C20-7DE5-471C-A121-223120D61BD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3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3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3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4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4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0F76-C312-468B-A056-B8045AD2E4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WordArt 6"/>
          <p:cNvSpPr txBox="1"/>
          <p:nvPr/>
        </p:nvSpPr>
        <p:spPr>
          <a:xfrm>
            <a:off x="1116000" y="333360"/>
            <a:ext cx="6491160" cy="77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отоефект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82" name="Text Box 10"/>
          <p:cNvSpPr/>
          <p:nvPr/>
        </p:nvSpPr>
        <p:spPr>
          <a:xfrm>
            <a:off x="395280" y="1484280"/>
            <a:ext cx="52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Фотоефект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це група явищ, пов'язаних із «звільненням" електронів твердого тіла від зв'язків усередині атома під дією електромагнітного випромінюванн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Group 12"/>
          <p:cNvGrpSpPr/>
          <p:nvPr/>
        </p:nvGrpSpPr>
        <p:grpSpPr>
          <a:xfrm>
            <a:off x="5796000" y="1125360"/>
            <a:ext cx="2808360" cy="2448000"/>
            <a:chOff x="5796000" y="1125360"/>
            <a:chExt cx="2808360" cy="2448000"/>
          </a:xfrm>
        </p:grpSpPr>
        <p:pic>
          <p:nvPicPr>
            <p:cNvPr id="784" name="Picture 8" descr="фотоєф"/>
            <p:cNvPicPr/>
            <p:nvPr/>
          </p:nvPicPr>
          <p:blipFill>
            <a:blip r:embed="rId1"/>
            <a:stretch/>
          </p:blipFill>
          <p:spPr>
            <a:xfrm>
              <a:off x="5796000" y="1125360"/>
              <a:ext cx="280836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Rectangle 11"/>
            <p:cNvSpPr/>
            <p:nvPr/>
          </p:nvSpPr>
          <p:spPr>
            <a:xfrm>
              <a:off x="5796000" y="2492280"/>
              <a:ext cx="1655640" cy="10810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6b448"/>
                </a:gs>
                <a:gs pos="100000">
                  <a:srgbClr val="ffff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cc0000"/>
                  </a:solidFill>
                  <a:latin typeface="Bookman Old Style"/>
                </a:rPr>
                <a:t>електричний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cc0000"/>
                  </a:solidFill>
                  <a:latin typeface="Bookman Old Style"/>
                </a:rPr>
                <a:t>ефект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6" name="Text Box 13"/>
          <p:cNvSpPr/>
          <p:nvPr/>
        </p:nvSpPr>
        <p:spPr>
          <a:xfrm>
            <a:off x="324000" y="3789360"/>
            <a:ext cx="849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лектрони, що вилітають із речовини при зовнішньому фотоефекті, називаються "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фотоелектронам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", а електричний струм, який утворюється ними при упорядкованому русі у зовнішньому електричному полі, називається "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фотострумо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entury"/>
              </a:rPr>
              <a:t>Вентильні фотоелемен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uk-UA" sz="2800" spc="-1" strike="noStrike">
                <a:solidFill>
                  <a:srgbClr val="000000"/>
                </a:solidFill>
                <a:latin typeface="Century"/>
              </a:rPr>
              <a:t>Фотоелементи з вентильним фотоефектом подібно до елементів із  зовнішнім  фотоефектом мають строгу пропорційність фотостуму інтенсивності випромінювання. Їх перевагою є порівняно більша інтегральна чутливість і не потребують зовнішнього джерела струм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"/>
              </a:rPr>
              <a:t>            </a:t>
            </a:r>
            <a:r>
              <a:rPr b="0" lang="uk-UA" sz="2800" spc="-1" strike="noStrike">
                <a:solidFill>
                  <a:srgbClr val="000000"/>
                </a:solidFill>
                <a:latin typeface="Century"/>
              </a:rPr>
              <a:t>Кремнієві та інші вентильні фотоелементи застосовують  для створення сонячних батарей,   які безпосередньо перетворюють світлову енергію в електричн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Picture 2" descr="014"/>
          <p:cNvPicPr/>
          <p:nvPr/>
        </p:nvPicPr>
        <p:blipFill>
          <a:blip r:embed="rId1"/>
          <a:srcRect l="0" t="0" r="0" b="2883"/>
          <a:stretch/>
        </p:blipFill>
        <p:spPr>
          <a:xfrm>
            <a:off x="4572000" y="1916280"/>
            <a:ext cx="4356000" cy="3644640"/>
          </a:xfrm>
          <a:prstGeom prst="rect">
            <a:avLst/>
          </a:prstGeom>
          <a:ln w="0">
            <a:noFill/>
          </a:ln>
        </p:spPr>
      </p:pic>
      <p:sp>
        <p:nvSpPr>
          <p:cNvPr id="827" name="Text Box 4"/>
          <p:cNvSpPr/>
          <p:nvPr/>
        </p:nvSpPr>
        <p:spPr>
          <a:xfrm>
            <a:off x="395280" y="333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cc0000"/>
                </a:solidFill>
                <a:latin typeface="Arial"/>
              </a:rPr>
              <a:t>Сонячні батаре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Text Box 5"/>
          <p:cNvSpPr/>
          <p:nvPr/>
        </p:nvSpPr>
        <p:spPr>
          <a:xfrm>
            <a:off x="395280" y="1125360"/>
            <a:ext cx="4032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акі батареї вже протягом багатьох років працюють на космічних супутниках 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раблях. Їх ККД складає приблизно  10%  та, як показують теоретичні розрахунки його можна збільшити до  22%, що відкриває великі перспективи  їх використання у якості джерел  для  побутових та виробничих потре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0000"/>
                </a:solidFill>
                <a:latin typeface="Century"/>
              </a:rPr>
              <a:t>Сонцемобіль, сонячна станці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1" name="Picture 4" descr="Солнцемобиль"/>
          <p:cNvPicPr/>
          <p:nvPr/>
        </p:nvPicPr>
        <p:blipFill>
          <a:blip r:embed="rId1"/>
          <a:srcRect l="3993" t="5175" r="0" b="0"/>
          <a:stretch/>
        </p:blipFill>
        <p:spPr>
          <a:xfrm>
            <a:off x="0" y="1557360"/>
            <a:ext cx="4859280" cy="508464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5" descr="Станция"/>
          <p:cNvPicPr/>
          <p:nvPr/>
        </p:nvPicPr>
        <p:blipFill>
          <a:blip r:embed="rId2"/>
          <a:stretch/>
        </p:blipFill>
        <p:spPr>
          <a:xfrm>
            <a:off x="5148360" y="1557360"/>
            <a:ext cx="39956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4"/>
          <p:cNvSpPr/>
          <p:nvPr/>
        </p:nvSpPr>
        <p:spPr>
          <a:xfrm>
            <a:off x="539640" y="836640"/>
            <a:ext cx="813600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зовнішній фотоефект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(фотоелектронна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емісія) - випромінювання електронів з поверхні твердого тела під 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дією світла, гамма - випромінювання і т. і. (відкритий Г. Герцем у 1887, пояснений Ейнштейном)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внутрішній фотоефект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– перерозподіл електронів за енергетичними станами в твердих та рідких напівпровідниках та діелектриках, який спричиняється світлом. Він проявляється у зміні концентрації носіїв струму у середовищі і призводить до виникнення 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фотопровідності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вентильний фотоефект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- збудження світлом ЕРС на межі поділу метал - напівпровідник або між різнорідними напівпровідниками. При вентильному фотоефекті фотоелектрони виходять через поверхню поділу з одного тіла в інш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Text Box 5"/>
          <p:cNvSpPr/>
          <p:nvPr/>
        </p:nvSpPr>
        <p:spPr>
          <a:xfrm>
            <a:off x="395280" y="18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00"/>
                </a:solidFill>
                <a:latin typeface="Arial Black"/>
              </a:rPr>
              <a:t>Види фотоефек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9" name="Picture 4" descr="5-2-1"/>
          <p:cNvPicPr/>
          <p:nvPr/>
        </p:nvPicPr>
        <p:blipFill>
          <a:blip r:embed="rId1"/>
          <a:stretch/>
        </p:blipFill>
        <p:spPr>
          <a:xfrm>
            <a:off x="250920" y="404640"/>
            <a:ext cx="3422520" cy="4969080"/>
          </a:xfrm>
          <a:prstGeom prst="rect">
            <a:avLst/>
          </a:prstGeom>
          <a:ln w="0">
            <a:noFill/>
          </a:ln>
        </p:spPr>
      </p:pic>
      <p:grpSp>
        <p:nvGrpSpPr>
          <p:cNvPr id="790" name="Group 10"/>
          <p:cNvGrpSpPr/>
          <p:nvPr/>
        </p:nvGrpSpPr>
        <p:grpSpPr>
          <a:xfrm>
            <a:off x="4643280" y="404640"/>
            <a:ext cx="4104000" cy="5860800"/>
            <a:chOff x="4643280" y="404640"/>
            <a:chExt cx="4104000" cy="5860800"/>
          </a:xfrm>
        </p:grpSpPr>
        <p:pic>
          <p:nvPicPr>
            <p:cNvPr id="791" name="Picture 5" descr="5-2-2"/>
            <p:cNvPicPr/>
            <p:nvPr/>
          </p:nvPicPr>
          <p:blipFill>
            <a:blip r:embed="rId2"/>
            <a:stretch/>
          </p:blipFill>
          <p:spPr>
            <a:xfrm>
              <a:off x="4788000" y="404640"/>
              <a:ext cx="3959280" cy="314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Text Box 6"/>
            <p:cNvSpPr/>
            <p:nvPr/>
          </p:nvSpPr>
          <p:spPr>
            <a:xfrm>
              <a:off x="4643280" y="3573360"/>
              <a:ext cx="3961080" cy="26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ff"/>
                  </a:solidFill>
                  <a:latin typeface="Arial"/>
                </a:rPr>
                <a:t>Залежність сили фотоструму від прикладеної напруги. Крива 2 відповідає більшій інтенсивності світлового потоку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ff"/>
                  </a:solidFill>
                  <a:latin typeface="Arial"/>
                </a:rPr>
                <a:t>           </a:t>
              </a:r>
              <a:r>
                <a:rPr b="0" lang="uk-UA" sz="2000" spc="-1" strike="noStrike">
                  <a:solidFill>
                    <a:srgbClr val="ffffff"/>
                  </a:solidFill>
                  <a:latin typeface="Arial"/>
                </a:rPr>
                <a:t>та               – струми насичення, </a:t>
              </a:r>
              <a:r>
                <a:rPr b="0" i="1" lang="uk-UA" sz="20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uk-UA" sz="2000" spc="-1" strike="noStrike">
                  <a:solidFill>
                    <a:srgbClr val="ffffff"/>
                  </a:solidFill>
                  <a:latin typeface="Arial"/>
                </a:rPr>
                <a:t>з – за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п</a:t>
              </a:r>
              <a:r>
                <a:rPr b="0" lang="uk-UA" sz="2000" spc="-1" strike="noStrike">
                  <a:solidFill>
                    <a:srgbClr val="ffffff"/>
                  </a:solidFill>
                  <a:latin typeface="Arial"/>
                </a:rPr>
                <a:t>і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рний </a:t>
              </a:r>
              <a:r>
                <a:rPr b="0" lang="uk-UA" sz="2000" spc="-1" strike="noStrike">
                  <a:solidFill>
                    <a:srgbClr val="ffffff"/>
                  </a:solidFill>
                  <a:latin typeface="Arial"/>
                </a:rPr>
                <a:t>потенціал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93" name="Object 7"/>
            <p:cNvGraphicFramePr/>
            <p:nvPr/>
          </p:nvGraphicFramePr>
          <p:xfrm>
            <a:off x="4859280" y="5084640"/>
            <a:ext cx="479520" cy="577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94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59280" y="5084640"/>
                      <a:ext cx="479520" cy="57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95" name="Object 8"/>
            <p:cNvGraphicFramePr/>
            <p:nvPr/>
          </p:nvGraphicFramePr>
          <p:xfrm>
            <a:off x="5940360" y="5157720"/>
            <a:ext cx="476280" cy="503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96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40360" y="5157720"/>
                      <a:ext cx="476280" cy="50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97" name="Text Box 9"/>
          <p:cNvSpPr/>
          <p:nvPr/>
        </p:nvSpPr>
        <p:spPr>
          <a:xfrm>
            <a:off x="179280" y="5445000"/>
            <a:ext cx="36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хема експериментальної установки для вивчення фотоефек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4"/>
          <p:cNvSpPr/>
          <p:nvPr/>
        </p:nvSpPr>
        <p:spPr>
          <a:xfrm>
            <a:off x="324000" y="476280"/>
            <a:ext cx="8424720" cy="54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c0000"/>
                </a:solidFill>
                <a:latin typeface="Bookman Old Style"/>
              </a:rPr>
              <a:t>Закони Столєтова для фотоефект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Кількість  електронів (фотоелектронів), що вибиваються світлом за одну секунду з поверхні металу(тобто струм насичення), прямо пропорційна інтенсивності світла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Максимальна кінетична енергія фотоелектронів лінійно збільшується із збільшенням частоти світла і не залежить від його інтенсивності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Для кожної речовини існує 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червона границя фотоефекту 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, тобто мінімальна частота (максимальна довжина хвилі), при якій фотоефект ще можливий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Фотоефект є практично неінерційним, фотострум виникає миттєво після початку освітлення катоду, за умови, що частота світ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9" name="Group 8"/>
          <p:cNvGrpSpPr/>
          <p:nvPr/>
        </p:nvGrpSpPr>
        <p:grpSpPr>
          <a:xfrm>
            <a:off x="3708360" y="3860640"/>
            <a:ext cx="4751280" cy="2293920"/>
            <a:chOff x="3708360" y="3860640"/>
            <a:chExt cx="4751280" cy="2293920"/>
          </a:xfrm>
        </p:grpSpPr>
        <p:graphicFrame>
          <p:nvGraphicFramePr>
            <p:cNvPr id="800" name="Object 6"/>
            <p:cNvGraphicFramePr/>
            <p:nvPr/>
          </p:nvGraphicFramePr>
          <p:xfrm>
            <a:off x="3708360" y="5589720"/>
            <a:ext cx="1224000" cy="564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1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08360" y="5589720"/>
                      <a:ext cx="1224000" cy="56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2" name="Object 7"/>
            <p:cNvGraphicFramePr/>
            <p:nvPr/>
          </p:nvGraphicFramePr>
          <p:xfrm>
            <a:off x="7812000" y="3860640"/>
            <a:ext cx="647640" cy="55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03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812000" y="3860640"/>
                      <a:ext cx="647640" cy="55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4" descr="столетов"/>
          <p:cNvPicPr/>
          <p:nvPr/>
        </p:nvPicPr>
        <p:blipFill>
          <a:blip r:embed="rId1"/>
          <a:stretch/>
        </p:blipFill>
        <p:spPr>
          <a:xfrm>
            <a:off x="539640" y="404640"/>
            <a:ext cx="2978280" cy="4104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539640" y="4869000"/>
            <a:ext cx="30956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Столєтов Олександр Григор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1839 - 1896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Text Box 6"/>
          <p:cNvSpPr/>
          <p:nvPr/>
        </p:nvSpPr>
        <p:spPr>
          <a:xfrm>
            <a:off x="3564000" y="466560"/>
            <a:ext cx="5256000" cy="54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Російський вчений, професор фізики у Московському університеті. Закінчив Московський Університет, стажувався в лабораторії Кірхгоф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Окрім двох дисертацій, найбільш важливими є наступні  роботи  Столєтова "О Кольраушевом измерении ртутной единицы сопротивления"; "Sur une methode pour determineh le rapport des unites electromagnetiques et electrostatiques" (le "v" de Maxwell); "Об электричестве сопротивления"; "О критическом состоянии тел" (4 ст.); "Актиноэлектрические исследования"; "Эфир и электричество" (речь); "Очерк развития наших сведений о газах"; "Введение в акустику и оптику" (курс)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5"/>
          <p:cNvSpPr/>
          <p:nvPr/>
        </p:nvSpPr>
        <p:spPr>
          <a:xfrm>
            <a:off x="539640" y="538200"/>
            <a:ext cx="835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Червона границя фотоефекту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визначається частотою, при якій електрон може залишити метал, але його кінетична енергія буде дорівнювати нулю, тобт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9" name="Object 6"/>
          <p:cNvGraphicFramePr/>
          <p:nvPr/>
        </p:nvGraphicFramePr>
        <p:xfrm>
          <a:off x="1042920" y="3573360"/>
          <a:ext cx="6697800" cy="25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3573360"/>
                    <a:ext cx="6697800" cy="25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1" name="Text Box 8"/>
          <p:cNvSpPr/>
          <p:nvPr/>
        </p:nvSpPr>
        <p:spPr>
          <a:xfrm>
            <a:off x="843120" y="2698920"/>
            <a:ext cx="7832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9"/>
          <p:cNvSpPr/>
          <p:nvPr/>
        </p:nvSpPr>
        <p:spPr>
          <a:xfrm>
            <a:off x="468360" y="2781360"/>
            <a:ext cx="835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Rectangle 11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 Box 12"/>
          <p:cNvSpPr/>
          <p:nvPr/>
        </p:nvSpPr>
        <p:spPr>
          <a:xfrm>
            <a:off x="468360" y="5445000"/>
            <a:ext cx="2952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6"/>
          <p:cNvSpPr/>
          <p:nvPr/>
        </p:nvSpPr>
        <p:spPr>
          <a:xfrm>
            <a:off x="395280" y="476280"/>
            <a:ext cx="842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Закони фотоефекту не узгоджуються з електромагнітною теорією світ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У випадку електромагнітної хвилі електрон мав би накопичувати енергію поступово (хвилини або годин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В рамках електромагнітної теорії неможливо пояснити існування червоної границі фотоефек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Хвильова теорія неспроможна пояснити незалежність енергії фотоелектронів від інтенсивності світлового потоку та її пропорційність частоті світ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яснення законів фотоефекту було дано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Ейнштейном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1905) на основі припущення, що світло випромінюється, поширюється та поглинається у вигляді неподільних порцій енергії – квантів світл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івняння Ейнштейна для фотоефект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це закон збереження енергії в застосуванні до фотоефек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Rectangle 8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7" name="Object 7"/>
          <p:cNvGraphicFramePr/>
          <p:nvPr/>
        </p:nvGraphicFramePr>
        <p:xfrm>
          <a:off x="3276720" y="4797360"/>
          <a:ext cx="266364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4797360"/>
                    <a:ext cx="266364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Вакуумний   фотоелемен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Text Box 7"/>
          <p:cNvSpPr/>
          <p:nvPr/>
        </p:nvSpPr>
        <p:spPr>
          <a:xfrm>
            <a:off x="611280" y="1844640"/>
            <a:ext cx="4248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Найпростішим фотоелемент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із зовнішнім фотоефектом є </a:t>
            </a:r>
            <a:r>
              <a:rPr b="1" lang="uk-UA" sz="2000" spc="-1" strike="noStrike">
                <a:solidFill>
                  <a:srgbClr val="ff3300"/>
                </a:solidFill>
                <a:latin typeface="Arial"/>
              </a:rPr>
              <a:t>вакуумний фотоелемент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Він  являє собою відкачаний скляний балон, внутрішня поверхня якого (за винятком віконця для доступ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випромінювання) вкрита фоточутливим шаром. Ця поверхня є фотокатодом. У центрі балона міститься кільце або сітка - ан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1" name="Picture 8" descr="Фотоэлемент"/>
          <p:cNvPicPr/>
          <p:nvPr/>
        </p:nvPicPr>
        <p:blipFill>
          <a:blip r:embed="rId1"/>
          <a:srcRect l="13623" t="0" r="13799" b="0"/>
          <a:stretch/>
        </p:blipFill>
        <p:spPr>
          <a:xfrm>
            <a:off x="5118120" y="1773360"/>
            <a:ext cx="373860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 Black"/>
              </a:rPr>
              <a:t>Фоторезистор</a:t>
            </a:r>
            <a:r>
              <a:rPr b="0" lang="uk-UA" sz="4400" spc="-1" strike="noStrike">
                <a:solidFill>
                  <a:srgbClr val="cc0000"/>
                </a:solidFill>
                <a:latin typeface="Arial Black"/>
              </a:rPr>
              <a:t>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entury"/>
              </a:rPr>
              <a:t>Основою принципу дії напівпровідникових фотоелементів або фотоопорів </a:t>
            </a:r>
            <a:r>
              <a:rPr b="1" lang="uk-UA" sz="3200" spc="-1" strike="noStrike">
                <a:solidFill>
                  <a:srgbClr val="ff3300"/>
                </a:solidFill>
                <a:latin typeface="Century"/>
              </a:rPr>
              <a:t>(фоторезисторів</a:t>
            </a:r>
            <a:r>
              <a:rPr b="1" lang="uk-UA" sz="3200" spc="-1" strike="noStrike">
                <a:solidFill>
                  <a:srgbClr val="000000"/>
                </a:solidFill>
                <a:latin typeface="Century"/>
              </a:rPr>
              <a:t>)</a:t>
            </a:r>
            <a:r>
              <a:rPr b="0" lang="uk-UA" sz="3200" spc="-1" strike="noStrike">
                <a:solidFill>
                  <a:srgbClr val="000000"/>
                </a:solidFill>
                <a:latin typeface="Century"/>
              </a:rPr>
              <a:t> є внутрішній фотоефект. Фоторезистори мають набагато більшу інтегральну чутливість, ніж вакуумні. Недоліком фотоопорів є їх помітна інерційність. З цієї причини вони  для реєстрації непридатні швидкоплинних світлових потокі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0:45:28Z</dcterms:created>
  <dc:creator>User</dc:creator>
  <dc:description/>
  <dc:language>en-US</dc:language>
  <cp:lastModifiedBy>NickOn</cp:lastModifiedBy>
  <dcterms:modified xsi:type="dcterms:W3CDTF">2011-01-08T16:29:07Z</dcterms:modified>
  <cp:revision>15</cp:revision>
  <dc:subject/>
  <dc:title>Слайд 1</dc:title>
</cp:coreProperties>
</file>