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916-3541-4920-B715-66F6D12B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25F-9FF4-4797-A6D5-D5EE9CC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11AB2-EEC3-4601-9742-8FA5266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865F0-1897-4DE7-B1E7-233F245B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D9427-F48A-4A3D-935E-FB18B027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EFD96-DA84-4D59-834D-689EB331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CF562-73CB-4D9A-A04B-220E8911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2B39F-1A73-4BF0-A56C-093F634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1AEC8-CC46-464B-84D6-BA15532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7DE76-7234-4835-A0D4-4A6DBCB4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A0A37-37FB-418A-AEA7-AB8CC5BB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B4FD8-6008-46FE-A3FB-B3E7909F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647-9C26-46C8-902B-8F2A7EB1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60C5F-5DF3-4C09-8300-8D9D892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7FEA-D5D8-4B6D-B1C8-09C00C1B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C3171-B55D-4C07-8C92-ED0CE9D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886B-04CB-48D6-859C-75806444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9F1F2-EFAE-4FCC-87D4-8DBF6F1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64FA3-3944-4437-A7C8-A7BB2C1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F1570-6E67-4125-87DE-A76484F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F1577-923A-42BE-955A-15BACB1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02273-CD7A-4938-92F7-A83344B6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97F8C-45FF-4FFB-A806-A03F1773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CB1-690E-4BA2-8A37-98A3FE50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C7BD9-0F10-4686-AC91-FC01815A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008AD-9E82-4532-8A5E-C5D29BA5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6BA6C-E815-42D7-A643-9876C2C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6FC6-EED2-406E-9039-F46BCE58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94366-B0A5-45E2-8886-6051D7F8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83D42-536B-4148-9E53-302C598A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C75EC-0150-411E-83D9-3F64CB2C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8C1D0-BB15-4FA6-BDAF-9428DDEC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697DF-5485-43D3-A488-546E5B63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E6067-75B0-449E-B983-9EBF4D5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3CBB-A55B-474B-857A-DA548FFD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8D855-BB3A-4C27-9073-82F4FB28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64C0D-53C1-452D-864D-0F51B2FF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749AD-2C65-4A99-AD12-8A147E7D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96416-2EBB-42E9-9B7D-46BF134E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64D71-C114-4019-9AA4-D401FA97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491E8-3B90-45FF-867A-2B1A757C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ED1AA-8115-4FC5-AA26-337A3822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BF176-9D1A-4145-AA7B-7796D4BD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FABD4-66D0-4FAB-9F84-64F47EC5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80BFE-6531-4F97-AB56-845D6D15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5D58-B18A-409B-85B6-84C1466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7D2D3-93EB-4300-B0F4-82FB12E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787F7-DB06-40F0-BAA1-8637800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3A025-C8C0-4EDA-8D86-D85F5ED9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68155-BCCF-4953-BDE7-A0501F6F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3CF2F-4E90-4FC3-84DF-BFB7792B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34B03-9964-4A75-8359-D46A9BC9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D5F02-3A83-46BA-9A3F-D226E624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5CAEB-A789-4503-9A26-8C48E1E7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9C060-FE15-4172-8697-BFCE743F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34068-90FC-49BC-9A09-0EA78DD5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DF53-982A-4FC2-8FBC-3FAE80E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5A94C-FBAD-4D3D-A4DE-3E91C443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69731-E516-4097-BB21-C9DD9F1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814D7-D701-467C-8902-C4356C6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04446-7315-404E-9169-AAC3F94B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F35AC-60EC-42F0-9FAC-DCF1D7FC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2EBD7-676A-4CB2-A2E5-79129F30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1713F-5E55-4434-8C67-4D9705E1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DB7DEA-1C57-42E9-A50E-AE606EE9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E82192-F2EC-41AC-ABC4-DFAA36D4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6DACDC-D9B2-4233-876C-9B423942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971F-84DB-4CB0-8B9D-B6E8A72C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7DE146-5FD6-4693-8940-0A24C64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9DCDE3-BCDE-4F76-994E-BA256D46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711B71-AF99-4E55-98CD-5FFE3C0D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6E3236-095A-4ED0-84E5-F98B5DA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7C1D90-FD11-4C01-BFDC-9DF4702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17EF47-C054-4B69-83BE-291E9AC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2666FB-9F55-4C59-AD5B-8BA29731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32509D-F858-43AB-A0AB-551A9B47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8ADED0-AAFC-43C8-A320-3A29B0C6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41B62D-7A8A-4AB7-8895-A9757524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762E-DE49-47CE-93FE-77561635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C8877-6788-4DA4-A9F5-CBADAE0C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E2207-7AFE-4032-B582-E9D47C88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4BBC3-3966-4F9E-B452-E98D3DAA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35CFE-75E1-4BC9-8AB0-E81E791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5BDB8-781A-49FD-B47D-69FD6804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24A08-35A8-4849-91BD-FAA67E8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207FE-6300-49B6-9B2F-562F0227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D537C-99FE-4945-A55A-FB6F8D4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A7EBD-E211-422E-BE10-6D910A47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EDE75-82BC-43C1-A62E-4EB9F397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3B27-DAC0-4613-809E-5C7636EF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64D82-B5A8-426A-BBBD-6E3EF4E4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5688B-2258-4BBE-AD6E-7B753376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13E42-3C5D-4C6D-AE38-93093D52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04FE0-9750-4541-80F8-474166F9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52B5B-48F2-4124-9582-4A0FE446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4839B-DCBA-4E3F-BF7A-D1FB355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7E41E-670E-421A-A800-215B5EEF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4D6F4-E984-4988-B82B-F25AFC5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3FF7A-062B-4911-8B63-9D2BEB8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412E5-7C57-45CC-9CCF-B428881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463C-FFC0-49F6-AC90-E2A2226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FCA74-7022-4C20-BA07-9A2DE8B0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B74B5-588E-4222-A398-35A6CB1B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8A3A6-DAD4-4637-B30A-2A27C1B4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6E2F1-FFBB-461F-8925-B88BEE47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643C8-CC6E-4E8A-94A6-C2A9D445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B12D2-CF10-44D8-9A7D-D6D2DC4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8274E-E071-4AAF-BBD4-F811C257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93442-747C-4C53-81B0-E1910CF4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BAC32-654A-422D-8A3C-1FB12E73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D1B5D-CBEA-4D8F-9AF4-BB3FC69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65A-D308-48E5-AE8A-B34C6C4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5AC4-BC05-44E5-861D-7070CA9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1DCAE-D084-4889-B725-C74B789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4E6E3-EFA4-4A90-8AEA-702C50E0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E5051-273B-4A6C-9D09-14E8292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89607-12CF-4120-BF57-511D37A8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855E6-4931-43CE-8CA0-79A361CD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87299-75A5-40A9-832B-9E085681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6FCC7-1A5B-4EE8-BDF3-44989AC9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AEC72-8AA7-43D3-A5F2-73D80C0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7A352-DA96-4993-BD24-A849D23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70339-4F0C-4BD0-87E6-5C70F83C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0773-E6FF-4310-B290-0356CF50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59D30-3594-4FB3-941F-ACF658CA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DDBFC-F389-4396-AF41-77EE8CE2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40C02-6ABC-442E-AFEA-B5B91B0F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82D19-E15D-4133-91B9-68551231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465C7-9EEF-4D97-A1B8-BBBAECFF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5B57DA-3EE6-493E-BE15-1C076443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414D7-A2DC-483A-833A-2912FEC9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6FEB4-6606-43F3-8680-A840E408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B26CF-5443-4434-886D-5E8AE447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57D22-8206-45FA-A0DA-FF8E5CFC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5352-BE3C-4791-88F4-DAA0BE3D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7C077-E0F6-4949-9DCA-197FF92D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2E3B1-E735-41A1-9716-E90140C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03725-CEC2-4D60-BB28-30FEC6B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0FB18-D97D-4F04-B8E8-5B00C5D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1DB28-8E9A-434D-B519-44C809A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CF6F4-E52D-4679-9ED4-2B09B372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6E739-D5D7-4474-B2C9-0E19168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F6422-3368-4510-AE25-AF0BCB58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1B1F9-A596-436F-9430-05C1F56D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A9505-0CBC-4ED2-84B2-46DF3EAC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2286-E6BE-4A87-887D-2093D912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8753F5-7660-4A32-B43F-A15DAEA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E858E-3920-4CD7-9116-EC32F165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0B559-5DB9-4916-8492-2C6705D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669EB-12F8-4EAE-9435-06F80FC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86521-38AB-4FBA-8CC8-1320680D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2F439-6063-4A5A-85CD-1D784175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70BEE-5D36-41ED-BEB4-68971EE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E99DE-78D6-4163-AAE9-57B3720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BA96E-26A7-45B6-BC2B-D2F41959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1EAB8-4D9D-4F85-A584-60392F3A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9354-CE12-47A5-B161-48D2101E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D05C1-4D90-4E2F-9AD4-D576EEEB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71892-4076-4631-813B-17A2959B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AF38F-C850-4675-9591-FA27F13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9251E-C8D9-4CD8-A122-690EB0F1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C9DFF-3B8E-46C6-BA82-F95100C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08250-05F9-464D-A664-72FA05F6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C9526-0B68-4770-A674-1CC2A58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6E8087-3F23-45E6-B57A-56ADAAA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F0D864-774F-4D6E-95A2-37E019C6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0E46E-38DF-447E-9DBF-7D4FE58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9041-D935-45AC-80EE-F2276EE6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E689A-3180-4D25-BC87-5FB94B03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12222-CBD1-4F6B-B9B8-AE38224A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636FC-95C9-4A96-938A-9C46BC0A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5975F3-1227-4925-B40D-F2AAC2D6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A2147-8FF1-4839-9322-79A8C133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E9055-E9CC-45B5-9F20-558E462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FCF51F-8C29-4FED-A0AA-B37E807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E1133-A600-418A-BE27-AAF0222C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C8BD50-50E1-4CEC-AE78-AB859F56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C4AF6-DFCD-4078-BF08-706BD1E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DD31-3A9C-4B1B-82F3-B33841D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E5B888-D854-4FCC-9C62-C7CD1120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5D802-32E9-472F-85D3-301499C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FC767-77E1-480E-BFB9-61FACED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DAA06-32E2-47B1-BA0E-17601FC8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DEDDF-7DAC-459C-A369-55C809D9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6E7D72-7003-40DF-A086-5F3229AA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5BEB6A-425A-486F-8E4C-25F06565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60ED96-E7D1-44CE-8A11-154EB66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A7C95-CA58-41C6-9376-C787D3F4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9ADB95-6107-4D18-B5FE-5467B9D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02B7-28F4-4A1A-8810-D634572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028525-8E70-4D66-AFF7-A3DE7A0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2535A9-F6E0-4A9B-BE7C-00365C7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F20125-8F06-4A74-BFCD-3EED2FD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4485A-AECA-4505-A546-12166DC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643EEC-0906-4C8A-A578-231B945F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0D4E4-89AE-4FE8-93A8-928A826D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C6722-F042-47AD-B800-7369A3E1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A881-BED9-4E79-9D1E-9F3D1ABF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3C74-3B9A-4492-AB83-850481CB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BA7-4979-4A26-9F25-3A28EE84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2F54-B500-4EE1-AF92-41783C6B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A4CB-9FC0-4CE7-9894-BD87606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0455-F941-4A23-87B1-E22CD6F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C4FA-34C0-4049-86B7-9EF1AB5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2F11-78ED-4082-85DD-73152D65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4B18-A3A0-46E1-8C85-82589392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E769-B778-474F-AC23-B37B5C6A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38AB-68AA-4788-BC2F-E1566496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EE46-F38E-476E-AA43-4684BF19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A968-1554-4372-A247-42FF3A73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66D-AD96-46C9-A9E5-3D4F343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DD44-676A-45A2-9362-D166A7CF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506A-9E7D-4F42-A3E5-87C0552C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5092-95C1-4036-AE66-63BA27D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8597-8340-4B1C-8FC3-C83B0645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C2C3-C89C-4B13-8A90-991996A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B637-A52E-4A24-B567-A505381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4C56-9FBF-4386-87C0-7017A1F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FB19-7EBC-4FF2-AD8B-DFA19BDB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DDA66-B7EC-4B96-8C80-4F069660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B4280-FF0E-46FF-A634-C0F8FF26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3A2-AD54-42E7-9443-B81F115C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B96BE-82E6-436D-B5DD-B2CB00F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8091-072B-45D3-8609-C8C77EED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47FAF-ACE4-4FCE-ABAE-10FEB3F8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1DE2-3FCC-4FA1-92C8-6EB54ECF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F2CC-6C0A-4DAA-AA6B-6E96B218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37D1-45D7-4A93-ABFA-A954B97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F365-7041-4181-8EF6-0DFB665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CA27-03E4-4573-A39A-9A3A29A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8D74-817E-4DE1-9C4B-AAB13AB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93635-C7B0-4AEC-8F9F-E3D7712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09F-99B6-4076-97BB-D986046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CA90-FFD1-4687-B5DD-9CAEB178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32BF7-13B1-4D1C-BA59-C3B947F3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9F7E5-81AD-4D48-A552-45DC3B72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3F311-DB3C-4539-8146-7930F902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49343-CC7D-4807-BBC6-66059DD8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13B81-DA1B-409A-B31F-CDC5421E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0BE3C-FD78-4479-8E79-FE47A5AE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47128-EACC-4648-9939-00FE808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D741B-47BE-463E-BEB1-5E158EFF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142F7-CD1B-44C7-BA8C-7C0DA44F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76D-9FE8-499D-9786-5E24243D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D3ACD-399F-4FDB-B9BB-83C03ADF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A6F3B-C3EA-43C9-B433-6BE1073E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29572-A227-4E39-9F0E-7FF0BCC9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873F-2A23-46F7-BD48-CE8BED32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EBC9-6DB1-4B56-B8CF-E47E9C14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94B8D-DFF2-4179-A174-9CE30D7A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EEDE5-1975-43F1-9DE8-ED481BDC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FA9BD-0454-4830-9151-2DA643C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D11B-3DEE-46D7-8993-00595CA8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322AE-174D-461B-ACF2-D5080B1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514-6ED6-496C-BDCA-A4A2AA44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62D21-981C-4F71-B507-E067B40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02562-61D1-4EEC-B1C7-A9074F2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4921-B7F2-4942-8CA9-0621040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7B866-BBEC-48CD-9284-49BEB88D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E627-7FD8-42DD-980A-7A717C77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5DAEF-D432-4D29-95F0-E277C893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F6C3-CEF0-4D11-BDE5-F639594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F0DB9-6AC7-40AA-926C-4C0E7E7A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6B8B-057B-402B-866D-357D0C30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35673-1F8C-4A36-AB3A-8466069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D7B-D0B5-48EC-8252-8A02BBC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E3700-52B6-441F-906A-FC60509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A17BE-307B-43F0-BFE9-E28E9FFB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D1C2-CFD6-4F7D-8B94-ACB50DBC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EB36-96DE-4CF6-B5BB-7C2D71F0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36003-D34A-4FA7-88F1-652DC223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FE7BA-F7EF-4A94-A7F4-B080BFC5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0DB02-CD94-4B17-9B67-BFFE6E44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296E2-3805-477B-B12F-A44C347C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ED24D-FC36-45E7-B16F-3B75389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C3D28-9614-47F5-B94B-02E829AC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C789-4B0D-4FBF-BB76-74C100ABF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0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1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3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EFC5-5DF5-4BEB-ADED-BFC6D427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6841-FD4D-4526-BB10-B81EB3C9A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4B50-7A4B-4E60-A5D8-523B50656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AC01-3A61-45E8-99C4-95EFCA7D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903C-F9F7-44A5-9F82-BBB89E79AD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83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E7E-B7C1-4A89-B85A-FE683A1497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88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78C2-C56E-4E23-B242-A9DA3BBB6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8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FE82-FC4C-4BD1-8451-9EAF544A6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2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30E2-86BE-492B-AC73-720415204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7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185-CB0C-4643-B259-DE42E99B6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85D4-DD1E-4FDD-B4A5-F91F452A4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1328-76A4-42D0-9AC2-DED43F5C97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3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6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6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6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6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11C2-46F3-46CE-B0E6-9813C857B3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1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2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3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9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1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3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4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7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8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62B-FEC3-4AB9-9DB6-DDBA58C7994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45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5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45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5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5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6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6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6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6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8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8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9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50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51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51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3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3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3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4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4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4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5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5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6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57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0698-4C2B-4C7E-9C3D-303F4CE6B6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31A-84DD-44AE-905A-FBADCBA30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0908-AC2E-4F18-AD01-9550659CC5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2371-F66F-4D94-819B-FF52553170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DF74-7871-4761-A399-0D7FDCD8CA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DD20-1BC0-49EC-9804-AF7045842D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954-6295-490A-ACBE-7E191EDA2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6E9C-7876-43A3-876C-FA2F3CDA0D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0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0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0"/>
            <a:ext cx="914400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ccffff"/>
                  </a:solidFill>
                  <a:prstDash val="lgDashDot"/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тоефект</a:t>
            </a:r>
            <a:endParaRPr b="1" lang="en-US" sz="6000" spc="1" strike="noStrike">
              <a:ln w="12600">
                <a:solidFill>
                  <a:srgbClr val="ccffff"/>
                </a:solidFill>
                <a:prstDash val="lgDashDot"/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32360" y="1916280"/>
            <a:ext cx="0" cy="23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851280" y="4797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140360" y="501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867280" y="530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971640" y="2924280"/>
            <a:ext cx="3887640" cy="21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076720" y="2205000"/>
            <a:ext cx="503280" cy="144360"/>
          </a:xfrm>
          <a:prstGeom prst="rect">
            <a:avLst/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580000" y="4292280"/>
            <a:ext cx="576360" cy="431640"/>
          </a:xfrm>
          <a:prstGeom prst="line">
            <a:avLst/>
          </a:prstGeom>
          <a:ln w="38160">
            <a:solidFill>
              <a:srgbClr val="d806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6443640" y="4365720"/>
            <a:ext cx="905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71640" y="2997360"/>
            <a:ext cx="396072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932360" y="1916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851280" y="5013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140360" y="4581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867280" y="530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292720" y="1773360"/>
            <a:ext cx="0" cy="64764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003640" y="2133720"/>
            <a:ext cx="576360" cy="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6443640" y="4365720"/>
            <a:ext cx="92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042920" y="2924280"/>
            <a:ext cx="3889440" cy="288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042920" y="2997360"/>
            <a:ext cx="381636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Висновок, який зробив Столєтов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…</a:t>
            </a: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при освітленні цинкової пластин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ультрафіолетовими променями із неї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ириваються електрони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они направляються до сітки і в колі виникає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електричний струм, який наз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entury"/>
              </a:rPr>
              <a:t>фотострумом</a:t>
            </a:r>
            <a:r>
              <a:rPr b="1" lang="ru-RU" sz="4000" spc="-1" strike="noStrike">
                <a:solidFill>
                  <a:srgbClr val="ffff00"/>
                </a:solidFill>
                <a:latin typeface="Century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"/>
              </a:rPr>
              <a:t>Задачі, які ставив перед собою Столєтов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1.Потрібно було встановити, від чого залежить кількість електронів, що вириваються із металу, за 1 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2.Від чого залежить швидкість фотоелектронів, а отже, і кінетичної енерг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фотоелектроні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хема установки, на якій Столє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установив закони фотоеф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35280" y="1413000"/>
            <a:ext cx="56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1547640" y="2146320"/>
            <a:ext cx="619308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тоефект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Перший закон фотоефект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8845560" y="1904760"/>
            <a:ext cx="79200" cy="419076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95280" y="1163880"/>
            <a:ext cx="846468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ила </a:t>
            </a:r>
            <a:r>
              <a:rPr b="1" lang="uk-UA" sz="2800" spc="-1" strike="noStrike">
                <a:solidFill>
                  <a:srgbClr val="003366"/>
                </a:solidFill>
                <a:latin typeface="Century"/>
              </a:rPr>
              <a:t>струму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насичення (фактично, число вирваних  з поверхні електронів за одиницю часу) прямо пропорційна інтенсивності світлового випромінювання,що  падаює на поверхю тіла.     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I</a:t>
            </a:r>
            <a:r>
              <a:rPr b="1" lang="ru-RU" sz="3200" spc="-1" strike="noStrike" baseline="-25000">
                <a:solidFill>
                  <a:srgbClr val="003366"/>
                </a:solidFill>
                <a:latin typeface="Century"/>
              </a:rPr>
              <a:t>нас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˜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вітловому потоку 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4464000" cy="3068640"/>
          </a:xfrm>
          <a:prstGeom prst="rect">
            <a:avLst/>
          </a:prstGeom>
          <a:ln w="0">
            <a:noFill/>
          </a:ln>
        </p:spPr>
      </p:pic>
      <p:sp>
        <p:nvSpPr>
          <p:cNvPr id="1739" name=""/>
          <p:cNvSpPr/>
          <p:nvPr/>
        </p:nvSpPr>
        <p:spPr>
          <a:xfrm>
            <a:off x="4716360" y="3933720"/>
            <a:ext cx="4248360" cy="2590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entury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Ува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вітловий потік, 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падає на фотокат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більшується, а й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пектральний скл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алишається незмінн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2</a:t>
            </a:r>
            <a:r>
              <a:rPr b="1" i="1" lang="en-US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"/>
              </a:rPr>
              <a:t>&gt;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25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75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825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Други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Якщо </a:t>
            </a:r>
            <a:r>
              <a:rPr b="0" lang="ru-RU" sz="2000" spc="-1" strike="noStrike">
                <a:solidFill>
                  <a:srgbClr val="ffffff"/>
                </a:solidFill>
                <a:latin typeface="Century"/>
              </a:rPr>
              <a:t> частоту світла збільшити, то при незмінному світловому потоці затримуюча напруга збільшується, а, як наслідок, збільшується і кінетична енергія фотоелектроні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entury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Максимальна швидкість фотоелектронів залежить тільки від частоти падаючого світла і не залежить від його інтенсивност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Century"/>
              </a:rPr>
              <a:t>Важлив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За модулем затримуючої напруги можна говорити п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швидкість фотоелектронів і про їх кінетич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енергию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4643280" y="4941720"/>
                <a:ext cx="410544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24000" y="5084640"/>
                <a:ext cx="371160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"/>
          <p:cNvSpPr/>
          <p:nvPr/>
        </p:nvSpPr>
        <p:spPr>
          <a:xfrm>
            <a:off x="4067280" y="573408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Треті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Для кожної речовини існу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мінімальна частота (так зв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червона межа фотоефекту), нижче яко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виникає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3789360"/>
            <a:ext cx="7058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Червона межа фотоеф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9" name=""/>
          <p:cNvGraphicFramePr/>
          <p:nvPr/>
        </p:nvGraphicFramePr>
        <p:xfrm>
          <a:off x="1301760" y="1600200"/>
          <a:ext cx="23493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1600200"/>
                    <a:ext cx="23493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При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&lt; </a:t>
            </a:r>
            <a:r>
              <a:rPr b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"/>
              </a:rPr>
              <a:t>min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ні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якій інтенсив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хвилі падаючого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катод світ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виникає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2195640" y="4221000"/>
                <a:ext cx="310500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3" name=""/>
          <p:cNvSpPr txBox="1"/>
          <p:nvPr/>
        </p:nvSpPr>
        <p:spPr>
          <a:xfrm>
            <a:off x="5651640" y="4941720"/>
            <a:ext cx="21999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кожної речовин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я!!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уроку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713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Ознайомити з корпускулярними властивостями світла в процесі вивчення явища фотоефекту, вчити розрізняти поняття внутрішнього та зовнішнього фотоефекту, домогтися засвоєння учнями законів фотоефекту, формувати навички застосування рівняння Ейнштейна під час розв’язування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Розвивати пам’ять, уважність, логічне мислення, продовжувати формувати навички обчислень за формул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Виховувати інтерес до моделювання фізичних явищ за допомогою комп’ютера. Перевірити знання, одержані на уроці за допомогою  тестув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Century"/>
              </a:rPr>
              <a:t>Застосування </a:t>
            </a:r>
            <a:r>
              <a:rPr b="1" lang="ru-RU" sz="4000" spc="-1" strike="noStrike">
                <a:solidFill>
                  <a:srgbClr val="0033cc"/>
                </a:solidFill>
                <a:latin typeface="Century"/>
              </a:rPr>
              <a:t>фотоефек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Century"/>
              </a:rPr>
              <a:t>На явищі фотоефекту  діють фотоелектричні прилади, що отримали  різне застосування в різних областях науки і техніки. В сучасний час  практично неможливо знайти виробництво, де б не використовувалися </a:t>
            </a:r>
            <a:r>
              <a:rPr b="1" lang="ru-RU" sz="2800" spc="-1" strike="noStrike" u="sng">
                <a:solidFill>
                  <a:srgbClr val="006666"/>
                </a:solidFill>
                <a:uFillTx/>
                <a:latin typeface="Century"/>
              </a:rPr>
              <a:t>фотоелементи – приймачі випромінювання,  що працюють  на основі фотоефекту і перетворюють енергію випромінювання в електрич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403280" y="765000"/>
            <a:ext cx="72010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в"язув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На поверхню металу падають  промені з довжиною </a:t>
            </a:r>
            <a:br>
              <a:rPr sz="2000"/>
            </a:b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200 нм. Обчислити  максимальну швидкість  випромінювання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т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2340000" y="333360"/>
            <a:ext cx="439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трольний блок</a:t>
            </a:r>
            <a:endParaRPr b="0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2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86364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1:</a:t>
            </a:r>
            <a:r>
              <a:rPr b="1" lang="ru-RU" sz="32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Якому із нижчеприведених виразів відповідає одиниця вимірювання постійної Планка в СІ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а) Дж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б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в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г) Н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д) кг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2 Як зміниться робота виходу, при збільшенні довжини хвилі падачого випромінювання на катод в чотири раз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5975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3 Яке із нижчеприведених тверджень ( для даного електроду) справедлив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Робота виходу залежить від довжини хвил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«Затримуюча» напруга залежить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Збільшення довжини хвилі падаючого випромінювання приводить до збільшення швидкості вилітаючих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Максимальна швидкість вилітаючих фотоелектронів, залежить тільки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Збільшення частоти падаючого випромінювання, приводить до збільшення швидкості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Епіграф урок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Сонце, небо, зірок сяяння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Море блиску голубог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Всю природу і створі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тільки  в світлі пізнаєм</a:t>
            </a:r>
            <a:r>
              <a:rPr b="1" lang="en-US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ми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4.Пластина виготовлена з матеріалу, «червона межа» для якого попадає в голубу область спектру. При освітленні якими променями даної пластини спостерігається фотоефект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2124000" y="3141360"/>
            <a:ext cx="5122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Інфра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Ультрафіолето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Жовт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Оранже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5: Як зміниться робота виходу, при збільшенні довжини хвилі падаючого випромінювання на катод, в чотири раз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418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6 Яке з нижчеприведених виразів правильне? Кінетична енергія вилітаючих фотоелектронів залежить ві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Тільки від частоти падаючого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 Тільки від температури мета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Тільки від інтенсивності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Від частоти і інтенсивност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Від температури металу і інтенсивності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7 На поверхню тіла падає світлове випромінювання з част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hν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  2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  3,5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ffff66"/>
                </a:solidFill>
                <a:latin typeface="Arial"/>
              </a:rPr>
              <a:t>Задачі для самостійної роботи (4 варіанта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поверхню вольфраму падають рентгенівські промені з довжиною 10 нм. Обчислити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Запам</a:t>
            </a: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‘</a:t>
            </a:r>
            <a:r>
              <a:rPr b="1" lang="uk-UA" sz="4400" spc="-1" strike="noStrike">
                <a:solidFill>
                  <a:srgbClr val="ff0066"/>
                </a:solidFill>
                <a:latin typeface="Arial Black"/>
              </a:rPr>
              <a:t>ятай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«Здібності, як і мускули,    ростуть підчас тренування»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(Академік В. Обручєв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розрізняю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3d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Внутр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збільшення кількості вільних носіїв заряду в напівпровідниках та діелектриках під дією світла” (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записи в зошитах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Зовн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явище втрати речовинами електронів під дією світла або іншого електромагнітного випромінювання. 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(записи в зошитах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 txBox="1"/>
          <p:nvPr/>
        </p:nvSpPr>
        <p:spPr>
          <a:xfrm rot="20235000">
            <a:off x="18720" y="650520"/>
            <a:ext cx="3247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ТОЕФ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8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Герц (Hertz) Генр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і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х </a:t>
            </a:r>
            <a:r>
              <a:rPr b="1" lang="en-US" sz="3200" spc="-1" strike="noStrike">
                <a:solidFill>
                  <a:srgbClr val="fdb7ab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22.II.1857–1.I.1894)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599840" y="1125360"/>
            <a:ext cx="73645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Німецький фізик, один із основоположників електродинаміки. Виходячи  із рівнянн Максвелла, Герц в 1886–89 експериментально довів існування електромагнітних хвиль і досліджував їх властивості (відбивання від люстерка, заломлення в призмах і т. д.). Електромагнітні хвилі Герц </a:t>
            </a: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одержав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за допомогою створеного ним вібратора. Герц підтвердив висновки максвелівської теорії про те, що швидкість розповсюдження електромагнітних хвиль в повітрі рівна швидкості світла, встановив рівність основних властивостей електромагнітних і світлових хвиль. Герц вивчав також розповсюдження електромагнітних хвиль в провіднику і вказав спосіб вимірювання швидкості їх розповсюдженн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В 1886–87 Герц вперше спостерігав і дав опис зовнішнього фотоефекту. Герц розробив теорію резонаторного контуру, вивчав властивості катодних променів, досліджував  вплив ультрафіолетових променів на електричні розряди. В своїх роботах з механіки дав теорію удару пружних шарів, розрахував час співудару і т. д. Іменем Герца названа одиниця частоти коливан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tretch/>
        </p:blipFill>
        <p:spPr>
          <a:xfrm>
            <a:off x="71280" y="189000"/>
            <a:ext cx="1836720" cy="2448000"/>
          </a:xfrm>
          <a:prstGeom prst="rect">
            <a:avLst/>
          </a:prstGeom>
          <a:ln w="4428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6" name=""/>
          <p:cNvSpPr/>
          <p:nvPr/>
        </p:nvSpPr>
        <p:spPr>
          <a:xfrm>
            <a:off x="179280" y="285264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р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Гер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rId3" action="ppaction://hlinksldjump"/>
          </p:cNvPr>
          <p:cNvSpPr/>
          <p:nvPr/>
        </p:nvSpPr>
        <p:spPr>
          <a:xfrm>
            <a:off x="180720" y="49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aramond"/>
              </a:rPr>
              <a:t>І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з історії фотоефекту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entury"/>
              </a:rPr>
              <a:t>1887 рік – німецький фізик Генріх Гер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0" name=""/>
          <p:cNvSpPr/>
          <p:nvPr/>
        </p:nvSpPr>
        <p:spPr>
          <a:xfrm>
            <a:off x="3924360" y="4005360"/>
            <a:ext cx="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3924360" y="2349000"/>
            <a:ext cx="0" cy="1150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780000" y="3933720"/>
            <a:ext cx="2872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780000" y="3357720"/>
            <a:ext cx="28872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1907640" y="595008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1834920" y="234936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908000" y="422100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619280" y="4221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258920" y="400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1835280" y="234936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140000" y="2565360"/>
            <a:ext cx="2879640" cy="93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211640" y="3573360"/>
            <a:ext cx="2736720" cy="142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4140360" y="3860280"/>
            <a:ext cx="295272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924360" y="3645000"/>
            <a:ext cx="163440" cy="426960"/>
          </a:xfrm>
          <a:custGeom>
            <a:avLst/>
            <a:gdLst/>
            <a:ahLst/>
            <a:rect l="l" t="t" r="r" b="b"/>
            <a:pathLst>
              <a:path w="103" h="269">
                <a:moveTo>
                  <a:pt x="51" y="0"/>
                </a:moveTo>
                <a:cubicBezTo>
                  <a:pt x="77" y="76"/>
                  <a:pt x="103" y="71"/>
                  <a:pt x="39" y="102"/>
                </a:cubicBezTo>
                <a:cubicBezTo>
                  <a:pt x="27" y="108"/>
                  <a:pt x="13" y="111"/>
                  <a:pt x="0" y="115"/>
                </a:cubicBezTo>
                <a:cubicBezTo>
                  <a:pt x="9" y="128"/>
                  <a:pt x="15" y="143"/>
                  <a:pt x="26" y="154"/>
                </a:cubicBezTo>
                <a:cubicBezTo>
                  <a:pt x="37" y="165"/>
                  <a:pt x="56" y="166"/>
                  <a:pt x="64" y="179"/>
                </a:cubicBezTo>
                <a:cubicBezTo>
                  <a:pt x="80" y="203"/>
                  <a:pt x="77" y="242"/>
                  <a:pt x="77" y="269"/>
                </a:cubicBezTo>
              </a:path>
            </a:pathLst>
          </a:custGeom>
          <a:noFill/>
          <a:ln w="9360">
            <a:solidFill>
              <a:srgbClr val="d806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Друге відкриття фотоефект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німецький вчений Вільгель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альвак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6" name=""/>
          <p:cNvSpPr/>
          <p:nvPr/>
        </p:nvSpPr>
        <p:spPr>
          <a:xfrm>
            <a:off x="2340000" y="2637000"/>
            <a:ext cx="3887640" cy="295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1258920" y="4221000"/>
            <a:ext cx="2160720" cy="865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564000" y="3357720"/>
            <a:ext cx="1439640" cy="1223640"/>
          </a:xfrm>
          <a:prstGeom prst="plus">
            <a:avLst>
              <a:gd name="adj" fmla="val 35796"/>
            </a:avLst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Трет</a:t>
            </a:r>
            <a:r>
              <a:rPr b="1" lang="uk-UA" sz="4400" spc="-1" strike="noStrike">
                <a:solidFill>
                  <a:srgbClr val="ff3300"/>
                </a:solidFill>
                <a:latin typeface="Century"/>
              </a:rPr>
              <a:t>є</a:t>
            </a: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 відкриття фотоефек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італієць Аугусто Рігі. Він 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ридумав перший фотоелемент – прилад, щ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еретворює енергію  світла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лектричний стру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Четверте і останнє відкриття…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російський вчений Олександ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ригорович Столєтов. Ві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ідверг фотоеф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ксперим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тальному дослідженню 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встановив зако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фотоефек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1">
            <a:lum contrast="6000"/>
          </a:blip>
          <a:srcRect l="4828" t="3648" r="3564" b="0"/>
          <a:stretch/>
        </p:blipFill>
        <p:spPr>
          <a:xfrm>
            <a:off x="5614920" y="2133720"/>
            <a:ext cx="352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4:24:17Z</dcterms:created>
  <dc:creator>Мы</dc:creator>
  <dc:description/>
  <dc:language>en-US</dc:language>
  <cp:lastModifiedBy>NickOn</cp:lastModifiedBy>
  <dcterms:modified xsi:type="dcterms:W3CDTF">2011-01-17T17:56:59Z</dcterms:modified>
  <cp:revision>61</cp:revision>
  <dc:subject/>
  <dc:title>Слайд 1</dc:title>
</cp:coreProperties>
</file>