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532-02DA-4B40-9BAB-8DC39323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CE0-D0F5-4208-A22E-3E89AB5F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7B193-A473-4EA7-A391-61FAC3D2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405E6-2753-461C-BD44-6F71C351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4B75F-EAFA-44A3-9057-B72BD871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95D5A-2EC2-4D88-ACBB-3B8952C2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2B6CF-E22A-447F-90ED-48C457CB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E08DA-CEFA-4702-9C4A-94E94DF1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55743-5B80-4522-A26E-07CA6D2A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583E4-891A-4EA0-A8B0-6C7A2AA8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C23F3-BA93-4E77-8989-5802FD98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53880-CFD2-49F1-8138-7FD3B089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CFA-3D7F-4C54-8986-4D2F021D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D16D9-5A76-4D45-8039-B1D4FFEE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FF3BE-827D-4602-B079-0F20954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D818D-4A82-463D-BE67-05D1B1A7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4507C-80B1-4DF7-AF94-DB1038E7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01EFC-016E-46BB-8C9A-542B80FF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4BF78-2010-4492-B9B2-A29DF731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83004-054D-435A-B4A4-D3857768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7EDDB-741B-4FBA-BD54-66B3C90A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B5186-6275-41E9-81AC-9395573E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6C792-CC70-4D61-B6DB-A4534EE2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4FF-72EB-4242-A386-CEC50E21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B68A0-BF98-46E2-AA0A-C2E0F866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8CC62-7A2F-49AD-B64C-944DDF82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FE884-2322-4224-AEAC-75554D67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9DA60-237D-408D-B668-D3A172BE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F9C26-538D-4F16-8C39-47FD98E6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DE817-C8C6-4F62-8932-C7AD5E44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EC658-92DC-424A-8B2A-A9D43DD1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5539D-1CDE-4556-AE4A-72BA78E8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6E91E-B5E2-40CB-B666-61427C8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429E2-D103-4D4D-8882-82F82583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0FA2-0C1F-4134-8659-6B28699E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26472-596D-4185-A37F-14E2ABD5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40601-FBBB-473B-A021-77EAB1EE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84A9B-4FF7-41E1-BB6D-8676F328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C6FA3-990F-470F-98F9-D6E4C933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F20CA-9E7B-4E8F-828F-5AD045A3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4B978-6B9E-4D95-B819-7D2272AF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6F5D8-E32B-47D8-AC16-901F4067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604EB-41A4-472D-8ABE-17F8211E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D7B46-0426-414A-9833-4CF144B1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9CF2F-3701-479C-9211-1F28E26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677C-3AF9-4AFB-BD23-4D7F08F7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FC427-C2CA-477B-8572-4ADB6A44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A7F6A-C13E-4D6D-BDB8-87B7BC4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9B52F-9229-4AE7-8569-C45F52FC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BFD67-0769-4596-BFE3-A1E87414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AA8D7-EBE9-41CE-8531-FAB40671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56DAA-7F95-473D-98A4-ABEAB478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505BC-A080-4B3F-A0D9-C26AE2B0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A1048-7C88-4DE8-AA7B-B94093DC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6A053-D1D9-467D-A8E0-208E424B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D1733-E261-4C38-9343-0D6DA40F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34FD-6CA9-4AFB-9A5E-19D6452B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E1D0C-37C3-4DE8-A2B2-0F76A7AC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DF6ED-F729-47A0-A547-B9516EA7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0C4E8-87CC-4C2D-8BA6-33005D94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70949-4DDE-44C2-8958-2167DB6B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F755C-B5D8-4560-AF09-E3138864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20AEB-D471-4491-8238-518F0BA0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9B6CD-5AA5-46D1-9BFA-D3ECAB3A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E12A-2A8B-42BC-80EA-B2A415D5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509D-6BA9-4BD8-A238-A02DBA7E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05A4-91D3-4BE6-A3D1-8EDDA0A3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6085-5DAD-4FCB-8467-18C657F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8CC-B9C9-424C-82BA-1740B735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686B-BC75-4E78-A21D-72CC195C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0A1A-7CD9-46F2-9E90-8E0D0658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5B94-BA7F-4575-AC64-77959F12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EF7A-FE89-4BD8-AE6E-0FBDD0F1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1ACC-5915-40E5-A929-9C1538F1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6EB2-83E1-442D-8CC4-8B5D20E5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C511-F90F-4103-AC6C-D3235150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0013-DB03-4194-9560-45E2A952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24DD8-C676-4AF9-ADF7-F9EBF73B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4E22-CAFF-4E42-819E-EF63D032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3BA-8A97-4DA6-9745-2254B186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DB98-0CD1-4FBA-B50B-7DD81A71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36C7-EF7E-4666-896F-1853FC0C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471C-9C8C-4EDD-AEB3-36DC0788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6D4E-9DD0-43C1-B73E-8D7701A2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4AE5-1395-4548-BF8A-05680B6A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FACA-EBE7-407B-A356-9DBFD533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D434-4D07-48D9-ACC9-A7A449F9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39D8-3094-4486-B87B-89E360E6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2B07D-4A5A-4DF5-BF3A-3FF49173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04115-92E5-4090-8152-C1A1FB4A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16B-4474-430A-AE34-BF250401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025DE-FAA0-492C-9DA4-B0CB861B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37B96-45DE-46A1-BA4D-55DE05E4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F8448-B96D-4205-AB0E-7E9DF5D9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D0D78-395B-4453-A101-4D849B5B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1D44F-BF04-400D-914D-9FFB2B8B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38CEB-0493-46BF-974A-4B2A50F3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72677-9E16-446E-B319-9DB16FC6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5AFD1-4545-43E5-943F-3C980BE1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A2EC4-97EA-44E0-AF62-29D4EDF7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BD5E6-3322-4AA7-90D1-4E71D717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BDB-E8E1-4B28-95D2-7B735D58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8A06-76A8-4D26-8045-3A0FC621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C585E-893F-4C71-8033-628D00F2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21008-912C-4737-A862-933E7923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B9205-1C58-49F0-B124-6564EC8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648D5-8AE6-4480-B5D7-12DC147E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8D08-0B9C-4C1D-B651-5D5E095C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D803-9A86-44AB-8A80-4D5025C3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042A2-8A3F-4F06-A637-FC7C60E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A98EA-6B75-4853-BFC8-62178248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591D9-F2E3-405C-84D4-79225523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467-17F7-4AC9-82FB-37477553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F19F-EB46-4613-A231-E0A9308C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44594-8DA0-4083-9EEA-8C3B5804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00E25-EDD8-41E8-BE77-67681325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D6174-3F46-48EC-BE1B-B70B6989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313E3-869F-42D8-B1A2-5DE06FA3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785E3-E12D-40C0-A06E-F8084E34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1C815-4F4C-4491-A155-17DC22B8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F572D-1510-4094-B9A0-47D44AF2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4CD15-DCAD-40A3-9A47-24016BED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16604-1221-45AE-93B9-C80693F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45E-8533-4934-8614-F4DB468E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5D78C-183A-484C-BA8E-69B53272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A3ED5-6625-4AF3-8CF0-7CB4DFCD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DDACB-7677-4877-9288-BB4F3645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B394-DC17-4F93-9F96-C515876D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A3896-74B2-4739-804B-1A2B676E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77CB-18FB-4335-AF36-118C3EDC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16E6E-450E-4E06-946F-D3A11B56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51816-3FA1-4867-9483-A114104C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E625B-2B84-42AB-B6B5-59CC5234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A699A-728E-4E90-ABBF-188C75E1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3D4-6A18-4DD6-8DA1-04729ED4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2FF4E-84EF-49BE-9EB3-8AF0FE97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2A891-46C7-403A-9AB8-F0F383D3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4F076-F52B-44BE-83C7-B51258B1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C89F0-F1B8-4B11-93F6-AA8B2DB1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C3A0E-C294-4F58-8B7B-D04682F9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1C5C2-9A80-4CC0-82EF-C95FD913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58088-2D7D-42E3-B6CB-4B324C47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2DBE3-BF54-4E5B-8AF7-4D642DF8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BB416-F138-4336-AE41-C70C304C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8F6A-5D0F-42B8-8DA3-44E01761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E70-978E-45D6-BD6B-93537D0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27051-605E-4D95-9AEA-4532765B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B7E2B-01DD-4F97-A2F8-04C4E675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B48F3-E6DE-4419-9482-8EF32E19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3ACB9-1E22-4D9E-966D-B786D24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CB0F1-D1CD-4F40-87D3-BF830968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09E3B-C2BC-41E1-9181-D29D6DF1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D3960-66EF-4BE3-B5EB-30FC773B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9F8CD-B3B0-4AFB-873D-A8436EA0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14E67-96A5-494F-9FF9-063D762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38498-D1EB-40EC-9F78-7BEE1E28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1730-8C71-4BE2-8AD5-6F9C3A89C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52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3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55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4B47-D590-4652-8387-664DF7339F8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0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1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8AA7-059E-4FDF-9F33-6EC6040DB62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A884-2C9A-4EF4-903B-7DC423E49DD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3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73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73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dt" idx="3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sldNum" idx="3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5D7E-678D-442B-9786-D48B5DA4EDF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5D5B-1DD8-449B-A942-E5E7E6C0A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0493-247B-4690-A416-9F6A6D0C3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1FC-C6D8-43FF-9455-1FC1A08BD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7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9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AD8-5575-43F6-8AB7-A46F4F22583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7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FA77-98DA-448F-8225-2BE9B2C0B1A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51F6-6202-4DAB-BCE1-31D01119A37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4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7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7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7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7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3BAE-3F68-44FC-AB4E-D78E97D6FDD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3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3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4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4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5421-5DB4-4085-894D-77C79E617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WordArt 6"/>
          <p:cNvSpPr txBox="1"/>
          <p:nvPr/>
        </p:nvSpPr>
        <p:spPr>
          <a:xfrm>
            <a:off x="1116000" y="333360"/>
            <a:ext cx="6491160" cy="777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отоефек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2" name="Text Box 10"/>
          <p:cNvSpPr/>
          <p:nvPr/>
        </p:nvSpPr>
        <p:spPr>
          <a:xfrm>
            <a:off x="395280" y="1484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ефек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це група явищ, пов'язаних із «звільненням" електронів твердого тіла від зв'язків усередині атома під дією електромагнітного випромінюван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Group 12"/>
          <p:cNvGrpSpPr/>
          <p:nvPr/>
        </p:nvGrpSpPr>
        <p:grpSpPr>
          <a:xfrm>
            <a:off x="5796000" y="1125360"/>
            <a:ext cx="2808360" cy="2448000"/>
            <a:chOff x="5796000" y="1125360"/>
            <a:chExt cx="2808360" cy="2448000"/>
          </a:xfrm>
        </p:grpSpPr>
        <p:pic>
          <p:nvPicPr>
            <p:cNvPr id="784" name="Picture 8" descr="фотоєф"/>
            <p:cNvPicPr/>
            <p:nvPr/>
          </p:nvPicPr>
          <p:blipFill>
            <a:blip r:embed="rId1"/>
            <a:stretch/>
          </p:blipFill>
          <p:spPr>
            <a:xfrm>
              <a:off x="5796000" y="1125360"/>
              <a:ext cx="280836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Rectangle 11"/>
            <p:cNvSpPr/>
            <p:nvPr/>
          </p:nvSpPr>
          <p:spPr>
            <a:xfrm>
              <a:off x="5796000" y="2492280"/>
              <a:ext cx="1655640" cy="1081080"/>
            </a:xfrm>
            <a:prstGeom prst="rect">
              <a:avLst/>
            </a:prstGeom>
            <a:gradFill rotWithShape="0">
              <a:gsLst>
                <a:gs pos="0">
                  <a:srgbClr val="ffff66"/>
                </a:gs>
                <a:gs pos="50000">
                  <a:srgbClr val="f6b448"/>
                </a:gs>
                <a:gs pos="100000">
                  <a:srgbClr val="ffff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Bookman Old Style"/>
                </a:rPr>
                <a:t>електричний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Bookman Old Style"/>
                </a:rPr>
                <a:t>ефект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Text Box 13"/>
          <p:cNvSpPr/>
          <p:nvPr/>
        </p:nvSpPr>
        <p:spPr>
          <a:xfrm>
            <a:off x="324000" y="378936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ектрони, що вилітають із речовини при зовнішньому фотоефекті, називаються "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електрон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, а електричний струм, який утворюється ними при упорядкованому русі у зовнішньому електричному полі, називається "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фотострум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entury"/>
              </a:rPr>
              <a:t>Вентильні фотоелемен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Фотоелементи з вентильним фотоефектом подібно до елементів із  зовнішнім  фотоефектом мають строгу пропорційність фотостуму інтенсивності випромінювання. Їх перевагою є порівняно більша інтегральна чутливість і не потребують зовнішнього джерела струм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Century"/>
              </a:rPr>
              <a:t>Кремнієві та інші вентильні фотоелементи застосовують  для створення сонячних батарей,   які безпосередньо перетворюють світлову енергію в електрич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014"/>
          <p:cNvPicPr/>
          <p:nvPr/>
        </p:nvPicPr>
        <p:blipFill>
          <a:blip r:embed="rId1"/>
          <a:srcRect l="0" t="0" r="0" b="2883"/>
          <a:stretch/>
        </p:blipFill>
        <p:spPr>
          <a:xfrm>
            <a:off x="4572000" y="1916280"/>
            <a:ext cx="4356000" cy="364464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"/>
          <p:cNvSpPr/>
          <p:nvPr/>
        </p:nvSpPr>
        <p:spPr>
          <a:xfrm>
            <a:off x="395280" y="333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Сонячні батаре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5"/>
          <p:cNvSpPr/>
          <p:nvPr/>
        </p:nvSpPr>
        <p:spPr>
          <a:xfrm>
            <a:off x="395280" y="1125360"/>
            <a:ext cx="40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і батареї вже протягом багатьох років працюють на космічних супутниках 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раблях. Їх ККД складає приблизно  10%  та, як показують теоретичні розрахунки його можна збільшити до  22%, що відкриває великі перспективи  їх використання у якості джерел  для  побутових та виробничих потр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0000"/>
                </a:solidFill>
                <a:latin typeface="Century"/>
              </a:rPr>
              <a:t>Сонцемобіль, сонячна станці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1" name="Picture 4" descr="Солнцемобиль"/>
          <p:cNvPicPr/>
          <p:nvPr/>
        </p:nvPicPr>
        <p:blipFill>
          <a:blip r:embed="rId1"/>
          <a:srcRect l="3993" t="5175" r="0" b="0"/>
          <a:stretch/>
        </p:blipFill>
        <p:spPr>
          <a:xfrm>
            <a:off x="0" y="1557360"/>
            <a:ext cx="4859280" cy="50846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5" descr="Станция"/>
          <p:cNvPicPr/>
          <p:nvPr/>
        </p:nvPicPr>
        <p:blipFill>
          <a:blip r:embed="rId2"/>
          <a:stretch/>
        </p:blipFill>
        <p:spPr>
          <a:xfrm>
            <a:off x="5148360" y="1557360"/>
            <a:ext cx="3995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539640" y="836640"/>
            <a:ext cx="813600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зовнішні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фотоелектронна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місія) - випромінювання електронів з поверхні твердого тела під 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ією світла, гамма - випромінювання і т. і. (відкритий Г. Герцем у 1887, пояснений Ейнштейн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внутрішні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перерозподіл електронів за енергетичними станами в твердих та рідких напівпровідниках та діелектриках, який спричиняється світлом. Він проявляється у зміні концентрації носіїв струму у середовищі і призводить до виникнення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фотопровідності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вентильний фотоефек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- збудження світлом ЕРС на межі поділу метал - напівпровідник або між різнорідними напівпровідниками. При вентильному фотоефекті фотоелектрони виходять через поверхню поділу з одного тіла в інш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395280" y="189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00"/>
                </a:solidFill>
                <a:latin typeface="Arial Black"/>
              </a:rPr>
              <a:t>Види фотоефек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Picture 4" descr="5-2-1"/>
          <p:cNvPicPr/>
          <p:nvPr/>
        </p:nvPicPr>
        <p:blipFill>
          <a:blip r:embed="rId1"/>
          <a:stretch/>
        </p:blipFill>
        <p:spPr>
          <a:xfrm>
            <a:off x="250920" y="404640"/>
            <a:ext cx="3422520" cy="496908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10"/>
          <p:cNvGrpSpPr/>
          <p:nvPr/>
        </p:nvGrpSpPr>
        <p:grpSpPr>
          <a:xfrm>
            <a:off x="4643280" y="404640"/>
            <a:ext cx="4104000" cy="5860800"/>
            <a:chOff x="4643280" y="404640"/>
            <a:chExt cx="4104000" cy="5860800"/>
          </a:xfrm>
        </p:grpSpPr>
        <p:pic>
          <p:nvPicPr>
            <p:cNvPr id="791" name="Picture 5" descr="5-2-2"/>
            <p:cNvPicPr/>
            <p:nvPr/>
          </p:nvPicPr>
          <p:blipFill>
            <a:blip r:embed="rId2"/>
            <a:stretch/>
          </p:blipFill>
          <p:spPr>
            <a:xfrm>
              <a:off x="4788000" y="404640"/>
              <a:ext cx="3959280" cy="31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6"/>
            <p:cNvSpPr/>
            <p:nvPr/>
          </p:nvSpPr>
          <p:spPr>
            <a:xfrm>
              <a:off x="4643280" y="3573360"/>
              <a:ext cx="3961080" cy="26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Залежність сили фотоструму від прикладеної напруги. Крива 2 відповідає більшій інтенсивності світлового потоку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та               – струми насичення, </a:t>
              </a:r>
              <a:r>
                <a:rPr b="0" i="1" lang="uk-UA" sz="20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з – за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п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і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рний </a:t>
              </a:r>
              <a:r>
                <a:rPr b="0" lang="uk-UA" sz="2000" spc="-1" strike="noStrike">
                  <a:solidFill>
                    <a:srgbClr val="ffffff"/>
                  </a:solidFill>
                  <a:latin typeface="Arial"/>
                </a:rPr>
                <a:t>потенціал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3" name="Object 7"/>
            <p:cNvGraphicFramePr/>
            <p:nvPr/>
          </p:nvGraphicFramePr>
          <p:xfrm>
            <a:off x="4859280" y="5084640"/>
            <a:ext cx="479520" cy="57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5084640"/>
                      <a:ext cx="4795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Object 8"/>
            <p:cNvGraphicFramePr/>
            <p:nvPr/>
          </p:nvGraphicFramePr>
          <p:xfrm>
            <a:off x="5940360" y="5157720"/>
            <a:ext cx="476280" cy="50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6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0360" y="5157720"/>
                      <a:ext cx="47628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7" name="Text Box 9"/>
          <p:cNvSpPr/>
          <p:nvPr/>
        </p:nvSpPr>
        <p:spPr>
          <a:xfrm>
            <a:off x="179280" y="544500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хема експериментальної установки для вивчення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4"/>
          <p:cNvSpPr/>
          <p:nvPr/>
        </p:nvSpPr>
        <p:spPr>
          <a:xfrm>
            <a:off x="324000" y="476280"/>
            <a:ext cx="842472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Bookman Old Style"/>
              </a:rPr>
              <a:t>Закони Столєтова для фотоефек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Кількість  електронів (фотоелектронів), що вибиваються світлом за одну секунду з поверхні металу(тобто струм насичення), прямо пропорційна інтенсивності світла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Максимальна кінетична енергія фотоелектронів лінійно збільшується із збільшенням частоти світла і не залежить від його інтенсивност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Для кожної речовини існує </a:t>
            </a: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червона границя фотоефекту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, тобто мінімальна частота (максимальна довжина хвилі), при якій фотоефект ще можливий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Фотоефект є практично неінерційним, фотострум виникає миттєво після початку освітлення катоду, за умови, що частота світ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Group 8"/>
          <p:cNvGrpSpPr/>
          <p:nvPr/>
        </p:nvGrpSpPr>
        <p:grpSpPr>
          <a:xfrm>
            <a:off x="3708360" y="3860640"/>
            <a:ext cx="4751280" cy="2293920"/>
            <a:chOff x="3708360" y="3860640"/>
            <a:chExt cx="4751280" cy="2293920"/>
          </a:xfrm>
        </p:grpSpPr>
        <p:graphicFrame>
          <p:nvGraphicFramePr>
            <p:cNvPr id="800" name="Object 6"/>
            <p:cNvGraphicFramePr/>
            <p:nvPr/>
          </p:nvGraphicFramePr>
          <p:xfrm>
            <a:off x="3708360" y="5589720"/>
            <a:ext cx="1224000" cy="56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08360" y="5589720"/>
                      <a:ext cx="1224000" cy="56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2" name="Object 7"/>
            <p:cNvGraphicFramePr/>
            <p:nvPr/>
          </p:nvGraphicFramePr>
          <p:xfrm>
            <a:off x="7812000" y="3860640"/>
            <a:ext cx="647640" cy="55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812000" y="3860640"/>
                      <a:ext cx="647640" cy="55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столетов"/>
          <p:cNvPicPr/>
          <p:nvPr/>
        </p:nvPicPr>
        <p:blipFill>
          <a:blip r:embed="rId1"/>
          <a:stretch/>
        </p:blipFill>
        <p:spPr>
          <a:xfrm>
            <a:off x="539640" y="404640"/>
            <a:ext cx="2978280" cy="4104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539640" y="4869000"/>
            <a:ext cx="3095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Столєтов Олександр Григо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1839 - 189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3564000" y="466560"/>
            <a:ext cx="52560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осійський вчений, професор фізики у Московському університеті. Закінчив Московський Університет, стажувався в лабораторії Кірхгоф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крім двох дисертацій, найбільш важливими є наступні  роботи  Столєтова "О Кольраушевом измерении ртутной единицы сопротивления"; "Sur une methode pour determineh le rapport des unites electromagnetiques et electrostatiques" (le "v" de Maxwell); "Об электричестве сопротивления"; "О критическом состоянии тел" (4 ст.); "Актиноэлектрические исследования"; "Эфир и электричество" (речь); "Очерк развития наших сведений о газах"; "Введение в акустику и оптику" (курс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5"/>
          <p:cNvSpPr/>
          <p:nvPr/>
        </p:nvSpPr>
        <p:spPr>
          <a:xfrm>
            <a:off x="539640" y="53820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Червона границя фотоефект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визначається частотою, при якій електрон може залишити метал, але його кінетична енергія буде дорівнювати нулю, тобт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9" name="Object 6"/>
          <p:cNvGraphicFramePr/>
          <p:nvPr/>
        </p:nvGraphicFramePr>
        <p:xfrm>
          <a:off x="1042920" y="3573360"/>
          <a:ext cx="66978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573360"/>
                    <a:ext cx="66978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Text Box 8"/>
          <p:cNvSpPr/>
          <p:nvPr/>
        </p:nvSpPr>
        <p:spPr>
          <a:xfrm>
            <a:off x="843120" y="2698920"/>
            <a:ext cx="7832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468360" y="2781360"/>
            <a:ext cx="835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Rectangle 11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468360" y="5445000"/>
            <a:ext cx="295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6"/>
          <p:cNvSpPr/>
          <p:nvPr/>
        </p:nvSpPr>
        <p:spPr>
          <a:xfrm>
            <a:off x="395280" y="476280"/>
            <a:ext cx="84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кони фотоефекту не узгоджуються з електромагнітною теорією світ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У випадку електромагнітної хвилі електрон мав би накопичувати енергію поступово (хвилини або годин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В рамках електромагнітної теорії неможливо пояснити існування червоної границі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Хвильова теорія неспроможна пояснити незалежність енергії фотоелектронів від інтенсивності світлового потоку та її пропорційність частоті світ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яснення законів фотоефекту було дано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Ейнштейно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1905) на основі припущення, що світло випромінюється, поширюється та поглинається у вигляді неподільних порцій енергії – квантів світ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івняння Ейнштейна для фотоефект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 закон збереження енергії в застосуванні до фотоефект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Rectangle 8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7" name="Object 7"/>
          <p:cNvGraphicFramePr/>
          <p:nvPr/>
        </p:nvGraphicFramePr>
        <p:xfrm>
          <a:off x="3276720" y="4797360"/>
          <a:ext cx="266364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797360"/>
                    <a:ext cx="266364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Вакуумний   фотоелемен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Text Box 7"/>
          <p:cNvSpPr/>
          <p:nvPr/>
        </p:nvSpPr>
        <p:spPr>
          <a:xfrm>
            <a:off x="611280" y="1844640"/>
            <a:ext cx="424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йпростішим фотоелемен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із зовнішнім фотоефектом є 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акуумний фотоелемент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ін  являє собою відкачаний скляний балон, внутрішня поверхня якого (за винятком віконця для доступ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промінювання) вкрита фоточутливим шаром. Ця поверхня є фотокатодом. У центрі балона міститься кільце або сітка - ан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1" name="Picture 8" descr="Фотоэлемент"/>
          <p:cNvPicPr/>
          <p:nvPr/>
        </p:nvPicPr>
        <p:blipFill>
          <a:blip r:embed="rId1"/>
          <a:srcRect l="13623" t="0" r="13799" b="0"/>
          <a:stretch/>
        </p:blipFill>
        <p:spPr>
          <a:xfrm>
            <a:off x="5118120" y="1773360"/>
            <a:ext cx="37386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 Black"/>
              </a:rPr>
              <a:t>Фоторезистор</a:t>
            </a:r>
            <a:r>
              <a:rPr b="0" lang="uk-UA" sz="4400" spc="-1" strike="noStrike">
                <a:solidFill>
                  <a:srgbClr val="cc0000"/>
                </a:solidFill>
                <a:latin typeface="Arial Black"/>
              </a:rPr>
              <a:t>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Основою принципу дії напівпровідникових фотоелементів або фотоопорів </a:t>
            </a:r>
            <a:r>
              <a:rPr b="1" lang="uk-UA" sz="3200" spc="-1" strike="noStrike">
                <a:solidFill>
                  <a:srgbClr val="ff3300"/>
                </a:solidFill>
                <a:latin typeface="Century"/>
              </a:rPr>
              <a:t>(фоторезисторів</a:t>
            </a:r>
            <a:r>
              <a:rPr b="1" lang="uk-UA" sz="3200" spc="-1" strike="noStrike">
                <a:solidFill>
                  <a:srgbClr val="000000"/>
                </a:solidFill>
                <a:latin typeface="Century"/>
              </a:rPr>
              <a:t>)</a:t>
            </a:r>
            <a:r>
              <a:rPr b="0" lang="uk-UA" sz="3200" spc="-1" strike="noStrike">
                <a:solidFill>
                  <a:srgbClr val="000000"/>
                </a:solidFill>
                <a:latin typeface="Century"/>
              </a:rPr>
              <a:t> є внутрішній фотоефект. Фоторезистори мають набагато більшу інтегральну чутливість, ніж вакуумні. Недоліком фотоопорів є їх помітна інерційність. З цієї причини вони  для реєстрації непридатні швидкоплинних світлових потокі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45:28Z</dcterms:created>
  <dc:creator>User</dc:creator>
  <dc:description/>
  <dc:language>en-US</dc:language>
  <cp:lastModifiedBy>NickOn</cp:lastModifiedBy>
  <dcterms:modified xsi:type="dcterms:W3CDTF">2011-01-08T16:29:07Z</dcterms:modified>
  <cp:revision>15</cp:revision>
  <dc:subject/>
  <dc:title>Слайд 1</dc:title>
</cp:coreProperties>
</file>