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gif" ContentType="image/gif"/>
  <Override PartName="/ppt/media/image3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  <p:sldId id="280" r:id="rId49"/>
    <p:sldId id="281" r:id="rId50"/>
    <p:sldId id="282" r:id="rId51"/>
    <p:sldId id="283" r:id="rId52"/>
    <p:sldId id="284" r:id="rId53"/>
    <p:sldId id="285" r:id="rId54"/>
    <p:sldId id="286" r:id="rId55"/>
    <p:sldId id="287" r:id="rId56"/>
    <p:sldId id="288" r:id="rId57"/>
    <p:sldId id="289" r:id="rId58"/>
    <p:sldId id="29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slide" Target="slides/slide25.xml"/><Relationship Id="rId50" Type="http://schemas.openxmlformats.org/officeDocument/2006/relationships/slide" Target="slides/slide26.xml"/><Relationship Id="rId51" Type="http://schemas.openxmlformats.org/officeDocument/2006/relationships/slide" Target="slides/slide27.xml"/><Relationship Id="rId52" Type="http://schemas.openxmlformats.org/officeDocument/2006/relationships/slide" Target="slides/slide28.xml"/><Relationship Id="rId53" Type="http://schemas.openxmlformats.org/officeDocument/2006/relationships/slide" Target="slides/slide29.xml"/><Relationship Id="rId54" Type="http://schemas.openxmlformats.org/officeDocument/2006/relationships/slide" Target="slides/slide30.xml"/><Relationship Id="rId55" Type="http://schemas.openxmlformats.org/officeDocument/2006/relationships/slide" Target="slides/slide31.xml"/><Relationship Id="rId56" Type="http://schemas.openxmlformats.org/officeDocument/2006/relationships/slide" Target="slides/slide32.xml"/><Relationship Id="rId57" Type="http://schemas.openxmlformats.org/officeDocument/2006/relationships/slide" Target="slides/slide33.xml"/><Relationship Id="rId58" Type="http://schemas.openxmlformats.org/officeDocument/2006/relationships/slide" Target="slides/slide34.xml"/><Relationship Id="rId59" Type="http://schemas.openxmlformats.org/officeDocument/2006/relationships/slide" Target="slides/slide35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F4E-0807-4F08-83E4-DCCED2BE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87B-6176-48DF-9787-C8D41CB2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79857-3E31-43F3-BFE8-C63E66BB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8E79C-7ADB-4DE0-879B-76AE4B74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829F0-F9AA-4ED6-AC44-3D59AE3F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A893B-5718-4179-A96F-D159C576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E47A4-46D2-4DFA-8A2E-F1D635CA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B9DD8-FFD7-4E3F-8768-DDEE984B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F2AA5-6BCD-4C95-8D50-5782A7FB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4C03D-100D-4832-B7B8-73580A35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80CFC-F5AD-4507-981F-332E36D4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08003-E070-40DB-A2AD-A647A5FC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DDF-FA2B-4579-B7C1-9956FFA3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EA020-0FA6-4A29-AAA1-3C745A2D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490D2-C836-46F8-8BAC-7DE1EEC2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82482-CD58-48CB-8A80-E327DBC0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F7D24-9C80-493A-BC38-ECD90456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23565-942A-4C61-801A-08276615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D0B92-D787-4FA6-9DDC-1ACCC4FE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8E042-029B-452C-862D-806A1B82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F6CE2-35BE-422F-9576-81AD1098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F0A8D-2FB3-490F-BABD-C9F6187B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B1BAD-8C4A-4FAF-80C5-86C54E3E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6099-F091-4A5D-8EC0-003DB939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E2D9E-AD60-4FCB-82D1-E59E63E2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9AE4A-4842-42B4-846F-6A853206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A7D75-048B-481E-9D47-39BA722C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78A2E-AF7F-4C71-9637-93727B56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29300-A1D3-4036-8571-99A24646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6025A-7678-4A13-9A58-97703C4C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CCC29-42FF-4743-8A8E-2272E09C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C9423-D0C1-4014-B0C5-A4264833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F1635-AFA3-4826-BBC4-2E9DB082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41598-FC8C-4921-A6B2-2B038D3C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12B3-E183-4FAC-8CD3-E3B7615A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B1CD9-43DE-48D2-97FF-B0BA7176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24303-9D48-4B54-BE14-36B8B17B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5EF40-C1AB-4201-AD66-FDF99C98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06B54-49A0-4093-83E0-E4CA292B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D78A8-6643-43EE-8145-E9EA27C1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58FD2-7016-4796-B89C-801239DD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56F98-9AA5-49B2-9F62-AD564359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C15EC-114A-4196-8D22-B1971BDD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04764-19C3-4E91-9EFA-6FAE5566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B7101-649F-41AD-A9BD-992FEC9A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FF03-4AEC-4F70-A6F0-EA4A21DF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4D97B-FCA9-441B-B0AB-8BE15CFA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FB6E9-11E3-4930-B3D2-2BC2ED02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BF9E4-9C6D-4EDE-B2CE-05764DFE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FF0EA-D337-480C-B67F-38B0B81A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964F2-3AC2-4C3B-8F27-46A59D2E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F4C72-A6A2-4E1F-85AF-C508E0C7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3A5D7-CEAC-452E-A91D-B9B015B6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0E1A8-6EC4-42F0-B70F-08A37159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B1715-ED12-4880-98A9-4BF71E8B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3186C-4E4C-43B1-8478-A16718C4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1115-D129-4887-8C6E-9A609209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561E1-AC30-48B0-983E-0696B73B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1EC4D-5789-4E9D-8B6B-2A4E2298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66E5B-F90C-4612-9B74-9A34C067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E641F-9B4B-44CC-AE00-469CF975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EEA9D-C114-4081-A929-2A9D914B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FB184-6DE0-4DE3-BC5F-573295D6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EDFC4-E3D0-42C0-B472-4B09E0A0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0DDD59-A591-4FA7-856B-D3D744A7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BDB91D-4D5B-48C7-84CD-99810673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D977DE-2FA1-4982-8B69-5AB359CB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8389-1C24-4D71-AE2D-8EFC339A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1B4685-2734-47DE-B7FA-CAFAD591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1C9CD3-8EC0-4112-A8B2-84346B1E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586FE0-9F94-415E-8A36-267D0138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880AAF-AE5F-43B1-AF39-3AB7D0B2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63C68B-7223-4677-8B5F-74690324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BF9111-37EE-4530-A09D-904380EE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CA42BC-910A-4227-B856-A375C39D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CD0D20-5191-4D89-AB49-2464C786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6E686E-79CB-416A-8841-CF5ED92D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94404-5F2D-465B-94A1-017AE0A4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B6EC-0D65-445F-89DB-B62AECCC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0346B-B3E1-4921-8099-C1F62499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55996E-309C-49D2-9A41-58609320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5D55BF-49E5-4477-B314-5B17F73A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69446-1F16-4386-A94C-24C09896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CB3AE-09DD-44AC-8F14-FBDE6901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C829A-9309-42A4-BDAD-D7DDE3D6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04C73B-C819-4FAA-BE91-6E1E0A61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FFA8C-739D-4B18-BF17-38C7563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67E25-7BC3-4AB5-9E82-04FC115E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F13C1-7FFC-47AD-ABF7-82E97D59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00E9-52CB-46E8-A642-A069E1F8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D110D-71B1-4999-B355-16265E9B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064B17-BBAE-47FF-BE34-1FDE09BC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01BB6-D01C-4F10-BAD4-6296D8BB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2AA188-DA14-44E8-9567-B14D34BF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2FB2D-AE7A-476B-80CB-80921AAD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6DC03-8BF9-43B4-88C3-53AE2ADB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6A6DB-379D-4842-B162-32699417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A9759-86E9-4F0F-AE38-F2B1642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27701-E2EA-4E11-9839-C2BE323D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B13F63-BB19-4806-9AF9-A43E28B0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F0FB-D5F9-4FA9-BDB8-71873DEF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3E70E-871A-44AF-BB4D-8DBC58A6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3C1E4-535F-4D1F-B104-D599BC80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234B6-D0FC-43F0-99DE-A6D8B45F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BB4E9-97BF-4C58-A722-1F614B35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EC479C-35AA-4421-B269-0C341883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2AA9E-88D5-45ED-B0C4-C74D3CEB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40411F-5CE5-4DDE-8546-04F65132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8DCAE-2788-4D61-89D0-B63D5BDC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F0F188-4E2E-43C2-AF43-3FBB55F8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A6811-1833-4E79-8044-30CB6890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87E-3C9E-4166-93C9-32327AD3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5DEB-BBE4-4CE7-A4A9-38D6EAB0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55D8C4-7A7D-4DF2-8804-53B308DD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CB79B5-012A-412F-90D3-F0E7ED4D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4C256-581E-4D8C-ABD0-3A29C09B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05BC9-EE43-474D-8BBD-0CEB42F9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4FFC8-5C18-441B-9121-1EDD07BB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66857-5B33-466F-9F7F-625F1E82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6560A7-39D5-4C2C-AF3A-75B092E4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ECE28-859E-4853-A56A-4DB77C86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0CBE0D-76A6-46C1-A5CC-B2C1D6C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DD6075-7956-4090-8673-BCF29796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E7B4-C4EE-4503-9126-CDC73B6F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ACD445-17D7-47B4-B5C1-4F1526D1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91D15-5B61-43AA-9CDA-391D6A82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CB36AA-EE4E-4459-AA8A-3ECFF7DE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2284CE-914C-48C3-A915-CEA5D1C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2BE62-82E5-4291-9B22-CEB38116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BFDA4F-04C6-492E-836B-5F147D6D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26B7C7-CF7B-4FF3-977A-5FE666E0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798EAA-263D-4778-B68A-4501C7CF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D73439-B333-4E16-B5C9-8FA400B1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D3E127-4CDB-4C5F-9E66-55618D5D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03FF-2A49-460B-A3FE-5F577EEB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CB5873-CE9E-4C11-A755-7666015F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682EC-0A0D-4D6D-AC64-E1B95574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56562-F2AA-48E9-B52D-5F076C2E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840154-C420-4A8D-AC68-A1091C24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A92887-D155-443E-8B83-157EFB8F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1ABEA-F6A0-4344-A8D3-31283BA8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93F32D-B7CB-4B8C-AAF9-E0253478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657A3C-F0D8-4C94-A84F-44A6BA64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FAC32C-49C6-4197-98F7-58C11E6E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E25AD-7DDB-43EE-B47C-8AB2371A9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14F4-9AB3-4798-A856-8AD77382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6EF8CE-4260-4164-B422-F670C5C7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5067B1-2E4C-41A7-B949-F248016D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F469D9-A644-4F36-A181-72B106AC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4890DF-EA6B-4635-9DA4-0D317082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C961C1-E611-4D5B-978E-095282A1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C8F218-EA2D-40B4-AF57-DBD4E98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B383C0-FDBE-418C-8BC7-D7BBBA54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97A02-89FF-4C30-8756-3603CE73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80037-F52B-45B2-B808-A99ABE59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F7C48F-2A30-42B1-872B-2F4F18C8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F367-4E8C-456F-B0FB-B765BB1C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2E2EC7-FE9D-4960-98E3-ABD21E02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ECDAD7-0473-4218-9EFE-5203F3EA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FD9142-06BE-49B8-A73E-206EAE16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08E2F7-4AB8-4B66-A263-F8588D97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538C35-7D20-4D2F-AC35-0BCD9AAC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8BBDC-6E07-4755-A00C-DBC6C01A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02779-912B-4DD7-9A24-5A7C48F5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507F94-EBD4-44CC-8F02-1BD69A8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DDB8BA-34CF-4FA8-BA4B-C4E6F9C8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C83B9D-6ECA-4004-9B60-9A546723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F8F6-7AF1-45BE-BE2A-BBDA4E95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6BF94-8989-46F3-A69F-A5591F06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E5E20E-A053-45E6-A044-A6260CCC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E47CDA-C941-4CFD-B7BE-34A8DB5C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6EAFC-586B-40BA-BA4C-DC81030F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94A1F1-6169-4DB8-941C-7FC21D09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3FB28D-5DF9-43F4-81A3-1DDBDFA1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79A6D6-9FDC-4BE3-A9F5-B3B29E64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88645E-1CDA-4350-B505-E80D8A8E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4AF459-12E8-41A7-8487-37CE462B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D95128-3E2D-4F1E-B450-1C2E8257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4CE9-94EE-48F9-96E7-55E0047B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D7EFFB-950E-4C08-899F-F372CA2A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4C7B2E-32E1-4EB5-8E9D-10D759AA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C37065-440D-4316-90B5-F6197F3E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BE6F1E-06C1-4392-9BD8-00CC4400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472356-40AD-439E-9072-1E2B2AB0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A755BE-42B9-41A6-A841-F8116376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01D71B-296A-4408-93A3-99F063C6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8BDA56-16AD-475D-BF30-FB3637F0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A9262F-69AD-4578-B88A-B03DF615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F36AB9-D10F-4D76-9E25-395BBFAE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752F8-587B-44E7-AEED-E0B65F26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7F4000-07D8-4141-8D63-B049746C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ED0B2A-57A3-4335-935E-46BA09CC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E59EE1-08E6-446E-A07B-C03C0344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97F0EA-0E52-4AC5-8968-EA53B24A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DCF815-6C37-4FDF-9C29-C0DDB5C4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8C1F8F-F521-4A51-B1B2-EF43CC07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1C08F3-F8B6-4959-AE29-747453CD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2392-F359-4AA2-AC21-0F252362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12A6-7007-427E-9A60-11992642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66E-271A-4694-8A92-F106DFCA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B2A5-0AC0-4588-BD4B-9D693ABC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DEFC-F0D5-409B-B3A1-C619B095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A9C3-0326-4B04-BC38-94D07C3D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2AC7-EE49-41CF-9F9F-5B29C4A6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E1D8-D1A8-4376-84D8-9455B7C8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2A3F-EA6C-4BAB-995A-5A4FF30D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EA083-EE91-4DF3-BD7C-780C0C06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A8890-AA20-4347-86EB-3D36CC67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85E2-37F6-4258-BEED-61975C8D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2B853-7203-4838-B995-FD911BBE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6AC-AA1C-47A8-9E24-8C7F964B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F08D0-2F84-4115-AEDB-BAD113B8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B76D-8A11-4373-AA54-E31C6CF2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9980-5FA4-42EC-BB63-A0ED8953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D72FD-EEBC-46E9-A456-B2F30510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40A7-2C77-426A-9825-A6E74F2F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51EA-4986-435E-8F1C-1FBDE5A9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DF298-2E6B-49BD-A9FD-E1D95462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B1AB4-F47A-4D40-A951-C573C5D8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736A-7C66-4020-9F17-8A4564E4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97130-4501-4A96-A23E-09823ADB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D48-A867-422B-B702-84CEB844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79C59-9AA2-40A1-9435-4D1D0503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882BF-9694-4D76-B479-8EF2B9C4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FB7A-8730-43E3-A401-7E4E5AEB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8467D-F8DE-4124-BA5B-93800581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F6961-0914-45C7-A6CD-513BC415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7D8BC-7A8A-4D2E-AC7E-5179AB64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C1ABC-BE3C-45D9-ABE3-8FEDE0A8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98DF-BAF9-436E-858E-7334894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5EF6-CEEE-48F3-ADD1-80547962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AC511-1CE3-40AB-961F-A12B0001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A1D-593F-460D-B809-D04B51F6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03EFF-279B-4328-B55E-5984AAE0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FCD105-0EB0-4D6F-89DD-A698BB31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FC8458-4B59-4989-987D-FCC662D4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A9D05B-DD71-4DC5-8ECA-C7B27237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DB872-368D-4FB0-91E7-6BE3CCA4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9BBBB-96A3-425C-A442-E0B1F7B8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1370C6-9F85-43B4-B4E4-8C55E97C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1F3B0-81AA-467C-AA51-8D39176A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D7B23-E28E-4B09-BF12-9ED7639D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626B2-0B3D-48F7-A7D5-34E086BE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CE7-0482-49AB-8462-1D9B5D8A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46A6F-8545-4870-B97D-F2253750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6726F-B85A-468D-8FD4-79084879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45719-18D1-4474-BDEE-1ED3BF81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E048B-F2BB-4B71-8B51-7CCE5824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91DCE-4429-4A3A-97F0-FC20CE67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1FAEE-EF00-445C-82A8-C6BCB7EF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AC435-496C-42E8-AF14-654073E5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DC29E-082A-491B-984F-811935F5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73B2F-C5C3-4479-B3DD-28EB4EF4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D1C8A-3744-4A47-B935-7C83D62C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61A-7F73-4912-8E32-10878B98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17BCE-5AAD-4132-B7B0-5AFBA093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8167-D9D5-453D-A527-AEE05EF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F7A98-3B0B-43E7-BEC0-D39ADA5F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84A18-27DD-4503-944A-1D7F265A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8913A-076F-4F2C-AE66-1C758B0A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E4111-D47E-4D95-B431-1BC6098C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B7C05-C665-40F8-9BFB-949B06D1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8EE18-D856-4BE9-BC83-0871BC0B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7EE32-AFD4-419D-B8F1-57DDF245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10A85-CF65-4604-999D-240A71D6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AC9-33EB-4DB1-A6B3-16D037A1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04CBE-79D0-45B0-80F3-8D6F85AE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B22E5-AA06-43FD-BAE8-FE0365CD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DFAAD-5066-4FBE-93BC-885077B2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939D0-877B-4AD3-B0AC-A78A5472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3D2FD-93DD-4C8C-BB16-2B7CCC57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5E91D-214F-4DD7-83A2-89320571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31F6C-3CC1-447E-AA97-F733F89C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6B8A5-24A5-4F24-8885-04033AD9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17B7B-CBBB-424E-B2FD-2B6A3E5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174B8-8A1C-4932-829C-0FD76CAF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1420-718F-425C-A6B4-C25733458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9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0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1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3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4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E060-38E6-4738-B742-D9DB31CBA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0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0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1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3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5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1DBA-D434-4FFB-B653-81436B910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0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FF4B-4DA6-48A4-A919-4C66BB26C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67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FDFB-EE4C-444C-8EF6-FA8FB9859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4124-DFB1-42F2-87F6-54F1F08883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83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4244-BAEF-4864-A28B-DF7630F711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88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9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66D1-F561-4CB1-82F8-CC1B79C1A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84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dt" idx="4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ftr" idx="5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2553-A17B-441A-BE97-AF04577C74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2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dt" idx="5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ftr" idx="5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5D10-2D05-4315-8BC0-2F77C7E1C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7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dt" idx="5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ftr" idx="5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sldNum" idx="5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2FED-A116-429D-BDD8-9057131AC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9D79-FF37-4172-ADD6-97F2AEBA1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D3A7-F3CC-4486-A596-804F65C5C89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3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4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6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6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6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6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5972-A147-4516-BF94-1B80A08512D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1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2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22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23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7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8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8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28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9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9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0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1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1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2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2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3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3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3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4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4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5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35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6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37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37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38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38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8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E6AC-5B29-4536-BF8C-A92DA061118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45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5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45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5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5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6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6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6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6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7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7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8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8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8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8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9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9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50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50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51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51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51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51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3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3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3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3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4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4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4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5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5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5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56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57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CAF6-3582-43E5-A0E2-6257F299C62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082B-A256-4FAE-A4BF-9C7A2191F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1434-5737-4108-ABC2-9AD50A91359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8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D5EF-E5DD-43E6-8316-AA4392C52C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9948-B716-4E49-B522-F85AAE16BD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3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8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8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20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FE42-3A1A-4108-A190-17CF2F06FE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E85E-CB9C-4E8D-AE12-1575CFE703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93A3-327D-4AC6-918E-10453AECF2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0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0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0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0"/>
            <a:ext cx="9144000" cy="60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ccffff"/>
                  </a:solidFill>
                  <a:prstDash val="lgDashDot"/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отоефект</a:t>
            </a:r>
            <a:endParaRPr b="1" lang="en-US" sz="6000" spc="1" strike="noStrike">
              <a:ln w="12600">
                <a:solidFill>
                  <a:srgbClr val="ccffff"/>
                </a:solidFill>
                <a:prstDash val="lgDashDot"/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entury"/>
              </a:rPr>
              <a:t>Схема установки Столєтова</a:t>
            </a:r>
            <a:br>
              <a:rPr sz="3600"/>
            </a:br>
            <a:r>
              <a:rPr b="1" lang="ru-RU" sz="3600" spc="-1" strike="noStrike">
                <a:solidFill>
                  <a:srgbClr val="008000"/>
                </a:solidFill>
                <a:latin typeface="Century"/>
              </a:rPr>
              <a:t>1-й варіант дослід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1" lang="en-US" sz="7200" spc="-1" strike="noStrike">
                <a:solidFill>
                  <a:srgbClr val="ffffff"/>
                </a:solidFill>
                <a:latin typeface="Century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932360" y="1916280"/>
            <a:ext cx="0" cy="23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843280" y="2060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84328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84328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4932360" y="263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940360" y="2637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780000" y="5589720"/>
            <a:ext cx="129528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5580000" y="414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867280" y="49417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5435640" y="4076640"/>
            <a:ext cx="93672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5559480" y="41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586728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3851280" y="479736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140360" y="501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140360" y="5229360"/>
            <a:ext cx="1726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5076720" y="609300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5867280" y="530064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2843280" y="6021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2843280" y="5229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2843280" y="357336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84360" y="2781360"/>
            <a:ext cx="35856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1042920" y="2133360"/>
            <a:ext cx="381636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971640" y="2924280"/>
            <a:ext cx="3887640" cy="217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5076720" y="2205000"/>
            <a:ext cx="503280" cy="144360"/>
          </a:xfrm>
          <a:prstGeom prst="rect">
            <a:avLst/>
          </a:prstGeom>
          <a:solidFill>
            <a:srgbClr val="d806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048200" y="56246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5580000" y="4292280"/>
            <a:ext cx="576360" cy="431640"/>
          </a:xfrm>
          <a:prstGeom prst="line">
            <a:avLst/>
          </a:prstGeom>
          <a:ln w="38160">
            <a:solidFill>
              <a:srgbClr val="d806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 txBox="1"/>
          <p:nvPr/>
        </p:nvSpPr>
        <p:spPr>
          <a:xfrm>
            <a:off x="6443640" y="4365720"/>
            <a:ext cx="9050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м є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971640" y="2997360"/>
            <a:ext cx="3960720" cy="1079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entury"/>
              </a:rPr>
              <a:t>Схема установки Столєтова</a:t>
            </a:r>
            <a:br>
              <a:rPr sz="3600"/>
            </a:br>
            <a:r>
              <a:rPr b="0" lang="ru-RU" sz="3600" spc="-1" strike="noStrike">
                <a:solidFill>
                  <a:srgbClr val="008000"/>
                </a:solidFill>
                <a:latin typeface="Century"/>
              </a:rPr>
              <a:t>1-й варіант досліду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1" lang="en-US" sz="7200" spc="-1" strike="noStrike">
                <a:solidFill>
                  <a:srgbClr val="ffffff"/>
                </a:solidFill>
                <a:latin typeface="Century"/>
              </a:rPr>
              <a:t>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"/>
              </a:rPr>
              <a:t>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932360" y="191628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2843280" y="2060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284328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2843280" y="3213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932360" y="263700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940360" y="2637000"/>
            <a:ext cx="0" cy="143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780000" y="5589720"/>
            <a:ext cx="129528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580000" y="4149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5867280" y="494172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5435640" y="4076640"/>
            <a:ext cx="936720" cy="86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559480" y="41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5867280" y="4149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3851280" y="501336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4140360" y="4581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4140360" y="5229360"/>
            <a:ext cx="1726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5076720" y="6093000"/>
            <a:ext cx="7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5867280" y="5300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2843280" y="6021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2843280" y="522936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843280" y="357336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684360" y="2781360"/>
            <a:ext cx="35856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1042920" y="2133360"/>
            <a:ext cx="381636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048200" y="562464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entury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5292720" y="1773360"/>
            <a:ext cx="0" cy="647640"/>
          </a:xfrm>
          <a:prstGeom prst="line">
            <a:avLst/>
          </a:prstGeom>
          <a:ln w="76320">
            <a:solidFill>
              <a:srgbClr val="d80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5003640" y="2133720"/>
            <a:ext cx="576360" cy="0"/>
          </a:xfrm>
          <a:prstGeom prst="line">
            <a:avLst/>
          </a:prstGeom>
          <a:ln w="76320">
            <a:solidFill>
              <a:srgbClr val="d80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6443640" y="4365720"/>
            <a:ext cx="924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м є!</a:t>
            </a:r>
            <a:endParaRPr b="1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042920" y="2924280"/>
            <a:ext cx="3889440" cy="2887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042920" y="2997360"/>
            <a:ext cx="3816360" cy="1079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"/>
              </a:rPr>
              <a:t>Висновок, який зробив Столєтов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…</a:t>
            </a: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при освітленні цинкової пластин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ультрафіолетовими променями із неї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вириваються електрони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Вони направляються до сітки і в колі виникає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Century"/>
              </a:rPr>
              <a:t>електричний струм, який називаю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00"/>
                </a:solidFill>
                <a:uFillTx/>
                <a:latin typeface="Century"/>
              </a:rPr>
              <a:t>фотострумом</a:t>
            </a:r>
            <a:r>
              <a:rPr b="1" lang="ru-RU" sz="4000" spc="-1" strike="noStrike">
                <a:solidFill>
                  <a:srgbClr val="ffff00"/>
                </a:solidFill>
                <a:latin typeface="Century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"/>
              </a:rPr>
              <a:t>Задачі, які ставив перед собою Столєтов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1.Потрібно було встановити, від чого залежить кількість електронів, що вириваються із металу, за 1 с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2.Від чого залежить швидкість фотоелектронів, а отже, і кінетичної енергі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фотоелектроні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entury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хема установки, на якій Столє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     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установив закони фотоеф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835280" y="1413000"/>
            <a:ext cx="56163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1547640" y="2146320"/>
            <a:ext cx="6193080" cy="30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и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отоефект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"/>
              </a:rPr>
              <a:t>Перший закон фотоефекту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6" name="" descr=""/>
          <p:cNvPicPr/>
          <p:nvPr/>
        </p:nvPicPr>
        <p:blipFill>
          <a:blip r:embed="rId1"/>
          <a:stretch/>
        </p:blipFill>
        <p:spPr>
          <a:xfrm>
            <a:off x="8845560" y="1904760"/>
            <a:ext cx="79200" cy="419076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395280" y="1163880"/>
            <a:ext cx="8464680" cy="49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entury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ила </a:t>
            </a:r>
            <a:r>
              <a:rPr b="1" lang="uk-UA" sz="2800" spc="-1" strike="noStrike">
                <a:solidFill>
                  <a:srgbClr val="003366"/>
                </a:solidFill>
                <a:latin typeface="Century"/>
              </a:rPr>
              <a:t>струму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насичення (фактично, число вирваних  з поверхні електронів за одиницю часу) прямо пропорційна інтенсивності світлового випромінювання,що  падаює на поверхю тіла.      </a:t>
            </a:r>
            <a:r>
              <a:rPr b="1" lang="en-US" sz="3200" spc="-1" strike="noStrike">
                <a:solidFill>
                  <a:srgbClr val="003366"/>
                </a:solidFill>
                <a:latin typeface="Century"/>
              </a:rPr>
              <a:t>I</a:t>
            </a:r>
            <a:r>
              <a:rPr b="1" lang="ru-RU" sz="3200" spc="-1" strike="noStrike" baseline="-25000">
                <a:solidFill>
                  <a:srgbClr val="003366"/>
                </a:solidFill>
                <a:latin typeface="Century"/>
              </a:rPr>
              <a:t>нас</a:t>
            </a:r>
            <a:r>
              <a:rPr b="1" lang="ru-RU" sz="3200" spc="-1" strike="noStrike">
                <a:solidFill>
                  <a:srgbClr val="003366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Century"/>
              </a:rPr>
              <a:t>˜</a:t>
            </a:r>
            <a:r>
              <a:rPr b="1" lang="ru-RU" sz="3200" spc="-1" strike="noStrike">
                <a:solidFill>
                  <a:srgbClr val="003366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світловому потоку Р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4464000" cy="3068640"/>
          </a:xfrm>
          <a:prstGeom prst="rect">
            <a:avLst/>
          </a:prstGeom>
          <a:ln w="0">
            <a:noFill/>
          </a:ln>
        </p:spPr>
      </p:pic>
      <p:sp>
        <p:nvSpPr>
          <p:cNvPr id="1739" name=""/>
          <p:cNvSpPr/>
          <p:nvPr/>
        </p:nvSpPr>
        <p:spPr>
          <a:xfrm>
            <a:off x="4716360" y="3933720"/>
            <a:ext cx="4248360" cy="2590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entury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Уваг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Світловий потік, щ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падає на фотокато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збільшується, а й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спектральний скл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залишається незмінн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              </a:t>
            </a: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Ф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Century"/>
              </a:rPr>
              <a:t>2</a:t>
            </a:r>
            <a:r>
              <a:rPr b="1" i="1" lang="en-US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entury"/>
              </a:rPr>
              <a:t>&gt;</a:t>
            </a:r>
            <a:r>
              <a:rPr b="1" lang="ru-RU" sz="24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Century"/>
              </a:rPr>
              <a:t>Ф</a:t>
            </a:r>
            <a:r>
              <a:rPr b="1" i="1" lang="ru-RU" sz="2400" spc="-1" strike="noStrike" baseline="-25000">
                <a:solidFill>
                  <a:srgbClr val="ffff00"/>
                </a:solidFill>
                <a:latin typeface="Century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500"/>
                                        <p:tgtEl>
                                          <p:spTgt spid="1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500"/>
                                        <p:tgtEl>
                                          <p:spTgt spid="1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1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500"/>
                                        <p:tgtEl>
                                          <p:spTgt spid="1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8250"/>
                            </p:stCondLst>
                            <p:childTnLst>
                              <p:par>
                                <p:cTn id="1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0"/>
                                        <p:tgtEl>
                                          <p:spTgt spid="1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75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500"/>
                                        <p:tgtEl>
                                          <p:spTgt spid="1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8250"/>
                            </p:stCondLst>
                            <p:childTnLst>
                              <p:par>
                                <p:cTn id="1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500"/>
                                        <p:tgtEl>
                                          <p:spTgt spid="1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"/>
              </a:rPr>
              <a:t>Другий закон фотоефек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362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Якщо </a:t>
            </a:r>
            <a:r>
              <a:rPr b="0" lang="ru-RU" sz="2000" spc="-1" strike="noStrike">
                <a:solidFill>
                  <a:srgbClr val="ffffff"/>
                </a:solidFill>
                <a:latin typeface="Century"/>
              </a:rPr>
              <a:t> частоту світла збільшити, то при незмінному світловому потоці затримуюча напруга збільшується, а, як наслідок, збільшується і кінетична енергія фотоелектронів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entury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Century"/>
              </a:rPr>
              <a:t>Максимальна швидкість фотоелектронів залежить тільки від частоти падаючого світла і не залежить від його інтенсивності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"/>
              </a:rPr>
              <a:t>     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Century"/>
              </a:rPr>
              <a:t>Важлив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За модулем затримуючої напруги можна говорити пр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швидкість фотоелектронів і про їх кінетичн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entury"/>
              </a:rPr>
              <a:t>енергию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4643280" y="4941720"/>
                <a:ext cx="410544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U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24000" y="5084640"/>
                <a:ext cx="3711600" cy="17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U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"/>
          <p:cNvSpPr/>
          <p:nvPr/>
        </p:nvSpPr>
        <p:spPr>
          <a:xfrm>
            <a:off x="4067280" y="5734080"/>
            <a:ext cx="576000" cy="358920"/>
          </a:xfrm>
          <a:prstGeom prst="rightArrow">
            <a:avLst>
              <a:gd name="adj1" fmla="val 50000"/>
              <a:gd name="adj2" fmla="val 4012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entury"/>
              </a:rPr>
              <a:t>Третій закон фотоефект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Для кожної речовини існу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мінімальна частота (так зва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червона межа фотоефекту), нижче яко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ефект невиникає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26920" y="3789360"/>
            <a:ext cx="70581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entury"/>
              </a:rPr>
              <a:t>Червона межа фотоефект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9" name=""/>
          <p:cNvGraphicFramePr/>
          <p:nvPr/>
        </p:nvGraphicFramePr>
        <p:xfrm>
          <a:off x="1301760" y="1600200"/>
          <a:ext cx="234936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1760" y="1600200"/>
                    <a:ext cx="23493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При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&lt; </a:t>
            </a:r>
            <a:r>
              <a:rPr b="1" lang="ru-RU" sz="28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entury"/>
              </a:rPr>
              <a:t>min</a:t>
            </a:r>
            <a:r>
              <a:rPr b="1" lang="ru-RU" sz="2800" spc="-1" strike="noStrike" baseline="-25000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ні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якій інтенсив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хвилі падаючого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катод світ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фотоефект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Century"/>
              </a:rPr>
              <a:t>виникає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2195640" y="4221000"/>
                <a:ext cx="310500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3" name=""/>
          <p:cNvSpPr txBox="1"/>
          <p:nvPr/>
        </p:nvSpPr>
        <p:spPr>
          <a:xfrm>
            <a:off x="5651640" y="4941720"/>
            <a:ext cx="219996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кожної речовини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оя!!!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Мета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уроку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5713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Ознайомити з корпускулярними властивостями світла в процесі вивчення явища фотоефекту, вчити розрізняти поняття внутрішнього та зовнішнього фотоефекту, домогтися засвоєння учнями законів фотоефекту, формувати навички застосування рівняння Ейнштейна під час розв’язування зада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Розвивати пам’ять, уважність, логічне мислення, продовжувати формувати навички обчислень за формулам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Виховувати інтерес до моделювання фізичних явищ за допомогою комп’ютера. Перевірити знання, одержані на уроці за допомогою  тестува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cc"/>
                </a:solidFill>
                <a:latin typeface="Century"/>
              </a:rPr>
              <a:t>Застосування </a:t>
            </a:r>
            <a:r>
              <a:rPr b="1" lang="ru-RU" sz="4000" spc="-1" strike="noStrike">
                <a:solidFill>
                  <a:srgbClr val="0033cc"/>
                </a:solidFill>
                <a:latin typeface="Century"/>
              </a:rPr>
              <a:t>фотоефек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Century"/>
              </a:rPr>
              <a:t>На явищі фотоефекту  діють фотоелектричні прилади, що отримали  різне застосування в різних областях науки і техніки. В сучасний час  практично неможливо знайти виробництво, де б не використовувалися </a:t>
            </a:r>
            <a:r>
              <a:rPr b="1" lang="ru-RU" sz="2800" spc="-1" strike="noStrike" u="sng">
                <a:solidFill>
                  <a:srgbClr val="006666"/>
                </a:solidFill>
                <a:uFillTx/>
                <a:latin typeface="Century"/>
              </a:rPr>
              <a:t>фотоелементи – приймачі випромінювання,  що працюють  на основі фотоефекту і перетворюють енергію випромінювання в електрич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1403280" y="765000"/>
            <a:ext cx="7201080" cy="475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зв"язуванн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b7"/>
                </a:solidFill>
                <a:latin typeface="Arial Black"/>
              </a:rPr>
              <a:t>На поверхню металу падають  промені з довжиною </a:t>
            </a:r>
            <a:br>
              <a:rPr sz="2000"/>
            </a:br>
            <a:r>
              <a:rPr b="1" lang="uk-UA" sz="2000" spc="-1" strike="noStrike">
                <a:solidFill>
                  <a:srgbClr val="ffffb7"/>
                </a:solidFill>
                <a:latin typeface="Arial Black"/>
              </a:rPr>
              <a:t>200 нм. Обчислити  максимальну швидкість  випромінювання.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99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96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8842320" y="-51192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1) 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2) 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3) 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8842320" y="-511920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837720" y="189000"/>
            <a:ext cx="8007480" cy="5906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1) 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66"/>
                </a:solidFill>
                <a:latin typeface="Arial"/>
              </a:rPr>
              <a:t>2) 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66"/>
                </a:solidFill>
                <a:latin typeface="Arial"/>
              </a:rPr>
              <a:t>3) 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ff"/>
                </a:solidFill>
                <a:latin typeface="Century"/>
              </a:rPr>
              <a:t> </a:t>
            </a:r>
            <a:r>
              <a:rPr b="1" lang="en-US" sz="3200" spc="-1" strike="noStrike">
                <a:solidFill>
                  <a:srgbClr val="99ccff"/>
                </a:solidFill>
                <a:latin typeface="Century"/>
              </a:rPr>
              <a:t>т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2340000" y="333360"/>
            <a:ext cx="4392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трольний блок</a:t>
            </a:r>
            <a:endParaRPr b="0" lang="en-US" sz="1800" spc="1" strike="noStrike">
              <a:ln w="0">
                <a:noFill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2" name="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86364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1:</a:t>
            </a:r>
            <a:r>
              <a:rPr b="1" lang="ru-RU" sz="3200" spc="-1" strike="noStrike">
                <a:solidFill>
                  <a:srgbClr val="ffffff"/>
                </a:solidFill>
                <a:latin typeface="Century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Якому із нижчеприведених виразів відповідає одиниця вимірювання постійної Планка в СІ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а) Дж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б)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в)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г) Н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д) кг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entury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2 Як зміниться робота виходу, при збільшенні довжини хвилі падачого випромінювання на катод в чотири раз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692360" y="1844640"/>
            <a:ext cx="5975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Збіль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Зменшиться в чотири ра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Збіль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Зменшиться в два ра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Не змін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3 Яке із нижчеприведених тверджень ( для даного електроду) справедливе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Робота виходу залежить від довжини хвилі падаючого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«Затримуюча» напруга залежить від роботи вих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Збільшення довжини хвилі падаючого випромінювання приводить до збільшення швидкості вилітаючих фотоелектрон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Максимальна швидкість вилітаючих фотоелектронів, залежить тільки від роботи вих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Збільшення частоти падаючого випромінювання, приводить до збільшення швидкості фотоелектроні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66"/>
                </a:solidFill>
                <a:latin typeface="Arial"/>
              </a:rPr>
              <a:t>Епіграф урок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Сонце, небо, зірок сяяння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Море блиску голубого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Всю природу і створінн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тільки  в світлі пізнаєм</a:t>
            </a:r>
            <a:r>
              <a:rPr b="1" lang="en-US" sz="4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a4"/>
                </a:solidFill>
                <a:latin typeface="Arial"/>
              </a:rPr>
              <a:t>ми</a:t>
            </a: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3200" spc="-1" strike="noStrike">
                <a:solidFill>
                  <a:srgbClr val="0033cc"/>
                </a:solidFill>
                <a:latin typeface="Century"/>
              </a:rPr>
              <a:t>4.Пластина виготовлена з матеріалу, «червона межа» для якого попадає в голубу область спектру. При освітленні якими променями даної пластини спостерігається фотоефект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2124000" y="3141360"/>
            <a:ext cx="5122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 Інфрачерво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Ультрафіолетов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Жовт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Черво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Оранжев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5: Як зміниться робота виходу, при збільшенні довжини хвилі падаючого випромінювання на катод, в чотири раз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6418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 Збіль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Зменшиться в чотири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Збіль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 Зменшиться в два ра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 Не змінить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entury"/>
              </a:rPr>
              <a:t>6 Яке з нижчеприведених виразів правильне? Кінетична енергія вилітаючих фотоелектронів залежить ві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) Тільки від частоти падаючого випроміню -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B)   Тільки від температури мета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C)  Тільки від інтенсивності випроміню -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D) Від частоти і інтенсивності падаючого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E) Від температури металу і інтенсивності випромінюв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5454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№ </a:t>
            </a:r>
            <a:r>
              <a:rPr b="1" lang="uk-UA" sz="3200" spc="-1" strike="noStrike">
                <a:solidFill>
                  <a:srgbClr val="0033cc"/>
                </a:solidFill>
                <a:latin typeface="Arial"/>
              </a:rPr>
              <a:t>7 На поверхню тіла падає світлове випромінювання з частото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hν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  2 h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  3,5 h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ffff66"/>
                </a:solidFill>
                <a:latin typeface="Arial"/>
              </a:rPr>
              <a:t>Задачі для самостійної роботи (4 варіанта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 поверхню вольфраму падають рентгенівські промені з довжиною 10 нм. Обчислити кінетичну енергію фотоелектро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значити довжину хвилі світла, яким опромінюється поверхня металу, якщо фотоелектрони мають кінетичну енергію 4*10-20 Дж, а робота виходу електронів з цього металу 7*10-19 Д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Яку максимальну швидкість мають електрони, вирвані з оксиду барію, у випадку опромінювання світла з частотою 1*1015 Гц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Цезій освітлений жовтим світлом з довжиною хвилі 0,589 мкм. Визначити максимальну кінетичну енергію фотоелектроні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Arial Black"/>
              </a:rPr>
              <a:t>Запам</a:t>
            </a:r>
            <a:r>
              <a:rPr b="1" lang="en-US" sz="4400" spc="-1" strike="noStrike">
                <a:solidFill>
                  <a:srgbClr val="ff0066"/>
                </a:solidFill>
                <a:latin typeface="Arial Black"/>
              </a:rPr>
              <a:t>‘</a:t>
            </a:r>
            <a:r>
              <a:rPr b="1" lang="uk-UA" sz="4400" spc="-1" strike="noStrike">
                <a:solidFill>
                  <a:srgbClr val="ff0066"/>
                </a:solidFill>
                <a:latin typeface="Arial Black"/>
              </a:rPr>
              <a:t>ятай!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 Black"/>
              </a:rPr>
              <a:t>«Здібності, як і мускули,    ростуть підчас тренування»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                                                                                           </a:t>
            </a: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(Академік В. Обручєв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omic Sans MS"/>
              </a:rPr>
              <a:t>розрізняют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03dff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Внутрішній фотоефект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це збільшення кількості вільних носіїв заряду в напівпровідниках та діелектриках під дією світла” (</a:t>
            </a:r>
            <a:r>
              <a:rPr b="0" i="1" lang="uk-UA" sz="2800" spc="-1" strike="noStrike">
                <a:solidFill>
                  <a:srgbClr val="ffff00"/>
                </a:solidFill>
                <a:latin typeface="Comic Sans MS"/>
              </a:rPr>
              <a:t>записи в зошитах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uk-UA" sz="2800" spc="-1" strike="noStrike">
                <a:solidFill>
                  <a:srgbClr val="006600"/>
                </a:solidFill>
                <a:latin typeface="Comic Sans MS"/>
              </a:rPr>
              <a:t>Зовнішній фотоефект</a:t>
            </a: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uk-UA" sz="2800" spc="-1" strike="noStrike">
                <a:solidFill>
                  <a:srgbClr val="ffff00"/>
                </a:solidFill>
                <a:latin typeface="Comic Sans MS"/>
              </a:rPr>
              <a:t>це явище втрати речовинами електронів під дією світла або іншого електромагнітного випромінювання. </a:t>
            </a:r>
            <a:r>
              <a:rPr b="0" i="1" lang="uk-UA" sz="2800" spc="-1" strike="noStrike">
                <a:solidFill>
                  <a:srgbClr val="ffff00"/>
                </a:solidFill>
                <a:latin typeface="Comic Sans MS"/>
              </a:rPr>
              <a:t>(записи в зошитах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2" name=""/>
          <p:cNvSpPr txBox="1"/>
          <p:nvPr/>
        </p:nvSpPr>
        <p:spPr>
          <a:xfrm rot="20235000">
            <a:off x="18720" y="650520"/>
            <a:ext cx="3247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ТОЕФЕК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2268000" y="189000"/>
            <a:ext cx="6875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Герц (Hertz) Генр</a:t>
            </a: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і</a:t>
            </a: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х </a:t>
            </a:r>
            <a:r>
              <a:rPr b="1" lang="en-US" sz="3200" spc="-1" strike="noStrike">
                <a:solidFill>
                  <a:srgbClr val="fdb7ab"/>
                </a:solidFill>
                <a:latin typeface="Garamond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db7ab"/>
                </a:solidFill>
                <a:latin typeface="Garamond"/>
              </a:rPr>
              <a:t>22.II.1857–1.I.1894)</a:t>
            </a: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599840" y="1125360"/>
            <a:ext cx="736452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Німецький фізик, один із основоположників електродинаміки. Виходячи  із рівнянн Максвелла, Герц в 1886–89 експериментально довів існування електромагнітних хвиль і досліджував їх властивості (відбивання від люстерка, заломлення в призмах і т. д.). Електромагнітні хвилі Герц </a:t>
            </a:r>
            <a:r>
              <a:rPr b="1" lang="uk-UA" sz="2000" spc="-1" strike="noStrike">
                <a:solidFill>
                  <a:srgbClr val="ffff00"/>
                </a:solidFill>
                <a:latin typeface="Garamond"/>
              </a:rPr>
              <a:t>одержав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за допомогою створеного ним вібратора. Герц підтвердив висновки максвелівської теорії про те, що швидкість розповсюдження електромагнітних хвиль в повітрі рівна швидкості світла, встановив рівність основних властивостей електромагнітних і світлових хвиль. Герц вивчав також розповсюдження електромагнітних хвиль в провіднику і вказав спосіб вимірювання швидкості їх розповсюдження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В 1886–87 Герц вперше спостерігав і дав опис зовнішнього фотоефекту. Герц розробив теорію резонаторного контуру, вивчав властивості катодних променів, досліджував  вплив ультрафіолетових променів на електричні розряди. В своїх роботах з механіки дав теорію удару пружних шарів, розрахував час співудару і т. д. Іменем Герца названа одиниця частоти коливан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5" name="" descr=""/>
          <p:cNvPicPr/>
          <p:nvPr/>
        </p:nvPicPr>
        <p:blipFill>
          <a:blip r:embed="rId2"/>
          <a:stretch/>
        </p:blipFill>
        <p:spPr>
          <a:xfrm>
            <a:off x="71280" y="189000"/>
            <a:ext cx="1836720" cy="2448000"/>
          </a:xfrm>
          <a:prstGeom prst="rect">
            <a:avLst/>
          </a:prstGeom>
          <a:ln w="44280">
            <a:solidFill>
              <a:srgbClr val="0066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636" name=""/>
          <p:cNvSpPr/>
          <p:nvPr/>
        </p:nvSpPr>
        <p:spPr>
          <a:xfrm>
            <a:off x="179280" y="285264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нр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 Гер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>
            <a:hlinkClick r:id="rId3" action="ppaction://hlinksldjump"/>
          </p:cNvPr>
          <p:cNvSpPr/>
          <p:nvPr/>
        </p:nvSpPr>
        <p:spPr>
          <a:xfrm>
            <a:off x="180720" y="49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Garamond"/>
              </a:rPr>
              <a:t>І</a:t>
            </a:r>
            <a:r>
              <a:rPr b="1" lang="ru-RU" sz="4400" spc="-1" strike="noStrike">
                <a:solidFill>
                  <a:srgbClr val="ff3300"/>
                </a:solidFill>
                <a:latin typeface="Garamond"/>
              </a:rPr>
              <a:t>з історії фотоефекту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Century"/>
              </a:rPr>
              <a:t>1887 рік – німецький фізик Генріх Гер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0" name=""/>
          <p:cNvSpPr/>
          <p:nvPr/>
        </p:nvSpPr>
        <p:spPr>
          <a:xfrm>
            <a:off x="3924360" y="4005360"/>
            <a:ext cx="0" cy="194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 flipV="1">
            <a:off x="3924360" y="2349000"/>
            <a:ext cx="0" cy="1150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3780000" y="3933720"/>
            <a:ext cx="28728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780000" y="3357720"/>
            <a:ext cx="28872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 flipH="1">
            <a:off x="1907640" y="595008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1834920" y="234936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1908000" y="4221000"/>
            <a:ext cx="0" cy="172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619280" y="4221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1258920" y="4005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1835280" y="2349360"/>
            <a:ext cx="0" cy="165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 flipH="1">
            <a:off x="4140000" y="2565360"/>
            <a:ext cx="2879640" cy="934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 flipH="1">
            <a:off x="4211640" y="3573360"/>
            <a:ext cx="2736720" cy="14292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 flipH="1" flipV="1">
            <a:off x="4140360" y="3860280"/>
            <a:ext cx="295272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3924360" y="3645000"/>
            <a:ext cx="163440" cy="426960"/>
          </a:xfrm>
          <a:custGeom>
            <a:avLst/>
            <a:gdLst/>
            <a:ahLst/>
            <a:rect l="l" t="t" r="r" b="b"/>
            <a:pathLst>
              <a:path w="103" h="269">
                <a:moveTo>
                  <a:pt x="51" y="0"/>
                </a:moveTo>
                <a:cubicBezTo>
                  <a:pt x="77" y="76"/>
                  <a:pt x="103" y="71"/>
                  <a:pt x="39" y="102"/>
                </a:cubicBezTo>
                <a:cubicBezTo>
                  <a:pt x="27" y="108"/>
                  <a:pt x="13" y="111"/>
                  <a:pt x="0" y="115"/>
                </a:cubicBezTo>
                <a:cubicBezTo>
                  <a:pt x="9" y="128"/>
                  <a:pt x="15" y="143"/>
                  <a:pt x="26" y="154"/>
                </a:cubicBezTo>
                <a:cubicBezTo>
                  <a:pt x="37" y="165"/>
                  <a:pt x="56" y="166"/>
                  <a:pt x="64" y="179"/>
                </a:cubicBezTo>
                <a:cubicBezTo>
                  <a:pt x="80" y="203"/>
                  <a:pt x="77" y="242"/>
                  <a:pt x="77" y="269"/>
                </a:cubicBezTo>
              </a:path>
            </a:pathLst>
          </a:custGeom>
          <a:noFill/>
          <a:ln w="9360">
            <a:solidFill>
              <a:srgbClr val="d806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6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entury"/>
              </a:rPr>
              <a:t>Друге відкриття фотоефект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німецький вчений Вільгель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Гальвак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6" name=""/>
          <p:cNvSpPr/>
          <p:nvPr/>
        </p:nvSpPr>
        <p:spPr>
          <a:xfrm>
            <a:off x="2340000" y="2637000"/>
            <a:ext cx="3887640" cy="2952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1258920" y="4221000"/>
            <a:ext cx="2160720" cy="865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564000" y="3357720"/>
            <a:ext cx="1439640" cy="1223640"/>
          </a:xfrm>
          <a:prstGeom prst="plus">
            <a:avLst>
              <a:gd name="adj" fmla="val 35796"/>
            </a:avLst>
          </a:prstGeom>
          <a:solidFill>
            <a:srgbClr val="d8062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entury"/>
              </a:rPr>
              <a:t>Трет</a:t>
            </a:r>
            <a:r>
              <a:rPr b="1" lang="uk-UA" sz="4400" spc="-1" strike="noStrike">
                <a:solidFill>
                  <a:srgbClr val="ff3300"/>
                </a:solidFill>
                <a:latin typeface="Century"/>
              </a:rPr>
              <a:t>є</a:t>
            </a:r>
            <a:r>
              <a:rPr b="1" lang="ru-RU" sz="4400" spc="-1" strike="noStrike">
                <a:solidFill>
                  <a:srgbClr val="ff3300"/>
                </a:solidFill>
                <a:latin typeface="Century"/>
              </a:rPr>
              <a:t> відкриття фотоефект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італієць Аугусто Рігі. Він 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ридумав перший фотоелемент – прилад, щ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еретворює енергію  світла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електричний стру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entury"/>
              </a:rPr>
              <a:t>Четверте і останнє відкриття…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1888 рік – російський вчений Олександ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Григорович Столєтов. Ві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підверг фотоефе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експериме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тальному дослідженню і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встановив зако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entury"/>
              </a:rPr>
              <a:t>фотоефек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3" name="" descr=""/>
          <p:cNvPicPr/>
          <p:nvPr/>
        </p:nvPicPr>
        <p:blipFill>
          <a:blip r:embed="rId1">
            <a:lum contrast="6000"/>
          </a:blip>
          <a:srcRect l="4828" t="3648" r="3564" b="0"/>
          <a:stretch/>
        </p:blipFill>
        <p:spPr>
          <a:xfrm>
            <a:off x="5614920" y="2133720"/>
            <a:ext cx="3529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4:24:17Z</dcterms:created>
  <dc:creator>Мы</dc:creator>
  <dc:description/>
  <dc:language>en-US</dc:language>
  <cp:lastModifiedBy>NickOn</cp:lastModifiedBy>
  <dcterms:modified xsi:type="dcterms:W3CDTF">2011-01-17T17:56:59Z</dcterms:modified>
  <cp:revision>61</cp:revision>
  <dc:subject/>
  <dc:title>Слайд 1</dc:title>
</cp:coreProperties>
</file>