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gif" ContentType="image/gif"/>
  <Override PartName="/ppt/media/image3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  <p:sldId id="275" r:id="rId44"/>
    <p:sldId id="276" r:id="rId45"/>
    <p:sldId id="277" r:id="rId46"/>
    <p:sldId id="278" r:id="rId47"/>
    <p:sldId id="279" r:id="rId48"/>
    <p:sldId id="280" r:id="rId49"/>
    <p:sldId id="281" r:id="rId50"/>
    <p:sldId id="282" r:id="rId51"/>
    <p:sldId id="283" r:id="rId52"/>
    <p:sldId id="284" r:id="rId53"/>
    <p:sldId id="285" r:id="rId54"/>
    <p:sldId id="286" r:id="rId55"/>
    <p:sldId id="287" r:id="rId56"/>
    <p:sldId id="288" r:id="rId57"/>
    <p:sldId id="289" r:id="rId58"/>
    <p:sldId id="29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slide" Target="slides/slide20.xml"/><Relationship Id="rId45" Type="http://schemas.openxmlformats.org/officeDocument/2006/relationships/slide" Target="slides/slide21.xml"/><Relationship Id="rId46" Type="http://schemas.openxmlformats.org/officeDocument/2006/relationships/slide" Target="slides/slide22.xml"/><Relationship Id="rId47" Type="http://schemas.openxmlformats.org/officeDocument/2006/relationships/slide" Target="slides/slide23.xml"/><Relationship Id="rId48" Type="http://schemas.openxmlformats.org/officeDocument/2006/relationships/slide" Target="slides/slide24.xml"/><Relationship Id="rId49" Type="http://schemas.openxmlformats.org/officeDocument/2006/relationships/slide" Target="slides/slide25.xml"/><Relationship Id="rId50" Type="http://schemas.openxmlformats.org/officeDocument/2006/relationships/slide" Target="slides/slide26.xml"/><Relationship Id="rId51" Type="http://schemas.openxmlformats.org/officeDocument/2006/relationships/slide" Target="slides/slide27.xml"/><Relationship Id="rId52" Type="http://schemas.openxmlformats.org/officeDocument/2006/relationships/slide" Target="slides/slide28.xml"/><Relationship Id="rId53" Type="http://schemas.openxmlformats.org/officeDocument/2006/relationships/slide" Target="slides/slide29.xml"/><Relationship Id="rId54" Type="http://schemas.openxmlformats.org/officeDocument/2006/relationships/slide" Target="slides/slide30.xml"/><Relationship Id="rId55" Type="http://schemas.openxmlformats.org/officeDocument/2006/relationships/slide" Target="slides/slide31.xml"/><Relationship Id="rId56" Type="http://schemas.openxmlformats.org/officeDocument/2006/relationships/slide" Target="slides/slide32.xml"/><Relationship Id="rId57" Type="http://schemas.openxmlformats.org/officeDocument/2006/relationships/slide" Target="slides/slide33.xml"/><Relationship Id="rId58" Type="http://schemas.openxmlformats.org/officeDocument/2006/relationships/slide" Target="slides/slide34.xml"/><Relationship Id="rId59" Type="http://schemas.openxmlformats.org/officeDocument/2006/relationships/slide" Target="slides/slide35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168E-AAE6-4F79-BC21-4111ABD3C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D77F-7707-4EA3-91A2-362C44CF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FF7D73-90C5-44F0-A74A-DFFDE3AB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557E83-4B16-4BBC-992B-5E0E3666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FD0C5F-1728-41F8-9EDB-BBD525E6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025870-106A-462C-BF68-7F25BDCE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4B0F12-E96F-4AB3-A7E5-3C3A1808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B4DD7-3C1F-4F17-AB88-83F53AF8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5AD317-2F00-49F1-9AD2-DD790D30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4981C9-0B00-4707-995C-EB19A1610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87D0A3-EA28-49D6-BE2E-3FCD06A39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480963-64A1-498F-A500-4C105A1A8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E002-009A-447E-983F-43D0FD2EE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648CC1-8A7E-4EBC-A5B1-9C03E496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05D1B4-3F52-46D9-81C6-811E2E67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EEA9EC-3260-4DB6-86E4-C50BEAE6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2F293A-1BEA-4357-9731-5648EC44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70DA26-E992-4930-88E8-83F82F3F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DD896C-F414-427D-B3F1-2A60DF1C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0D55D0-ADCC-44DE-9D5B-78605AB8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6C98E8-449A-4022-9784-D49DC8A4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82FC84-1CEB-4653-984F-976B0CD8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9CA7EF-94DB-42EC-B13B-EC0E5F07D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1496-185F-4D14-A56A-4C26C4985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694B04-FEE7-437F-B767-C236A011A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F39B2D-8085-4E49-9B0C-C364E415C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BD46EB-F71D-4DC8-8AA9-E01F2C71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D67666-64DF-4A61-8027-0B96EB52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E0474C-0620-4D7F-B85C-12FDF172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C2D31-A9CA-40D9-B95F-A7F81647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57E708-9B06-4003-A666-FD59C299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6760A-8E89-4A9D-8573-B29864C1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56A82-ED6E-4556-ACDA-F3F0FD6E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66717-B935-4DBF-9C22-56D3FDFA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C5E9-D4C1-4D78-9927-BAB674162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37FB8-B3DB-4AA6-91A6-42B3E109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4FAB69-A855-4CA9-BDD0-A333E9BED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BE15F-4851-4BAB-9BAB-CEB807268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6C4E52-362E-425D-BBCD-69C6F884D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9D288F-418F-4480-BCF4-B7343F74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62545A-B2CC-4E8D-AFC0-CBB5C3FC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7FE01C-365F-48A4-93D4-F5131410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C1559A-9082-4511-97BD-42213915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4B803C-9FDA-4C97-ADD3-F6B82E7C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3464A5-20B6-411F-81FE-64AF6C26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AB87-5F02-48A8-B72B-B6D74CC7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138644-50A2-45F4-A073-AC373E07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86BA6A-A517-4454-9EEC-40BAFA46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39D363-0476-4D6D-8A89-6E2B00E6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D309C0-C211-495F-B33C-CD7269021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D5ED82-DF89-493F-B279-4D4F12DC0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B31D99-AE1A-4257-A723-07CB9D975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DC3468-F251-45FA-B690-F20BBFF2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AFEE3E-B78B-407F-B66D-7A3E52BD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65D5CF-A955-4765-BBA2-DE90F1D4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967620-0E87-4522-8D43-913391D9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A031-26CA-4A09-BF3C-9CBBDA56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CDD809-C245-4D3E-8C81-B23CBCA0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A937A0-5747-4F6C-8F3B-0DBB8088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E9E215-F586-4CF4-A5A2-730ADABF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65DAB5-B0A7-462C-B13C-8749D695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CCFE44-4725-4A80-A4AB-F1025267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3B6B0F-FE26-43A3-97A3-4E725DD88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712723-6DD5-4126-A652-86FCBBFD5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82FA31E-1C8D-43D8-A695-A4CF52834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92B198F-2280-427A-9F8C-F026E321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11B2838-16B7-4A65-AB8E-E106470E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747A-4EC7-4B71-9E8E-9A6763BD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FC4E0E0-7A8E-4C75-92EA-8C8D0ADD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CA4D2F5-2249-4D1B-9CE7-794375C5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161F181-684D-4B2D-B7F5-FA31D058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4085183-B3C7-4B41-BD39-B8B099BB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BB13C2D-E21B-461B-A58B-BEA11741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E31E0C5-960E-4D4A-B4CA-07F36FCC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9B0C909-9D98-489F-A6EA-6588188F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50E0DD3-1619-4978-A048-14C132C5E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DA09ACD-F3B4-4306-BBA2-471F75F63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E8AC26-9D55-4514-BB0A-C40356A39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B05F-5CDD-4E4D-AAC9-128A34A6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FCE022-B48B-4210-8A7A-720C860F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3B55F3-8841-4D0E-BC77-C301A9CB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99F9ED-FA2B-4DA8-8905-F954DCBF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3441D8-854F-4D37-98DC-ABC6C06A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4E6E45-A2D9-40DA-9E8F-4648050E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DA4E21-636D-4C05-95A6-DFC57CE8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D4983D-47B9-40E0-A05C-791F4E5A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357F0B-06C6-4547-A49D-1B27F01D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48F7AA-0C19-45D9-925A-7599B077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CE5278-8F21-4E4D-B4EF-8B8CEE426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B2405-F8D9-4E44-A058-808B7067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EEB58D-F568-492D-86FA-C247F85CF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85EC51-F488-4621-988A-02869D051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4F956E-8EB7-48FA-981B-4C2BB169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E213E0-536A-41C8-AF77-7328E628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2D446E-8EBB-4171-8A06-325C2622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DAD8A9-C4E7-42F7-B69B-3364054A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FA0D0A-D136-4C3E-878C-392728D4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E105A2-9410-4CA0-B8B9-539190AC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ECC8C8-1B00-4432-850D-E260CF0E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A13951-9D8B-4E61-8429-28173D6B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EA7AF-F24E-4A32-A0ED-FE1F71C4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5433F1-6AC2-4AF3-8B8B-E1ACF7E4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40B230-3E58-42E2-A712-2AB3933BB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D8FA68-BDD0-4FC5-B99D-D477705E2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AF6D76-11B9-4EBE-9C4B-997C973CC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E35F99-5931-45B6-91DD-E9901C03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BD6DC2-181C-4798-9638-C59E46C2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180A01-D4D1-4902-832F-92BBF137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4C108A-7DB7-4B45-BC52-87474D7E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3C9D18-6523-4E22-ABEA-34EBB221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FD2880-FF71-46F5-A5C8-3C2531BD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0605-9548-4DA1-99C5-B6A5EEF9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08E2-3D95-4F61-8490-E6782413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477536-2DC2-405A-93A8-60F166E4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75C455-F154-48C7-A5AF-788C7AA5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7990F8-80C3-44EA-A27E-3A07549B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37C85F-2903-45BD-82E5-89027DF1C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01AEF1-24D9-4183-B620-FD3D9BE5B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D5F899-9CDC-4483-B3EC-D69B6A5DB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49E87D-D1D8-41AC-8EFC-4288C312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4D08C3-9253-41A2-B1D6-C735D889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27AE95-A3F4-43CB-9B37-68FE5253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798ABE-96F7-4C79-B8F4-B5FA1F35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E0E2-8FB1-4C5D-9FFE-AACD75B9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A8522A-96DB-406F-8F93-CCDFB3E9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9421F3-085A-4616-9774-BF1725CE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9F9291-0BE4-4193-87DD-66663B95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E0A0F3-1B8F-4CF5-AF2E-D76BAB24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8B05D8-E8C8-42E6-8861-43D8FCE2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DBB408-0F41-469E-86C8-C966CD4C3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796EA5-AD44-4B53-B6AF-F25CFE902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6BD248-56C5-4523-923C-4B21C5CB4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770C46-A11C-48EA-B557-DEC369CD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658EBE-7C4B-4B06-8EAD-4DE3FD9E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3273-3C26-484E-ADF1-E73204A7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9731EC-EB8D-42BB-BDF5-AE649246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55A631-A201-4D93-9147-EDAE6CD4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350F81-E2D5-49DE-BE51-BF854E04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64E3EE-ECCB-4A07-99AE-D4CD03CB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C4E68F-C75F-4BA9-AEC6-195C8DEC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935514-15C2-4D92-AD88-9F5CCB3A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0E49DD-984C-4A9E-B1E2-B1A9140E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E0C73D-37CD-4538-874E-8B76A1493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F17D95-55D0-4A5D-B35F-DB618C259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904165-E472-439D-A161-5B51A4D0A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0F6C-4DA2-49AA-B1B6-08C67CB14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B080E4-FF04-47E4-A2ED-7C8AA4DD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D9F967-DA31-4213-A2FE-313447A0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E9D70D-95FB-4661-877F-C094C839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728BF2-021E-407C-9A0C-FD74AD85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34752B-EA11-4BFD-9F27-E522894C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2A8545-AE74-4F6C-ACB6-919AFFA8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F8FB49-6EF5-40FE-B4CE-2393C543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2E6077-8F32-4DD8-9FAE-93C9AAEC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70004F-210C-4809-BB48-7B9A07DC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DDB896-1244-41B7-B603-3FFE80937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399E-CB81-4B20-8F04-3B12E2D61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36EC4C-43C8-4103-9117-A916680B9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893335-3615-4CC9-878D-33B182CB2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703309-7109-4C68-B485-64844EAC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6CC4FE-1EBC-4C55-8DF4-E46936F5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6D9EA6-95DF-4DF2-BEFF-B1545D97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766BCF-BD56-4643-B126-8FD3F25D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5D1194-C0E4-4FCA-AA1F-7772412B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BDA52E-749F-49C6-A6E0-DAF2EA51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3F4B71-6F65-4DFC-A865-D27A8335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F740F0-CDC2-42C6-844C-104B7A67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DF51D-542D-4435-BC55-6F9F4B2CF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1FD9BE-9617-4A15-A29F-36D53285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61C609-853B-4441-A0E0-06232450E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655E56-CE61-44B1-82C3-A0745D44F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EA95E3-40AE-491E-BDD4-44FFBDAFA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EDD654-15D7-475F-AF9C-C83E1CDB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A8CD4C-4422-42B2-9A8A-00A6EFE0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1ACD81-F834-4B25-B515-B0E0FBB8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BF43F5-1064-42B3-A718-F4B1314A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098EA2-9B58-41D8-8955-9C563DFA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7FC239-B774-4BB2-9A14-4921B0EF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A2896-C643-4865-9E9A-9B53E3E7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5C1FEC-F726-4F7C-9989-701059FE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438132-6FE2-42F3-92A2-22E4C45A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7CD608-7A53-4D82-B144-1003FE47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087471-ADA7-4FBF-8BBD-CDEF846EE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638911-8DD8-4605-8F00-1803AB806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3B6E65-5A99-4AEC-8756-9A28785F0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0AD2BF-725C-4976-90F9-C803790E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07D484-C0FD-4A95-849D-6F7C2B8A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0850D1-D495-4E01-9839-2ED912BD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5ECAF8-B9FA-4C01-99C2-2B124057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75B1E-042A-4F69-9169-45C01799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6D3268-8B69-4321-B232-45BADF0A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14082B-0170-4E99-AE9B-B84779A0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202906-CF55-4990-8B47-ED9E37BC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BC8A7A-F992-436E-93AE-EEDD4418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39B1D7-357E-413D-9F9B-2B91AE97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795CFD-2BAE-4926-82C3-361DB8199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8BDBF2-AF4F-4347-9F44-0B5DE3418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79309-4285-44DD-A45D-C6C04F72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D3930-F42F-4EFC-A82A-52E99AFA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E31C-EA9E-418B-B299-6D6DC19E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9D1F6-1EB5-46DD-B24F-3C85927E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5ACEE-BA83-4673-A570-EE81CCD1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266C6-6F7E-470D-BAF3-E7C2C27F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7520B-C235-4B09-A82D-062AD2A5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6B08D-A6A9-4388-9330-D51E489B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BE755-8A91-481E-A183-833089826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FA95C-A65A-4D91-9B88-6BFA41C5C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01C1D-66C4-49C2-8F23-2F0A470BF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E9BC0-24C9-439C-8629-A4747161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91661-3E4A-4830-B442-705128B5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AB0C-D75F-4113-B75F-06C46417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E420C-713B-4DE2-9389-3597798B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7ABA6-54A9-4A1D-84ED-9508975F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B28CE-1AB7-4C18-A7DF-D0331714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59470-C4DE-484A-A3D7-1F6F3C1B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49B23-FA84-474C-A5E8-CE7D6EA1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4C147-16B4-411D-B4AC-AB6FFB68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7BF62-DA78-49DE-89BD-2E787AD2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FFF85-7C61-436B-B4BE-82DE5A4FB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CE5E9-95DF-44C1-9190-4A24C6446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FBDF0-F5D2-4508-BBC2-1E2ADF98A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80E6-C16A-4759-9810-943ACF9D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17674-03A7-4B74-AA4C-5416E5DB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9BBB0-EFF6-4279-865A-98DCED68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D97D7-9245-459D-B5E4-0DAEA4C4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4E612-CBC9-434B-8CF5-59EB1666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7BFB1-6C1F-4E37-91C7-01C3AFBD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57E12-1468-486B-BE02-CC9D3DDA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1DC27-89FB-45E9-AD3A-3AEF52D0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D126D-3D57-44CD-9CF2-9D3830DB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9A6B4-BB22-4FBE-BFAC-755A05F5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4996A-439F-4FCE-9682-9B9AD4DAC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ADFC-9B9E-4A95-9403-EE65BFF6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4820C-1703-4DD6-A6E3-E2CA179FC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17ABC0-0798-48B2-8832-ACC1F5FDC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712C27-3539-488F-AC30-B99383A7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C7617C-E4AC-455B-818E-C7DDC07F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12CB28-34C0-43EC-83A7-67922383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1A8D46-7354-4519-A1A8-6CEC4DE3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DC886D-E1B3-44E2-94AD-1DBB4BF1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62BC3A-DCB7-4B91-8F7A-686060FA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C86FF8-B22C-4235-99A7-4A06C045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799814-11BE-4F6D-8811-86BAB354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5CEF-F232-44D0-91D0-DC0DD069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00B311-8C8D-4422-A16E-ABFC6324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92FB6B-FA45-4723-BFE7-4B23C7F89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20B2F4-C55C-4292-B9A1-FC0D25EC2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E36CA-7C89-42E7-9DFC-ADD3E3CD6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923D6-0085-4F33-9835-2B5E151C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90E20-A1FD-483D-960F-0306564B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70E9D-FE0A-4571-AD47-DF529E84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58C54-8C37-44D1-8179-9EC318E0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A162F-228A-4E86-9DD7-492D6A49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029F4-71C1-4CBA-BF35-0F894139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C3DE-00DF-406F-866E-37C54555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3E97F-A0B4-4878-BF59-1D73D5AB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8A7CD-A7A5-468F-9274-1140DC9D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DE5F5-8927-43BD-91A3-481B4AFA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E4FD2-3E5D-4E10-AB66-C047FFC2F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8BB27-0323-468D-BC51-F7412D1C6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5E0EE-5B52-4B00-9B2E-8C1284857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63E07-B61A-4899-9296-BD9BB099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4A4AF4-3688-47D3-984E-B11F0FED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C4B3B-56D8-4918-86A1-4BD927EF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B3C0A-B321-4F83-AB80-8EE1ED82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6A6E-EEAB-4349-AC54-E6BA7891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7A267-66B3-480D-8E0A-2B9F0C76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7D5C1-8A14-44DE-A7A1-D55F7912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BB84B-EFA9-4384-B115-31DE15AA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4018E-F7F3-44D2-ADBE-26B43CA7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1885D-74D6-4992-B9A8-91437E21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940B4-0870-4A7C-858C-43C098A6F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16E98-0D21-4F04-B817-639ED3E57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312BF1-59DE-476E-87C4-7EF304F37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E0FF09-0EEA-4FC2-8003-7E908FEB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BB41A4-37C9-43E0-87FC-0DF6C6AA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5454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319B-43B8-4EA5-87FE-B904FBC64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98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9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00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12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31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49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6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201D-89A5-40F8-95AF-804589C96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03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05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17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636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654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1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B008-51BD-4038-B50E-5CAE79DE2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6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707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88DD-289F-448D-832B-527141E25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6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767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27DE-4293-46E3-AA8E-280C6B20B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ftr" idx="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7953-0E75-4C89-AE8A-2EAE6976AA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832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PlaceHolder 5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3BA8-12B5-40FE-8AFD-B2649625CE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888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8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39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1FFD-A266-4E21-B117-847E44B5C5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984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dt" idx="49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 type="ftr" idx="50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8DA1-DE9E-48E1-A732-D5B3D85404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8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029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dt" idx="52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ftr" idx="53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5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38CF-8EB5-4533-AF28-44F389525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8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079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dt" idx="55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 type="ftr" idx="56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 type="sldNum" idx="5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9AA8-40A2-4178-AA42-EAA35A92D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39E0-14F7-4AA0-A508-5D3CFB486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 type="dt" idx="5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 type="ftr" idx="5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 type="sldNum" idx="6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154F-8A42-42ED-9383-AE458F8B720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34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3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44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45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8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1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0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61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3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164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165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6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167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5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E6EC-4BC0-4596-B33A-68A77545D04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7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218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1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222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7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228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1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232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7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5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276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277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9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280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2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283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286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87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9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290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291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3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294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6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297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9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300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2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303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5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306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8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309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1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312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4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315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7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318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9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0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321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3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324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5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6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327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8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9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330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1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2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333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5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336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7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8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339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0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1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342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3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4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345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7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348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9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0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351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2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3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55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356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8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359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1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362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4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365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7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368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0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71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2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3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374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6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377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9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380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1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2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383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5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386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7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88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480A-99FB-474A-A463-6D63D15F505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1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452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453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5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456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457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458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9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0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461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462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3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64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465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6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67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468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9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0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471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2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3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474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5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6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477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8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9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480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1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2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483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4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5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486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7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8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489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0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1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492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3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4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495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6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7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498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9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0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501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2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3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504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5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6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507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8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9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510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1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2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513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4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5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516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7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8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519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0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1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522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3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24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5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26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527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8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9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530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1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32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533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4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35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536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7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38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539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0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41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542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3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44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545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6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47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548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9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50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551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2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53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554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5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56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557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8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59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1560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1561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2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3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4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5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6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7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8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69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1570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B213-0746-4C5E-B4E0-5F8C18D2A79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C0ED-18CD-440A-9121-A915EB56B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24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C755-F6CB-4C6C-910B-6B51C9BCEA4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8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2F8C-1D4B-4EC1-8E10-6F0AB4173DD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DBAF-4503-40FE-A68E-614CC55B93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39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40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87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88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dt" idx="19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ftr" idx="20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5A0C-AA71-4F5E-8E6E-AAE66A5B3C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36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73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8FA9-FA7C-4453-B2B2-86C97470A7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17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54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F233-AA8F-4E55-B72E-7FDB27F121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8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0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0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0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0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3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" Target="slide10.xml"/><Relationship Id="rId4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25" name=""/>
          <p:cNvSpPr txBox="1"/>
          <p:nvPr/>
        </p:nvSpPr>
        <p:spPr>
          <a:xfrm>
            <a:off x="0" y="0"/>
            <a:ext cx="9144000" cy="602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ccffff"/>
                  </a:solidFill>
                  <a:prstDash val="lgDashDot"/>
                  <a:miter/>
                </a:ln>
                <a:blipFill rotWithShape="0">
                  <a:blip r:embed="rId2">
                    <a:alphaModFix amt="50000"/>
                  </a:blip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отоефект</a:t>
            </a:r>
            <a:endParaRPr b="1" lang="en-US" sz="6000" spc="1" strike="noStrike">
              <a:ln w="12600">
                <a:solidFill>
                  <a:srgbClr val="ccffff"/>
                </a:solidFill>
                <a:prstDash val="lgDashDot"/>
                <a:miter/>
              </a:ln>
              <a:blipFill rotWithShape="0">
                <a:blip r:embed="rId3">
                  <a:alphaModFix amt="50000"/>
                </a:blip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Century"/>
              </a:rPr>
              <a:t>Схема установки Столєтова</a:t>
            </a:r>
            <a:br>
              <a:rPr sz="3600"/>
            </a:br>
            <a:r>
              <a:rPr b="1" lang="ru-RU" sz="3600" spc="-1" strike="noStrike">
                <a:solidFill>
                  <a:srgbClr val="008000"/>
                </a:solidFill>
                <a:latin typeface="Century"/>
              </a:rPr>
              <a:t>1-й варіант досліду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</a:t>
            </a:r>
            <a:r>
              <a:rPr b="1" lang="en-US" sz="7200" spc="-1" strike="noStrike">
                <a:solidFill>
                  <a:srgbClr val="ffffff"/>
                </a:solidFill>
                <a:latin typeface="Century"/>
              </a:rPr>
              <a:t>!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4932360" y="1916280"/>
            <a:ext cx="0" cy="23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2843280" y="2060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2843280" y="2637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2843280" y="3213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4932360" y="263700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5940360" y="2637000"/>
            <a:ext cx="0" cy="143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3780000" y="5589720"/>
            <a:ext cx="1295280" cy="1008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5580000" y="4149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5867280" y="494172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5435640" y="4076640"/>
            <a:ext cx="936720" cy="865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5559480" y="418464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 flipV="1">
            <a:off x="5867280" y="4149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3851280" y="479736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4140360" y="5013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4140360" y="5229360"/>
            <a:ext cx="1726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5076720" y="6093000"/>
            <a:ext cx="790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5867280" y="530064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 flipH="1">
            <a:off x="2843280" y="602136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 flipH="1">
            <a:off x="2843280" y="522936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 flipV="1">
            <a:off x="2843280" y="3573360"/>
            <a:ext cx="0" cy="24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684360" y="2781360"/>
            <a:ext cx="358560" cy="287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 flipV="1">
            <a:off x="1042920" y="2133360"/>
            <a:ext cx="3816360" cy="718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971640" y="2924280"/>
            <a:ext cx="3887640" cy="217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5076720" y="2205000"/>
            <a:ext cx="503280" cy="144360"/>
          </a:xfrm>
          <a:prstGeom prst="rect">
            <a:avLst/>
          </a:prstGeom>
          <a:solidFill>
            <a:srgbClr val="d806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4048200" y="5624640"/>
            <a:ext cx="7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entury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 flipV="1">
            <a:off x="5580000" y="4292280"/>
            <a:ext cx="576360" cy="431640"/>
          </a:xfrm>
          <a:prstGeom prst="line">
            <a:avLst/>
          </a:prstGeom>
          <a:ln w="38160">
            <a:solidFill>
              <a:srgbClr val="d806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 txBox="1"/>
          <p:nvPr/>
        </p:nvSpPr>
        <p:spPr>
          <a:xfrm>
            <a:off x="6443640" y="4365720"/>
            <a:ext cx="90504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рум є!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971640" y="2997360"/>
            <a:ext cx="3960720" cy="10792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Century"/>
              </a:rPr>
              <a:t>Схема установки Столєтова</a:t>
            </a:r>
            <a:br>
              <a:rPr sz="3600"/>
            </a:br>
            <a:r>
              <a:rPr b="0" lang="ru-RU" sz="3600" spc="-1" strike="noStrike">
                <a:solidFill>
                  <a:srgbClr val="008000"/>
                </a:solidFill>
                <a:latin typeface="Century"/>
              </a:rPr>
              <a:t>1-й варіант досліду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</a:t>
            </a:r>
            <a:r>
              <a:rPr b="1" lang="en-US" sz="7200" spc="-1" strike="noStrike">
                <a:solidFill>
                  <a:srgbClr val="ffffff"/>
                </a:solidFill>
                <a:latin typeface="Century"/>
              </a:rPr>
              <a:t>!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"/>
              </a:rPr>
              <a:t>                  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Century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4932360" y="1916280"/>
            <a:ext cx="0" cy="21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2843280" y="2060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2843280" y="2637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2843280" y="3213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4932360" y="263700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5940360" y="2637000"/>
            <a:ext cx="0" cy="143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3780000" y="5589720"/>
            <a:ext cx="1295280" cy="1008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5580000" y="4149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5867280" y="494172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5435640" y="4076640"/>
            <a:ext cx="936720" cy="865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5559480" y="418464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 flipV="1">
            <a:off x="5867280" y="4149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3851280" y="501336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4140360" y="4581360"/>
            <a:ext cx="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4140360" y="5229360"/>
            <a:ext cx="1726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5076720" y="6093000"/>
            <a:ext cx="790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5867280" y="530064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 flipH="1">
            <a:off x="2843280" y="602136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 flipH="1">
            <a:off x="2843280" y="522936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 flipV="1">
            <a:off x="2843280" y="3573360"/>
            <a:ext cx="0" cy="24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684360" y="2781360"/>
            <a:ext cx="358560" cy="287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 flipV="1">
            <a:off x="1042920" y="2133360"/>
            <a:ext cx="3816360" cy="718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4048200" y="5624640"/>
            <a:ext cx="7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entury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5292720" y="1773360"/>
            <a:ext cx="0" cy="647640"/>
          </a:xfrm>
          <a:prstGeom prst="line">
            <a:avLst/>
          </a:prstGeom>
          <a:ln w="76320">
            <a:solidFill>
              <a:srgbClr val="d80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5003640" y="2133720"/>
            <a:ext cx="576360" cy="0"/>
          </a:xfrm>
          <a:prstGeom prst="line">
            <a:avLst/>
          </a:prstGeom>
          <a:ln w="76320">
            <a:solidFill>
              <a:srgbClr val="d80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 txBox="1"/>
          <p:nvPr/>
        </p:nvSpPr>
        <p:spPr>
          <a:xfrm>
            <a:off x="6443640" y="4365720"/>
            <a:ext cx="9241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рум є!</a:t>
            </a:r>
            <a:endParaRPr b="1" lang="en-US" sz="1800" spc="1" strike="noStrike">
              <a:ln w="0">
                <a:noFill/>
              </a:ln>
              <a:solidFill>
                <a:srgbClr val="ffff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1042920" y="2924280"/>
            <a:ext cx="3889440" cy="28872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1042920" y="2997360"/>
            <a:ext cx="3816360" cy="10792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entury"/>
              </a:rPr>
              <a:t>Висновок, який зробив Столєтов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Century"/>
              </a:rPr>
              <a:t>…</a:t>
            </a:r>
            <a:r>
              <a:rPr b="1" lang="ru-RU" sz="2800" spc="-1" strike="noStrike">
                <a:solidFill>
                  <a:srgbClr val="00ff00"/>
                </a:solidFill>
                <a:latin typeface="Century"/>
              </a:rPr>
              <a:t>при освітленні цинкової пластин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Century"/>
              </a:rPr>
              <a:t>ультрафіолетовими променями із неї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Century"/>
              </a:rPr>
              <a:t>вириваються електрони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Century"/>
              </a:rPr>
              <a:t>Вони направляються до сітки і в колі виникає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Century"/>
              </a:rPr>
              <a:t>електричний струм, який називають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00"/>
                </a:solidFill>
                <a:uFillTx/>
                <a:latin typeface="Century"/>
              </a:rPr>
              <a:t>фотострумом</a:t>
            </a:r>
            <a:r>
              <a:rPr b="1" lang="ru-RU" sz="4000" spc="-1" strike="noStrike">
                <a:solidFill>
                  <a:srgbClr val="ffff00"/>
                </a:solidFill>
                <a:latin typeface="Century"/>
              </a:rPr>
              <a:t>.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Century"/>
              </a:rPr>
              <a:t>Задачі, які ставив перед собою Столєтов…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Century"/>
              </a:rPr>
              <a:t>1.Потрібно було встановити, від чого залежить кількість електронів, що вириваються із металу, за 1 с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Century"/>
              </a:rPr>
              <a:t>2.Від чого залежить швидкість фотоелектронів, а отже, і кінетичної енергі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Century"/>
              </a:rPr>
              <a:t>фотоелектронів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entury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     </a:t>
            </a:r>
            <a:r>
              <a:rPr b="1" lang="ru-RU" sz="2800" spc="-1" strike="noStrike">
                <a:solidFill>
                  <a:srgbClr val="003366"/>
                </a:solidFill>
                <a:latin typeface="Century"/>
              </a:rPr>
              <a:t>Схема установки, на якій Столє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"/>
              </a:rPr>
              <a:t>         </a:t>
            </a:r>
            <a:r>
              <a:rPr b="1" lang="ru-RU" sz="2800" spc="-1" strike="noStrike">
                <a:solidFill>
                  <a:srgbClr val="003366"/>
                </a:solidFill>
                <a:latin typeface="Century"/>
              </a:rPr>
              <a:t>установив закони фотоефек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0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835280" y="1413000"/>
            <a:ext cx="561636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1547640" y="2146320"/>
            <a:ext cx="6193080" cy="308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кони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отоефекту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"/>
              </a:rPr>
              <a:t>Перший закон фотоефекту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6" name="" descr=""/>
          <p:cNvPicPr/>
          <p:nvPr/>
        </p:nvPicPr>
        <p:blipFill>
          <a:blip r:embed="rId1"/>
          <a:stretch/>
        </p:blipFill>
        <p:spPr>
          <a:xfrm>
            <a:off x="8845560" y="1904760"/>
            <a:ext cx="79200" cy="4190760"/>
          </a:xfrm>
          <a:prstGeom prst="rect">
            <a:avLst/>
          </a:prstGeom>
          <a:ln w="0">
            <a:noFill/>
          </a:ln>
        </p:spPr>
      </p:pic>
      <p:sp>
        <p:nvSpPr>
          <p:cNvPr id="1737" name=""/>
          <p:cNvSpPr/>
          <p:nvPr/>
        </p:nvSpPr>
        <p:spPr>
          <a:xfrm>
            <a:off x="395280" y="1163880"/>
            <a:ext cx="8464680" cy="49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entury"/>
              </a:rPr>
              <a:t>   </a:t>
            </a:r>
            <a:r>
              <a:rPr b="1" lang="ru-RU" sz="2800" spc="-1" strike="noStrike">
                <a:solidFill>
                  <a:srgbClr val="003366"/>
                </a:solidFill>
                <a:latin typeface="Century"/>
              </a:rPr>
              <a:t>Сила </a:t>
            </a:r>
            <a:r>
              <a:rPr b="1" lang="uk-UA" sz="2800" spc="-1" strike="noStrike">
                <a:solidFill>
                  <a:srgbClr val="003366"/>
                </a:solidFill>
                <a:latin typeface="Century"/>
              </a:rPr>
              <a:t>струму </a:t>
            </a:r>
            <a:r>
              <a:rPr b="1" lang="ru-RU" sz="2800" spc="-1" strike="noStrike">
                <a:solidFill>
                  <a:srgbClr val="003366"/>
                </a:solidFill>
                <a:latin typeface="Century"/>
              </a:rPr>
              <a:t> насичення (фактично, число вирваних  з поверхні електронів за одиницю часу) прямо пропорційна інтенсивності світлового випромінювання,що  падаює на поверхю тіла.      </a:t>
            </a:r>
            <a:r>
              <a:rPr b="1" lang="en-US" sz="3200" spc="-1" strike="noStrike">
                <a:solidFill>
                  <a:srgbClr val="003366"/>
                </a:solidFill>
                <a:latin typeface="Century"/>
              </a:rPr>
              <a:t>I</a:t>
            </a:r>
            <a:r>
              <a:rPr b="1" lang="ru-RU" sz="3200" spc="-1" strike="noStrike" baseline="-25000">
                <a:solidFill>
                  <a:srgbClr val="003366"/>
                </a:solidFill>
                <a:latin typeface="Century"/>
              </a:rPr>
              <a:t>нас</a:t>
            </a:r>
            <a:r>
              <a:rPr b="1" lang="ru-RU" sz="3200" spc="-1" strike="noStrike">
                <a:solidFill>
                  <a:srgbClr val="003366"/>
                </a:solidFill>
                <a:latin typeface="Century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Century"/>
              </a:rPr>
              <a:t>˜</a:t>
            </a:r>
            <a:r>
              <a:rPr b="1" lang="ru-RU" sz="3200" spc="-1" strike="noStrike">
                <a:solidFill>
                  <a:srgbClr val="003366"/>
                </a:solidFill>
                <a:latin typeface="Century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Century"/>
              </a:rPr>
              <a:t>світловому потоку Р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"/>
              </a:rPr>
              <a:t>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8" name="" descr=""/>
          <p:cNvPicPr/>
          <p:nvPr/>
        </p:nvPicPr>
        <p:blipFill>
          <a:blip r:embed="rId2"/>
          <a:stretch/>
        </p:blipFill>
        <p:spPr>
          <a:xfrm>
            <a:off x="179280" y="3789360"/>
            <a:ext cx="4464000" cy="3068640"/>
          </a:xfrm>
          <a:prstGeom prst="rect">
            <a:avLst/>
          </a:prstGeom>
          <a:ln w="0">
            <a:noFill/>
          </a:ln>
        </p:spPr>
      </p:pic>
      <p:sp>
        <p:nvSpPr>
          <p:cNvPr id="1739" name=""/>
          <p:cNvSpPr/>
          <p:nvPr/>
        </p:nvSpPr>
        <p:spPr>
          <a:xfrm>
            <a:off x="4716360" y="3933720"/>
            <a:ext cx="4248360" cy="2590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entury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entury"/>
              </a:rPr>
              <a:t>Уваг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entury"/>
              </a:rPr>
              <a:t>Світловий потік, щ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entury"/>
              </a:rPr>
              <a:t>падає на фотокато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entury"/>
              </a:rPr>
              <a:t>збільшується, а й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entury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Century"/>
              </a:rPr>
              <a:t>спектральний скла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entury"/>
              </a:rPr>
              <a:t>залишається незмінни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entury"/>
              </a:rPr>
              <a:t>              </a:t>
            </a:r>
            <a:r>
              <a:rPr b="1" i="1" lang="ru-RU" sz="2400" spc="-1" strike="noStrike">
                <a:solidFill>
                  <a:srgbClr val="ffff00"/>
                </a:solidFill>
                <a:latin typeface="Century"/>
              </a:rPr>
              <a:t>Ф</a:t>
            </a:r>
            <a:r>
              <a:rPr b="1" i="1" lang="ru-RU" sz="2400" spc="-1" strike="noStrike" baseline="-25000">
                <a:solidFill>
                  <a:srgbClr val="ffff00"/>
                </a:solidFill>
                <a:latin typeface="Century"/>
              </a:rPr>
              <a:t>2</a:t>
            </a:r>
            <a:r>
              <a:rPr b="1" i="1" lang="en-US" sz="2400" spc="-1" strike="noStrike">
                <a:solidFill>
                  <a:srgbClr val="ffff00"/>
                </a:solidFill>
                <a:latin typeface="Century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entury"/>
              </a:rPr>
              <a:t>&gt;</a:t>
            </a:r>
            <a:r>
              <a:rPr b="1" lang="ru-RU" sz="2400" spc="-1" strike="noStrike">
                <a:solidFill>
                  <a:srgbClr val="ffff00"/>
                </a:solidFill>
                <a:latin typeface="Century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Century"/>
              </a:rPr>
              <a:t>Ф</a:t>
            </a:r>
            <a:r>
              <a:rPr b="1" i="1" lang="ru-RU" sz="2400" spc="-1" strike="noStrike" baseline="-25000">
                <a:solidFill>
                  <a:srgbClr val="ffff00"/>
                </a:solidFill>
                <a:latin typeface="Century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500"/>
                                        <p:tgtEl>
                                          <p:spTgt spid="1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500"/>
                                        <p:tgtEl>
                                          <p:spTgt spid="1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500"/>
                                        <p:tgtEl>
                                          <p:spTgt spid="1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750"/>
                            </p:stCondLst>
                            <p:childTnLst>
                              <p:par>
                                <p:cTn id="1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500"/>
                                        <p:tgtEl>
                                          <p:spTgt spid="1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500"/>
                                        <p:tgtEl>
                                          <p:spTgt spid="1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500"/>
                                        <p:tgtEl>
                                          <p:spTgt spid="1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50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500"/>
                                        <p:tgtEl>
                                          <p:spTgt spid="1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500"/>
                                        <p:tgtEl>
                                          <p:spTgt spid="1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500"/>
                                        <p:tgtEl>
                                          <p:spTgt spid="1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500"/>
                                        <p:tgtEl>
                                          <p:spTgt spid="1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500"/>
                                        <p:tgtEl>
                                          <p:spTgt spid="1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500"/>
                                        <p:tgtEl>
                                          <p:spTgt spid="1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500"/>
                                        <p:tgtEl>
                                          <p:spTgt spid="1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500"/>
                                        <p:tgtEl>
                                          <p:spTgt spid="1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500"/>
                                        <p:tgtEl>
                                          <p:spTgt spid="1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8250"/>
                            </p:stCondLst>
                            <p:childTnLst>
                              <p:par>
                                <p:cTn id="1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500"/>
                                        <p:tgtEl>
                                          <p:spTgt spid="17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500"/>
                                        <p:tgtEl>
                                          <p:spTgt spid="17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500"/>
                                        <p:tgtEl>
                                          <p:spTgt spid="17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2750"/>
                            </p:stCondLst>
                            <p:childTnLst>
                              <p:par>
                                <p:cTn id="1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500"/>
                                        <p:tgtEl>
                                          <p:spTgt spid="1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500"/>
                                        <p:tgtEl>
                                          <p:spTgt spid="1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500"/>
                                        <p:tgtEl>
                                          <p:spTgt spid="1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8250"/>
                            </p:stCondLst>
                            <p:childTnLst>
                              <p:par>
                                <p:cTn id="1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500"/>
                                        <p:tgtEl>
                                          <p:spTgt spid="17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500"/>
                                        <p:tgtEl>
                                          <p:spTgt spid="17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500"/>
                                        <p:tgtEl>
                                          <p:spTgt spid="17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"/>
              </a:rPr>
              <a:t>Другий закон фотоефекту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362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Якщо </a:t>
            </a:r>
            <a:r>
              <a:rPr b="0" lang="ru-RU" sz="2000" spc="-1" strike="noStrike">
                <a:solidFill>
                  <a:srgbClr val="ffffff"/>
                </a:solidFill>
                <a:latin typeface="Century"/>
              </a:rPr>
              <a:t> частоту світла збільшити, то при незмінному світловому потоці затримуюча напруга збільшується, а, як наслідок, збільшується і кінетична енергія фотоелектронів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entury"/>
              </a:rPr>
              <a:t>      </a:t>
            </a:r>
            <a:r>
              <a:rPr b="1" lang="ru-RU" sz="2800" spc="-1" strike="noStrike">
                <a:solidFill>
                  <a:srgbClr val="ff0000"/>
                </a:solidFill>
                <a:latin typeface="Century"/>
              </a:rPr>
              <a:t>Максимальна швидкість фотоелектронів залежить тільки від частоти падаючого світла і не залежить від його інтенсивності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"/>
              </a:rPr>
              <a:t>                                  </a:t>
            </a:r>
            <a:r>
              <a:rPr b="1" lang="ru-RU" sz="2400" spc="-1" strike="noStrike">
                <a:solidFill>
                  <a:srgbClr val="003366"/>
                </a:solidFill>
                <a:latin typeface="Century"/>
              </a:rPr>
              <a:t>Важливо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entury"/>
              </a:rPr>
              <a:t>За модулем затримуючої напруги можна говорити пр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entury"/>
              </a:rPr>
              <a:t>швидкість фотоелектронів і про їх кінетичн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entury"/>
              </a:rPr>
              <a:t>енергию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2" name=""/>
              <p:cNvSpPr txBox="1"/>
              <p:nvPr/>
            </p:nvSpPr>
            <p:spPr>
              <a:xfrm>
                <a:off x="4643280" y="4941720"/>
                <a:ext cx="4105440" cy="19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U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3" name=""/>
              <p:cNvSpPr txBox="1"/>
              <p:nvPr/>
            </p:nvSpPr>
            <p:spPr>
              <a:xfrm>
                <a:off x="324000" y="5084640"/>
                <a:ext cx="3711600" cy="17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еU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m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4" name=""/>
          <p:cNvSpPr/>
          <p:nvPr/>
        </p:nvSpPr>
        <p:spPr>
          <a:xfrm>
            <a:off x="4067280" y="5734080"/>
            <a:ext cx="576000" cy="358920"/>
          </a:xfrm>
          <a:prstGeom prst="rightArrow">
            <a:avLst>
              <a:gd name="adj1" fmla="val 50000"/>
              <a:gd name="adj2" fmla="val 4012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50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500"/>
                            </p:stCondLst>
                            <p:childTnLst>
                              <p:par>
                                <p:cTn id="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85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25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"/>
              </a:rPr>
              <a:t>Третій закон фотоефекту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837720" y="1197000"/>
            <a:ext cx="8007480" cy="48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  </a:t>
            </a:r>
            <a:r>
              <a:rPr b="1" lang="ru-RU" sz="2800" spc="-1" strike="noStrike">
                <a:solidFill>
                  <a:srgbClr val="ffff00"/>
                </a:solidFill>
                <a:latin typeface="Century"/>
              </a:rPr>
              <a:t>Для кожної речовини існу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entury"/>
              </a:rPr>
              <a:t>мінімальна частота (так зва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entury"/>
              </a:rPr>
              <a:t>червона межа фотоефекту), нижче яко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entury"/>
              </a:rPr>
              <a:t>фотоефект невиникає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7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826920" y="3789360"/>
            <a:ext cx="705816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5454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Червона межа фотоефек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9" name=""/>
          <p:cNvGraphicFramePr/>
          <p:nvPr/>
        </p:nvGraphicFramePr>
        <p:xfrm>
          <a:off x="1301760" y="1600200"/>
          <a:ext cx="234936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1760" y="1600200"/>
                    <a:ext cx="234936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blipFill rotWithShape="0">
            <a:blip r:embed="rId3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entury"/>
              </a:rPr>
              <a:t>При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>
                <a:solidFill>
                  <a:srgbClr val="ffff00"/>
                </a:solidFill>
                <a:latin typeface="Century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Century"/>
              </a:rPr>
              <a:t>&lt; </a:t>
            </a:r>
            <a:r>
              <a:rPr b="1" lang="ru-RU" sz="28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Century"/>
              </a:rPr>
              <a:t>min</a:t>
            </a:r>
            <a:r>
              <a:rPr b="1" lang="ru-RU" sz="2800" spc="-1" strike="noStrike" baseline="-25000">
                <a:solidFill>
                  <a:srgbClr val="ffff00"/>
                </a:solidFill>
                <a:latin typeface="Century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Century"/>
              </a:rPr>
              <a:t>ні п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entury"/>
              </a:rPr>
              <a:t>якій інтенсивн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entury"/>
              </a:rPr>
              <a:t>хвилі падаючого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entury"/>
              </a:rPr>
              <a:t>фотокатод світ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entury"/>
              </a:rPr>
              <a:t>фотоефект 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entury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Century"/>
              </a:rPr>
              <a:t>виникає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2" name=""/>
              <p:cNvSpPr txBox="1"/>
              <p:nvPr/>
            </p:nvSpPr>
            <p:spPr>
              <a:xfrm>
                <a:off x="2195640" y="4221000"/>
                <a:ext cx="3105000" cy="21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3" name=""/>
          <p:cNvSpPr txBox="1"/>
          <p:nvPr/>
        </p:nvSpPr>
        <p:spPr>
          <a:xfrm>
            <a:off x="5651640" y="4941720"/>
            <a:ext cx="2199960" cy="7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ля кожної речовини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воя!!!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Arial"/>
              </a:rPr>
              <a:t>Мета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uk-UA" sz="4400" spc="-1" strike="noStrike">
                <a:solidFill>
                  <a:srgbClr val="ff0000"/>
                </a:solidFill>
                <a:latin typeface="Arial"/>
              </a:rPr>
              <a:t>уроку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57132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000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uk-UA" sz="2400" spc="-1" strike="noStrike">
                <a:solidFill>
                  <a:srgbClr val="990000"/>
                </a:solidFill>
                <a:latin typeface="Arial"/>
              </a:rPr>
              <a:t>Ознайомити з корпускулярними властивостями світла в процесі вивчення явища фотоефекту, вчити розрізняти поняття внутрішнього та зовнішнього фотоефекту, домогтися засвоєння учнями законів фотоефекту, формувати навички застосування рівняння Ейнштейна під час розв’язування зада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00"/>
                </a:solidFill>
                <a:latin typeface="Arial"/>
              </a:rPr>
              <a:t>       </a:t>
            </a:r>
            <a:r>
              <a:rPr b="1" lang="uk-UA" sz="2400" spc="-1" strike="noStrike">
                <a:solidFill>
                  <a:srgbClr val="990000"/>
                </a:solidFill>
                <a:latin typeface="Arial"/>
              </a:rPr>
              <a:t>Розвивати пам’ять, уважність, логічне мислення, продовжувати формувати навички обчислень за формулам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00"/>
                </a:solidFill>
                <a:latin typeface="Arial"/>
              </a:rPr>
              <a:t>      </a:t>
            </a:r>
            <a:r>
              <a:rPr b="1" lang="uk-UA" sz="2400" spc="-1" strike="noStrike">
                <a:solidFill>
                  <a:srgbClr val="990000"/>
                </a:solidFill>
                <a:latin typeface="Arial"/>
              </a:rPr>
              <a:t>Виховувати інтерес до моделювання фізичних явищ за допомогою комп’ютера. Перевірити знання, одержані на уроці за допомогою  тестуванн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5454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33cc"/>
                </a:solidFill>
                <a:latin typeface="Century"/>
              </a:rPr>
              <a:t>Застосування </a:t>
            </a:r>
            <a:r>
              <a:rPr b="1" lang="ru-RU" sz="4000" spc="-1" strike="noStrike">
                <a:solidFill>
                  <a:srgbClr val="0033cc"/>
                </a:solidFill>
                <a:latin typeface="Century"/>
              </a:rPr>
              <a:t>фотоефект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6666"/>
                </a:solidFill>
                <a:latin typeface="Century"/>
              </a:rPr>
              <a:t>На явищі фотоефекту  діють фотоелектричні прилади, що отримали  різне застосування в різних областях науки і техніки. В сучасний час  практично неможливо знайти виробництво, де б не використовувалися </a:t>
            </a:r>
            <a:r>
              <a:rPr b="1" lang="ru-RU" sz="2800" spc="-1" strike="noStrike" u="sng">
                <a:solidFill>
                  <a:srgbClr val="006666"/>
                </a:solidFill>
                <a:uFillTx/>
                <a:latin typeface="Century"/>
              </a:rPr>
              <a:t>фотоелементи – приймачі випромінювання,  що працюють  на основі фотоефекту і перетворюють енергію випромінювання в електрич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7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9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900" fill="hold"/>
                                        <p:tgtEl>
                                          <p:spTgt spid="1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"/>
          <p:cNvSpPr txBox="1"/>
          <p:nvPr/>
        </p:nvSpPr>
        <p:spPr>
          <a:xfrm>
            <a:off x="1403280" y="765000"/>
            <a:ext cx="7201080" cy="475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озв"язуванн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дач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b7"/>
                </a:solidFill>
                <a:latin typeface="Arial Black"/>
              </a:rPr>
              <a:t>На поверхню металу падають  промені з довжиною </a:t>
            </a:r>
            <a:br>
              <a:rPr sz="2000"/>
            </a:br>
            <a:r>
              <a:rPr b="1" lang="uk-UA" sz="2000" spc="-1" strike="noStrike">
                <a:solidFill>
                  <a:srgbClr val="ffffb7"/>
                </a:solidFill>
                <a:latin typeface="Arial Black"/>
              </a:rPr>
              <a:t>200 нм. Обчислити  максимальну швидкість  випромінювання.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1" name="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799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4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964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8842320" y="-5119200"/>
            <a:ext cx="698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837720" y="189000"/>
            <a:ext cx="8007480" cy="59068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66"/>
                </a:solidFill>
                <a:latin typeface="Arial"/>
              </a:rPr>
              <a:t>1) Визначити довжину хвилі світла, яким опромінюється поверхня металу, якщо фотоелектрони мають кінетичну енергію 4*10-20 Дж, а робота виходу електронів з цього металу 7*10-19 Дж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66"/>
                </a:solidFill>
                <a:latin typeface="Arial"/>
              </a:rPr>
              <a:t>2) Яку максимальну швидкість мають електрони, вирвані з оксиду барію, у випадку опромінювання світла з частотою 1*1015 Гц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66"/>
                </a:solidFill>
                <a:latin typeface="Arial"/>
              </a:rPr>
              <a:t>3) Цезій освітлений жовтим світлом з довжиною хвилі 0,589 мкм. Визначити максимальну кінетичну енергію фотоелектроні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8842320" y="-5119200"/>
            <a:ext cx="698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837720" y="189000"/>
            <a:ext cx="8007480" cy="59068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66"/>
                </a:solidFill>
                <a:latin typeface="Arial"/>
              </a:rPr>
              <a:t>1) Визначити довжину хвилі світла, яким опромінюється поверхня металу, якщо фотоелектрони мають кінетичну енергію 4*10-20 Дж, а робота виходу електронів з цього металу 7*10-19 Дж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66"/>
                </a:solidFill>
                <a:latin typeface="Arial"/>
              </a:rPr>
              <a:t>2) Яку максимальну швидкість мають електрони, вирвані з оксиду барію, у випадку опромінювання світла з частотою 1*1015 Гц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66"/>
                </a:solidFill>
                <a:latin typeface="Arial"/>
              </a:rPr>
              <a:t>3) Цезій освітлений жовтим світлом з довжиною хвилі 0,589 мкм. Визначити максимальну кінетичну енергію фотоелектроні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5454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Century"/>
              </a:rPr>
              <a:t> </a:t>
            </a:r>
            <a:r>
              <a:rPr b="1" lang="en-US" sz="3200" spc="-1" strike="noStrike">
                <a:solidFill>
                  <a:srgbClr val="99ccff"/>
                </a:solidFill>
                <a:latin typeface="Century"/>
              </a:rPr>
              <a:t>т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 txBox="1"/>
          <p:nvPr/>
        </p:nvSpPr>
        <p:spPr>
          <a:xfrm>
            <a:off x="2340000" y="333360"/>
            <a:ext cx="4392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нтрольний блок</a:t>
            </a:r>
            <a:endParaRPr b="0" lang="en-US" sz="1800" spc="1" strike="noStrike">
              <a:ln w="0">
                <a:noFill/>
              </a:ln>
              <a:solidFill>
                <a:srgbClr val="ffff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72" name="" descr=""/>
          <p:cNvPicPr/>
          <p:nvPr/>
        </p:nvPicPr>
        <p:blipFill>
          <a:blip r:embed="rId1"/>
          <a:stretch/>
        </p:blipFill>
        <p:spPr>
          <a:xfrm>
            <a:off x="3851280" y="1989000"/>
            <a:ext cx="86364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5454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Century"/>
              </a:rPr>
              <a:t>№</a:t>
            </a:r>
            <a:r>
              <a:rPr b="1" lang="ru-RU" sz="3200" spc="-1" strike="noStrike">
                <a:solidFill>
                  <a:srgbClr val="0033cc"/>
                </a:solidFill>
                <a:latin typeface="Century"/>
              </a:rPr>
              <a:t>1:</a:t>
            </a:r>
            <a:r>
              <a:rPr b="1" lang="ru-RU" sz="3200" spc="-1" strike="noStrike">
                <a:solidFill>
                  <a:srgbClr val="ffffff"/>
                </a:solidFill>
                <a:latin typeface="Century"/>
              </a:rPr>
              <a:t> </a:t>
            </a:r>
            <a:r>
              <a:rPr b="1" lang="ru-RU" sz="3200" spc="-1" strike="noStrike">
                <a:solidFill>
                  <a:srgbClr val="0033cc"/>
                </a:solidFill>
                <a:latin typeface="Century"/>
              </a:rPr>
              <a:t>Якому із нижчеприведених виразів відповідає одиниця вимірювання постійної Планка в СІ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а) Дж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б) кг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/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entury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в) кг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/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г) Н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д) кг</a:t>
            </a: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entury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5454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entury"/>
              </a:rPr>
              <a:t>№</a:t>
            </a:r>
            <a:r>
              <a:rPr b="1" lang="ru-RU" sz="2800" spc="-1" strike="noStrike">
                <a:solidFill>
                  <a:srgbClr val="0033cc"/>
                </a:solidFill>
                <a:latin typeface="Century"/>
              </a:rPr>
              <a:t>2 Як зміниться робота виходу, при збільшенні довжини хвилі падачого випромінювання на катод в чотири рази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1692360" y="1844640"/>
            <a:ext cx="59752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А)  Збільшиться в чотири раз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B)  Зменшиться в чотири раз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C)  Збільшиться в два раз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D)  Зменшиться в два раз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E)  Не змінить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5454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Century"/>
              </a:rPr>
              <a:t>№</a:t>
            </a:r>
            <a:r>
              <a:rPr b="1" lang="ru-RU" sz="3200" spc="-1" strike="noStrike">
                <a:solidFill>
                  <a:srgbClr val="0033cc"/>
                </a:solidFill>
                <a:latin typeface="Century"/>
              </a:rPr>
              <a:t>3 Яке із нижчеприведених тверджень ( для даного електроду) справедливе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А)  Робота виходу залежить від довжини хвилі падаючого випромінюванн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B)  «Затримуюча» напруга залежить від роботи виход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C) Збільшення довжини хвилі падаючого випромінювання приводить до збільшення швидкості вилітаючих фотоелектроні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D)  Максимальна швидкість вилітаючих фотоелектронів, залежить тільки від роботи виход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E)  Збільшення частоти падаючого випромінювання, приводить до збільшення швидкості фотоелектроні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66"/>
                </a:solidFill>
                <a:latin typeface="Arial"/>
              </a:rPr>
              <a:t>Епіграф уроку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6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a4"/>
                </a:solidFill>
                <a:latin typeface="Arial"/>
              </a:rPr>
              <a:t>Сонце, небо, зірок сяяння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a4"/>
                </a:solidFill>
                <a:latin typeface="Arial"/>
              </a:rPr>
              <a:t>Море блиску голубого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a4"/>
                </a:solidFill>
                <a:latin typeface="Arial"/>
              </a:rPr>
              <a:t>Всю природу і створінн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a4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a4"/>
                </a:solidFill>
                <a:latin typeface="Arial"/>
              </a:rPr>
              <a:t>тільки  в світлі пізнаєм</a:t>
            </a:r>
            <a:r>
              <a:rPr b="1" lang="en-US" sz="4000" spc="-1" strike="noStrike">
                <a:solidFill>
                  <a:srgbClr val="0000a4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0000a4"/>
                </a:solidFill>
                <a:latin typeface="Arial"/>
              </a:rPr>
              <a:t>ми</a:t>
            </a:r>
            <a:r>
              <a:rPr b="1" lang="ru-RU" sz="4000" spc="-1" strike="noStrike">
                <a:solidFill>
                  <a:srgbClr val="0000a4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5454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Century"/>
              </a:rPr>
              <a:t>№</a:t>
            </a:r>
            <a:r>
              <a:rPr b="1" lang="ru-RU" sz="3200" spc="-1" strike="noStrike">
                <a:solidFill>
                  <a:srgbClr val="0033cc"/>
                </a:solidFill>
                <a:latin typeface="Century"/>
              </a:rPr>
              <a:t>4.Пластина виготовлена з матеріалу, «червона межа» для якого попадає в голубу область спектру. При освітленні якими променями даної пластини спостерігається фотоефект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2124000" y="3141360"/>
            <a:ext cx="51228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А)  Інфрачервони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B)  Ультрафіолетови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C)  Жовти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D)  Червони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E)  Оранжеви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5454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entury"/>
              </a:rPr>
              <a:t>№</a:t>
            </a:r>
            <a:r>
              <a:rPr b="1" lang="ru-RU" sz="2800" spc="-1" strike="noStrike">
                <a:solidFill>
                  <a:srgbClr val="0033cc"/>
                </a:solidFill>
                <a:latin typeface="Century"/>
              </a:rPr>
              <a:t>5: Як зміниться робота виходу, при збільшенні довжини хвилі падаючого випромінювання на катод, в чотири раз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1402920" y="1844640"/>
            <a:ext cx="64184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А) Збільшиться в чотири раз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B)  Зменшиться в чотири раз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C)  Збільшиться в два раз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D)  Зменшиться в два раз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E)  Не змінить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5454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entury"/>
              </a:rPr>
              <a:t>№</a:t>
            </a:r>
            <a:r>
              <a:rPr b="1" lang="ru-RU" sz="2800" spc="-1" strike="noStrike">
                <a:solidFill>
                  <a:srgbClr val="0033cc"/>
                </a:solidFill>
                <a:latin typeface="Century"/>
              </a:rPr>
              <a:t>6 Яке з нижчеприведених виразів правильне? Кінетична енергія вилітаючих фотоелектронів залежить ві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А) Тільки від частоти падаючого випроміню -ванн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B)   Тільки від температури метал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C)  Тільки від інтенсивності випроміню -ванн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D) Від частоти і інтенсивності падаючого випромінюванн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E) Від температури металу і інтенсивності випромінюванн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5454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cc"/>
                </a:solidFill>
                <a:latin typeface="Arial"/>
              </a:rPr>
              <a:t>№ </a:t>
            </a:r>
            <a:r>
              <a:rPr b="1" lang="uk-UA" sz="3200" spc="-1" strike="noStrike">
                <a:solidFill>
                  <a:srgbClr val="0033cc"/>
                </a:solidFill>
                <a:latin typeface="Arial"/>
              </a:rPr>
              <a:t>7 На поверхню тіла падає світлове випромінювання з частот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hν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)   2 h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)   3,5 h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ffff66"/>
                </a:solidFill>
                <a:latin typeface="Arial"/>
              </a:rPr>
              <a:t>Задачі для самостійної роботи (4 варіанта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На поверхню вольфраму падають рентгенівські промені з довжиною 10 нм. Обчислити кінетичну енергію фотоелектроні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Визначити довжину хвилі світла, яким опромінюється поверхня металу, якщо фотоелектрони мають кінетичну енергію 4*10-20 Дж, а робота виходу електронів з цього металу 7*10-19 Дж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Яку максимальну швидкість мають електрони, вирвані з оксиду барію, у випадку опромінювання світла з частотою 1*1015 Гц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Цезій освітлений жовтим світлом з довжиною хвилі 0,589 мкм. Визначити максимальну кінетичну енергію фотоелектроні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66"/>
                </a:solidFill>
                <a:latin typeface="Arial Black"/>
              </a:rPr>
              <a:t>Запам</a:t>
            </a:r>
            <a:r>
              <a:rPr b="1" lang="en-US" sz="4400" spc="-1" strike="noStrike">
                <a:solidFill>
                  <a:srgbClr val="ff0066"/>
                </a:solidFill>
                <a:latin typeface="Arial Black"/>
              </a:rPr>
              <a:t>‘</a:t>
            </a:r>
            <a:r>
              <a:rPr b="1" lang="uk-UA" sz="4400" spc="-1" strike="noStrike">
                <a:solidFill>
                  <a:srgbClr val="ff0066"/>
                </a:solidFill>
                <a:latin typeface="Arial Black"/>
              </a:rPr>
              <a:t>ятай!!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«Здібності, як і мускули,    ростуть підчас тренування»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                                                                                          </a:t>
            </a:r>
            <a:r>
              <a:rPr b="0" lang="ru-RU" sz="2400" spc="-1" strike="noStrike">
                <a:solidFill>
                  <a:srgbClr val="00ff00"/>
                </a:solidFill>
                <a:latin typeface="Arial Black"/>
              </a:rPr>
              <a:t>(Академік В. Обручєв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Comic Sans MS"/>
              </a:rPr>
              <a:t>розрізняють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03dff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1" lang="uk-UA" sz="2800" spc="-1" strike="noStrike">
                <a:solidFill>
                  <a:srgbClr val="006600"/>
                </a:solidFill>
                <a:latin typeface="Comic Sans MS"/>
              </a:rPr>
              <a:t>Внутрішній фотоефект</a:t>
            </a: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uk-UA" sz="2800" spc="-1" strike="noStrike">
                <a:solidFill>
                  <a:srgbClr val="ffff00"/>
                </a:solidFill>
                <a:latin typeface="Comic Sans MS"/>
              </a:rPr>
              <a:t>це збільшення кількості вільних носіїв заряду в напівпровідниках та діелектриках під дією світла” (</a:t>
            </a:r>
            <a:r>
              <a:rPr b="0" i="1" lang="uk-UA" sz="2800" spc="-1" strike="noStrike">
                <a:solidFill>
                  <a:srgbClr val="ffff00"/>
                </a:solidFill>
                <a:latin typeface="Comic Sans MS"/>
              </a:rPr>
              <a:t>записи в зошитах</a:t>
            </a:r>
            <a:r>
              <a:rPr b="0" lang="uk-UA" sz="2800" spc="-1" strike="noStrike">
                <a:solidFill>
                  <a:srgbClr val="ffff00"/>
                </a:solidFill>
                <a:latin typeface="Comic Sans MS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uk-UA" sz="2800" spc="-1" strike="noStrike">
                <a:solidFill>
                  <a:srgbClr val="006600"/>
                </a:solidFill>
                <a:latin typeface="Comic Sans MS"/>
              </a:rPr>
              <a:t>Зовнішній фотоефект</a:t>
            </a: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uk-UA" sz="2800" spc="-1" strike="noStrike">
                <a:solidFill>
                  <a:srgbClr val="ffff00"/>
                </a:solidFill>
                <a:latin typeface="Comic Sans MS"/>
              </a:rPr>
              <a:t>це явище втрати речовинами електронів під дією світла або іншого електромагнітного випромінювання. </a:t>
            </a:r>
            <a:r>
              <a:rPr b="0" i="1" lang="uk-UA" sz="2800" spc="-1" strike="noStrike">
                <a:solidFill>
                  <a:srgbClr val="ffff00"/>
                </a:solidFill>
                <a:latin typeface="Comic Sans MS"/>
              </a:rPr>
              <a:t>(записи в зошитах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2" name=""/>
          <p:cNvSpPr txBox="1"/>
          <p:nvPr/>
        </p:nvSpPr>
        <p:spPr>
          <a:xfrm rot="20235000">
            <a:off x="18720" y="650520"/>
            <a:ext cx="32479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ОТОЕФЕК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2268000" y="189000"/>
            <a:ext cx="6875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b7ab"/>
                </a:solidFill>
                <a:latin typeface="Garamond"/>
              </a:rPr>
              <a:t>Герц (Hertz) Генр</a:t>
            </a:r>
            <a:r>
              <a:rPr b="1" lang="ru-RU" sz="3200" spc="-1" strike="noStrike">
                <a:solidFill>
                  <a:srgbClr val="fdb7ab"/>
                </a:solidFill>
                <a:latin typeface="Garamond"/>
              </a:rPr>
              <a:t>і</a:t>
            </a:r>
            <a:r>
              <a:rPr b="1" lang="ru-RU" sz="3200" spc="-1" strike="noStrike">
                <a:solidFill>
                  <a:srgbClr val="fdb7ab"/>
                </a:solidFill>
                <a:latin typeface="Garamond"/>
              </a:rPr>
              <a:t>х </a:t>
            </a:r>
            <a:r>
              <a:rPr b="1" lang="en-US" sz="3200" spc="-1" strike="noStrike">
                <a:solidFill>
                  <a:srgbClr val="fdb7ab"/>
                </a:solidFill>
                <a:latin typeface="Garamond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fdb7ab"/>
                </a:solidFill>
                <a:latin typeface="Garamond"/>
              </a:rPr>
              <a:t>22.II.1857–1.I.1894)</a:t>
            </a: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1599840" y="1125360"/>
            <a:ext cx="736452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000" spc="-1" strike="noStrike">
                <a:solidFill>
                  <a:srgbClr val="ffff00"/>
                </a:solidFill>
                <a:latin typeface="Garamond"/>
              </a:rPr>
              <a:t>Німецький фізик, один із основоположників електродинаміки. Виходячи  із рівнянн Максвелла, Герц в 1886–89 експериментально довів існування електромагнітних хвиль і досліджував їх властивості (відбивання від люстерка, заломлення в призмах і т. д.). Електромагнітні хвилі Герц </a:t>
            </a:r>
            <a:r>
              <a:rPr b="1" lang="uk-UA" sz="2000" spc="-1" strike="noStrike">
                <a:solidFill>
                  <a:srgbClr val="ffff00"/>
                </a:solidFill>
                <a:latin typeface="Garamond"/>
              </a:rPr>
              <a:t>одержав</a:t>
            </a:r>
            <a:r>
              <a:rPr b="1" lang="ru-RU" sz="2000" spc="-1" strike="noStrike">
                <a:solidFill>
                  <a:srgbClr val="ffff00"/>
                </a:solidFill>
                <a:latin typeface="Garamond"/>
              </a:rPr>
              <a:t> за допомогою створеного ним вібратора. Герц підтвердив висновки максвелівської теорії про те, що швидкість розповсюдження електромагнітних хвиль в повітрі рівна швидкості світла, встановив рівність основних властивостей електромагнітних і світлових хвиль. Герц вивчав також розповсюдження електромагнітних хвиль в провіднику і вказав спосіб вимірювання швидкості їх розповсюдження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ru-RU" sz="2000" spc="-1" strike="noStrike">
                <a:solidFill>
                  <a:srgbClr val="ffff00"/>
                </a:solidFill>
                <a:latin typeface="Garamond"/>
              </a:rPr>
              <a:t>В 1886–87 Герц вперше спостерігав і дав опис зовнішнього фотоефекту. Герц розробив теорію резонаторного контуру, вивчав властивості катодних променів, досліджував  вплив ультрафіолетових променів на електричні розряди. В своїх роботах з механіки дав теорію удару пружних шарів, розрахував час співудару і т. д. Іменем Герца названа одиниця частоти коливань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5" name="" descr=""/>
          <p:cNvPicPr/>
          <p:nvPr/>
        </p:nvPicPr>
        <p:blipFill>
          <a:blip r:embed="rId2"/>
          <a:stretch/>
        </p:blipFill>
        <p:spPr>
          <a:xfrm>
            <a:off x="71280" y="189000"/>
            <a:ext cx="1836720" cy="2448000"/>
          </a:xfrm>
          <a:prstGeom prst="rect">
            <a:avLst/>
          </a:prstGeom>
          <a:ln w="44280">
            <a:solidFill>
              <a:srgbClr val="006666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636" name=""/>
          <p:cNvSpPr/>
          <p:nvPr/>
        </p:nvSpPr>
        <p:spPr>
          <a:xfrm>
            <a:off x="179280" y="2852640"/>
            <a:ext cx="166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енр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 Герц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>
            <a:hlinkClick r:id="rId3" action="ppaction://hlinksldjump"/>
          </p:cNvPr>
          <p:cNvSpPr/>
          <p:nvPr/>
        </p:nvSpPr>
        <p:spPr>
          <a:xfrm>
            <a:off x="180720" y="4941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Garamond"/>
              </a:rPr>
              <a:t>І</a:t>
            </a:r>
            <a:r>
              <a:rPr b="1" lang="ru-RU" sz="4400" spc="-1" strike="noStrike">
                <a:solidFill>
                  <a:srgbClr val="ff3300"/>
                </a:solidFill>
                <a:latin typeface="Garamond"/>
              </a:rPr>
              <a:t>з історії фотоефекту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Century"/>
              </a:rPr>
              <a:t>1887 рік – німецький фізик Генріх Герц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0" name=""/>
          <p:cNvSpPr/>
          <p:nvPr/>
        </p:nvSpPr>
        <p:spPr>
          <a:xfrm>
            <a:off x="3924360" y="4005360"/>
            <a:ext cx="0" cy="1944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 flipV="1">
            <a:off x="3924360" y="2349000"/>
            <a:ext cx="0" cy="11509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3780000" y="3933720"/>
            <a:ext cx="28728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3780000" y="3357720"/>
            <a:ext cx="28872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 flipH="1">
            <a:off x="1907640" y="5950080"/>
            <a:ext cx="201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 flipH="1">
            <a:off x="1834920" y="2349360"/>
            <a:ext cx="208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1908000" y="4221000"/>
            <a:ext cx="0" cy="172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1619280" y="422100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1258920" y="4005360"/>
            <a:ext cx="129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 flipV="1">
            <a:off x="1835280" y="2349360"/>
            <a:ext cx="0" cy="165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 flipH="1">
            <a:off x="4140000" y="2565360"/>
            <a:ext cx="2879640" cy="93492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 flipH="1">
            <a:off x="4211640" y="3573360"/>
            <a:ext cx="2736720" cy="14292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 flipH="1" flipV="1">
            <a:off x="4140360" y="3860280"/>
            <a:ext cx="2952720" cy="57636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3924360" y="3645000"/>
            <a:ext cx="163440" cy="426960"/>
          </a:xfrm>
          <a:custGeom>
            <a:avLst/>
            <a:gdLst/>
            <a:ahLst/>
            <a:rect l="l" t="t" r="r" b="b"/>
            <a:pathLst>
              <a:path w="103" h="269">
                <a:moveTo>
                  <a:pt x="51" y="0"/>
                </a:moveTo>
                <a:cubicBezTo>
                  <a:pt x="77" y="76"/>
                  <a:pt x="103" y="71"/>
                  <a:pt x="39" y="102"/>
                </a:cubicBezTo>
                <a:cubicBezTo>
                  <a:pt x="27" y="108"/>
                  <a:pt x="13" y="111"/>
                  <a:pt x="0" y="115"/>
                </a:cubicBezTo>
                <a:cubicBezTo>
                  <a:pt x="9" y="128"/>
                  <a:pt x="15" y="143"/>
                  <a:pt x="26" y="154"/>
                </a:cubicBezTo>
                <a:cubicBezTo>
                  <a:pt x="37" y="165"/>
                  <a:pt x="56" y="166"/>
                  <a:pt x="64" y="179"/>
                </a:cubicBezTo>
                <a:cubicBezTo>
                  <a:pt x="80" y="203"/>
                  <a:pt x="77" y="242"/>
                  <a:pt x="77" y="269"/>
                </a:cubicBezTo>
              </a:path>
            </a:pathLst>
          </a:custGeom>
          <a:noFill/>
          <a:ln w="9360">
            <a:solidFill>
              <a:srgbClr val="d806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2000" fill="hold"/>
                                        <p:tgtEl>
                                          <p:spTgt spid="16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Century"/>
              </a:rPr>
              <a:t>Друге відкриття фотоефекту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Century"/>
              </a:rPr>
              <a:t>1888 рік – німецький вчений Вільгельм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Century"/>
              </a:rPr>
              <a:t>Гальвакс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6" name=""/>
          <p:cNvSpPr/>
          <p:nvPr/>
        </p:nvSpPr>
        <p:spPr>
          <a:xfrm>
            <a:off x="2340000" y="2637000"/>
            <a:ext cx="3887640" cy="295272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 flipV="1">
            <a:off x="1258920" y="4221000"/>
            <a:ext cx="2160720" cy="8654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3564000" y="3357720"/>
            <a:ext cx="1439640" cy="1223640"/>
          </a:xfrm>
          <a:prstGeom prst="plus">
            <a:avLst>
              <a:gd name="adj" fmla="val 35796"/>
            </a:avLst>
          </a:prstGeom>
          <a:solidFill>
            <a:srgbClr val="d806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20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entury"/>
              </a:rPr>
              <a:t>Трет</a:t>
            </a:r>
            <a:r>
              <a:rPr b="1" lang="uk-UA" sz="4400" spc="-1" strike="noStrike">
                <a:solidFill>
                  <a:srgbClr val="ff3300"/>
                </a:solidFill>
                <a:latin typeface="Century"/>
              </a:rPr>
              <a:t>є</a:t>
            </a:r>
            <a:r>
              <a:rPr b="1" lang="ru-RU" sz="4400" spc="-1" strike="noStrike">
                <a:solidFill>
                  <a:srgbClr val="ff3300"/>
                </a:solidFill>
                <a:latin typeface="Century"/>
              </a:rPr>
              <a:t> відкриття фотоефект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   </a:t>
            </a:r>
            <a:r>
              <a:rPr b="1" lang="ru-RU" sz="2800" spc="-1" strike="noStrike">
                <a:solidFill>
                  <a:srgbClr val="ffff66"/>
                </a:solidFill>
                <a:latin typeface="Century"/>
              </a:rPr>
              <a:t>1888 рік – італієць Аугусто Рігі. Він ж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Century"/>
              </a:rPr>
              <a:t>придумав перший фотоелемент – прилад, щ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Century"/>
              </a:rPr>
              <a:t>перетворює енергію  світла 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Century"/>
              </a:rPr>
              <a:t>електричний стру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Century"/>
              </a:rPr>
              <a:t>Четверте і останнє відкриття…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  </a:t>
            </a:r>
            <a:r>
              <a:rPr b="1" lang="ru-RU" sz="2800" spc="-1" strike="noStrike">
                <a:solidFill>
                  <a:srgbClr val="ffff66"/>
                </a:solidFill>
                <a:latin typeface="Century"/>
              </a:rPr>
              <a:t>1888 рік – російський вчений Олександр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Century"/>
              </a:rPr>
              <a:t>Григорович Столєтов. Він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Century"/>
              </a:rPr>
              <a:t>підверг фотоефек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Century"/>
              </a:rPr>
              <a:t> </a:t>
            </a:r>
            <a:r>
              <a:rPr b="1" lang="ru-RU" sz="2800" spc="-1" strike="noStrike">
                <a:solidFill>
                  <a:srgbClr val="ffff66"/>
                </a:solidFill>
                <a:latin typeface="Century"/>
              </a:rPr>
              <a:t>експеримен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Century"/>
              </a:rPr>
              <a:t>тальному дослідженню і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Century"/>
              </a:rPr>
              <a:t>встановив закон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Century"/>
              </a:rPr>
              <a:t>фотоефект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3" name="" descr=""/>
          <p:cNvPicPr/>
          <p:nvPr/>
        </p:nvPicPr>
        <p:blipFill>
          <a:blip r:embed="rId1">
            <a:lum contrast="6000"/>
          </a:blip>
          <a:srcRect l="4828" t="3648" r="3564" b="0"/>
          <a:stretch/>
        </p:blipFill>
        <p:spPr>
          <a:xfrm>
            <a:off x="5614920" y="2133720"/>
            <a:ext cx="3529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14:24:17Z</dcterms:created>
  <dc:creator>Мы</dc:creator>
  <dc:description/>
  <dc:language>en-US</dc:language>
  <cp:lastModifiedBy>NickOn</cp:lastModifiedBy>
  <dcterms:modified xsi:type="dcterms:W3CDTF">2011-01-17T17:56:59Z</dcterms:modified>
  <cp:revision>61</cp:revision>
  <dc:subject/>
  <dc:title>Слайд 1</dc:title>
</cp:coreProperties>
</file>