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9A6-B4D0-44FF-8530-97040D38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66D-DCFD-459F-AAA1-D491D7E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4FD09-F9D1-4061-852F-C8DC565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389F0-014A-4F32-A720-B788BA94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77DB-0F79-403A-8035-8C59F3EE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96061-5857-49EF-9248-0D0E556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4BF4-9228-45D3-81C0-C143438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F8536-5D64-41FD-9741-E01A5EE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A0CB-E593-4CF9-9FD5-FE24307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560BA-CA55-4CD6-8994-835C064A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72505-9D31-487E-95C8-F14890DC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6BBF2-BB8E-46FA-8FC0-7F03E0D5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5D2-428E-4CE3-9F94-BC3D0198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CDC48-7458-43B8-B9E3-11FDFDD8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993AE-A85C-4546-98D9-DE95D299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EC3E-A23C-4E1C-94C8-4D534EA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30D06-F309-4ADC-87AC-BA2CC194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8D3DC-B933-4FFA-90AA-4ECFD58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9272D-87F2-46A9-9D7C-48B5BC1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A287-BFBB-45DE-8CED-FFC8EBF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42AFE-CBA9-49EC-B60A-AA87288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E7EEA-8DC1-4045-BA48-7967EBF7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8098C-1CFB-4461-96D6-46A5C7B9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D9C-8C79-4EF5-8727-725FCAD8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3231D-F29B-400B-A584-EFCDC6F8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08964-625E-4C8F-9897-086546A4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F176-AFCB-4188-B266-B64017A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BD62-53B5-4204-ACAF-0AFB4308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658F4-0B91-4299-AC02-848B2927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9F462-106B-48ED-B6E0-98813227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A2A6-1661-424E-B7A7-1F0B10AB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37A17-2FCF-4711-9F2D-B6DC902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445D-E2A4-4B11-B2B5-C60201A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F1FF-B8C6-4AF2-8D66-B6AEBA80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428-D813-43A1-9647-F919F98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79699-3B4D-4CB1-9F31-DE10E94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9A1DF-BEE8-47F4-BB20-F8EF82E6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DA8A3-4F20-42E3-B191-B7DBD233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C1EC5-B7AC-4249-A784-934509B7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4F6CC-36BD-401A-A1DF-5E0E0F85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FBF66-80DC-4993-9869-52CDE51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C8416-AEB7-4A79-9720-646A6F9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E1097-1AF9-4EB0-83D4-DC08EBDF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E7780-24D3-4CB2-BF10-F62C82C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836D5-81C8-447F-B402-672F92D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F7A-3AA8-432E-93B6-2A5D44D3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333B8-3DA7-491A-819A-FDE3742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B7B3-DA33-4FA5-BFE1-C550994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3A59C-3940-4376-902F-CD4D2852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7D72-6405-4A13-8798-9A2A0B6C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2DFA1-562D-4D8D-91AC-917C9908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7F019-4975-4A14-829C-BEB7215B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3D06D-0182-40B4-877C-D58CB98F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E03B1-4113-45DA-B575-6A6A999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D4B72-F151-4C78-A686-4EDD44A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6764F-9A2F-40A9-86B5-E01B153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EF5B-1E88-4BE4-BC32-A4712E8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6B47D-B375-4A31-9876-9221A8A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2217C-FFF6-43DA-8541-5A6DC4E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20042-4237-4B30-9C20-631BCA61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384CA-E651-4689-93C4-58151CC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1801B-D946-48E2-922E-D083280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3FC20-0C77-4D1E-9788-A5C06485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2CCEF-878C-47C0-BDDF-FDD0FAA9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9EB-5049-453C-928D-90AC9DF7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F6F-533A-422A-A6E9-96DF19C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0A2-BAB3-4A1D-8376-331EB747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8D60-AA85-4DD1-8731-F989F1A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5C1-DF54-47D5-A5D4-639B7E21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D3DF-C7D2-493C-878D-1F33884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354E-2773-4FAE-8A0C-13B7060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885E-9904-47AB-9BD1-D5E417B3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BE7-A189-450E-A7FC-CE2015FF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2E56-58B0-4940-91B0-BD0ACB46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4A53-426E-4226-8B14-8E70A193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00B7-0BEF-4932-A59F-551AF976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9DBA-8C40-462C-AB8C-D150502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ABC8-00ED-4E72-B6DF-488E0EF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D541-3F49-43A7-BEF6-DB26B9A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9BA-CBBD-46E6-9984-F2DCF6F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8544-679E-47FF-BD22-9629766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ACF3-CF6D-42BF-8395-68F67F7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0412-D557-4384-A675-269F0C7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9020-FF4E-4E95-A6EC-9A4C814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E3F0-BED7-482B-8689-28117BE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C6BE-A5AA-435C-B68D-23E09DF7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5BFC-5E4E-467C-B5CC-64912CBF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961F-12E7-4365-BEA7-56A8DEF6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8D5E-6E99-4F9E-A4AD-F3F9025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D76E-7552-4A97-8CC7-28180CA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39B-2CE9-4A60-99C6-E0B2F51D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6170-6111-4D97-8113-BC00B1BB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0C38-3DD8-4E7C-B49B-23547A8F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5308-1CBA-40FA-98D8-DEAFBCC9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3CDA-E1E6-4E47-97B7-A566770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4963-1F50-4A72-A588-7B2ECAF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956C-429F-4A94-B5E1-DF65162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13BB-D16A-4707-B467-91678DEB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8132-4DB1-4EE3-A8DE-49290464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3146-A139-47B4-9410-9C400CB3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4C6C-F278-4BC8-BFBB-578E4844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698-C972-4629-A618-4DE23F08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811E-53ED-4214-9572-A855D984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A25C-6713-41AD-BC29-8B3E150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B262F-E1DE-4849-AF86-AEE20EEA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AF22-FDA9-4374-A175-53B54798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22F0-2C5A-47E3-A3BA-6164631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08E70-4092-45DE-A4B3-A112D19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E80A-031E-407A-AF32-5BFF9AA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0D33-ADA8-4A1F-9322-9B2BCCE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AD52-8AC1-4C46-825C-CB02EEE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F086-2CD5-4F51-9B91-CC311353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811-941D-4420-A7D9-EDC7E50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A8FC-9586-4E0A-99D6-04EB3F8B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1ED00-ACB7-4459-AFF6-A143B824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1131-7AF3-4831-8364-E7AFDCDA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DDC6-D207-42AB-96AC-41697EE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3F2B-CA32-4FA7-9FF9-BBD57EC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5AE9-BCE0-42FA-847C-52E3EB3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0394-4538-46F7-AEF3-6633B3D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63B5F-3584-4147-8A49-D3B5FE7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EB27-0078-4627-8144-76CC9962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A6F3-E0DF-458E-A883-DC8E3FB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E53-F068-4E19-8878-ABCFD45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F282-A29E-4B2B-8CC6-8A431375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5AAF-93D5-4175-B236-3A8FA862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5B16-77A5-4CC8-8F6C-5D74273D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70957-9EDB-4902-A198-DBA78EC5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8D25-196E-4669-876E-4F7D5575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B85E3-9D47-446F-AB32-B29FE92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9FA1-4083-48F1-95AA-7869CA4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8621-6E6D-4B77-98BF-4CE5F10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D966-3115-484D-8825-507D38CF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6765C-90C6-4261-BE5F-BFEA3D8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D1D-1F75-4C24-92BF-84B6688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B380-DD91-4912-B031-E2985E7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AA26-4E73-4AA4-A317-2280D1B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96D1-3AF0-4492-9209-A02EE4EE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15461-8E94-4A01-B4C6-EFF31ABE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4D28-30BD-481C-9412-5990F118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9BF34-F629-44FD-916E-9E268B1E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27F9-4D76-4878-8DAE-6CBA1C1B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AE22-6471-4AE5-81F4-DACC9B4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51A1-147A-4785-93B2-4F4633CA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A5F5-3BB9-4121-8DAC-3692222F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B21-ED6A-4787-A36A-FF6E5B5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CCDA4-653D-4287-8472-19D13A76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B8480-A0C5-42C0-A8F9-0FE6A50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B00D-45F9-4AC9-AA1D-869AEFB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0EE30-317E-47E0-96A4-B709111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525B-317C-42F3-A084-63DA065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33A6-A065-4CF1-BB80-ACB12378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7BAC-6D63-47C7-9D99-9ED3F6C8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68B42-1BD1-4174-9B10-DAC19922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3194B-5DE2-4AC1-8390-E094637D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64C2C-91E1-4701-A42C-4B6750E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2772-8C05-4B51-B2A1-A21DB65D8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524-1C5C-4C98-BC7F-6CFF44C136F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BE4-31C0-4320-A6E2-13BF487648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5175-20BD-4E46-B8DD-949177E3711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0652-663C-4127-B580-34E1DD89D4A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405-5298-4F7E-85FF-346BBAF1C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77C5-B217-4C66-988A-DB121FC30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97B-276C-43A8-84FA-EE53BC096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BCB0-7310-49AE-A731-DEBC119F941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1F1-B180-4B07-87E7-EAEBD06EAAA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299-711E-44F4-8BBA-602335118B7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E81E-4A46-4838-A1FE-DAC31D17F5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C326-742B-4ACE-B135-D624C32C7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WordArt 6"/>
          <p:cNvSpPr txBox="1"/>
          <p:nvPr/>
        </p:nvSpPr>
        <p:spPr>
          <a:xfrm>
            <a:off x="1116000" y="333360"/>
            <a:ext cx="6491160" cy="77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отоеф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395280" y="1484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це група явищ, пов'язаних із «звільненням" електронів твердого тіла від зв'язків усередині атома під дією електромагнітного випромінюван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oup 12"/>
          <p:cNvGrpSpPr/>
          <p:nvPr/>
        </p:nvGrpSpPr>
        <p:grpSpPr>
          <a:xfrm>
            <a:off x="5796000" y="1125360"/>
            <a:ext cx="2808360" cy="2448000"/>
            <a:chOff x="5796000" y="1125360"/>
            <a:chExt cx="2808360" cy="2448000"/>
          </a:xfrm>
        </p:grpSpPr>
        <p:pic>
          <p:nvPicPr>
            <p:cNvPr id="784" name="Picture 8" descr="фотоєф"/>
            <p:cNvPicPr/>
            <p:nvPr/>
          </p:nvPicPr>
          <p:blipFill>
            <a:blip r:embed="rId1"/>
            <a:stretch/>
          </p:blipFill>
          <p:spPr>
            <a:xfrm>
              <a:off x="5796000" y="1125360"/>
              <a:ext cx="2808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11"/>
            <p:cNvSpPr/>
            <p:nvPr/>
          </p:nvSpPr>
          <p:spPr>
            <a:xfrm>
              <a:off x="5796000" y="2492280"/>
              <a:ext cx="1655640" cy="10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6b448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лектрични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фе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Text Box 13"/>
          <p:cNvSpPr/>
          <p:nvPr/>
        </p:nvSpPr>
        <p:spPr>
          <a:xfrm>
            <a:off x="324000" y="3789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ектрони, що вилітають із речовини при зовнішньому фотоефекті, називаю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лектрон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, а електричний струм, який утворюється ними при упорядкованому русі у зовнішньому електричному полі, називає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струм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Вентильні фото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Фотоелементи з вентильним фотоефектом подібно до елементів із  зовнішнім  фотоефектом мають строгу пропорційність фотостуму інтенсивності випромінювання. Їх перевагою є порівняно більша інтегральна чутливість і не потребують зовнішнього джерела стру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Кремнієві та інші вентильні фотоелементи застосовують  для створення сонячних батарей,   які безпосередньо перетворюють світлову енергію в електрич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014"/>
          <p:cNvPicPr/>
          <p:nvPr/>
        </p:nvPicPr>
        <p:blipFill>
          <a:blip r:embed="rId1"/>
          <a:srcRect l="0" t="0" r="0" b="2883"/>
          <a:stretch/>
        </p:blipFill>
        <p:spPr>
          <a:xfrm>
            <a:off x="4572000" y="1916280"/>
            <a:ext cx="4356000" cy="364464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"/>
          <p:cNvSpPr/>
          <p:nvPr/>
        </p:nvSpPr>
        <p:spPr>
          <a:xfrm>
            <a:off x="395280" y="333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Сонячні батаре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1125360"/>
            <a:ext cx="40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і батареї вже протягом багатьох років працюють на космічних супутниках 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аблях. Їх ККД складає приблизно  10%  та, як показують теоретичні розрахунки його можна збільшити до  22%, що відкриває великі перспективи  їх використання у якості джерел  для  побутових та виробничих потр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Century"/>
              </a:rPr>
              <a:t>Сонцемобіль, сонячна станці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Picture 4" descr="Солнцемобиль"/>
          <p:cNvPicPr/>
          <p:nvPr/>
        </p:nvPicPr>
        <p:blipFill>
          <a:blip r:embed="rId1"/>
          <a:srcRect l="3993" t="5175" r="0" b="0"/>
          <a:stretch/>
        </p:blipFill>
        <p:spPr>
          <a:xfrm>
            <a:off x="0" y="1557360"/>
            <a:ext cx="4859280" cy="508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Станция"/>
          <p:cNvPicPr/>
          <p:nvPr/>
        </p:nvPicPr>
        <p:blipFill>
          <a:blip r:embed="rId2"/>
          <a:stretch/>
        </p:blipFill>
        <p:spPr>
          <a:xfrm>
            <a:off x="5148360" y="1557360"/>
            <a:ext cx="3995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836640"/>
            <a:ext cx="81360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зовн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фотоелектронна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місія) - випромінювання електронів з поверхні твердого тела під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єю світла, гамма - випромінювання і т. і. (відкритий Г. Герцем у 1887, пояснений Ейнштейн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нутр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ерерозподіл електронів за енергетичними станами в твердих та рідких напівпровідниках та діелектриках, який спричиняється світлом. Він проявляється у зміні концентрації носіїв струму у середовищі і призводить до виникнення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фотопровідності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ентильни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- збудження світлом ЕРС на межі поділу метал - напівпровідник або між різнорідними напівпровідниками. При вентильному фотоефекті фотоелектрони виходять через поверхню поділу з одного тіла в ін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Види фотое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5-2-1"/>
          <p:cNvPicPr/>
          <p:nvPr/>
        </p:nvPicPr>
        <p:blipFill>
          <a:blip r:embed="rId1"/>
          <a:stretch/>
        </p:blipFill>
        <p:spPr>
          <a:xfrm>
            <a:off x="250920" y="404640"/>
            <a:ext cx="3422520" cy="496908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10"/>
          <p:cNvGrpSpPr/>
          <p:nvPr/>
        </p:nvGrpSpPr>
        <p:grpSpPr>
          <a:xfrm>
            <a:off x="4643280" y="404640"/>
            <a:ext cx="4104000" cy="5860800"/>
            <a:chOff x="4643280" y="404640"/>
            <a:chExt cx="4104000" cy="5860800"/>
          </a:xfrm>
        </p:grpSpPr>
        <p:pic>
          <p:nvPicPr>
            <p:cNvPr id="791" name="Picture 5" descr="5-2-2"/>
            <p:cNvPicPr/>
            <p:nvPr/>
          </p:nvPicPr>
          <p:blipFill>
            <a:blip r:embed="rId2"/>
            <a:stretch/>
          </p:blipFill>
          <p:spPr>
            <a:xfrm>
              <a:off x="4788000" y="404640"/>
              <a:ext cx="3959280" cy="31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6"/>
            <p:cNvSpPr/>
            <p:nvPr/>
          </p:nvSpPr>
          <p:spPr>
            <a:xfrm>
              <a:off x="4643280" y="3573360"/>
              <a:ext cx="396108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алежність сили фотоструму від прикладеної напруги. Крива 2 відповідає більшій інтенсивності світлового потоку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та               – струми насичення, </a:t>
              </a:r>
              <a:r>
                <a:rPr b="0" i="1" lang="uk-UA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 – за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ний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потенціа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3" name="Object 7"/>
            <p:cNvGraphicFramePr/>
            <p:nvPr/>
          </p:nvGraphicFramePr>
          <p:xfrm>
            <a:off x="4859280" y="5084640"/>
            <a:ext cx="47952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5084640"/>
                      <a:ext cx="4795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8"/>
            <p:cNvGraphicFramePr/>
            <p:nvPr/>
          </p:nvGraphicFramePr>
          <p:xfrm>
            <a:off x="5940360" y="5157720"/>
            <a:ext cx="476280" cy="50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0360" y="5157720"/>
                      <a:ext cx="47628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Text Box 9"/>
          <p:cNvSpPr/>
          <p:nvPr/>
        </p:nvSpPr>
        <p:spPr>
          <a:xfrm>
            <a:off x="179280" y="5445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хема експериментальної установки для вивчення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4"/>
          <p:cNvSpPr/>
          <p:nvPr/>
        </p:nvSpPr>
        <p:spPr>
          <a:xfrm>
            <a:off x="324000" y="476280"/>
            <a:ext cx="842472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Bookman Old Style"/>
              </a:rPr>
              <a:t>Закони Столєтова для фотоефек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ількість  електронів (фотоелектронів), що вибиваються світлом за одну секунду з поверхні металу(тобто струм насичення), прямо пропорційна інтенсивності світл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аксимальна кінетична енергія фотоелектронів лінійно збільшується із збільшенням частоти світла і не залежить від його інтенсивн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ля кожної речовини існує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червона границя фотоефекту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тобто мінімальна частота (максимальна довжина хвилі), при якій фотоефект ще можливий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Фотоефект є практично неінерційним, фотострум виникає миттєво після початку освітлення катоду, за умови, що частота світ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8"/>
          <p:cNvGrpSpPr/>
          <p:nvPr/>
        </p:nvGrpSpPr>
        <p:grpSpPr>
          <a:xfrm>
            <a:off x="3708360" y="3860640"/>
            <a:ext cx="4751280" cy="2293920"/>
            <a:chOff x="3708360" y="3860640"/>
            <a:chExt cx="4751280" cy="2293920"/>
          </a:xfrm>
        </p:grpSpPr>
        <p:graphicFrame>
          <p:nvGraphicFramePr>
            <p:cNvPr id="800" name="Object 6"/>
            <p:cNvGraphicFramePr/>
            <p:nvPr/>
          </p:nvGraphicFramePr>
          <p:xfrm>
            <a:off x="3708360" y="5589720"/>
            <a:ext cx="1224000" cy="56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360" y="5589720"/>
                      <a:ext cx="1224000" cy="56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2" name="Object 7"/>
            <p:cNvGraphicFramePr/>
            <p:nvPr/>
          </p:nvGraphicFramePr>
          <p:xfrm>
            <a:off x="7812000" y="3860640"/>
            <a:ext cx="64764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12000" y="3860640"/>
                      <a:ext cx="64764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столетов"/>
          <p:cNvPicPr/>
          <p:nvPr/>
        </p:nvPicPr>
        <p:blipFill>
          <a:blip r:embed="rId1"/>
          <a:stretch/>
        </p:blipFill>
        <p:spPr>
          <a:xfrm>
            <a:off x="539640" y="404640"/>
            <a:ext cx="2978280" cy="4104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539640" y="486900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толєтов Олександр Григ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839 - 189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64000" y="466560"/>
            <a:ext cx="5256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сійський вчений, професор фізики у Московському університеті. Закінчив Московський Університет, стажувався в лабораторії Кірхг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крім двох дисертацій, найбільш важливими є наступні  роботи  Столєтова "О Кольраушевом измерении ртутной единицы сопротивления"; "Sur une methode pour determineh le rapport des unites electromagnetiques et electrostatiques" (le "v" de Maxwell); "Об электричестве сопротивления"; "О критическом состоянии тел" (4 ст.); "Актиноэлектрические исследования"; "Эфир и электричество" (речь); "Очерк развития наших сведений о газах"; "Введение в акустику и оптику" (курс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5"/>
          <p:cNvSpPr/>
          <p:nvPr/>
        </p:nvSpPr>
        <p:spPr>
          <a:xfrm>
            <a:off x="539640" y="5382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Червона границя фотоефект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изначається частотою, при якій електрон може залишити метал, але його кінетична енергія буде дорівнювати нулю, тоб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Object 6"/>
          <p:cNvGraphicFramePr/>
          <p:nvPr/>
        </p:nvGraphicFramePr>
        <p:xfrm>
          <a:off x="1042920" y="3573360"/>
          <a:ext cx="66978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73360"/>
                    <a:ext cx="66978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 Box 8"/>
          <p:cNvSpPr/>
          <p:nvPr/>
        </p:nvSpPr>
        <p:spPr>
          <a:xfrm>
            <a:off x="843120" y="2698920"/>
            <a:ext cx="783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468360" y="2781360"/>
            <a:ext cx="835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68360" y="5445000"/>
            <a:ext cx="29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395280" y="47628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они фотоефекту не узгоджуються з електромагнітною теорією світ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 випадку електромагнітної хвилі електрон мав би накопичувати енергію поступово (хвилини або годи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В рамках електромагнітної теорії неможливо пояснити існування червоної границі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Хвильова теорія неспроможна пояснити незалежність енергії фотоелектронів від інтенсивності світлового потоку та її пропорційність частоті світ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яснення законів фотоефекту було дан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Ейнштейн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1905) на основі припущення, що світло випромінюється, поширюється та поглинається у вигляді неподільних порцій енергії – квантів світ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івняння Ейнштейна для фотоефект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 закон збереження енергії в застосуванні до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Object 7"/>
          <p:cNvGraphicFramePr/>
          <p:nvPr/>
        </p:nvGraphicFramePr>
        <p:xfrm>
          <a:off x="3276720" y="4797360"/>
          <a:ext cx="266364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797360"/>
                    <a:ext cx="2663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Вакуумний   фотоелемен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7"/>
          <p:cNvSpPr/>
          <p:nvPr/>
        </p:nvSpPr>
        <p:spPr>
          <a:xfrm>
            <a:off x="611280" y="184464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йпростішим фотоелемен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з зовнішнім фотоефектом є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акуумний фотоелемен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н  являє собою відкачаний скляний балон, внутрішня поверхня якого (за винятком віконця для доступ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промінювання) вкрита фоточутливим шаром. Ця поверхня є фотокатодом. У центрі балона міститься кільце або сітка - ан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8" descr="Фотоэлемент"/>
          <p:cNvPicPr/>
          <p:nvPr/>
        </p:nvPicPr>
        <p:blipFill>
          <a:blip r:embed="rId1"/>
          <a:srcRect l="13623" t="0" r="13799" b="0"/>
          <a:stretch/>
        </p:blipFill>
        <p:spPr>
          <a:xfrm>
            <a:off x="5118120" y="1773360"/>
            <a:ext cx="3738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Фоторезистор</a:t>
            </a:r>
            <a:r>
              <a:rPr b="0" lang="uk-UA" sz="4400" spc="-1" strike="noStrike">
                <a:solidFill>
                  <a:srgbClr val="cc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Основою принципу дії напівпровідникових фотоелементів або фотоопорів </a:t>
            </a:r>
            <a:r>
              <a:rPr b="1" lang="uk-UA" sz="3200" spc="-1" strike="noStrike">
                <a:solidFill>
                  <a:srgbClr val="ff3300"/>
                </a:solidFill>
                <a:latin typeface="Century"/>
              </a:rPr>
              <a:t>(фоторезисторів</a:t>
            </a:r>
            <a:r>
              <a:rPr b="1" lang="uk-UA" sz="32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 є внутрішній фотоефект. Фоторезистори мають набагато більшу інтегральну чутливість, ніж вакуумні. Недоліком фотоопорів є їх помітна інерційність. З цієї причини вони  для реєстрації непридатні швидкоплинних світлових поток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45:28Z</dcterms:created>
  <dc:creator>User</dc:creator>
  <dc:description/>
  <dc:language>en-US</dc:language>
  <cp:lastModifiedBy>NickOn</cp:lastModifiedBy>
  <dcterms:modified xsi:type="dcterms:W3CDTF">2011-01-08T16:29:07Z</dcterms:modified>
  <cp:revision>15</cp:revision>
  <dc:subject/>
  <dc:title>Слайд 1</dc:title>
</cp:coreProperties>
</file>