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231-0817-4D38-8543-CAB7A072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902-2634-4CF5-AF0F-49B1C3EB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A99E2-00A6-4E0C-BCBC-6FF04D69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2433E-DEB8-4B4A-B78C-03298486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FA85B-5ED8-4303-A612-2D1D2C62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88231-BA59-4F0D-8041-CDA477D1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93DB4-6DE5-47C0-8B28-0E563FC7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5CD04-9372-4B7F-93BD-96A166D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01DEA-EEA9-448A-B62A-59E50AD9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A45F1-4086-4934-A307-C3A1DC31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51F4B-2CD7-46A7-9E76-32B6B2FB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217F0-71E6-487B-BFD8-62917F6F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50C-8816-4B80-86E0-F7BDBC86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B0031-70FD-4E65-8FB8-533784AA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2684C-12DF-408E-B1FB-E0899E7A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A2756-0737-4C07-936E-727E3E8A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A2F36-C32C-4B21-B3FF-5490A2DB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55E9A-8E10-4E44-8578-CA963BEC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F2815-7033-4104-A399-C91DA35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98C7B-35A3-4232-A5E7-A5473C2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D0B62-F83B-4CC2-9E43-DF61FA1C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5710A-2993-4208-A5AB-A4992700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432DF-3942-4DC1-BB65-A1AB4926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CB9-CEC7-413F-A90C-C8FDBF63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357A5-7016-43AC-B2B0-1CEE9699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63302-0855-467A-8DF0-F81C5B56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66E50-9D9B-4EDC-8651-93685F1A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C1C3C-DACE-4891-8107-E913AE4F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C74DC-3C6A-44EC-BC71-006CB367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88F8B-79DB-44CC-8CC1-79CC2177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FCF46-3B31-42FB-B8D5-77F2B6EC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725A5-37EC-4D24-A2D0-0EF034A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03691-1CBA-44C6-93EE-3DA07FBB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3932B-FE89-41BE-BDCC-A6E9E1B9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9192-B38C-40B6-8369-2DF31891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5C666-E3F7-4C53-AD83-5E53E595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FB600-C698-40EC-AFA7-84A39B04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C1A35-B894-4E7A-82BC-B3D6D9C3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B3770-8E2C-4BD7-80BA-10B23215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E2E98-52AD-4AB5-996E-04A6C86C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A615C-D959-446D-B666-7F41871B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E793D-1D10-46B2-BE18-85833892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9848E-5D7A-4DA9-9027-BA15E064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D60CE-C945-4E42-AEC6-E6070055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0A207-A6BB-48A8-8CF9-9C9A14FF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522-7D4D-4508-9938-A4C1FE67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2676F-6182-413D-B4D9-99C22C28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1D5A2-F835-49B9-8C6A-6C18C324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57DFF-65C3-4C26-BC7F-8D8AD8D5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D0F7D-7E37-4B62-8852-539C8A6F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48AAB-F471-464E-B58A-DA38073F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A7C08-A0CC-4FF8-8A2E-317F9603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66B75-1AC8-42E3-B5E4-8F72CC4A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2C9D8-FDD6-4A06-A0E2-0E8BC812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62983-4EDB-400D-A89C-AC141706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41826-3DEC-40A8-8038-87D5DB85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F156-1E8C-456D-BE32-08961E68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4FDEB-A409-44AB-BB5E-3F6E719C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8D5AD-36B1-45E6-A07C-C54281E5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E53CA-3EB5-4649-8E13-5DA68B55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39D19-A980-457A-A3F7-14899369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0565B-1FC2-4093-B846-DCB5AA9D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B8986-C92C-41C4-BA83-67B20C33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F3B29-F238-406A-BEE5-F7A46331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44F152-C625-445C-9998-6D88C931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2D6C6D-2176-4AF3-81E7-2817D47E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79064D-AE11-4458-B897-EE16C8E0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4ABC-2CAA-4D23-AB06-28350F7C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F82E87-3BFE-49CE-BDDF-B98B2523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E35808-C27F-4818-9934-E8A3F496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82445A-E43B-465B-BC40-7AB93A2C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BAD311-654D-4479-BC58-48C9CFEB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06CEFE-EF06-4488-9FB3-9690F3BF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58EA25-35AC-49F7-BA9D-2638041D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CFF37D-DD73-4238-914A-E9F45423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80C0D1-D186-4570-933D-6A0180E6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29542D-B0DA-497D-9151-CF9E5D33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79FC4-08E9-4542-8CC4-B9831256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70EC-ED33-44C7-985B-E4536DD0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CE916-86F9-423E-BCB2-A8112D0E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7F9F1-4664-4781-83E5-F8620D58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23F38-DB24-4EE9-B1DA-F2A6E624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39A06-EF61-488E-8F13-DE8C71EE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29A23D-D804-4EC2-BA37-9F93192F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350E4-A346-4055-9D19-1D9FF018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9119A-3958-41DD-B900-99AFCDCE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1D353-6422-4112-AEAD-BFCA3A63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1E603-8078-4A6B-871B-236A64A1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AC8FA-A650-4E98-BFFF-4C1F219C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247D-B4D0-4C9D-B208-B63AF1FB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F26C9-801D-4E6D-BE21-3C5BB39F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3F2DDC-89D1-471F-898F-C1A26F54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4D757-7C91-424B-82F8-5BE9FE19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B3EA7-F402-42C9-A199-9ABBB86F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92970-FA37-4B4D-A6A5-A0493819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37DB2-05F2-498B-B2FD-0B607010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79148-CC3E-4DB7-AE8A-290B2062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585FC-B44B-469D-9C2C-22E78699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59F13F-4681-4B39-A539-78A9D975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D444D-965D-4DA1-993A-DE3D8E20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1D0A-32FF-4B65-9EA0-338C65B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E329C-F40D-48EF-917D-F37CC812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DBAF1-6897-409C-8A1F-836EDE03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FF4986-97C6-4CF3-8C07-74298292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FB837-2CA7-470D-AF66-8534BCF9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200875-03A3-4A79-A3B0-1A3D1E1E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D04D5-7D45-4151-8392-22BBA7D2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E3652-505A-4970-8CEC-A51BF99F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63EA8-A2C8-459F-93C7-D40B927C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065861-6B44-407A-9126-4E255075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B1424-CBD7-4393-BC3D-3E0E377D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3A1-1B8A-4EC3-8EF6-F86CD121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C464-113C-4181-B392-1DB731A6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ABE72-F88A-42B1-8060-72B1FE66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264777-D90D-4926-8D5E-5EF27D0F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92F71-8AD7-4142-A7EC-7C47687D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35EA46-9A0E-4C9B-BCD2-D53C6F6A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CA6C5-CEBD-4278-94AC-95F072B4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3EE393-1FF0-4A22-A72F-E136578C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86D65-5709-43B6-9F81-4669B201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945A8C-DAE5-4F25-86B7-CEDFB3D8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4D76F7-926D-4EAB-A983-740C0DAF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BF842-E9D5-499D-A6F3-B33582DE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9206-1983-4181-BE24-08831DBD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AE0201-709B-43D0-AB97-1AA25A15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E77F5-9566-45DE-A809-68F7BAE3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8CD3B-AA11-427C-833C-EEF9650C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138B87-CABF-4B1C-8517-1E542D7D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D2EC5-7A4A-41F1-A146-82F18E9B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9063A-5003-4012-AF78-DE3ECA70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74C5F7-4087-45D2-B9B9-C26F8A97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C3D94-F191-4223-AA1B-1E831D9C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8C6A2-93E3-44BD-9460-663560EF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2D6B8-ED14-4B80-8A9F-153186AC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98F7-9095-445B-B140-EF2FD079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ED2CD-5220-439F-8DEB-07D802E9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22F3C-EFC6-41A2-829A-D894C325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6ED6E0-BE7A-4F88-95D3-4B40EDA4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7EDCD-28BE-423B-BD1E-F14A73C2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593BB-E29A-4FD9-8A9E-2B20BFFD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F909CD-7E9E-49A3-9128-3E6B78B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F680C-1435-4DB9-A7A8-B6849670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0B81E-A94D-4CC9-BA40-E44B3D64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F6BCC-A797-472D-91A5-CB39B65F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28ECE3-0E78-4FDD-AF9A-A8CAB4F3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1619-0DB7-4C49-83E4-A2C80553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F2BDF-CD1A-45E2-AC46-E65167AA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F8FFA5-34BF-4F04-BA4E-482A0523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5BEAFC-F009-4BE7-B110-F692C0C2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8570E-B0BD-4361-B605-95C5B27C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49F763-B1C8-4161-8A55-EBDB33A2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4CF2BF-6266-403F-8280-16C31D84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6CCA8-C834-4EAE-BBA9-41F773FB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589FF-E45D-4DB2-9E86-4A862267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2DC02D-AB8D-43CE-8710-D83918C4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DE69E8-710E-46A4-86EE-08B36F50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8780-D8C2-4091-A418-E24E3831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47841B-7607-408E-9515-6673A20A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F670C6-342A-4DE5-8169-5112D9AA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F6A22-8655-4492-B4D7-0D61772A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88663D-910E-4726-A666-AF5CB2C9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EC6B7E-90AA-4D02-A869-A0DA27F7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E580A-840E-4BD9-BBCE-CDF1BD4C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08C155-C6D1-4F56-B512-C41691F7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C6EB6-A139-439B-9248-631E994D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B9E619-D38F-48EE-BEC4-71A25197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F2D3F0-AC91-42DA-8981-8AA7B3EC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8BB6-634C-4876-9D35-01A7FD68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099F62-C295-430B-BB2C-4BB8C605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ADDA46-D9C9-4016-A18A-43D4AAD2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9D2C8-37F6-46EA-9C0D-9A76599B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7B3287-B868-4404-B699-D4156C2B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10B624-220F-4771-90B5-2F62469A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60E155-973F-47F0-BCF7-E77A1E23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D43478-4E58-494C-A3DD-4F4ECE49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1CEB9E-2F2B-4839-9FAB-9AB1DEC2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112084-C513-4BED-A363-81B83E61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DEDE43-AA24-4B9E-A3C5-98306F70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4EFB-EF12-433D-90DB-9246A1D6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62E98B-38FD-492E-BFD5-AC6B54F9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55D0D8-5BEF-4C61-802C-410A976F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A1C48E-36D0-4FF0-922D-3BFAC4A8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7FAAA3-CEEC-43D3-8729-5B97E313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9044A0-4C9A-41ED-A5F0-88C2882A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A39D30-129E-4F46-A744-9841F01A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24062F-EDDC-4026-BB52-E83081C3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AA0D4E-23BC-4C54-9042-41FDFF7F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FC9FCF-D02E-4045-8889-222FCEF7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D383EE-BBE5-4039-BC22-9F5D5D57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B0C5F-C3C0-4817-AAEF-281DAFD4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ABB6C5-707E-42B8-A202-287060FA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D121F7-B552-4F03-A739-9DCB461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84308D-C60C-4066-B10B-62783EF1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95F891-1E2C-4341-884E-070A176D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D67343-BDB3-41C8-94D1-2B1A56B8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659529-4EF9-4C85-AB90-4FB7CAFD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7848C-7A22-4368-A670-0FB8B51E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E6FE-54EB-4BC7-8A9E-8A6B92C2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E10A-F5EF-45B4-AA57-35F54507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506-F739-4527-9AF0-AE69E79B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C36D-C2B5-410B-9C7E-D0F989A5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FAD7-998D-4FF2-B9B9-2A2B4876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D85B-DF61-4A1A-B38A-29E4FF2B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8A41-A1F4-4C7E-9579-D4C14DD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F37B2-2903-42BF-A51C-9146484C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4C87-4A03-4B61-93EB-411B0466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2931-FA46-404A-967B-24918406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9A933-BF5D-496B-B242-0F88AA0E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8D5E8-2C86-4309-BBB5-FC778BE2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A757-71C3-49B0-B5F6-2FF4E42F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3A9-E341-4CAB-BF1D-46E841A5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41011-3273-4E54-82D3-E88B9DDB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4E100-EFCA-42EF-BC3D-AD7B1C23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BC60-DA7E-4F76-A3B7-6E43CAA8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AB99-069F-4257-AD6E-B8BD0863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E764-24DA-4FE9-95E2-EE081548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F9CB-E9BC-4E67-97CE-0AAD3A05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FC4A6-5868-4406-94AD-3DCFB7A7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430E5-08E8-411C-9A3D-D2C3BF0C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EC718-177D-4C73-A990-838D2200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72F8F-22F7-425F-9EC8-A234FFFC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2E7-C578-41E1-BDA7-E8502905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9DB49-0910-4B8A-9A74-B09B725A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205B7-B58E-41D6-A916-2F5708ED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68E34-6C78-44CC-8048-C2F69C02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0B2A8-37CA-4757-BCA4-43BEE80E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B0EAB-1541-4827-B197-3B224529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97802-4AB4-49D9-A13B-116F9183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795AE-9400-408E-BF5F-FE21F95B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9600E-E4B8-4AC7-B1BC-DC9ADDB2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42EC6-F3A7-456A-B47D-04E378E8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A039-1823-459C-AB09-078E2541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E29-2307-4FE4-9C03-7B0BF25A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9BD3-FE35-49B8-AF9D-55BD4093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A3E46-9AF3-411C-80A2-A9474F3E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80301-4D91-413B-B4BF-E8EBE40D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87DEE-82FE-457B-B917-B402D2FD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04180E-F202-4453-B76D-429D95E9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CEE9E-A2F9-4242-B7B9-02C297DA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0237F-5FD0-485B-BE0C-9D4E9EA9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79D7F-7024-4A75-8465-C00CD84D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17478-5ED1-4025-951A-8672B242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E6C06-228C-42D9-92D7-927E7FC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72C-2078-4D31-A250-D33843C3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C5490-6F36-41D6-9352-B7A2E8D1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72C64-65A1-412C-A8D2-AE25D847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B47D1-F0D3-4532-874D-D823CD1F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2662C-EF3F-44DB-8C5D-4C724908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D72D8-77B6-4741-9E65-C5BFBF68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3A6EF-5D26-4641-82EF-43817EAD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91C90-4491-44E2-84D9-F3B9D1DA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8FA58-51A9-4261-B7CE-337A97A3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52D41-278D-42E6-B1A5-82FB569E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B75A3-035D-4FFF-87AF-627C3C4F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E3D-7F71-4824-AF6E-8B50624C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702D-B86F-443C-A1AE-26C1810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E9B8A-A45F-4F4E-B952-73E50B2A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0BD8A-1BB7-4AC8-A688-38A58080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3CF65-6A27-4053-BBF9-DE618005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D7D1F-98F3-4875-8FD2-51B97590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167D3-A9AF-45A2-B62F-BEDCD162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0380E-5359-4345-998C-6175811D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C5679-5F11-4E19-8F74-5FA9E076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341BB-F85C-486D-8546-589F9062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BA045-5F20-4AF2-AE0E-70557686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9E4-AB07-4E1D-9E00-E5E89687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F5A3E-E899-4BB4-98A4-4DD5ED69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886A6-BB15-4B3E-8673-9230F59D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FDED6-18EA-4FAF-BC30-7FD48DFC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F47A3-224B-4FFD-BF2A-EB306EF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E9665-05D9-4475-8B62-8C1AA562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08559-375A-4933-80FF-3D9A7EBB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9CDE3-929E-433F-A9FE-160C463D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B72AD-E6A5-46B7-B846-57424F0B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52822-1822-4457-B4DE-BE635BEC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7A769-A6F9-4974-9687-39326100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5533-1720-48D3-A87A-2E5508462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9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0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1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3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9AF-5407-4E8B-AFFD-BDD631ADC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0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0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1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3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5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BB83-628D-49DF-ACB8-73E0E8FB2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7F4C-8234-41ED-8CCB-C6DF94A59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6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4CF4-B349-4A01-B80A-A8AAA5633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420F-BB80-4E87-A18C-13734C9D98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83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8122-6DCA-4EFC-AC1A-48D99306AA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88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9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0061-A26B-44F5-BC92-9261D6442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84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ftr" idx="5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EADE-09C9-46DC-9CF4-AA1D0AD40A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2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dt" idx="5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ftr" idx="5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D38C-54EF-41D9-997D-9CF3AA9C7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7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dt" idx="5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ftr" idx="5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sldNum" idx="5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FF9D-6778-4BF4-8718-CFCB8A28C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DE02-1B7F-4C76-A3BF-0E9D029FF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EF4D-71BF-4B77-A4E9-B1F908D496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3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4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6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6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6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6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FC21-4B05-41DC-9093-16B83DE059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1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2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2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3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7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8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8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9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9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1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1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2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2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3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3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3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4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4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6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37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37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38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8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1441-7F92-4705-A7F7-CF1C65FF340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45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5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45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5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5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6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6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6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6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7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7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8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8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8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8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9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9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50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50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51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51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51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51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3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3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3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3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4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4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4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5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5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5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56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57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A79F-4C6D-438F-8039-A67F0FEB554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A88C-6731-4A8D-865D-B03F6B41C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2E67-AC10-40BA-AEDD-32B594B4BC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8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D033-44BE-49AC-BF4A-B2EAC78ABF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B342-F724-4443-AF8C-1B8895A7F1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FDE0-E69E-46CF-BD5F-27489BE145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2C79-4F63-478A-A5E7-57FAE2D202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48E4-6B46-4BB7-85D8-13A687C799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0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0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0"/>
            <a:ext cx="9144000" cy="60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ccffff"/>
                  </a:solidFill>
                  <a:prstDash val="lgDashDot"/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тоефект</a:t>
            </a:r>
            <a:endParaRPr b="1" lang="en-US" sz="6000" spc="1" strike="noStrike">
              <a:ln w="12600">
                <a:solidFill>
                  <a:srgbClr val="ccffff"/>
                </a:solidFill>
                <a:prstDash val="lgDashDot"/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"/>
              </a:rPr>
              <a:t>Схема установки Столєтова</a:t>
            </a:r>
            <a:br>
              <a:rPr sz="3600"/>
            </a:br>
            <a:r>
              <a:rPr b="1" lang="ru-RU" sz="3600" spc="-1" strike="noStrike">
                <a:solidFill>
                  <a:srgbClr val="008000"/>
                </a:solidFill>
                <a:latin typeface="Century"/>
              </a:rPr>
              <a:t>1-й варіант дослід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1" lang="en-US" sz="7200" spc="-1" strike="noStrike">
                <a:solidFill>
                  <a:srgbClr val="ffffff"/>
                </a:solidFill>
                <a:latin typeface="Century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932360" y="1916280"/>
            <a:ext cx="0" cy="23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843280" y="2060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84328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84328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932360" y="263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940360" y="2637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780000" y="5589720"/>
            <a:ext cx="129528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580000" y="414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867280" y="49417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5435640" y="4076640"/>
            <a:ext cx="93672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559480" y="41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586728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851280" y="47973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140360" y="501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140360" y="5229360"/>
            <a:ext cx="1726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076720" y="609300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5867280" y="5300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2843280" y="6021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2843280" y="5229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2843280" y="357336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84360" y="2781360"/>
            <a:ext cx="35856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1042920" y="2133360"/>
            <a:ext cx="381636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971640" y="2924280"/>
            <a:ext cx="3887640" cy="21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5076720" y="2205000"/>
            <a:ext cx="503280" cy="144360"/>
          </a:xfrm>
          <a:prstGeom prst="rect">
            <a:avLst/>
          </a:prstGeom>
          <a:solidFill>
            <a:srgbClr val="d806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048200" y="56246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5580000" y="4292280"/>
            <a:ext cx="576360" cy="431640"/>
          </a:xfrm>
          <a:prstGeom prst="line">
            <a:avLst/>
          </a:prstGeom>
          <a:ln w="38160">
            <a:solidFill>
              <a:srgbClr val="d806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6443640" y="4365720"/>
            <a:ext cx="9050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м є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971640" y="2997360"/>
            <a:ext cx="3960720" cy="1079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entury"/>
              </a:rPr>
              <a:t>Схема установки Столєтова</a:t>
            </a: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Century"/>
              </a:rPr>
              <a:t>1-й варіант дослід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1" lang="en-US" sz="7200" spc="-1" strike="noStrike">
                <a:solidFill>
                  <a:srgbClr val="ffffff"/>
                </a:solidFill>
                <a:latin typeface="Century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932360" y="191628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2843280" y="2060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84328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84328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932360" y="263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940360" y="2637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780000" y="5589720"/>
            <a:ext cx="129528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580000" y="414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867280" y="49417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5435640" y="4076640"/>
            <a:ext cx="93672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559480" y="41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586728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851280" y="5013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4140360" y="4581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4140360" y="5229360"/>
            <a:ext cx="1726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076720" y="609300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867280" y="5300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2843280" y="6021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2843280" y="5229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843280" y="357336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684360" y="2781360"/>
            <a:ext cx="35856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1042920" y="2133360"/>
            <a:ext cx="381636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048200" y="56246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292720" y="1773360"/>
            <a:ext cx="0" cy="647640"/>
          </a:xfrm>
          <a:prstGeom prst="line">
            <a:avLst/>
          </a:prstGeom>
          <a:ln w="76320">
            <a:solidFill>
              <a:srgbClr val="d80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003640" y="2133720"/>
            <a:ext cx="576360" cy="0"/>
          </a:xfrm>
          <a:prstGeom prst="line">
            <a:avLst/>
          </a:prstGeom>
          <a:ln w="76320">
            <a:solidFill>
              <a:srgbClr val="d80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6443640" y="4365720"/>
            <a:ext cx="924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м є!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042920" y="2924280"/>
            <a:ext cx="3889440" cy="2887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042920" y="2997360"/>
            <a:ext cx="3816360" cy="1079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"/>
              </a:rPr>
              <a:t>Висновок, який зробив Столєтов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…</a:t>
            </a: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при освітленні цинкової пластин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ультрафіолетовими променями із неї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вириваються електрони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Вони направляються до сітки і в колі виникає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електричний струм, який називаю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Century"/>
              </a:rPr>
              <a:t>фотострумом</a:t>
            </a:r>
            <a:r>
              <a:rPr b="1" lang="ru-RU" sz="4000" spc="-1" strike="noStrike">
                <a:solidFill>
                  <a:srgbClr val="ffff00"/>
                </a:solidFill>
                <a:latin typeface="Century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"/>
              </a:rPr>
              <a:t>Задачі, які ставив перед собою Столєтов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1.Потрібно було встановити, від чого залежить кількість електронів, що вириваються із металу, за 1 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2.Від чого залежить швидкість фотоелектронів, а отже, і кінетичної енерг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фотоелектроні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entury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хема установки, на якій Столє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     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установив закони фотоеф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835280" y="1413000"/>
            <a:ext cx="561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1547640" y="2146320"/>
            <a:ext cx="619308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тоефект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Перший закон фотоефект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6" name="" descr=""/>
          <p:cNvPicPr/>
          <p:nvPr/>
        </p:nvPicPr>
        <p:blipFill>
          <a:blip r:embed="rId1"/>
          <a:stretch/>
        </p:blipFill>
        <p:spPr>
          <a:xfrm>
            <a:off x="8845560" y="1904760"/>
            <a:ext cx="79200" cy="419076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395280" y="1163880"/>
            <a:ext cx="846468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entury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ила </a:t>
            </a:r>
            <a:r>
              <a:rPr b="1" lang="uk-UA" sz="2800" spc="-1" strike="noStrike">
                <a:solidFill>
                  <a:srgbClr val="003366"/>
                </a:solidFill>
                <a:latin typeface="Century"/>
              </a:rPr>
              <a:t>струму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насичення (фактично, число вирваних  з поверхні електронів за одиницю часу) прямо пропорційна інтенсивності світлового випромінювання,що  падаює на поверхю тіла.      </a:t>
            </a:r>
            <a:r>
              <a:rPr b="1" lang="en-US" sz="3200" spc="-1" strike="noStrike">
                <a:solidFill>
                  <a:srgbClr val="003366"/>
                </a:solidFill>
                <a:latin typeface="Century"/>
              </a:rPr>
              <a:t>I</a:t>
            </a:r>
            <a:r>
              <a:rPr b="1" lang="ru-RU" sz="3200" spc="-1" strike="noStrike" baseline="-25000">
                <a:solidFill>
                  <a:srgbClr val="003366"/>
                </a:solidFill>
                <a:latin typeface="Century"/>
              </a:rPr>
              <a:t>нас</a:t>
            </a:r>
            <a:r>
              <a:rPr b="1" lang="ru-RU" sz="3200" spc="-1" strike="noStrike">
                <a:solidFill>
                  <a:srgbClr val="003366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Century"/>
              </a:rPr>
              <a:t>˜</a:t>
            </a:r>
            <a:r>
              <a:rPr b="1" lang="ru-RU" sz="3200" spc="-1" strike="noStrike">
                <a:solidFill>
                  <a:srgbClr val="003366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вітловому потоку 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4464000" cy="3068640"/>
          </a:xfrm>
          <a:prstGeom prst="rect">
            <a:avLst/>
          </a:prstGeom>
          <a:ln w="0">
            <a:noFill/>
          </a:ln>
        </p:spPr>
      </p:pic>
      <p:sp>
        <p:nvSpPr>
          <p:cNvPr id="1739" name=""/>
          <p:cNvSpPr/>
          <p:nvPr/>
        </p:nvSpPr>
        <p:spPr>
          <a:xfrm>
            <a:off x="4716360" y="3933720"/>
            <a:ext cx="4248360" cy="2590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entury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Уваг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Світловий потік, щ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падає на фотокат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збільшується, а й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спектральний скл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залишається незмінн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Ф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Century"/>
              </a:rPr>
              <a:t>2</a:t>
            </a:r>
            <a:r>
              <a:rPr b="1" i="1" lang="en-US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entury"/>
              </a:rPr>
              <a:t>&gt;</a:t>
            </a: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Ф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Century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825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75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825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"/>
              </a:rPr>
              <a:t>Другий закон фотоефек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362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Якщо </a:t>
            </a:r>
            <a:r>
              <a:rPr b="0" lang="ru-RU" sz="2000" spc="-1" strike="noStrike">
                <a:solidFill>
                  <a:srgbClr val="ffffff"/>
                </a:solidFill>
                <a:latin typeface="Century"/>
              </a:rPr>
              <a:t> частоту світла збільшити, то при незмінному світловому потоці затримуюча напруга збільшується, а, як наслідок, збільшується і кінетична енергія фотоелектронів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entury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Century"/>
              </a:rPr>
              <a:t>Максимальна швидкість фотоелектронів залежить тільки від частоти падаючого світла і не залежить від його інтенсивност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Century"/>
              </a:rPr>
              <a:t>Важлив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За модулем затримуючої напруги можна говорити п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швидкість фотоелектронів і про їх кінетич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енергию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4643280" y="4941720"/>
                <a:ext cx="410544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24000" y="5084640"/>
                <a:ext cx="3711600" cy="17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U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"/>
          <p:cNvSpPr/>
          <p:nvPr/>
        </p:nvSpPr>
        <p:spPr>
          <a:xfrm>
            <a:off x="4067280" y="5734080"/>
            <a:ext cx="576000" cy="358920"/>
          </a:xfrm>
          <a:prstGeom prst="rightArrow">
            <a:avLst>
              <a:gd name="adj1" fmla="val 50000"/>
              <a:gd name="adj2" fmla="val 4012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"/>
              </a:rPr>
              <a:t>Третій закон фотоефек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Для кожної речовини існу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мінімальна частота (так зва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червона межа фотоефекту), нижче яко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ефект невиникає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26920" y="3789360"/>
            <a:ext cx="7058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Червона межа фотоефек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9" name=""/>
          <p:cNvGraphicFramePr/>
          <p:nvPr/>
        </p:nvGraphicFramePr>
        <p:xfrm>
          <a:off x="1301760" y="1600200"/>
          <a:ext cx="234936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1760" y="1600200"/>
                    <a:ext cx="23493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При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&lt; </a:t>
            </a:r>
            <a:r>
              <a:rPr b="1" lang="ru-RU" sz="28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"/>
              </a:rPr>
              <a:t>min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ні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якій інтенсив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хвилі падаючого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катод світ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ефект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виникає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2195640" y="4221000"/>
                <a:ext cx="310500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3" name=""/>
          <p:cNvSpPr txBox="1"/>
          <p:nvPr/>
        </p:nvSpPr>
        <p:spPr>
          <a:xfrm>
            <a:off x="5651640" y="4941720"/>
            <a:ext cx="219996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кожної речовин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оя!!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Мета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уроку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713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Ознайомити з корпускулярними властивостями світла в процесі вивчення явища фотоефекту, вчити розрізняти поняття внутрішнього та зовнішнього фотоефекту, домогтися засвоєння учнями законів фотоефекту, формувати навички застосування рівняння Ейнштейна під час розв’язування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Розвивати пам’ять, уважність, логічне мислення, продовжувати формувати навички обчислень за формулам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Виховувати інтерес до моделювання фізичних явищ за допомогою комп’ютера. Перевірити знання, одержані на уроці за допомогою  тестува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cc"/>
                </a:solidFill>
                <a:latin typeface="Century"/>
              </a:rPr>
              <a:t>Застосування </a:t>
            </a:r>
            <a:r>
              <a:rPr b="1" lang="ru-RU" sz="4000" spc="-1" strike="noStrike">
                <a:solidFill>
                  <a:srgbClr val="0033cc"/>
                </a:solidFill>
                <a:latin typeface="Century"/>
              </a:rPr>
              <a:t>фотоефек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Century"/>
              </a:rPr>
              <a:t>На явищі фотоефекту  діють фотоелектричні прилади, що отримали  різне застосування в різних областях науки і техніки. В сучасний час  практично неможливо знайти виробництво, де б не використовувалися </a:t>
            </a:r>
            <a:r>
              <a:rPr b="1" lang="ru-RU" sz="2800" spc="-1" strike="noStrike" u="sng">
                <a:solidFill>
                  <a:srgbClr val="006666"/>
                </a:solidFill>
                <a:uFillTx/>
                <a:latin typeface="Century"/>
              </a:rPr>
              <a:t>фотоелементи – приймачі випромінювання,  що працюють  на основі фотоефекту і перетворюють енергію випромінювання в електрич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1403280" y="765000"/>
            <a:ext cx="720108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зв"язува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b7"/>
                </a:solidFill>
                <a:latin typeface="Arial Black"/>
              </a:rPr>
              <a:t>На поверхню металу падають  промені з довжиною </a:t>
            </a:r>
            <a:br>
              <a:rPr sz="2000"/>
            </a:br>
            <a:r>
              <a:rPr b="1" lang="uk-UA" sz="2000" spc="-1" strike="noStrike">
                <a:solidFill>
                  <a:srgbClr val="ffffb7"/>
                </a:solidFill>
                <a:latin typeface="Arial Black"/>
              </a:rPr>
              <a:t>200 нм. Обчислити  максимальну швидкість  випромінювання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8842320" y="-51192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1) 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2) 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3) 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8842320" y="-51192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1) 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2) 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3) 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99ccff"/>
                </a:solidFill>
                <a:latin typeface="Century"/>
              </a:rPr>
              <a:t>т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2340000" y="333360"/>
            <a:ext cx="4392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трольний блок</a:t>
            </a:r>
            <a:endParaRPr b="0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2" name="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86364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1:</a:t>
            </a:r>
            <a:r>
              <a:rPr b="1" lang="ru-RU" sz="3200" spc="-1" strike="noStrike">
                <a:solidFill>
                  <a:srgbClr val="ffffff"/>
                </a:solidFill>
                <a:latin typeface="Century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Якому із нижчеприведених виразів відповідає одиниця вимірювання постійної Планка в СІ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а) Дж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б)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в)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г) Н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д) кг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2 Як зміниться робота виходу, при збільшенні довжини хвилі падачого випромінювання на катод в чотири раз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5975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Збіль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Зменшиться в чотири ра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Збіль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Зменшиться в два ра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Не змін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3 Яке із нижчеприведених тверджень ( для даного електроду) справедлив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Робота виходу залежить від довжини хвилі падаючого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«Затримуюча» напруга залежить від роботи вих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Збільшення довжини хвилі падаючого випромінювання приводить до збільшення швидкості вилітаючих фотоелектрон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Максимальна швидкість вилітаючих фотоелектронів, залежить тільки від роботи вих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Збільшення частоти падаючого випромінювання, приводить до збільшення швидкості фотоелектрон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Епіграф урок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Сонце, небо, зірок сяяння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Море блиску голубог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Всю природу і створі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тільки  в світлі пізнаєм</a:t>
            </a:r>
            <a:r>
              <a:rPr b="1" lang="en-US" sz="4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a4"/>
                </a:solidFill>
                <a:latin typeface="Arial"/>
              </a:rPr>
              <a:t>ми</a:t>
            </a: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4.Пластина виготовлена з матеріалу, «червона межа» для якого попадає в голубу область спектру. При освітленні якими променями даної пластини спостерігається фотоефект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2124000" y="3141360"/>
            <a:ext cx="5122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Інфрачерво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Ультрафіолетов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Жовт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Черво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Оранжев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5: Як зміниться робота виходу, при збільшенні довжини хвилі падаючого випромінювання на катод, в чотири раз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6418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 Збіль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Змен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Збіль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Змен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Не змін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6 Яке з нижчеприведених виразів правильне? Кінетична енергія вилітаючих фотоелектронів залежить ві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Тільки від частоти падаючого випроміню -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 Тільки від температури мета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Тільки від інтенсивності випроміню -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Від частоти і інтенсивності падаючого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Від температури металу і інтенсивності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7 На поверхню тіла падає світлове випромінювання з част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hν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  2 h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  3,5 h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ffff66"/>
                </a:solidFill>
                <a:latin typeface="Arial"/>
              </a:rPr>
              <a:t>Задачі для самостійної роботи (4 варіанта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 поверхню вольфраму падають рентгенівські промені з довжиною 10 нм. Обчислити кінетичну енергію фотоелектро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Запам</a:t>
            </a: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‘</a:t>
            </a:r>
            <a:r>
              <a:rPr b="1" lang="uk-UA" sz="4400" spc="-1" strike="noStrike">
                <a:solidFill>
                  <a:srgbClr val="ff0066"/>
                </a:solidFill>
                <a:latin typeface="Arial Black"/>
              </a:rPr>
              <a:t>ятай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«Здібності, як і мускули,    ростуть підчас тренування»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(Академік В. Обручєв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розрізняют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3d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Внутрішній фотоефект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це збільшення кількості вільних носіїв заряду в напівпровідниках та діелектриках під дією світла” (</a:t>
            </a:r>
            <a:r>
              <a:rPr b="0" i="1" lang="uk-UA" sz="2800" spc="-1" strike="noStrike">
                <a:solidFill>
                  <a:srgbClr val="ffff00"/>
                </a:solidFill>
                <a:latin typeface="Comic Sans MS"/>
              </a:rPr>
              <a:t>записи в зошитах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Зовнішній фотоефект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це явище втрати речовинами електронів під дією світла або іншого електромагнітного випромінювання. </a:t>
            </a:r>
            <a:r>
              <a:rPr b="0" i="1" lang="uk-UA" sz="2800" spc="-1" strike="noStrike">
                <a:solidFill>
                  <a:srgbClr val="ffff00"/>
                </a:solidFill>
                <a:latin typeface="Comic Sans MS"/>
              </a:rPr>
              <a:t>(записи в зошитах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"/>
          <p:cNvSpPr txBox="1"/>
          <p:nvPr/>
        </p:nvSpPr>
        <p:spPr>
          <a:xfrm rot="20235000">
            <a:off x="18720" y="650520"/>
            <a:ext cx="3247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ТОЕФЕК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875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Герц (Hertz) Генр</a:t>
            </a: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і</a:t>
            </a: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х </a:t>
            </a:r>
            <a:r>
              <a:rPr b="1" lang="en-US" sz="3200" spc="-1" strike="noStrike">
                <a:solidFill>
                  <a:srgbClr val="fdb7ab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22.II.1857–1.I.1894)</a:t>
            </a: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599840" y="1125360"/>
            <a:ext cx="73645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Німецький фізик, один із основоположників електродинаміки. Виходячи  із рівнянн Максвелла, Герц в 1886–89 експериментально довів існування електромагнітних хвиль і досліджував їх властивості (відбивання від люстерка, заломлення в призмах і т. д.). Електромагнітні хвилі Герц </a:t>
            </a:r>
            <a:r>
              <a:rPr b="1" lang="uk-UA" sz="2000" spc="-1" strike="noStrike">
                <a:solidFill>
                  <a:srgbClr val="ffff00"/>
                </a:solidFill>
                <a:latin typeface="Garamond"/>
              </a:rPr>
              <a:t>одержав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за допомогою створеного ним вібратора. Герц підтвердив висновки максвелівської теорії про те, що швидкість розповсюдження електромагнітних хвиль в повітрі рівна швидкості світла, встановив рівність основних властивостей електромагнітних і світлових хвиль. Герц вивчав також розповсюдження електромагнітних хвиль в провіднику і вказав спосіб вимірювання швидкості їх розповсюдженн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В 1886–87 Герц вперше спостерігав і дав опис зовнішнього фотоефекту. Герц розробив теорію резонаторного контуру, вивчав властивості катодних променів, досліджував  вплив ультрафіолетових променів на електричні розряди. В своїх роботах з механіки дав теорію удару пружних шарів, розрахував час співудару і т. д. Іменем Герца названа одиниця частоти коливан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2"/>
          <a:stretch/>
        </p:blipFill>
        <p:spPr>
          <a:xfrm>
            <a:off x="71280" y="189000"/>
            <a:ext cx="1836720" cy="2448000"/>
          </a:xfrm>
          <a:prstGeom prst="rect">
            <a:avLst/>
          </a:prstGeom>
          <a:ln w="44280">
            <a:solidFill>
              <a:srgbClr val="0066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36" name=""/>
          <p:cNvSpPr/>
          <p:nvPr/>
        </p:nvSpPr>
        <p:spPr>
          <a:xfrm>
            <a:off x="179280" y="285264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нр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Гер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>
            <a:hlinkClick r:id="rId3" action="ppaction://hlinksldjump"/>
          </p:cNvPr>
          <p:cNvSpPr/>
          <p:nvPr/>
        </p:nvSpPr>
        <p:spPr>
          <a:xfrm>
            <a:off x="180720" y="49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aramond"/>
              </a:rPr>
              <a:t>І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з історії фотоефекту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Century"/>
              </a:rPr>
              <a:t>1887 рік – німецький фізик Генріх Гер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0" name=""/>
          <p:cNvSpPr/>
          <p:nvPr/>
        </p:nvSpPr>
        <p:spPr>
          <a:xfrm>
            <a:off x="3924360" y="4005360"/>
            <a:ext cx="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3924360" y="2349000"/>
            <a:ext cx="0" cy="1150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3780000" y="3933720"/>
            <a:ext cx="28728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780000" y="3357720"/>
            <a:ext cx="28872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1907640" y="595008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1834920" y="234936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908000" y="4221000"/>
            <a:ext cx="0" cy="172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619280" y="4221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1258920" y="4005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1835280" y="234936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4140000" y="2565360"/>
            <a:ext cx="2879640" cy="93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4211640" y="3573360"/>
            <a:ext cx="2736720" cy="142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H="1" flipV="1">
            <a:off x="4140360" y="3860280"/>
            <a:ext cx="295272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924360" y="3645000"/>
            <a:ext cx="163440" cy="426960"/>
          </a:xfrm>
          <a:custGeom>
            <a:avLst/>
            <a:gdLst/>
            <a:ahLst/>
            <a:rect l="l" t="t" r="r" b="b"/>
            <a:pathLst>
              <a:path w="103" h="269">
                <a:moveTo>
                  <a:pt x="51" y="0"/>
                </a:moveTo>
                <a:cubicBezTo>
                  <a:pt x="77" y="76"/>
                  <a:pt x="103" y="71"/>
                  <a:pt x="39" y="102"/>
                </a:cubicBezTo>
                <a:cubicBezTo>
                  <a:pt x="27" y="108"/>
                  <a:pt x="13" y="111"/>
                  <a:pt x="0" y="115"/>
                </a:cubicBezTo>
                <a:cubicBezTo>
                  <a:pt x="9" y="128"/>
                  <a:pt x="15" y="143"/>
                  <a:pt x="26" y="154"/>
                </a:cubicBezTo>
                <a:cubicBezTo>
                  <a:pt x="37" y="165"/>
                  <a:pt x="56" y="166"/>
                  <a:pt x="64" y="179"/>
                </a:cubicBezTo>
                <a:cubicBezTo>
                  <a:pt x="80" y="203"/>
                  <a:pt x="77" y="242"/>
                  <a:pt x="77" y="269"/>
                </a:cubicBezTo>
              </a:path>
            </a:pathLst>
          </a:custGeom>
          <a:noFill/>
          <a:ln w="9360">
            <a:solidFill>
              <a:srgbClr val="d806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6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entury"/>
              </a:rPr>
              <a:t>Друге відкриття фотоефект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німецький вчений Вільгель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Гальвак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6" name=""/>
          <p:cNvSpPr/>
          <p:nvPr/>
        </p:nvSpPr>
        <p:spPr>
          <a:xfrm>
            <a:off x="2340000" y="2637000"/>
            <a:ext cx="3887640" cy="2952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1258920" y="4221000"/>
            <a:ext cx="2160720" cy="865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564000" y="3357720"/>
            <a:ext cx="1439640" cy="1223640"/>
          </a:xfrm>
          <a:prstGeom prst="plus">
            <a:avLst>
              <a:gd name="adj" fmla="val 35796"/>
            </a:avLst>
          </a:prstGeom>
          <a:solidFill>
            <a:srgbClr val="d806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entury"/>
              </a:rPr>
              <a:t>Трет</a:t>
            </a:r>
            <a:r>
              <a:rPr b="1" lang="uk-UA" sz="4400" spc="-1" strike="noStrike">
                <a:solidFill>
                  <a:srgbClr val="ff3300"/>
                </a:solidFill>
                <a:latin typeface="Century"/>
              </a:rPr>
              <a:t>є</a:t>
            </a:r>
            <a:r>
              <a:rPr b="1" lang="ru-RU" sz="4400" spc="-1" strike="noStrike">
                <a:solidFill>
                  <a:srgbClr val="ff3300"/>
                </a:solidFill>
                <a:latin typeface="Century"/>
              </a:rPr>
              <a:t> відкриття фотоефект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італієць Аугусто Рігі. Він 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ридумав перший фотоелемент – прилад, щ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еретворює енергію  світла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електричний стру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entury"/>
              </a:rPr>
              <a:t>Четверте і останнє відкриття…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російський вчений Олександ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Григорович Столєтов. Ві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ідверг фотоеф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експериме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тальному дослідженню 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встановив зако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фотоефек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3" name="" descr=""/>
          <p:cNvPicPr/>
          <p:nvPr/>
        </p:nvPicPr>
        <p:blipFill>
          <a:blip r:embed="rId1">
            <a:lum contrast="6000"/>
          </a:blip>
          <a:srcRect l="4828" t="3648" r="3564" b="0"/>
          <a:stretch/>
        </p:blipFill>
        <p:spPr>
          <a:xfrm>
            <a:off x="5614920" y="2133720"/>
            <a:ext cx="352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4:24:17Z</dcterms:created>
  <dc:creator>Мы</dc:creator>
  <dc:description/>
  <dc:language>en-US</dc:language>
  <cp:lastModifiedBy>NickOn</cp:lastModifiedBy>
  <dcterms:modified xsi:type="dcterms:W3CDTF">2011-01-17T17:56:59Z</dcterms:modified>
  <cp:revision>61</cp:revision>
  <dc:subject/>
  <dc:title>Слайд 1</dc:title>
</cp:coreProperties>
</file>