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B01-2BC0-463E-86CC-6AB6EAA4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DCD-44A6-43D5-B14E-0F9583C0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0E8B4-7230-4C09-98A6-A1BD2526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9FCDE-958A-4A38-857D-44AAB4B4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F8FB6-DE1F-443F-94F4-BC8B9F28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33852-DB0D-401F-9A7C-0C90BEA7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3C8AA-0881-4596-95FB-F45D208D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D596E-4866-4C0A-A23D-5D8E67F3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1560E-F2E6-4666-B1C7-6CD7086F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389A2-83DF-4339-A832-29816B40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7F548-49D0-40FD-BDEB-35333BA7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4A10E-4BB2-42B5-9102-6AC1732D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B10-4017-4EA9-8447-9C517C96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49618-5E18-4072-A821-5E5A7EA6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C157C-63DC-4C7E-917E-B50502C1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424C1-C823-4A39-BCEF-A0FD6367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4AFD8-5BE6-4B4F-97A8-BCAFDC9D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D647A-5464-42CC-AB48-799322A4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27252-AD5A-4C99-BAAB-C3F40C19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EDA6F-C249-4DB6-BF70-6B4AF9DC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31A09-6B67-4C73-A65E-3495283C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A0959-8697-43F0-B0AA-4469FF3B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ADEFC-05A3-4F2A-AE44-837821E0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383-4EEE-469D-98C4-D9108F85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A3DEA-5C3F-4CDA-98E1-E034FC7F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1C86C-3EB9-40CD-8642-4C445B86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A3AD2-C40C-4F6B-AE4A-03588569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66874-1233-4935-8943-CEC2C67C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B1E05-443F-4D0C-AEFC-3C8B163D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25265-6296-4AE8-9AC5-5D9A4583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3B58-1561-4499-8E34-D241E85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7AC96-E1CA-4C6D-9742-5989F81F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46CBE-02BD-48ED-A7C8-9BA05718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E7E7A-7207-4D5C-B532-43BB7841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07D9-E48A-4537-A90E-40D3B01B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4E7EB-8AC0-4575-94FD-1119D093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17565-6A54-4E0D-9CE1-AF4E99DC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F991C-FBE1-47FA-AD8D-0324AB54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DAE14-E3E8-4849-AB1C-D38728BB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3C035-13B7-40F6-A8B3-C42DECF0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1F668-021B-483E-8B3B-3449ACD7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080A5-D2F6-4315-996D-661651AC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F540D-21BD-4ABC-B2AF-6084B94E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59BB3-1142-4DF4-B4F7-DD3216AA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C7786-9691-4EFA-B64E-B3BEA0F3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10D8-B1F9-4905-AD0A-A1873786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35645-14B2-4F32-A6B2-8FA47C95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8F76F-84A5-4507-94BB-644364C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BA838-9815-4D3A-82FB-3AC84E32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3B5B0-3A8F-4A3C-A6B8-787ECEBA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83D9E-29CA-484C-84D5-32845764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A5590-10CB-43D8-9F9F-7C84DBD1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10616-F4F7-4FC8-B88E-169DE4A9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BC951-B532-4EBF-A812-DCB83C82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1A861-7970-47F0-8EC7-EE4E3F27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0B950-AEFD-43D9-84D3-3420BD01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C8A3-9880-4B62-A512-C7480739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925A3-C165-4C4A-A3A0-21D8C331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E30DC-4074-49D9-8511-617E374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8496C-63B3-4CBB-B286-E3DDF10A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2A4B4-EEF7-4848-B7CF-B9ACE73F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56213-53FE-43C3-BDC1-BC755B44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15A03-E881-4C36-9FEA-750FC867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44C84-C21D-45E6-B6DF-4B2773B9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564B-D697-4EDC-AAB1-167BF72F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3034-7086-4000-87F6-010A0D77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0BF9-7853-4302-AF02-BF06FDDE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9F0D-2A6C-4F90-A8CA-658015E1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EBF-850D-4341-AAA5-003445DA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D2C5-EB38-4BC7-BBD1-90627A85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2832-71B8-4DED-9D8B-5FD52101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A92C-B0AB-42CB-85B2-DF17381F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FEE1-F9B0-4D32-B79D-DE27F805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C035-2131-4273-976F-0F1F45D4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6673-9B86-495D-919C-8BD8F688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B82E-88A3-42FA-8EA3-AA759C1A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172B-9E18-413D-B691-5C4135ED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0261-3D39-4ADE-B43B-A163C1D1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C4F8-E34C-4C52-A6EB-28EDF203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F17-233D-409C-9555-385809DB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27E4-7523-4426-A3DF-6EF75D1E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F6373-9A03-4EF3-9C48-76970F3A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B262-8F21-4E31-847D-74A2B644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11D4-FD61-453E-B229-0883A2BB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5AAB6-5B5D-465D-9C5C-45B8303B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2276-E378-4A94-9910-6A4FE493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292D0-747D-4568-B0CF-39C8FB83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EDDB-925A-4FFC-B98C-25099E0B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C0F94-3D8B-4E26-85D0-B64794B8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5F25A-B206-466B-8DD3-D7D17AA1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DE1-6E6C-4484-8DD9-D831882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9405A-217F-4C9D-B9DF-FC7CA3E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CF9B6-EA9A-466E-8C53-1D718ADB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364D-A0A0-4A03-9AE6-A199208B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F973-3FDA-4A39-A5C9-B9272068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36E6-C079-49D5-B2CC-6B9C983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86206-B24B-4981-BC46-0A608C0F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AF78F-24D3-4A27-B163-3AF67700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3850-A684-4610-A76A-467192EF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66F21-312D-4C1A-9B06-4728DBFD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54E5-29E8-4DAE-8E14-591DE023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54C-916F-4D55-A077-9342540A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FCC8C-6531-4162-BD3C-5343B1A0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9CFC9-2DA1-4FCF-B6A2-8DE09BC5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2AFFC-FEC0-4B9E-9F15-1174DF2B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B8E63-3D31-4C2E-8F53-2152D4EF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31B37-AF3F-4020-896A-D89AA09B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79E3C-01B9-434B-80C9-353CE57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63D5A-AA3B-4A45-8CB0-2A6B415C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8D075-71C3-4F14-8BFE-4D49D4B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62DA1-8E2D-48ED-8FDA-16803B51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6458D-B409-4F73-9E65-256BA4DA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2B8-E7B1-4C9E-9377-C60DD78A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6BAE0-FB44-4182-9AC9-5106BF81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3D410-2F73-4144-A80E-AD08581A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2B3E-A6C6-4145-8F8C-7C7FDC16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7E585-7F60-4151-9A93-8D6940D8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B687-9A5E-44DD-8929-F9E40DE8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D5778-6FE8-4C33-879E-53214E39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BC541-4F66-4368-AE20-D2CD6D68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5F8CF-FD08-480F-A421-9A7660DB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6CDC4-4E5E-4234-AE0D-81139B3D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47FE4-5CB8-4CA6-8625-DA7D692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7BB-4500-41D6-88D1-0BEA5599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E9269-0217-4B24-A6D9-E09AD22A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E5F66-60A5-4616-9D7F-AF6A253B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0BB76-785D-4E91-BE0F-11B11765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D73A4-43FC-4E22-93C5-40C80731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B2A0C-E037-4FC9-85B7-5BE82DA2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0B7AB-DF34-4F2B-B6BA-031E724A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0C461-5EC0-4653-B321-BF1EA67D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4210-EFBC-4E98-8008-6EBA41C0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9A366-7E9A-4FA1-9DCA-4697C753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4B1D7-2DC9-490F-8FED-D61320BC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D97-1BBE-45AD-8D4D-45FEBB45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8A4F4-B71F-4F35-BFED-AEC6BD29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EAC9C-AA23-4341-93F2-F7E043CB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42E6F-2152-43D1-B27F-A928CB54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2B13D-2E4A-46A1-BB28-8B18E933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27B7-DA81-45BB-A742-287C6C69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5F9FD-80DF-4E6D-BFE1-29BDAE56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40F15-2EDB-4072-8135-07ED24EF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839D-B288-4A31-A79D-B95FCA4F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097D0-E0D7-4FAC-B2CE-66A86E6F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4E671-BAEE-4B14-9EFB-DE657F3C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10C-FAEF-4FDC-9685-8032E168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BDE29-C682-47F2-AB8B-037B7FE7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750C2-94B3-49F7-903A-F6AF8E8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13E30-0D9F-4079-931E-C886F772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D72DF-CA58-46FD-8DFE-4078BCEA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D2C90-55F8-48EC-81A2-64D6606F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CD94-322C-4EDC-922B-CE45196E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6F562-44E6-455F-A8D6-1525EEC5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B36DA-ACA9-436F-BED7-FFEC4FD0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766DD-C394-4FA1-9D35-AD79E9E5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EBA2E-8AE4-40DD-BC74-2D5B4061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487A-F498-493C-833C-50C44CC53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2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3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5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C752-02E1-497D-961A-BAA400F6A3F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0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1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55F1-1217-466A-81D1-B6EB5472294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5A4C-1FBA-4646-9BA5-4016AAD1386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7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7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dt" idx="3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sldNum" idx="3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80B6-A536-4713-9F5B-568AC9891A4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AC0A-98F0-4B4A-9CB0-995CF8BE20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790F-74BB-4C27-A375-653BF88C9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AFF3-14F1-4F76-AA64-A7043617E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7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9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A5C4-1C84-4D96-A0B7-2A6FF838ECE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7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3D6-0ECF-4378-B384-9CABFB64E2C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989B-8BB7-4627-8935-D9DCCB2D934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4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7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7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7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7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90AA-2A42-4CF3-88F2-01B3D45F323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3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4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4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ACCD-5061-42FA-8C87-688BD9044A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WordArt 6"/>
          <p:cNvSpPr txBox="1"/>
          <p:nvPr/>
        </p:nvSpPr>
        <p:spPr>
          <a:xfrm>
            <a:off x="1116000" y="333360"/>
            <a:ext cx="6491160" cy="77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отоефек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2" name="Text Box 10"/>
          <p:cNvSpPr/>
          <p:nvPr/>
        </p:nvSpPr>
        <p:spPr>
          <a:xfrm>
            <a:off x="395280" y="1484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ефек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це група явищ, пов'язаних із «звільненням" електронів твердого тіла від зв'язків усередині атома під дією електромагнітного випромінюванн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Group 12"/>
          <p:cNvGrpSpPr/>
          <p:nvPr/>
        </p:nvGrpSpPr>
        <p:grpSpPr>
          <a:xfrm>
            <a:off x="5796000" y="1125360"/>
            <a:ext cx="2808360" cy="2448000"/>
            <a:chOff x="5796000" y="1125360"/>
            <a:chExt cx="2808360" cy="2448000"/>
          </a:xfrm>
        </p:grpSpPr>
        <p:pic>
          <p:nvPicPr>
            <p:cNvPr id="784" name="Picture 8" descr="фотоєф"/>
            <p:cNvPicPr/>
            <p:nvPr/>
          </p:nvPicPr>
          <p:blipFill>
            <a:blip r:embed="rId1"/>
            <a:stretch/>
          </p:blipFill>
          <p:spPr>
            <a:xfrm>
              <a:off x="5796000" y="1125360"/>
              <a:ext cx="2808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11"/>
            <p:cNvSpPr/>
            <p:nvPr/>
          </p:nvSpPr>
          <p:spPr>
            <a:xfrm>
              <a:off x="5796000" y="2492280"/>
              <a:ext cx="1655640" cy="1081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6b448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Bookman Old Style"/>
                </a:rPr>
                <a:t>електричний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Bookman Old Style"/>
                </a:rPr>
                <a:t>ефек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Text Box 13"/>
          <p:cNvSpPr/>
          <p:nvPr/>
        </p:nvSpPr>
        <p:spPr>
          <a:xfrm>
            <a:off x="324000" y="378936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ектрони, що вилітають із речовини при зовнішньому фотоефекті, називаються "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електрона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", а електричний струм, який утворюється ними при упорядкованому русі у зовнішньому електричному полі, називається "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струм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entury"/>
              </a:rPr>
              <a:t>Вентильні фотоелемен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Фотоелементи з вентильним фотоефектом подібно до елементів із  зовнішнім  фотоефектом мають строгу пропорційність фотостуму інтенсивності випромінювання. Їх перевагою є порівняно більша інтегральна чутливість і не потребують зовнішнього джерела стру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Кремнієві та інші вентильні фотоелементи застосовують  для створення сонячних батарей,   які безпосередньо перетворюють світлову енергію в електрич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014"/>
          <p:cNvPicPr/>
          <p:nvPr/>
        </p:nvPicPr>
        <p:blipFill>
          <a:blip r:embed="rId1"/>
          <a:srcRect l="0" t="0" r="0" b="2883"/>
          <a:stretch/>
        </p:blipFill>
        <p:spPr>
          <a:xfrm>
            <a:off x="4572000" y="1916280"/>
            <a:ext cx="4356000" cy="364464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"/>
          <p:cNvSpPr/>
          <p:nvPr/>
        </p:nvSpPr>
        <p:spPr>
          <a:xfrm>
            <a:off x="395280" y="333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Сонячні батаре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395280" y="1125360"/>
            <a:ext cx="403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і батареї вже протягом багатьох років працюють на космічних супутниках 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аблях. Їх ККД складає приблизно  10%  та, як показують теоретичні розрахунки його можна збільшити до  22%, що відкриває великі перспективи  їх використання у якості джерел  для  побутових та виробничих потр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Century"/>
              </a:rPr>
              <a:t>Сонцемобіль, сонячна станці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1" name="Picture 4" descr="Солнцемобиль"/>
          <p:cNvPicPr/>
          <p:nvPr/>
        </p:nvPicPr>
        <p:blipFill>
          <a:blip r:embed="rId1"/>
          <a:srcRect l="3993" t="5175" r="0" b="0"/>
          <a:stretch/>
        </p:blipFill>
        <p:spPr>
          <a:xfrm>
            <a:off x="0" y="1557360"/>
            <a:ext cx="4859280" cy="508464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5" descr="Станция"/>
          <p:cNvPicPr/>
          <p:nvPr/>
        </p:nvPicPr>
        <p:blipFill>
          <a:blip r:embed="rId2"/>
          <a:stretch/>
        </p:blipFill>
        <p:spPr>
          <a:xfrm>
            <a:off x="5148360" y="1557360"/>
            <a:ext cx="3995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4"/>
          <p:cNvSpPr/>
          <p:nvPr/>
        </p:nvSpPr>
        <p:spPr>
          <a:xfrm>
            <a:off x="539640" y="836640"/>
            <a:ext cx="81360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зовнішні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фотоелектронна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емісія) - випромінювання електронів з поверхні твердого тела під 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ією світла, гамма - випромінювання і т. і. (відкритий Г. Герцем у 1887, пояснений Ейнштейн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внутрішні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перерозподіл електронів за енергетичними станами в твердих та рідких напівпровідниках та діелектриках, який спричиняється світлом. Він проявляється у зміні концентрації носіїв струму у середовищі і призводить до виникнення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фотопровідності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вентильни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- збудження світлом ЕРС на межі поділу метал - напівпровідник або між різнорідними напівпровідниками. При вентильному фотоефекті фотоелектрони виходять через поверхню поділу з одного тіла в ін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39528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Arial Black"/>
              </a:rPr>
              <a:t>Види фотоефек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4" descr="5-2-1"/>
          <p:cNvPicPr/>
          <p:nvPr/>
        </p:nvPicPr>
        <p:blipFill>
          <a:blip r:embed="rId1"/>
          <a:stretch/>
        </p:blipFill>
        <p:spPr>
          <a:xfrm>
            <a:off x="250920" y="404640"/>
            <a:ext cx="3422520" cy="496908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10"/>
          <p:cNvGrpSpPr/>
          <p:nvPr/>
        </p:nvGrpSpPr>
        <p:grpSpPr>
          <a:xfrm>
            <a:off x="4643280" y="404640"/>
            <a:ext cx="4104000" cy="5860800"/>
            <a:chOff x="4643280" y="404640"/>
            <a:chExt cx="4104000" cy="5860800"/>
          </a:xfrm>
        </p:grpSpPr>
        <p:pic>
          <p:nvPicPr>
            <p:cNvPr id="791" name="Picture 5" descr="5-2-2"/>
            <p:cNvPicPr/>
            <p:nvPr/>
          </p:nvPicPr>
          <p:blipFill>
            <a:blip r:embed="rId2"/>
            <a:stretch/>
          </p:blipFill>
          <p:spPr>
            <a:xfrm>
              <a:off x="4788000" y="404640"/>
              <a:ext cx="3959280" cy="31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6"/>
            <p:cNvSpPr/>
            <p:nvPr/>
          </p:nvSpPr>
          <p:spPr>
            <a:xfrm>
              <a:off x="4643280" y="3573360"/>
              <a:ext cx="3961080" cy="26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Залежність сили фотоструму від прикладеної напруги. Крива 2 відповідає більшій інтенсивності світлового потоку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та               – струми насичення, </a:t>
              </a:r>
              <a:r>
                <a:rPr b="0" i="1" lang="uk-UA" sz="20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з – за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п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і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рний 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потенціал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3" name="Object 7"/>
            <p:cNvGraphicFramePr/>
            <p:nvPr/>
          </p:nvGraphicFramePr>
          <p:xfrm>
            <a:off x="4859280" y="5084640"/>
            <a:ext cx="47952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5084640"/>
                      <a:ext cx="4795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5" name="Object 8"/>
            <p:cNvGraphicFramePr/>
            <p:nvPr/>
          </p:nvGraphicFramePr>
          <p:xfrm>
            <a:off x="5940360" y="5157720"/>
            <a:ext cx="476280" cy="50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6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0360" y="5157720"/>
                      <a:ext cx="47628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97" name="Text Box 9"/>
          <p:cNvSpPr/>
          <p:nvPr/>
        </p:nvSpPr>
        <p:spPr>
          <a:xfrm>
            <a:off x="179280" y="544500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хема експериментальної установки для вивчення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4"/>
          <p:cNvSpPr/>
          <p:nvPr/>
        </p:nvSpPr>
        <p:spPr>
          <a:xfrm>
            <a:off x="324000" y="476280"/>
            <a:ext cx="842472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Bookman Old Style"/>
              </a:rPr>
              <a:t>Закони Столєтова для фотоефек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Кількість  електронів (фотоелектронів), що вибиваються світлом за одну секунду з поверхні металу(тобто струм насичення), прямо пропорційна інтенсивності світла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Максимальна кінетична енергія фотоелектронів лінійно збільшується із збільшенням частоти світла і не залежить від його інтенсивност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ля кожної речовини існує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червона границя фотоефекту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, тобто мінімальна частота (максимальна довжина хвилі), при якій фотоефект ще можливий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Фотоефект є практично неінерційним, фотострум виникає миттєво після початку освітлення катоду, за умови, що частота світ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Group 8"/>
          <p:cNvGrpSpPr/>
          <p:nvPr/>
        </p:nvGrpSpPr>
        <p:grpSpPr>
          <a:xfrm>
            <a:off x="3708360" y="3860640"/>
            <a:ext cx="4751280" cy="2293920"/>
            <a:chOff x="3708360" y="3860640"/>
            <a:chExt cx="4751280" cy="2293920"/>
          </a:xfrm>
        </p:grpSpPr>
        <p:graphicFrame>
          <p:nvGraphicFramePr>
            <p:cNvPr id="800" name="Object 6"/>
            <p:cNvGraphicFramePr/>
            <p:nvPr/>
          </p:nvGraphicFramePr>
          <p:xfrm>
            <a:off x="3708360" y="5589720"/>
            <a:ext cx="1224000" cy="56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08360" y="5589720"/>
                      <a:ext cx="1224000" cy="56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2" name="Object 7"/>
            <p:cNvGraphicFramePr/>
            <p:nvPr/>
          </p:nvGraphicFramePr>
          <p:xfrm>
            <a:off x="7812000" y="3860640"/>
            <a:ext cx="647640" cy="55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12000" y="3860640"/>
                      <a:ext cx="647640" cy="5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столетов"/>
          <p:cNvPicPr/>
          <p:nvPr/>
        </p:nvPicPr>
        <p:blipFill>
          <a:blip r:embed="rId1"/>
          <a:stretch/>
        </p:blipFill>
        <p:spPr>
          <a:xfrm>
            <a:off x="539640" y="404640"/>
            <a:ext cx="2978280" cy="4104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539640" y="4869000"/>
            <a:ext cx="30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Столєтов Олександр Григо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1839 - 1896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3564000" y="466560"/>
            <a:ext cx="52560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осійський вчений, професор фізики у Московському університеті. Закінчив Московський Університет, стажувався в лабораторії Кірхгоф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крім двох дисертацій, найбільш важливими є наступні  роботи  Столєтова "О Кольраушевом измерении ртутной единицы сопротивления"; "Sur une methode pour determineh le rapport des unites electromagnetiques et electrostatiques" (le "v" de Maxwell); "Об электричестве сопротивления"; "О критическом состоянии тел" (4 ст.); "Актиноэлектрические исследования"; "Эфир и электричество" (речь); "Очерк развития наших сведений о газах"; "Введение в акустику и оптику" (курс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5"/>
          <p:cNvSpPr/>
          <p:nvPr/>
        </p:nvSpPr>
        <p:spPr>
          <a:xfrm>
            <a:off x="539640" y="53820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Червона границя фотоефект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визначається частотою, при якій електрон може залишити метал, але його кінетична енергія буде дорівнювати нулю, тоб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Object 6"/>
          <p:cNvGraphicFramePr/>
          <p:nvPr/>
        </p:nvGraphicFramePr>
        <p:xfrm>
          <a:off x="1042920" y="3573360"/>
          <a:ext cx="66978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573360"/>
                    <a:ext cx="66978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Text Box 8"/>
          <p:cNvSpPr/>
          <p:nvPr/>
        </p:nvSpPr>
        <p:spPr>
          <a:xfrm>
            <a:off x="843120" y="2698920"/>
            <a:ext cx="783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468360" y="2781360"/>
            <a:ext cx="835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angle 1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468360" y="5445000"/>
            <a:ext cx="295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6"/>
          <p:cNvSpPr/>
          <p:nvPr/>
        </p:nvSpPr>
        <p:spPr>
          <a:xfrm>
            <a:off x="395280" y="476280"/>
            <a:ext cx="84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акони фотоефекту не узгоджуються з електромагнітною теорією світ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У випадку електромагнітної хвилі електрон мав би накопичувати енергію поступово (хвилини або годин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В рамках електромагнітної теорії неможливо пояснити існування червоної границі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Хвильова теорія неспроможна пояснити незалежність енергії фотоелектронів від інтенсивності світлового потоку та її пропорційність частоті світ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яснення законів фотоефекту було дано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Ейнштейно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1905) на основі припущення, що світло випромінюється, поширюється та поглинається у вигляді неподільних порцій енергії – квантів світ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івняння Ейнштейна для фотоефект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 закон збереження енергії в застосуванні до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7" name="Object 7"/>
          <p:cNvGraphicFramePr/>
          <p:nvPr/>
        </p:nvGraphicFramePr>
        <p:xfrm>
          <a:off x="3276720" y="4797360"/>
          <a:ext cx="266364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797360"/>
                    <a:ext cx="266364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Вакуумний   фотоелемен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7"/>
          <p:cNvSpPr/>
          <p:nvPr/>
        </p:nvSpPr>
        <p:spPr>
          <a:xfrm>
            <a:off x="611280" y="1844640"/>
            <a:ext cx="424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йпростішим фотоелемен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із зовнішнім фотоефектом є 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вакуумний фотоелемен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ін  являє собою відкачаний скляний балон, внутрішня поверхня якого (за винятком віконця для доступ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промінювання) вкрита фоточутливим шаром. Ця поверхня є фотокатодом. У центрі балона міститься кільце або сітка - ан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1" name="Picture 8" descr="Фотоэлемент"/>
          <p:cNvPicPr/>
          <p:nvPr/>
        </p:nvPicPr>
        <p:blipFill>
          <a:blip r:embed="rId1"/>
          <a:srcRect l="13623" t="0" r="13799" b="0"/>
          <a:stretch/>
        </p:blipFill>
        <p:spPr>
          <a:xfrm>
            <a:off x="5118120" y="1773360"/>
            <a:ext cx="37386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 Black"/>
              </a:rPr>
              <a:t>Фоторезистор</a:t>
            </a:r>
            <a:r>
              <a:rPr b="0" lang="uk-UA" sz="4400" spc="-1" strike="noStrike">
                <a:solidFill>
                  <a:srgbClr val="cc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Основою принципу дії напівпровідникових фотоелементів або фотоопорів </a:t>
            </a:r>
            <a:r>
              <a:rPr b="1" lang="uk-UA" sz="3200" spc="-1" strike="noStrike">
                <a:solidFill>
                  <a:srgbClr val="ff3300"/>
                </a:solidFill>
                <a:latin typeface="Century"/>
              </a:rPr>
              <a:t>(фоторезисторів</a:t>
            </a:r>
            <a:r>
              <a:rPr b="1" lang="uk-UA" sz="3200" spc="-1" strike="noStrike">
                <a:solidFill>
                  <a:srgbClr val="000000"/>
                </a:solidFill>
                <a:latin typeface="Century"/>
              </a:rPr>
              <a:t>)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 є внутрішній фотоефект. Фоторезистори мають набагато більшу інтегральну чутливість, ніж вакуумні. Недоліком фотоопорів є їх помітна інерційність. З цієї причини вони  для реєстрації непридатні швидкоплинних світлових поток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0:45:28Z</dcterms:created>
  <dc:creator>User</dc:creator>
  <dc:description/>
  <dc:language>en-US</dc:language>
  <cp:lastModifiedBy>NickOn</cp:lastModifiedBy>
  <dcterms:modified xsi:type="dcterms:W3CDTF">2011-01-08T16:29:07Z</dcterms:modified>
  <cp:revision>15</cp:revision>
  <dc:subject/>
  <dc:title>Слайд 1</dc:title>
</cp:coreProperties>
</file>