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8.jpeg" ContentType="image/jpeg"/>
  <Override PartName="/ppt/media/image29.jpeg" ContentType="image/jpeg"/>
  <Override PartName="/ppt/media/image14.png" ContentType="image/png"/>
  <Override PartName="/ppt/media/image10.jpeg" ContentType="image/jpeg"/>
  <Override PartName="/ppt/media/image20.jpeg" ContentType="image/jpeg"/>
  <Override PartName="/ppt/media/image30.jpeg" ContentType="image/jpeg"/>
  <Override PartName="/ppt/media/image3.jpeg" ContentType="image/jpeg"/>
  <Override PartName="/ppt/media/image31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9.jpeg" ContentType="image/jpeg"/>
  <Override PartName="/ppt/media/image11.png" ContentType="image/pn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13.png" ContentType="image/pn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D1E4-FD6B-489B-97F1-6EA4C73A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523-FA73-400F-A8DA-5291544A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F02-9CC1-4879-B4EF-2A47DCEB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78E-E98F-4EF1-B2F7-3B3B933FB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88AD-E16F-4A42-B3B5-533CA6CB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86D8-4E81-4FFA-A84F-DC74D5A6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8F5D-8600-4BFA-9C99-51104A2F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44369-AC81-4033-878E-2D0ACDE8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90F9-6484-4399-9C2F-1CD93E38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07F5-1ACF-4D6E-AC1B-BFF601C8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ECC1-561F-4AE6-B5A1-49D1A0EA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E15-F17A-48B0-990F-F82D1EBF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FF0F-2AE9-4A03-A060-155183FD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BCAE-A7B2-46D7-BB58-7140AD35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DA96-28A6-4FBE-8316-B9694377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808E-C2B5-402B-8C98-6AA39B46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454E-A5AE-45CB-99C1-7C436667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1C690-6B10-4CAE-8DC4-E07903BA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C85C6-D1B8-4B14-99E0-7DA3972F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13667-57AA-4723-976C-087EEDC0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ED814-EE89-4500-9FA8-4B1186D5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29897-111B-415A-8FF4-C3835CB7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F1A-9489-4340-AD36-01B4ABBA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EDF4D-C9C7-4351-AA93-53BBF992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24849-D83D-42EB-B298-9BBDCF8C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9F73-7996-4980-8A69-6247D704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7AB55-CE7C-4977-BAEE-D31BD69A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4AA4-EAFD-4791-BEEF-8C04EA71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6A105-063C-4725-A623-3C4E528B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2CA42-6582-43D0-AD26-16FFFFB7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9D6D-7E8A-4445-9F38-F5CACF4C4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B971B-0E60-4225-9FEE-D2879925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F7FA9-C3E5-4BF0-A699-21BDFE7D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C32-D742-4C79-908B-012B30E5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D3235-3262-4B44-B5D2-AC82E1BC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FC030-D759-4DFF-A385-653CB5D1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65CA2-249C-436F-BA37-416019CA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A762E-3F68-4E2A-AAA2-2261285D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DAAA1-83F7-498B-A53D-FBC2693B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6893F-F0EF-4728-8982-73657CDA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E92B8-D69D-4A9E-B135-56025068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427AD-418D-49D0-885F-9A6FA360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A3C1D-32C0-42E0-9666-73806D91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D32BE-FFC2-46AD-90CB-1383C76A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8D49-D387-4CC7-9322-1ABE577A0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B349C-3EF7-4D24-A6B4-AD21AA2A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D6566-2EB2-456E-BDC3-544596AE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17445-AC22-4629-A6FF-DC3E04DD0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B6D31-14EE-4FC8-9F1A-EF7F86FF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781B4-3196-4E35-A7FC-423CBD8A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B3DBF-8691-46B3-8BE0-33544209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A73ED-1A7A-45FB-9520-9C2F4F3B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6E1FB-CFBF-431B-BD1C-A6084B8E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76951-D206-4AC9-BDED-628A673E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86AE3-25E6-46A7-B232-AA14CE37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E98-DF99-4922-B505-267A8A1C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58690-62DE-4251-81FC-A5FCBB45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C03D1-1C1A-46DB-BD14-A21D9816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6AEEE-DF82-4AC2-9902-EDA2E0E6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FF569-D3D4-44DD-B858-8D8C384B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BBD1C-C935-47A3-903A-A84BB8FD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959F2-E73C-4ECF-A2A5-9538DDAA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64BD5-FEA0-40B7-B7C9-0095508F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1927E-9BA2-471E-A6D2-C2D9B7F3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79F28-1B3B-4D98-9530-E39DEC0A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75B1D-498B-485F-83BA-E6300A64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F038-579B-41EE-983E-D07E003C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B5392-6063-4922-82D9-4A8071CC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B62D3-7E3B-4274-8E60-AB24DAA8C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862F7-60CA-40B1-B79E-C4691FA4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3BBC45-F532-4D43-B438-0B5E74EF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B9D464-7143-4BD8-A416-FF020711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451A8C-0D9F-4559-86C6-C7ED857D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352CDB-1FAB-4668-B620-85A7E07B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A5962-C4F1-4B46-A843-95170826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4D7E6-FC5B-42A2-AFF4-B2B051CF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060989-58B3-4318-B887-7AAA9193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3C0-3CCB-4941-BC5B-9FB40155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458E8-1BB4-4D7F-B16A-E0559815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93C0F-EA67-4933-ADF4-BB28CCFE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B4DA0F-8EC9-467F-BF74-63F4CC9C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287300-BEFF-4407-A77A-B6ED4FE2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C64FA9-0542-42A0-9668-8907741A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B5488-B705-43C5-96DE-3FFFC674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CE453-7D7F-47E8-A3E0-30315C8C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D2598-0CB5-4D47-B521-310D0DC1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C8814-849F-4BA8-A6A8-EDC6247A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9D3CA-3BBA-42A7-98E4-92291637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C22-D2E3-4F0B-8B5A-39E3AB35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82E49-2754-46A9-8B7C-D4E77937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A1A0E-FBCA-41D4-BCCC-34138C05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A474C-013B-4A68-8B77-82723D83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6459D-304D-457F-A450-991DAC04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37006-A672-4E65-90AF-64272258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878F0-E9CA-49FC-B0B2-A359D9824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D5C67-B539-4CD1-8457-5B894EA7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45CC-2A3A-435A-BF97-6C0FA30F6E8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05FF-9523-48D6-A284-AB5443A6A8E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AF8F-E850-4CEC-80EC-FD65CFE27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9404-6686-4D4C-979D-DF304F0C0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39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41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53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72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90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42C6-3C60-4697-8E37-6A1AA7861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44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46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58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77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95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3137-AA32-43F9-95AD-6098ADD51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8E75-DAD6-4796-A206-BBBE962FCC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5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9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9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204E-9BA4-436A-9C40-B2E762F3C0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Урок на тему: 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«МОМЕНТ СИЛИ. УМОВИ РІВНОВАГИ ВАЖЕЛЯ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809880" y="2286000"/>
            <a:ext cx="4800600" cy="28987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2209680" y="2666880"/>
            <a:ext cx="79250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5334120"/>
            <a:ext cx="8839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Підготува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Вчитель фізи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Костянтинівського ліцею із ЗШ І-ІІ с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cecff"/>
                </a:solidFill>
                <a:latin typeface="Arial"/>
              </a:rPr>
              <a:t>Коваленко Олена Борисі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0000"/>
                </a:solidFill>
                <a:latin typeface="Arial"/>
              </a:rPr>
              <a:t>Правило моментів</a:t>
            </a:r>
            <a:endParaRPr b="0" lang="en-US" sz="8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ffffff"/>
                </a:solidFill>
                <a:latin typeface="Arial"/>
              </a:rPr>
              <a:t>М1+М2+...+М</a:t>
            </a:r>
            <a:r>
              <a:rPr b="1" i="1" lang="en-US" sz="6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i="1" lang="uk-UA" sz="6000" spc="-1" strike="noStrike">
                <a:solidFill>
                  <a:srgbClr val="ffffff"/>
                </a:solidFill>
                <a:latin typeface="Arial"/>
              </a:rPr>
              <a:t>=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Тіло перебуває в рівновазі, якщо сума моментів сил дорівнює 0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4896000" y="3795840"/>
            <a:ext cx="4248000" cy="30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2928960" cy="381960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78040" cy="36576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4"/>
          <a:stretch/>
        </p:blipFill>
        <p:spPr>
          <a:xfrm rot="20333400">
            <a:off x="2286000" y="0"/>
            <a:ext cx="3657600" cy="202392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5"/>
          <a:stretch/>
        </p:blipFill>
        <p:spPr>
          <a:xfrm rot="413400">
            <a:off x="2514600" y="1981080"/>
            <a:ext cx="3841920" cy="28940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6"/>
          <a:stretch/>
        </p:blipFill>
        <p:spPr>
          <a:xfrm>
            <a:off x="3048120" y="4876920"/>
            <a:ext cx="2209680" cy="164772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7"/>
          <a:stretch/>
        </p:blipFill>
        <p:spPr>
          <a:xfrm>
            <a:off x="5486400" y="3733920"/>
            <a:ext cx="3657600" cy="230004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8"/>
          <a:stretch/>
        </p:blipFill>
        <p:spPr>
          <a:xfrm>
            <a:off x="0" y="3505320"/>
            <a:ext cx="2666880" cy="2455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4724280" y="1981080"/>
            <a:ext cx="3810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Дерева укріплюючись в землі коріннями утворюють важіль І роду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0" y="1371600"/>
            <a:ext cx="4114440" cy="4571640"/>
            <a:chOff x="0" y="1371600"/>
            <a:chExt cx="4114440" cy="4571640"/>
          </a:xfrm>
        </p:grpSpPr>
        <p:pic>
          <p:nvPicPr>
            <p:cNvPr id="617" name="" descr=""/>
            <p:cNvPicPr/>
            <p:nvPr/>
          </p:nvPicPr>
          <p:blipFill>
            <a:blip r:embed="rId2"/>
            <a:stretch/>
          </p:blipFill>
          <p:spPr>
            <a:xfrm>
              <a:off x="0" y="1371600"/>
              <a:ext cx="4114440" cy="45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2038320" y="2997000"/>
              <a:ext cx="1358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40760" y="5028840"/>
              <a:ext cx="1844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7724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0" spc="-1" strike="noStrike">
                <a:solidFill>
                  <a:srgbClr val="ff0000"/>
                </a:solidFill>
                <a:latin typeface="Arial"/>
              </a:rPr>
              <a:t>Важелі в природі</a:t>
            </a:r>
            <a:endParaRPr b="0" lang="en-US" sz="9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40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600"/>
                            </p:stCondLst>
                            <p:childTnLst>
                              <p:par>
                                <p:cTn id="175" nodeType="afterEffect" fill="hold" presetClass="exit" presetID="24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76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4495680" cy="251928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рило комахи являє собою важіль І роду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3219480" cy="3219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animClr clrSpc="rgb">
                                      <p:cBhvr>
                                        <p:cTn id="199" dur="2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200" dur="2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1676520" y="0"/>
            <a:ext cx="577836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3809880" cy="601956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Дятел являє собою важіль І роду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315200" cy="525636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0000"/>
                </a:solidFill>
                <a:latin typeface="Arial"/>
              </a:rPr>
              <a:t>Важіль І роду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066680" y="58672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Точка опо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3886200" y="4876920"/>
            <a:ext cx="990720" cy="9144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666880" y="4495680"/>
            <a:ext cx="0" cy="129564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523880" y="50292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8880" y="58672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858000" y="5181480"/>
            <a:ext cx="0" cy="129564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85800" y="0"/>
            <a:ext cx="8458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6324840" cy="50832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5181480" y="5562720"/>
            <a:ext cx="0" cy="129528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67080" y="58672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4038480" y="2971440"/>
            <a:ext cx="0" cy="205740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52680" y="2209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 flipV="1">
            <a:off x="5791320" y="5638320"/>
            <a:ext cx="1218960" cy="3812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867280" y="58672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Точка опо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304920"/>
            <a:ext cx="91440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Arial"/>
              </a:rPr>
              <a:t>Важіль ІІ род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6553080" cy="419112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2"/>
          <a:stretch/>
        </p:blipFill>
        <p:spPr>
          <a:xfrm>
            <a:off x="3886200" y="2976480"/>
            <a:ext cx="5257800" cy="38815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609480" y="47242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ffff"/>
                </a:solidFill>
                <a:latin typeface="Times New Roman"/>
              </a:rPr>
              <a:t>Важелі ІІ род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352680" y="5486400"/>
            <a:ext cx="2057400" cy="45720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 flipV="1">
            <a:off x="1142640" y="3505320"/>
            <a:ext cx="1143000" cy="1295280"/>
          </a:xfrm>
          <a:prstGeom prst="line">
            <a:avLst/>
          </a:prstGeom>
          <a:ln w="88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10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10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10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Давній Егип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2"/>
          <a:stretch/>
        </p:blipFill>
        <p:spPr>
          <a:xfrm>
            <a:off x="4114800" y="3571920"/>
            <a:ext cx="5029200" cy="32860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0" y="1523880"/>
            <a:ext cx="4648320" cy="30211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952880" cy="33019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3743280" y="3257640"/>
            <a:ext cx="5400720" cy="360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0000"/>
                </a:solidFill>
                <a:latin typeface="Arial"/>
              </a:rPr>
              <a:t>Важіль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4475160" cy="495288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0" y="1447920"/>
            <a:ext cx="373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uk-UA" sz="3600" spc="-1" strike="noStrike">
                <a:solidFill>
                  <a:srgbClr val="ffffff"/>
                </a:solidFill>
                <a:latin typeface="Verdana"/>
              </a:rPr>
              <a:t>Важіль</a:t>
            </a:r>
            <a:r>
              <a:rPr b="0" lang="uk-UA" sz="3600" spc="-1" strike="noStrike">
                <a:solidFill>
                  <a:srgbClr val="ffffff"/>
                </a:solidFill>
                <a:latin typeface="Verdana"/>
              </a:rPr>
              <a:t> — тверде тіло, яке може обертатися навколо нерухомої опори.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Verdana"/>
              </a:rPr>
              <a:t>   </a:t>
            </a:r>
            <a:r>
              <a:rPr b="0" lang="uk-UA" sz="3600" spc="-1" strike="noStrike">
                <a:solidFill>
                  <a:srgbClr val="ff0000"/>
                </a:solidFill>
                <a:latin typeface="Verdana"/>
              </a:rPr>
              <a:t>Важіль дає    виграш у роботі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Лінії дії сил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1295280" y="1219320"/>
            <a:ext cx="6248520" cy="427644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514600" y="1523880"/>
            <a:ext cx="0" cy="43434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257800" y="1523880"/>
            <a:ext cx="0" cy="434340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514600" y="1676520"/>
            <a:ext cx="1752480" cy="0"/>
          </a:xfrm>
          <a:prstGeom prst="line">
            <a:avLst/>
          </a:prstGeom>
          <a:ln w="57240">
            <a:solidFill>
              <a:srgbClr val="0000a4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2133720"/>
            <a:ext cx="914400" cy="0"/>
          </a:xfrm>
          <a:prstGeom prst="line">
            <a:avLst/>
          </a:prstGeom>
          <a:ln w="57240">
            <a:solidFill>
              <a:srgbClr val="0000a4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9480" y="5562720"/>
            <a:ext cx="358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АО – плече сили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F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15000" y="548640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ОВ – плече сили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48120" y="297180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Точка опор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581280" y="2514240"/>
            <a:ext cx="6858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514240" y="1066680"/>
            <a:ext cx="60948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800600" y="1066680"/>
            <a:ext cx="45720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0000"/>
                </a:solidFill>
                <a:latin typeface="Arial"/>
              </a:rPr>
              <a:t>Два роди важелів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4867200" y="1523520"/>
            <a:ext cx="4276800" cy="3180240"/>
            <a:chOff x="4867200" y="1523520"/>
            <a:chExt cx="4276800" cy="3180240"/>
          </a:xfrm>
        </p:grpSpPr>
        <p:cxnSp>
          <p:nvCxnSpPr>
            <p:cNvPr id="573" name=""/>
            <p:cNvCxnSpPr/>
            <p:nvPr/>
          </p:nvCxnSpPr>
          <p:spPr>
            <a:xfrm>
              <a:off x="5238000" y="2720160"/>
              <a:ext cx="3051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4" name=""/>
            <p:cNvSpPr/>
            <p:nvPr/>
          </p:nvSpPr>
          <p:spPr>
            <a:xfrm>
              <a:off x="5044680" y="2720520"/>
              <a:ext cx="394920" cy="4399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5a5a5"/>
                </a:gs>
                <a:gs pos="100000">
                  <a:srgbClr val="4c4c4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75" name=""/>
            <p:cNvCxnSpPr/>
            <p:nvPr/>
          </p:nvCxnSpPr>
          <p:spPr>
            <a:xfrm>
              <a:off x="6797160" y="2729160"/>
              <a:ext cx="1080" cy="197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6" name=""/>
            <p:cNvCxnSpPr/>
            <p:nvPr/>
          </p:nvCxnSpPr>
          <p:spPr>
            <a:xfrm flipV="1">
              <a:off x="8288640" y="1523520"/>
              <a:ext cx="1080" cy="1197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77" name=""/>
            <p:cNvSpPr/>
            <p:nvPr/>
          </p:nvSpPr>
          <p:spPr>
            <a:xfrm>
              <a:off x="6581160" y="2287800"/>
              <a:ext cx="416160" cy="441360"/>
            </a:xfrm>
            <a:custGeom>
              <a:avLst/>
              <a:gdLst/>
              <a:ahLst/>
              <a:rect l="l" t="t" r="r" b="b"/>
              <a:pathLst>
                <a:path w="1059" h="879">
                  <a:moveTo>
                    <a:pt x="148" y="398"/>
                  </a:moveTo>
                  <a:cubicBezTo>
                    <a:pt x="126" y="381"/>
                    <a:pt x="95" y="372"/>
                    <a:pt x="82" y="348"/>
                  </a:cubicBezTo>
                  <a:cubicBezTo>
                    <a:pt x="0" y="194"/>
                    <a:pt x="41" y="122"/>
                    <a:pt x="132" y="0"/>
                  </a:cubicBezTo>
                  <a:cubicBezTo>
                    <a:pt x="209" y="17"/>
                    <a:pt x="293" y="16"/>
                    <a:pt x="364" y="50"/>
                  </a:cubicBezTo>
                  <a:cubicBezTo>
                    <a:pt x="413" y="74"/>
                    <a:pt x="441" y="127"/>
                    <a:pt x="480" y="166"/>
                  </a:cubicBezTo>
                  <a:cubicBezTo>
                    <a:pt x="511" y="197"/>
                    <a:pt x="505" y="266"/>
                    <a:pt x="546" y="282"/>
                  </a:cubicBezTo>
                  <a:cubicBezTo>
                    <a:pt x="671" y="331"/>
                    <a:pt x="811" y="326"/>
                    <a:pt x="943" y="348"/>
                  </a:cubicBezTo>
                  <a:cubicBezTo>
                    <a:pt x="964" y="364"/>
                    <a:pt x="1059" y="427"/>
                    <a:pt x="1059" y="464"/>
                  </a:cubicBezTo>
                  <a:cubicBezTo>
                    <a:pt x="1059" y="488"/>
                    <a:pt x="1024" y="496"/>
                    <a:pt x="1009" y="514"/>
                  </a:cubicBezTo>
                  <a:cubicBezTo>
                    <a:pt x="991" y="535"/>
                    <a:pt x="975" y="557"/>
                    <a:pt x="960" y="580"/>
                  </a:cubicBezTo>
                  <a:cubicBezTo>
                    <a:pt x="936" y="618"/>
                    <a:pt x="913" y="656"/>
                    <a:pt x="893" y="696"/>
                  </a:cubicBezTo>
                  <a:cubicBezTo>
                    <a:pt x="874" y="733"/>
                    <a:pt x="878" y="787"/>
                    <a:pt x="844" y="811"/>
                  </a:cubicBezTo>
                  <a:cubicBezTo>
                    <a:pt x="793" y="848"/>
                    <a:pt x="723" y="844"/>
                    <a:pt x="662" y="861"/>
                  </a:cubicBezTo>
                  <a:cubicBezTo>
                    <a:pt x="546" y="844"/>
                    <a:pt x="410" y="879"/>
                    <a:pt x="314" y="811"/>
                  </a:cubicBezTo>
                  <a:cubicBezTo>
                    <a:pt x="217" y="743"/>
                    <a:pt x="332" y="214"/>
                    <a:pt x="148" y="398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00040" y="3980160"/>
              <a:ext cx="855000" cy="56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289000" y="1523880"/>
              <a:ext cx="8550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67200" y="2158200"/>
              <a:ext cx="8550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289000" y="2161800"/>
              <a:ext cx="8550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42520" y="2720520"/>
              <a:ext cx="85500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0" y="1752480"/>
            <a:ext cx="4803480" cy="2963880"/>
            <a:chOff x="0" y="1752480"/>
            <a:chExt cx="4803480" cy="2963880"/>
          </a:xfrm>
        </p:grpSpPr>
        <p:cxnSp>
          <p:nvCxnSpPr>
            <p:cNvPr id="584" name=""/>
            <p:cNvCxnSpPr/>
            <p:nvPr/>
          </p:nvCxnSpPr>
          <p:spPr>
            <a:xfrm>
              <a:off x="835200" y="2413800"/>
              <a:ext cx="2982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85" name=""/>
            <p:cNvSpPr/>
            <p:nvPr/>
          </p:nvSpPr>
          <p:spPr>
            <a:xfrm>
              <a:off x="1631160" y="2414160"/>
              <a:ext cx="386280" cy="51336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5a5a5"/>
                </a:gs>
                <a:gs pos="100000">
                  <a:srgbClr val="4c4c4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86" name=""/>
            <p:cNvCxnSpPr/>
            <p:nvPr/>
          </p:nvCxnSpPr>
          <p:spPr>
            <a:xfrm>
              <a:off x="835200" y="2413800"/>
              <a:ext cx="1080" cy="230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7" name=""/>
            <p:cNvCxnSpPr/>
            <p:nvPr/>
          </p:nvCxnSpPr>
          <p:spPr>
            <a:xfrm>
              <a:off x="3817440" y="2413800"/>
              <a:ext cx="1080" cy="110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88" name=""/>
            <p:cNvSpPr/>
            <p:nvPr/>
          </p:nvSpPr>
          <p:spPr>
            <a:xfrm>
              <a:off x="1075320" y="1905120"/>
              <a:ext cx="406440" cy="514440"/>
            </a:xfrm>
            <a:custGeom>
              <a:avLst/>
              <a:gdLst/>
              <a:ahLst/>
              <a:rect l="l" t="t" r="r" b="b"/>
              <a:pathLst>
                <a:path w="1059" h="879">
                  <a:moveTo>
                    <a:pt x="148" y="398"/>
                  </a:moveTo>
                  <a:cubicBezTo>
                    <a:pt x="126" y="381"/>
                    <a:pt x="95" y="372"/>
                    <a:pt x="82" y="348"/>
                  </a:cubicBezTo>
                  <a:cubicBezTo>
                    <a:pt x="0" y="194"/>
                    <a:pt x="41" y="122"/>
                    <a:pt x="132" y="0"/>
                  </a:cubicBezTo>
                  <a:cubicBezTo>
                    <a:pt x="209" y="17"/>
                    <a:pt x="293" y="16"/>
                    <a:pt x="364" y="50"/>
                  </a:cubicBezTo>
                  <a:cubicBezTo>
                    <a:pt x="413" y="74"/>
                    <a:pt x="441" y="127"/>
                    <a:pt x="480" y="166"/>
                  </a:cubicBezTo>
                  <a:cubicBezTo>
                    <a:pt x="511" y="197"/>
                    <a:pt x="505" y="266"/>
                    <a:pt x="546" y="282"/>
                  </a:cubicBezTo>
                  <a:cubicBezTo>
                    <a:pt x="671" y="331"/>
                    <a:pt x="811" y="326"/>
                    <a:pt x="943" y="348"/>
                  </a:cubicBezTo>
                  <a:cubicBezTo>
                    <a:pt x="964" y="364"/>
                    <a:pt x="1059" y="427"/>
                    <a:pt x="1059" y="464"/>
                  </a:cubicBezTo>
                  <a:cubicBezTo>
                    <a:pt x="1059" y="488"/>
                    <a:pt x="1024" y="496"/>
                    <a:pt x="1009" y="514"/>
                  </a:cubicBezTo>
                  <a:cubicBezTo>
                    <a:pt x="991" y="535"/>
                    <a:pt x="975" y="557"/>
                    <a:pt x="960" y="580"/>
                  </a:cubicBezTo>
                  <a:cubicBezTo>
                    <a:pt x="936" y="618"/>
                    <a:pt x="913" y="656"/>
                    <a:pt x="893" y="696"/>
                  </a:cubicBezTo>
                  <a:cubicBezTo>
                    <a:pt x="874" y="733"/>
                    <a:pt x="878" y="787"/>
                    <a:pt x="844" y="811"/>
                  </a:cubicBezTo>
                  <a:cubicBezTo>
                    <a:pt x="793" y="848"/>
                    <a:pt x="723" y="844"/>
                    <a:pt x="662" y="861"/>
                  </a:cubicBezTo>
                  <a:cubicBezTo>
                    <a:pt x="546" y="844"/>
                    <a:pt x="410" y="879"/>
                    <a:pt x="314" y="811"/>
                  </a:cubicBezTo>
                  <a:cubicBezTo>
                    <a:pt x="217" y="743"/>
                    <a:pt x="332" y="214"/>
                    <a:pt x="148" y="398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0" y="4054680"/>
              <a:ext cx="8355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967920" y="2932920"/>
              <a:ext cx="83556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US" sz="3600" spc="-1" strike="noStrike" baseline="-25000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82120" y="1758240"/>
              <a:ext cx="83592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20800" y="1758240"/>
              <a:ext cx="8355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9400" y="1752480"/>
              <a:ext cx="835920" cy="66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685800" y="4876920"/>
            <a:ext cx="3352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ажі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першого р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724280" y="4876920"/>
            <a:ext cx="4038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Важі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другого ро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0000"/>
                </a:solidFill>
                <a:latin typeface="Arial"/>
              </a:rPr>
              <a:t>Умова рівноваги важеля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авило важеля було встановлено </a:t>
            </a:r>
            <a:r>
              <a:rPr b="0" lang="ru-RU" sz="3200" spc="-1" strike="noStrike" u="sng">
                <a:solidFill>
                  <a:srgbClr val="99ff99"/>
                </a:solidFill>
                <a:uFillTx/>
                <a:latin typeface="Times New Roman"/>
                <a:hlinkClick r:id="rId1" action="ppaction://hlinksldjump"/>
              </a:rPr>
              <a:t>Архімедом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близько 287-212 г.г. до н. э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7997760" cy="2092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7489800" cy="371952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0000"/>
                </a:solidFill>
                <a:latin typeface="Arial"/>
              </a:rPr>
              <a:t>АРХІМЕД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8534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uk-UA" sz="4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4800" spc="-1" strike="noStrike">
                <a:solidFill>
                  <a:srgbClr val="000000"/>
                </a:solidFill>
                <a:latin typeface="Verdana"/>
              </a:rPr>
              <a:t>Дайте мені точку опори  - і я переверну Землю”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9000" spc="-1" strike="noStrike">
                <a:solidFill>
                  <a:srgbClr val="ff0000"/>
                </a:solidFill>
                <a:latin typeface="Garamond"/>
              </a:rPr>
              <a:t>Момент сили</a:t>
            </a:r>
            <a:endParaRPr b="1" lang="en-US" sz="9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M=FL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Момент сили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— фізична величина, яка дорівнює добутку сили, що діє на тіло, на плече си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диниця вимірювання 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∙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Якщо сила обертає або намагається обертати тіло проти ходу годинникової стрілки</a:t>
            </a: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то момент сили має</a:t>
            </a: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 додатне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начення, а якщо за ходом годинникової стрілки</a:t>
            </a: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 — від'ємне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начення</a:t>
            </a:r>
            <a:r>
              <a:rPr b="1" i="1" lang="uk-UA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11-18T18:26:24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