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972-E04E-4EC2-AECB-2EAFD827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E41-FF62-479B-A05F-3E554A11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675-20B8-4F61-B942-76EF8E06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028-4333-4419-8B7D-40A1F3A5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57B3-D2DE-462E-9ABE-66D135FD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9A7E-335F-49DF-84EF-4C217FFA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072D-D7B2-41A1-8D63-506687C0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927A-2A2F-4CDF-9835-40B6E9B3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C8A4-DC2E-4895-947F-40E351B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C3CC-7279-461A-8F95-15B381BF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2A3-634D-4C1D-B467-96831281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D9B-CA49-491B-98F7-BD1D094A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90F5-8862-4B94-B940-24F3207D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A6C8-EDAA-45F1-B042-FD23DA1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71E7-659E-4FB8-9701-772C5B32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0C10-3390-45DC-9394-5E381CED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E608-21EA-457C-9070-5DF9E0E7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004B-48EE-4B3F-8F15-F8584746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EBE8-CC26-44A8-8A37-B2712BC7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EADA-BF01-48CF-8B66-3F1D5B50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601E-975C-4217-9A19-381BC509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0E2A-BD69-49D1-8A2E-CAC7C4AB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E12-28B8-48E3-B8B1-51342937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1EF4-5A85-48E2-9024-2BD219F9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912E-4DEE-4294-B77E-8A39AAAF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6235-1062-4B67-886B-489ADBC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2AB20-79D0-4F70-8886-3EC7B711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5C9A-B3E9-49D8-A1FC-CD201AEE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9E92-4E1D-4DE7-9869-AC92FAFF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D031-B179-475F-9F35-EEC2222D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34B2-960F-439D-9438-2113BC73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4376-D84A-4538-9BE0-02542805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8FA9-013C-470C-A012-302F2C11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4C4-3720-400E-8462-7555A399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898C-AE2F-416D-AFAB-1CA223BC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4134-F817-4DD9-A15B-55761E81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605FC-D4BD-4F41-A715-59C75090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3360-3C4C-4711-847B-FC23B195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AC44-129F-4519-9A6E-373EEEB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18C6-5F76-4002-ABEB-41A2B5A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4A61A-7018-408E-BE25-5680A82E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153A-CAAD-43C2-AF48-03683A9D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2FFC-2316-4DAB-9148-CE206100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6F0D1-D65E-4958-9035-A1156946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9B1-0070-42FF-83CB-B9444F7D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0B6F-86F5-4CAE-9166-D679FB78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3FFB-EB24-45DA-8E75-994516DF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87FB1-DE4B-4F21-8C6D-7497D04D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58E27-049B-4A0D-9767-32C5A2CD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8630A-E963-4058-8805-0400E541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95CB-0CDE-4D63-A839-52127BA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2C11F-8A58-495F-BF49-7D580FD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8666-CCDD-4CD2-93A1-75EB31D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DD94-EFF3-4EA2-8FC0-5A15CD83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7AC1-D2C8-4EB0-81CE-37E38405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C1F-3170-4A85-9F66-03C4199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1AE0-BD4C-4283-81C1-6D644072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8C2F2-7CD6-4D6E-9089-55A26EAA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F2B2-2AD9-4DE1-8CAF-E8C12C64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E3B32-2D32-4308-A9FE-64FAA125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FF7D-7498-4C32-A5ED-7FFBCA62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26F9A-941B-4FCE-97C7-B62832FE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5FC5C-FF1F-4DD7-8755-CB61CFF5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DDCEC-5624-4A2C-BAB5-FB37A530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6EACE-2791-4CCE-A4CC-F13B58D7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C30D-6577-422C-A6F4-1F03081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E6E-8BF1-47B8-BB1F-1D65700E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108D9-1A98-4694-9810-472D4EE3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D3486-2B85-4861-8167-00DD4B69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33E3B-7E29-4554-9E3E-933AC1BC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A5C57-78C5-4967-A340-ACBA46B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5793D-2FE2-4070-9837-7B1FF535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399E8-07B4-46CA-9F61-26F07A82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C4323-2D29-4DFE-A31A-69F227CC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2FEEBA-7ADD-4F63-ACC6-7E0F3BD1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2735E-21F3-4C71-B2E5-0DDE229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DBC95-80CB-4439-996D-F41E1A6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746-0547-4409-AEE9-B99CB34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AE181-523A-49B9-AB8B-FEAFB81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D7CE2-3DB2-491F-92FA-2783BBD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02D00-F21E-4382-8DA2-660DCA66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D2207-A2E8-4665-8FBD-88CA2993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4742A-758E-4810-8263-FAA24C60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B7A3D-E839-4ACD-AA60-DF3A3ED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A7B7-9007-4BDC-AC26-6CC0B93C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8AD7A-9DF7-4547-81B9-88E670C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C495F-64FC-4D27-AE29-565EE6B8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189CB-8938-474E-ADAA-0DCB2A51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B4B-2D23-4BBE-933C-4C42680B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5DD73-5387-4005-BDB2-E9C12B58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DBCD-8F2C-409F-8F3F-A88FB45B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A73C0-FA8B-4048-B216-36AE73C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81DE2-141A-453F-AA68-E968B894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242A5-0483-496E-A51B-1823D8EE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EB4C5-A4D9-46BD-8A8B-6DE891E0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F331-BD2A-4E39-9DB7-C96D4EE1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A49C-24E9-4B0A-B581-07806B159C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AE86-1D09-4A6F-B74A-3632E7C33C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45AB-BC5D-4299-AA85-A5C964D2C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9673-D3E3-44A2-957A-B03D9216D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3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5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3D48-07CB-45FB-966B-12224E23B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AAAE-FF5E-49C5-AA74-E97DBF83D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AD59-29B8-4F1F-B7EC-0DB934B300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FC0C-5274-4501-8D8F-087AE72E0E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Урок на тему: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«МОМЕНТ СИЛИ. УМОВИ РІВНОВАГИ ВАЖЕЛ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4800600" cy="28987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2209680" y="26668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533412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Підготув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Вчитель фізи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Костянтинівського ліцею із ЗШ І-ІІ 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Коваленко Олена Борисі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Arial"/>
              </a:rPr>
              <a:t>Правило моментів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Arial"/>
              </a:rPr>
              <a:t>М1+М2+...+М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uk-UA" sz="6000" spc="-1" strike="noStrike">
                <a:solidFill>
                  <a:srgbClr val="ffffff"/>
                </a:solidFill>
                <a:latin typeface="Arial"/>
              </a:rPr>
              <a:t>=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Тіло перебуває в рівновазі, якщо сума моментів сил дорівнює 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896000" y="3795840"/>
            <a:ext cx="424800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928960" cy="38196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78040" cy="36576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4"/>
          <a:stretch/>
        </p:blipFill>
        <p:spPr>
          <a:xfrm rot="20333400">
            <a:off x="2286000" y="0"/>
            <a:ext cx="3657600" cy="2023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 rot="413400">
            <a:off x="2514600" y="1981080"/>
            <a:ext cx="3841920" cy="28940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3048120" y="4876920"/>
            <a:ext cx="2209680" cy="16477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7"/>
          <a:stretch/>
        </p:blipFill>
        <p:spPr>
          <a:xfrm>
            <a:off x="5486400" y="3733920"/>
            <a:ext cx="3657600" cy="23000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8"/>
          <a:stretch/>
        </p:blipFill>
        <p:spPr>
          <a:xfrm>
            <a:off x="0" y="3505320"/>
            <a:ext cx="2666880" cy="245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724280" y="1981080"/>
            <a:ext cx="381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ерева укріплюючись в землі коріннями утворюють важіль І роду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0" y="1371600"/>
            <a:ext cx="4114440" cy="4571640"/>
            <a:chOff x="0" y="1371600"/>
            <a:chExt cx="4114440" cy="4571640"/>
          </a:xfrm>
        </p:grpSpPr>
        <p:pic>
          <p:nvPicPr>
            <p:cNvPr id="617" name="" descr="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411444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2038320" y="2997000"/>
              <a:ext cx="1358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40760" y="5028840"/>
              <a:ext cx="1844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0" spc="-1" strike="noStrike">
                <a:solidFill>
                  <a:srgbClr val="ff0000"/>
                </a:solidFill>
                <a:latin typeface="Arial"/>
              </a:rPr>
              <a:t>Важелі в природі</a:t>
            </a:r>
            <a:endParaRPr b="0" lang="en-US" sz="9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600"/>
                            </p:stCondLst>
                            <p:childTnLst>
                              <p:par>
                                <p:cTn id="175" nodeType="after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176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495680" cy="251928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рило комахи являє собою важіль І род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199" dur="2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200" dur="2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3809880" cy="601956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ятел являє собою важіль І роду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52563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Важіль І роду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3886200" y="4876920"/>
            <a:ext cx="990720" cy="914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66880" y="4495680"/>
            <a:ext cx="0" cy="129564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5029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88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0" y="5181480"/>
            <a:ext cx="0" cy="129564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324840" cy="50832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5181480" y="5562720"/>
            <a:ext cx="0" cy="129528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670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038480" y="2971440"/>
            <a:ext cx="0" cy="20574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52680" y="2209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5791320" y="5638320"/>
            <a:ext cx="1218960" cy="3812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30492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Важіль ІІ род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553080" cy="4191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3886200" y="2976480"/>
            <a:ext cx="5257800" cy="38815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09480" y="4724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ажелі ІІ род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352680" y="5486400"/>
            <a:ext cx="2057400" cy="45720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1142640" y="3505320"/>
            <a:ext cx="1143000" cy="12952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авній Егип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4114800" y="3571920"/>
            <a:ext cx="5029200" cy="32860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4648320" cy="3021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3743280" y="3257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Важіль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475160" cy="49528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44792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Важіль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 — тверде тіло, яке може обертатися навколо нерухомої опори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uk-UA" sz="3600" spc="-1" strike="noStrike">
                <a:solidFill>
                  <a:srgbClr val="ff0000"/>
                </a:solidFill>
                <a:latin typeface="Verdana"/>
              </a:rPr>
              <a:t>Важіль дає    виграш у роботі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Лінії дії си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248520" cy="42764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514600" y="1523880"/>
            <a:ext cx="0" cy="43434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57800" y="1523880"/>
            <a:ext cx="0" cy="43434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14600" y="1676520"/>
            <a:ext cx="1752480" cy="0"/>
          </a:xfrm>
          <a:prstGeom prst="line">
            <a:avLst/>
          </a:prstGeom>
          <a:ln w="57240">
            <a:solidFill>
              <a:srgbClr val="0000a4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133720"/>
            <a:ext cx="914400" cy="0"/>
          </a:xfrm>
          <a:prstGeom prst="line">
            <a:avLst/>
          </a:prstGeom>
          <a:ln w="57240">
            <a:solidFill>
              <a:srgbClr val="0000a4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556272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АО – плече сили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F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548640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ОВ – плече сили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8120" y="29718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очка опо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581280" y="251424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514240" y="1066680"/>
            <a:ext cx="6094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10666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Два роди важелів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867200" y="1523520"/>
            <a:ext cx="4276800" cy="3180240"/>
            <a:chOff x="4867200" y="1523520"/>
            <a:chExt cx="4276800" cy="3180240"/>
          </a:xfrm>
        </p:grpSpPr>
        <p:cxnSp>
          <p:nvCxnSpPr>
            <p:cNvPr id="573" name=""/>
            <p:cNvCxnSpPr/>
            <p:nvPr/>
          </p:nvCxnSpPr>
          <p:spPr>
            <a:xfrm>
              <a:off x="5238000" y="2720160"/>
              <a:ext cx="3051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4" name=""/>
            <p:cNvSpPr/>
            <p:nvPr/>
          </p:nvSpPr>
          <p:spPr>
            <a:xfrm>
              <a:off x="5044680" y="2720520"/>
              <a:ext cx="394920" cy="439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4c4c4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5" name=""/>
            <p:cNvCxnSpPr/>
            <p:nvPr/>
          </p:nvCxnSpPr>
          <p:spPr>
            <a:xfrm>
              <a:off x="6797160" y="2729160"/>
              <a:ext cx="1080" cy="197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6" name=""/>
            <p:cNvCxnSpPr/>
            <p:nvPr/>
          </p:nvCxnSpPr>
          <p:spPr>
            <a:xfrm flipV="1">
              <a:off x="8288640" y="1523520"/>
              <a:ext cx="1080" cy="11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7" name=""/>
            <p:cNvSpPr/>
            <p:nvPr/>
          </p:nvSpPr>
          <p:spPr>
            <a:xfrm>
              <a:off x="6581160" y="2287800"/>
              <a:ext cx="416160" cy="441360"/>
            </a:xfrm>
            <a:custGeom>
              <a:avLst/>
              <a:gdLst/>
              <a:ahLst/>
              <a:rect l="l" t="t" r="r" b="b"/>
              <a:pathLst>
                <a:path w="1059" h="879">
                  <a:moveTo>
                    <a:pt x="148" y="398"/>
                  </a:moveTo>
                  <a:cubicBezTo>
                    <a:pt x="126" y="381"/>
                    <a:pt x="95" y="372"/>
                    <a:pt x="82" y="348"/>
                  </a:cubicBezTo>
                  <a:cubicBezTo>
                    <a:pt x="0" y="194"/>
                    <a:pt x="41" y="122"/>
                    <a:pt x="132" y="0"/>
                  </a:cubicBezTo>
                  <a:cubicBezTo>
                    <a:pt x="209" y="17"/>
                    <a:pt x="293" y="16"/>
                    <a:pt x="364" y="50"/>
                  </a:cubicBezTo>
                  <a:cubicBezTo>
                    <a:pt x="413" y="74"/>
                    <a:pt x="441" y="127"/>
                    <a:pt x="480" y="166"/>
                  </a:cubicBezTo>
                  <a:cubicBezTo>
                    <a:pt x="511" y="197"/>
                    <a:pt x="505" y="266"/>
                    <a:pt x="546" y="282"/>
                  </a:cubicBezTo>
                  <a:cubicBezTo>
                    <a:pt x="671" y="331"/>
                    <a:pt x="811" y="326"/>
                    <a:pt x="943" y="348"/>
                  </a:cubicBezTo>
                  <a:cubicBezTo>
                    <a:pt x="964" y="364"/>
                    <a:pt x="1059" y="427"/>
                    <a:pt x="1059" y="464"/>
                  </a:cubicBezTo>
                  <a:cubicBezTo>
                    <a:pt x="1059" y="488"/>
                    <a:pt x="1024" y="496"/>
                    <a:pt x="1009" y="514"/>
                  </a:cubicBezTo>
                  <a:cubicBezTo>
                    <a:pt x="991" y="535"/>
                    <a:pt x="975" y="557"/>
                    <a:pt x="960" y="580"/>
                  </a:cubicBezTo>
                  <a:cubicBezTo>
                    <a:pt x="936" y="618"/>
                    <a:pt x="913" y="656"/>
                    <a:pt x="893" y="696"/>
                  </a:cubicBezTo>
                  <a:cubicBezTo>
                    <a:pt x="874" y="733"/>
                    <a:pt x="878" y="787"/>
                    <a:pt x="844" y="811"/>
                  </a:cubicBezTo>
                  <a:cubicBezTo>
                    <a:pt x="793" y="848"/>
                    <a:pt x="723" y="844"/>
                    <a:pt x="662" y="861"/>
                  </a:cubicBezTo>
                  <a:cubicBezTo>
                    <a:pt x="546" y="844"/>
                    <a:pt x="410" y="879"/>
                    <a:pt x="314" y="811"/>
                  </a:cubicBezTo>
                  <a:cubicBezTo>
                    <a:pt x="217" y="743"/>
                    <a:pt x="332" y="214"/>
                    <a:pt x="148" y="398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00040" y="3980160"/>
              <a:ext cx="855000" cy="5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289000" y="1523880"/>
              <a:ext cx="8550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67200" y="2158200"/>
              <a:ext cx="8550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89000" y="2161800"/>
              <a:ext cx="8550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42520" y="2720520"/>
              <a:ext cx="8550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0" y="1752480"/>
            <a:ext cx="4803480" cy="2963880"/>
            <a:chOff x="0" y="1752480"/>
            <a:chExt cx="4803480" cy="2963880"/>
          </a:xfrm>
        </p:grpSpPr>
        <p:cxnSp>
          <p:nvCxnSpPr>
            <p:cNvPr id="584" name=""/>
            <p:cNvCxnSpPr/>
            <p:nvPr/>
          </p:nvCxnSpPr>
          <p:spPr>
            <a:xfrm>
              <a:off x="835200" y="2413800"/>
              <a:ext cx="298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5" name=""/>
            <p:cNvSpPr/>
            <p:nvPr/>
          </p:nvSpPr>
          <p:spPr>
            <a:xfrm>
              <a:off x="1631160" y="2414160"/>
              <a:ext cx="386280" cy="513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4c4c4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86" name=""/>
            <p:cNvCxnSpPr/>
            <p:nvPr/>
          </p:nvCxnSpPr>
          <p:spPr>
            <a:xfrm>
              <a:off x="835200" y="2413800"/>
              <a:ext cx="1080" cy="230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7" name=""/>
            <p:cNvCxnSpPr/>
            <p:nvPr/>
          </p:nvCxnSpPr>
          <p:spPr>
            <a:xfrm>
              <a:off x="3817440" y="2413800"/>
              <a:ext cx="1080" cy="110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8" name=""/>
            <p:cNvSpPr/>
            <p:nvPr/>
          </p:nvSpPr>
          <p:spPr>
            <a:xfrm>
              <a:off x="1075320" y="1905120"/>
              <a:ext cx="406440" cy="514440"/>
            </a:xfrm>
            <a:custGeom>
              <a:avLst/>
              <a:gdLst/>
              <a:ahLst/>
              <a:rect l="l" t="t" r="r" b="b"/>
              <a:pathLst>
                <a:path w="1059" h="879">
                  <a:moveTo>
                    <a:pt x="148" y="398"/>
                  </a:moveTo>
                  <a:cubicBezTo>
                    <a:pt x="126" y="381"/>
                    <a:pt x="95" y="372"/>
                    <a:pt x="82" y="348"/>
                  </a:cubicBezTo>
                  <a:cubicBezTo>
                    <a:pt x="0" y="194"/>
                    <a:pt x="41" y="122"/>
                    <a:pt x="132" y="0"/>
                  </a:cubicBezTo>
                  <a:cubicBezTo>
                    <a:pt x="209" y="17"/>
                    <a:pt x="293" y="16"/>
                    <a:pt x="364" y="50"/>
                  </a:cubicBezTo>
                  <a:cubicBezTo>
                    <a:pt x="413" y="74"/>
                    <a:pt x="441" y="127"/>
                    <a:pt x="480" y="166"/>
                  </a:cubicBezTo>
                  <a:cubicBezTo>
                    <a:pt x="511" y="197"/>
                    <a:pt x="505" y="266"/>
                    <a:pt x="546" y="282"/>
                  </a:cubicBezTo>
                  <a:cubicBezTo>
                    <a:pt x="671" y="331"/>
                    <a:pt x="811" y="326"/>
                    <a:pt x="943" y="348"/>
                  </a:cubicBezTo>
                  <a:cubicBezTo>
                    <a:pt x="964" y="364"/>
                    <a:pt x="1059" y="427"/>
                    <a:pt x="1059" y="464"/>
                  </a:cubicBezTo>
                  <a:cubicBezTo>
                    <a:pt x="1059" y="488"/>
                    <a:pt x="1024" y="496"/>
                    <a:pt x="1009" y="514"/>
                  </a:cubicBezTo>
                  <a:cubicBezTo>
                    <a:pt x="991" y="535"/>
                    <a:pt x="975" y="557"/>
                    <a:pt x="960" y="580"/>
                  </a:cubicBezTo>
                  <a:cubicBezTo>
                    <a:pt x="936" y="618"/>
                    <a:pt x="913" y="656"/>
                    <a:pt x="893" y="696"/>
                  </a:cubicBezTo>
                  <a:cubicBezTo>
                    <a:pt x="874" y="733"/>
                    <a:pt x="878" y="787"/>
                    <a:pt x="844" y="811"/>
                  </a:cubicBezTo>
                  <a:cubicBezTo>
                    <a:pt x="793" y="848"/>
                    <a:pt x="723" y="844"/>
                    <a:pt x="662" y="861"/>
                  </a:cubicBezTo>
                  <a:cubicBezTo>
                    <a:pt x="546" y="844"/>
                    <a:pt x="410" y="879"/>
                    <a:pt x="314" y="811"/>
                  </a:cubicBezTo>
                  <a:cubicBezTo>
                    <a:pt x="217" y="743"/>
                    <a:pt x="332" y="214"/>
                    <a:pt x="148" y="398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4054680"/>
              <a:ext cx="8355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67920" y="2932920"/>
              <a:ext cx="83556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82120" y="1758240"/>
              <a:ext cx="83592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20800" y="1758240"/>
              <a:ext cx="8355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9400" y="1752480"/>
              <a:ext cx="8359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85800" y="487692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жі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ого р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4876920"/>
            <a:ext cx="40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жі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го р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Arial"/>
              </a:rPr>
              <a:t>Умова рівноваги важеля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авило важеля було встановлено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Архімедо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близько 287-212 г.г. до н. 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7997760" cy="2092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489800" cy="37195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АРХІМЕД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4800" spc="-1" strike="noStrike">
                <a:solidFill>
                  <a:srgbClr val="000000"/>
                </a:solidFill>
                <a:latin typeface="Verdana"/>
              </a:rPr>
              <a:t>Дайте мені точку опори  - і я переверну Землю”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0" spc="-1" strike="noStrike">
                <a:solidFill>
                  <a:srgbClr val="ff0000"/>
                </a:solidFill>
                <a:latin typeface="Garamond"/>
              </a:rPr>
              <a:t>Момент сили</a:t>
            </a:r>
            <a:endParaRPr b="1" lang="en-US" sz="9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=F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Момент сили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— фізична величина, яка дорівнює добутку сили, що діє на тіло, на плече си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иця вимірювання 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кщо сила обертає або намагається обертати тіло проти ходу годинникової стрілки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то момент сили має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 додатне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начення, а якщо за ходом годинникової стрілки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 — від'ємне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начення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18T18:26:2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