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7377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7D6CE-0240-4B51-9F2A-DB8D47DDE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FA2A51-FB62-40FD-A481-CCDD9B9BD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9B9D80-A14F-4467-B5F2-EF2FC17F2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F12AFC-5492-4E0C-B54C-02AC25D8C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A0FA2-5D81-4274-BD81-26CD7442E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A1BBD-714B-42DF-9101-AFB4851BB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19DB8-A533-4BEB-8BA3-DBFCE39A9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99CDA-79C1-42E2-A08D-C055B82BB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BEA54-70AD-4BD7-A001-2AE6FEBCC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8EFBE-628F-4CBE-807C-CFEE11B06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B6B85-632A-407E-B16C-1F178D65E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D5DF6A-41D5-4D6C-9551-D7BBDC3E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FA3842-3855-4196-A55F-3A6B39469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E0FC-7FBE-4649-B33D-19F1B6F18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24D2-3BCD-4665-9D50-3B0655796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E4D25-59ED-4A4E-8862-3FFBAAA9A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2876F1-80F4-4243-8147-38EED439D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B32DE6-2094-4D24-80A3-4CF346042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41EB5C-CED9-4404-99C2-C794339D9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54E4C-AA84-4E00-9072-7DF602AC7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D9BE88-921C-4B78-8D1F-CFDE0D9A1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ABA2BB-88B4-46D8-8D10-25A6CDD8DC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588407-78F3-4830-8199-3634B9F26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EBAB20-5586-4AF5-9530-80BF35631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4D5F-B869-4912-81B3-456E4AD7FEC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Garamond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Garamond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AB9C2-C383-4353-83E5-7C934D10DF9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school.xvatit.com/index.php?title=&#1060;&#1072;&#1081;&#1083;:&#1052;&#1072;&#1088;&#1110;&#1103;_&#1057;&#1082;&#1083;&#1086;&#1076;&#1086;&#1074;&#1089;&#1100;&#1082;&#1072;-&#1050;&#1102;&#1088;&#1110;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school.xvatit.com/index.php?title=&#1060;&#1072;&#1081;&#1083;:&#1045;&#1088;&#1085;&#1077;&#1089;&#1090;_&#1056;&#1077;&#1079;&#1077;&#1088;&#1092;&#1086;&#1088;&#1076;.jpg" TargetMode="External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90360" y="1828440"/>
            <a:ext cx="7792920" cy="290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 основу класифікацїї хімічних елементів Д.І.Менделєєв взяв відносну атомну масу хімічних елементів.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</a:t>
            </a:r>
            <a:r>
              <a:rPr b="0" lang="uk-UA" sz="3200" spc="-1" strike="noStrike">
                <a:solidFill>
                  <a:srgbClr val="ffcc00"/>
                </a:solidFill>
                <a:latin typeface="Garamond"/>
              </a:rPr>
              <a:t> </a:t>
            </a: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ХІМІЧНІ ЕЛЕМЕНТИ РОЗМІЩЕНІ В ПОРЯДКУ ЗРОСТАННЯ ЇХ ВІДНОСНИХ АТОМНИХ МАС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457200" y="914040"/>
            <a:ext cx="82296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	</a:t>
            </a: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ІСНУЮТЬ МАЛІ  ТА ВЕЛИКІ ПЕРІОДИ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МАЛИХ ПЕРІОДІВ НАЛЕЖАТЬ 1,2,3, ЯКІ СКЛАДАЮТЬСЯ З ОДНОГО РЯДУ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СУЛЬФУР НАЛЕЖИТЬ ДО ТРЕТЬОГО ПЕРІОДУ ПЕРІОДИЧНОЇ СИСТЕМИ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 ГРУПИ ВІДНОСЯТЬСЯ ЕЛЕМЕНТИ ПОДІБНІ ЗА ВЛАСТИВОСТЯМИ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НЕПРАВИЛЬНЕ ТВЕРДЖЕННЯ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МЕНТ НІТРОГЕН ЗНАХОДИТЬСЯ У 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V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ГРУПІ ПЕРІОДИЧНОЇ СИСТЕМІ ХІМІЧНИХ ЕЛЕМЕНТІВ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 algn="ctr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Зверніть увагу на суперчність у періодичній системі Д.І.Менделєєва на три пари елементів: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Телур – Іод (№52 – 53);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Аргон – Калій (№18 – 19);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Кобальт – Нікол (№27 – 28),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358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cc00"/>
                </a:solidFill>
                <a:latin typeface="Garamond"/>
              </a:rPr>
              <a:t>розміщені не в порядку зростання їхніх атомних мас, а навпаки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ТЕМА УРОКУ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БУДОВА 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8000" spc="-1" strike="noStrike">
                <a:solidFill>
                  <a:srgbClr val="ffcc00"/>
                </a:solidFill>
                <a:latin typeface="Garamond"/>
              </a:rPr>
              <a:t>АТОМА</a:t>
            </a:r>
            <a:endParaRPr b="0" lang="en-US" sz="8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8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8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8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8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8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8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cc00"/>
                </a:solidFill>
                <a:latin typeface="Garamond"/>
              </a:rPr>
              <a:t>Ядро атому приблизно в 10 000 разів менше, ніж сам атом. Таким чином, якщо збільшити атом до розмірів аеропорту Бориспіль, розмір ядра буде меншим від розміру кульки для настільного тенісу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52280" y="1600200"/>
            <a:ext cx="7793280" cy="4052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У Періодичній системі Д.І.Менделєєва хімічні елементи розміщені у порядку зменшення їх відносних атомних мас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ДОСЛІДЖЕНН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685800" y="1600200"/>
            <a:ext cx="1714680" cy="20858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5" descr=""/>
          <p:cNvPicPr/>
          <p:nvPr/>
        </p:nvPicPr>
        <p:blipFill>
          <a:blip r:embed="rId2"/>
          <a:stretch/>
        </p:blipFill>
        <p:spPr>
          <a:xfrm>
            <a:off x="685800" y="3962520"/>
            <a:ext cx="1714680" cy="227628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6"/>
          <p:cNvSpPr/>
          <p:nvPr/>
        </p:nvSpPr>
        <p:spPr>
          <a:xfrm>
            <a:off x="1990440" y="1054080"/>
            <a:ext cx="6984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ДЕМОКРІТ: вся природа складається з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 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томів, найдрібніших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асток речовини, які спочивають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чи рухаються 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бсолютно пустому просторі.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1909080" y="4190760"/>
            <a:ext cx="68407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В 19 столітті Джон Дальтон одержав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відчення існування атомів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але припускав, що вони неподільні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nodeType="clickEffect" fill="hold">
                      <p:stCondLst>
                        <p:cond delay="indefinite"/>
                      </p:stCondLst>
                      <p:childTnLst>
                        <p:par>
                          <p:cTn id="2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114800" y="160020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Марія Склодовська-Кюрі (1867—1934)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Garamond"/>
              </a:rPr>
              <a:t>Польська і французька вчена — фізик і хімік, одна з творців учення про радіоактивність. Разом із П’ером Кюрі відкрила Полоній і Радій. Добула металічний радій (1910) і дослідила його властивості. Лауреат Нобелівської премії з фізики (1903) разом із П. Кюрі та А. Беккерелем. Лауреат Нобелівської премії з хімії (1911)</a:t>
            </a:r>
            <a:br>
              <a:rPr sz="2000"/>
            </a:br>
            <a:br>
              <a:rPr sz="1200"/>
            </a:br>
            <a:r>
              <a:rPr b="0" i="1" lang="ru-RU" sz="1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27" name="Picture 4" descr="Image:Марія Склодовська-Кюрі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1295280"/>
            <a:ext cx="40384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152280" y="1905120"/>
            <a:ext cx="2764080" cy="403848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6"/>
          <p:cNvSpPr/>
          <p:nvPr/>
        </p:nvSpPr>
        <p:spPr>
          <a:xfrm>
            <a:off x="2175120" y="1692360"/>
            <a:ext cx="80337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Ернест Резерфорд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оказав експериментально, що атом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складається з ядра, оточеного негативно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зарядженими частинками — електронами.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(</a:t>
            </a:r>
            <a:r>
              <a:rPr b="0" lang="uk-UA" sz="2800" spc="-1" strike="noStrike">
                <a:solidFill>
                  <a:srgbClr val="ffffff"/>
                </a:solidFill>
                <a:latin typeface="Garamond"/>
              </a:rPr>
              <a:t>планетарна модель</a:t>
            </a:r>
            <a:r>
              <a:rPr b="0" lang="en-US" sz="2800" spc="-1" strike="noStrike">
                <a:solidFill>
                  <a:srgbClr val="ffffff"/>
                </a:solidFill>
                <a:latin typeface="Garamond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1" name="Picture 7" descr="Image:Ернест Резерфорд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276720" y="4295880"/>
            <a:ext cx="2057400" cy="210492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5638680" y="4340160"/>
            <a:ext cx="2210040" cy="21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ІСТОРІЯ ВІДКРИТТ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019560" y="1600200"/>
            <a:ext cx="2895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ffffff"/>
                </a:solidFill>
                <a:latin typeface="Garamond"/>
              </a:rPr>
              <a:t>Група вчених з Харківського фізико-технічного інституту зробила перші в історії науки знімки атома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135" name="Picture 4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548640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4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758880" y="1828440"/>
            <a:ext cx="798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АТОМ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електронейтральна частинка, що складається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 позитивно зарядженого ядра та негативно заряджених електронів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8" name="Rectangle 6"/>
          <p:cNvSpPr/>
          <p:nvPr/>
        </p:nvSpPr>
        <p:spPr>
          <a:xfrm>
            <a:off x="102600" y="2895480"/>
            <a:ext cx="479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центральна частина атома,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ка зосереджує в собі пози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і основну масу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63560" y="4679640"/>
            <a:ext cx="2923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Протони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(позитивно заряджені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частинки ядра атома)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0" name="Rectangle 8"/>
          <p:cNvSpPr/>
          <p:nvPr/>
        </p:nvSpPr>
        <p:spPr>
          <a:xfrm>
            <a:off x="4980960" y="3124080"/>
            <a:ext cx="391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ментарні частинки, що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забезпечують негативний заряд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ної оболонки атома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548880" y="4723920"/>
            <a:ext cx="36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Нейтрон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електронейтральні частинки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ядра атома.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3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60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1676520"/>
            <a:ext cx="77724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дро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о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 заряд - -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и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ней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р   заряд - +1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n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аряд – 0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маса – 1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маса – 1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и</a:t>
            </a: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 (nu)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4" name="Line 4"/>
          <p:cNvSpPr/>
          <p:nvPr/>
        </p:nvSpPr>
        <p:spPr>
          <a:xfrm flipH="1">
            <a:off x="2133720" y="2057400"/>
            <a:ext cx="1828800" cy="380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5" name="Line 5"/>
          <p:cNvSpPr/>
          <p:nvPr/>
        </p:nvSpPr>
        <p:spPr>
          <a:xfrm>
            <a:off x="4952880" y="2057400"/>
            <a:ext cx="838440" cy="304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6" name="Oval 7"/>
          <p:cNvSpPr/>
          <p:nvPr/>
        </p:nvSpPr>
        <p:spPr>
          <a:xfrm>
            <a:off x="8077320" y="19810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_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7" name="Oval 8"/>
          <p:cNvSpPr/>
          <p:nvPr/>
        </p:nvSpPr>
        <p:spPr>
          <a:xfrm>
            <a:off x="380880" y="205740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+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8" name="Line 12"/>
          <p:cNvSpPr/>
          <p:nvPr/>
        </p:nvSpPr>
        <p:spPr>
          <a:xfrm>
            <a:off x="1676520" y="2666880"/>
            <a:ext cx="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057400" y="2590920"/>
            <a:ext cx="2514600" cy="68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0" name="AutoShape 15"/>
          <p:cNvSpPr/>
          <p:nvPr/>
        </p:nvSpPr>
        <p:spPr>
          <a:xfrm rot="16200000">
            <a:off x="3543120" y="1713960"/>
            <a:ext cx="1143000" cy="6248160"/>
          </a:xfrm>
          <a:custGeom>
            <a:avLst/>
            <a:gdLst>
              <a:gd name="textAreaLeft" fmla="*/ 730440 w 1143000"/>
              <a:gd name="textAreaRight" fmla="*/ 1143360 w 1143000"/>
              <a:gd name="textAreaTop" fmla="*/ 162720 h 6248160"/>
              <a:gd name="textAreaBottom" fmla="*/ 6085440 h 6248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1" name="Oval 16"/>
          <p:cNvSpPr/>
          <p:nvPr/>
        </p:nvSpPr>
        <p:spPr>
          <a:xfrm>
            <a:off x="4114800" y="1066680"/>
            <a:ext cx="685800" cy="685800"/>
          </a:xfrm>
          <a:prstGeom prst="ellipse">
            <a:avLst/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nodeType="clickEffect" fill="hold">
                      <p:stCondLst>
                        <p:cond delay="indefinite"/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БУДОВА АТОМА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121932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ОРЯДКОВИЙ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4" name="Rectangle 6"/>
          <p:cNvSpPr/>
          <p:nvPr/>
        </p:nvSpPr>
        <p:spPr>
          <a:xfrm>
            <a:off x="38098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ПРОТ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ЧИСЛО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p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6553080" y="21337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КІЛЬКІСТЬ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ffff"/>
                </a:solidFill>
                <a:latin typeface="Tahoma"/>
              </a:rPr>
              <a:t>ЕЛЕКТРОНІВ</a:t>
            </a:r>
            <a:r>
              <a:rPr b="1" lang="en-US" sz="1800" spc="-1" strike="noStrike">
                <a:solidFill>
                  <a:srgbClr val="ffffff"/>
                </a:solidFill>
                <a:latin typeface="Tahoma"/>
              </a:rPr>
              <a:t> (e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6" name="Rectangle 11"/>
          <p:cNvSpPr/>
          <p:nvPr/>
        </p:nvSpPr>
        <p:spPr>
          <a:xfrm>
            <a:off x="603936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7" name="Rectangle 12"/>
          <p:cNvSpPr/>
          <p:nvPr/>
        </p:nvSpPr>
        <p:spPr>
          <a:xfrm>
            <a:off x="3372120" y="2437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=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8" name="Rectangle 13"/>
          <p:cNvSpPr/>
          <p:nvPr/>
        </p:nvSpPr>
        <p:spPr>
          <a:xfrm>
            <a:off x="1143000" y="3733920"/>
            <a:ext cx="2057400" cy="91440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59" name="Rectangle 14"/>
          <p:cNvSpPr/>
          <p:nvPr/>
        </p:nvSpPr>
        <p:spPr>
          <a:xfrm>
            <a:off x="6553080" y="373392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0" name="Rectangle 15"/>
          <p:cNvSpPr/>
          <p:nvPr/>
        </p:nvSpPr>
        <p:spPr>
          <a:xfrm>
            <a:off x="3733920" y="3657600"/>
            <a:ext cx="2057400" cy="914400"/>
          </a:xfrm>
          <a:prstGeom prst="rect">
            <a:avLst/>
          </a:prstGeom>
          <a:solidFill>
            <a:srgbClr val="ff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1" name="Text Box 233"/>
          <p:cNvSpPr/>
          <p:nvPr/>
        </p:nvSpPr>
        <p:spPr>
          <a:xfrm>
            <a:off x="1190160" y="3962520"/>
            <a:ext cx="186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№</a:t>
            </a: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ОКСИГЕН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2" name="Text Box 234"/>
          <p:cNvSpPr/>
          <p:nvPr/>
        </p:nvSpPr>
        <p:spPr>
          <a:xfrm>
            <a:off x="3697200" y="3886200"/>
            <a:ext cx="245448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ПОЗИ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3" name="Text Box 235"/>
          <p:cNvSpPr/>
          <p:nvPr/>
        </p:nvSpPr>
        <p:spPr>
          <a:xfrm>
            <a:off x="6460560" y="3886200"/>
            <a:ext cx="2356920" cy="64260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8 (З НЕГАТИВНИМ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Tahoma"/>
              </a:rPr>
              <a:t>ЗАРЯДОМ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4" name="Text Box 237"/>
          <p:cNvSpPr/>
          <p:nvPr/>
        </p:nvSpPr>
        <p:spPr>
          <a:xfrm>
            <a:off x="1371600" y="5791320"/>
            <a:ext cx="2857680" cy="685800"/>
          </a:xfrm>
          <a:prstGeom prst="rect">
            <a:avLst/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Arial"/>
                <a:ea typeface="Times New Roman"/>
              </a:rPr>
              <a:t>Протонне число, заряд ядра, порядковий номер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5" name="Line 238"/>
          <p:cNvSpPr/>
          <p:nvPr/>
        </p:nvSpPr>
        <p:spPr>
          <a:xfrm>
            <a:off x="4495680" y="5257800"/>
            <a:ext cx="22860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6" name="Line 239"/>
          <p:cNvSpPr/>
          <p:nvPr/>
        </p:nvSpPr>
        <p:spPr>
          <a:xfrm flipV="1">
            <a:off x="4267080" y="5943240"/>
            <a:ext cx="2210040" cy="2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7" name="Rectangle 241"/>
          <p:cNvSpPr/>
          <p:nvPr/>
        </p:nvSpPr>
        <p:spPr>
          <a:xfrm>
            <a:off x="0" y="226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8" name="Rectangle 243"/>
          <p:cNvSpPr/>
          <p:nvPr/>
        </p:nvSpPr>
        <p:spPr>
          <a:xfrm>
            <a:off x="2165040" y="4766040"/>
            <a:ext cx="5347440" cy="183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uk-UA" sz="1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uk-UA" sz="3600" spc="-1" strike="noStrike" baseline="-30000">
                <a:solidFill>
                  <a:srgbClr val="ffffff"/>
                </a:solidFill>
                <a:latin typeface="Arial"/>
              </a:rPr>
              <a:t>8</a:t>
            </a:r>
            <a:r>
              <a:rPr b="1" lang="uk-UA" sz="3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uk-UA" sz="3600" spc="-1" strike="noStrike" baseline="30000">
                <a:solidFill>
                  <a:srgbClr val="ffffff"/>
                </a:solidFill>
                <a:latin typeface="Arial"/>
              </a:rPr>
              <a:t>16</a:t>
            </a:r>
            <a:r>
              <a:rPr b="1" lang="uk-UA" sz="4800" spc="-1" strike="noStrike">
                <a:solidFill>
                  <a:srgbClr val="ffffff"/>
                </a:solidFill>
                <a:latin typeface="Arial"/>
              </a:rPr>
              <a:t>О</a:t>
            </a: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69" name="Text Box 244"/>
          <p:cNvSpPr/>
          <p:nvPr/>
        </p:nvSpPr>
        <p:spPr>
          <a:xfrm>
            <a:off x="2666880" y="4876920"/>
            <a:ext cx="1676520" cy="91692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Нуклонне 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число 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nu - 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(</a:t>
            </a:r>
            <a:r>
              <a:rPr b="1" lang="en-US" sz="1800" spc="-1" strike="noStrike">
                <a:solidFill>
                  <a:srgbClr val="ffcc00"/>
                </a:solidFill>
                <a:latin typeface="Garamond"/>
              </a:rPr>
              <a:t>Ar</a:t>
            </a:r>
            <a:r>
              <a:rPr b="1" lang="uk-UA" sz="1800" spc="-1" strike="noStrike">
                <a:solidFill>
                  <a:srgbClr val="ffcc00"/>
                </a:solidFill>
                <a:latin typeface="Garamond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8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4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8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1" dur="8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2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3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8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8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0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8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8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8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8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8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3" dur="8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8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8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8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8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8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8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8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8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8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3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5" dur="1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457200" y="685800"/>
            <a:ext cx="8229600" cy="544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На основі відкриття фізичного значення порядкового номера періодичний закон 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2220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	</a:t>
            </a:r>
            <a:r>
              <a:rPr b="0" i="1" lang="ru-RU" sz="3600" spc="-1" strike="noStrike">
                <a:solidFill>
                  <a:srgbClr val="ffcc00"/>
                </a:solidFill>
                <a:latin typeface="Garamond"/>
              </a:rPr>
              <a:t>Д. І. Менделєєва нині формулюється так:</a:t>
            </a:r>
            <a:br>
              <a:rPr sz="3600"/>
            </a:b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властивості елементів і утворених ними простих і складних речовин перебувають у періодичній залежності від величини заряду ядер їх атомів.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ланетарну модель будови атома запропонував …</a:t>
            </a:r>
            <a:r>
              <a:rPr b="1" lang="ru-RU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09480" y="3124080"/>
            <a:ext cx="8229600" cy="19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Англійський вчений Ернест Резерфорд</a:t>
            </a:r>
            <a:r>
              <a:rPr b="0" lang="ru-RU" sz="32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6" dur="indefinite" restart="never" nodeType="tmRoot">
          <p:childTnLst>
            <p:seq>
              <p:cTn id="577" dur="indefinite" nodeType="mainSeq">
                <p:childTnLst>
                  <p:par>
                    <p:cTn id="578" nodeType="clickEffect" fill="hold">
                      <p:stCondLst>
                        <p:cond delay="indefinite"/>
                      </p:stCondLst>
                      <p:childTnLst>
                        <p:par>
                          <p:cTn id="5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9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2" dur="100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33520" y="990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Атом це …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2438280"/>
            <a:ext cx="822960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Електронейтральна частинка, що складається з позитивно зарядженого ядра та негативно заряджених електронів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3" dur="indefinite" restart="never" nodeType="tmRoot">
          <p:childTnLst>
            <p:seq>
              <p:cTn id="594" dur="indefinite" nodeType="mainSeq">
                <p:childTnLst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9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90360" y="976320"/>
            <a:ext cx="7792920" cy="489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 – це горизонтальний ряд хімічних елементів, розміщених в порядку зростання їх відносної атомної маси, що розпочинається лужним металом і закінчується інертним газом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80880" y="1294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Частинки з яких складається ядро атома називаються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80880" y="358092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ротонами та нейтронами. Загальна назва – нуклони.</a:t>
            </a:r>
            <a:r>
              <a:rPr b="0" lang="ru-RU" sz="4400" spc="-1" strike="noStrike">
                <a:solidFill>
                  <a:srgbClr val="ffcc00"/>
                </a:solidFill>
                <a:latin typeface="Garamond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6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7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8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5"/>
          <p:cNvSpPr/>
          <p:nvPr/>
        </p:nvSpPr>
        <p:spPr>
          <a:xfrm>
            <a:off x="1523880" y="390888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1 а.о.м.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8" name="Rectangle 7"/>
          <p:cNvSpPr/>
          <p:nvPr/>
        </p:nvSpPr>
        <p:spPr>
          <a:xfrm>
            <a:off x="-109800" y="1035360"/>
            <a:ext cx="10216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Маси протна і нейтрона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ff"/>
                </a:solidFill>
                <a:latin typeface="Garamond"/>
              </a:rPr>
              <a:t>приблизно дорівнюють (в а.о.м.) …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4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5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nodeType="clickEffect" fill="hold">
                      <p:stCondLst>
                        <p:cond delay="indefinite"/>
                      </p:stCondLst>
                      <p:childTnLst>
                        <p:par>
                          <p:cTn id="6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33520" y="1828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Загальне число протонів в ядрі атома елемента дорівнює його …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80880" y="3581280"/>
            <a:ext cx="8229600" cy="152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Заряду ядра або </a:t>
            </a:r>
            <a:endParaRPr b="0" lang="en-US" sz="44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порядковому номеру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1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0" dur="1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8" dur="1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15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Розрахувати кількість нейтронів можна за формулою…</a:t>
            </a: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41144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cc00"/>
                </a:solidFill>
                <a:latin typeface="Garamond"/>
              </a:rPr>
              <a:t>n = nu – p</a:t>
            </a:r>
            <a:r>
              <a:rPr b="0" lang="ru-RU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7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2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3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1000" fill="hold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1000"/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обери пару (асоціація):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рот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сове число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ей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Пози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укл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Має негативний заряд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Електрон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Ядро і електрони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Порядковий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омер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Заряд ядра атома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32640" indent="-332640">
              <a:spcBef>
                <a:spcPts val="799"/>
              </a:spcBef>
              <a:buClr>
                <a:srgbClr val="ffcc00"/>
              </a:buClr>
              <a:buSzPct val="70000"/>
              <a:buFont typeface="Garamon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Атом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	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- Не має заряду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4" name="Line 3"/>
          <p:cNvSpPr/>
          <p:nvPr/>
        </p:nvSpPr>
        <p:spPr>
          <a:xfrm>
            <a:off x="2286000" y="2133720"/>
            <a:ext cx="1981080" cy="4572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5" name="Line 4"/>
          <p:cNvSpPr/>
          <p:nvPr/>
        </p:nvSpPr>
        <p:spPr>
          <a:xfrm>
            <a:off x="2362320" y="2743200"/>
            <a:ext cx="1981080" cy="26668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6" name="Line 5"/>
          <p:cNvSpPr/>
          <p:nvPr/>
        </p:nvSpPr>
        <p:spPr>
          <a:xfrm flipV="1">
            <a:off x="2286000" y="2286000"/>
            <a:ext cx="2057400" cy="9144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7" name="Line 6"/>
          <p:cNvSpPr/>
          <p:nvPr/>
        </p:nvSpPr>
        <p:spPr>
          <a:xfrm flipV="1">
            <a:off x="2666880" y="3276360"/>
            <a:ext cx="152424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8" name="Line 7"/>
          <p:cNvSpPr/>
          <p:nvPr/>
        </p:nvSpPr>
        <p:spPr>
          <a:xfrm>
            <a:off x="2057400" y="4952880"/>
            <a:ext cx="205740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9" name="Line 8"/>
          <p:cNvSpPr/>
          <p:nvPr/>
        </p:nvSpPr>
        <p:spPr>
          <a:xfrm flipV="1">
            <a:off x="1905120" y="3962160"/>
            <a:ext cx="2438280" cy="1447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6" dur="indefinite" restart="never" nodeType="tmRoot">
          <p:childTnLst>
            <p:seq>
              <p:cTn id="687" dur="indefinite" nodeType="mainSeq">
                <p:childTnLst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2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3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5" dur="2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1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20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4" nodeType="clickEffect" fill="hold">
                      <p:stCondLst>
                        <p:cond delay="indefinite"/>
                      </p:stCondLst>
                      <p:childTnLst>
                        <p:par>
                          <p:cTn id="7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8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9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2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nodeType="clickEffect" fill="hold">
                      <p:stCondLst>
                        <p:cond delay="indefinite"/>
                      </p:stCondLst>
                      <p:childTnLst>
                        <p:par>
                          <p:cTn id="7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5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2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32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5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2480"/>
                <a:gridCol w="216000"/>
                <a:gridCol w="869760"/>
                <a:gridCol w="1663560"/>
                <a:gridCol w="1138680"/>
                <a:gridCol w="1347480"/>
                <a:gridCol w="1311120"/>
                <a:gridCol w="128772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2" name="Rectangle 22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2"/>
          <p:cNvSpPr/>
          <p:nvPr/>
        </p:nvSpPr>
        <p:spPr>
          <a:xfrm>
            <a:off x="0" y="455760"/>
            <a:ext cx="7924680" cy="825480"/>
          </a:xfrm>
          <a:prstGeom prst="rect">
            <a:avLst/>
          </a:prstGeom>
          <a:solidFill>
            <a:srgbClr val="00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6778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cc00"/>
                </a:solidFill>
                <a:latin typeface="Times New Roman"/>
              </a:rPr>
              <a:t>ЗАПОВНІТЬ ВІЛЬНІ КЛІТИНКИ  У         ТАБЛИЦІ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228600" y="1905120"/>
          <a:ext cx="8686800" cy="4190760"/>
        </p:xfrm>
        <a:graphic>
          <a:graphicData uri="http://schemas.openxmlformats.org/drawingml/2006/table">
            <a:tbl>
              <a:tblPr/>
              <a:tblGrid>
                <a:gridCol w="855720"/>
                <a:gridCol w="439560"/>
                <a:gridCol w="615960"/>
                <a:gridCol w="1670040"/>
                <a:gridCol w="1143000"/>
                <a:gridCol w="1352520"/>
                <a:gridCol w="1316160"/>
                <a:gridCol w="1293840"/>
              </a:tblGrid>
              <a:tr h="1011240"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МЕНТ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4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ИСЛО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УКЛОННЕ ЧИСЛО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азв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имвол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орядковий номе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прот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елек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йтронів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Атомна маса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Флу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F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9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08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Сульфу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1900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0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Фосфор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P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uk-UA" sz="2800" spc="-1" strike="noStrike">
                          <a:solidFill>
                            <a:srgbClr val="ffcc00"/>
                          </a:solidFill>
                          <a:latin typeface="Garamond"/>
                        </a:rPr>
                        <a:t>3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Garamond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Rectangle 50"/>
          <p:cNvSpPr/>
          <p:nvPr/>
        </p:nvSpPr>
        <p:spPr>
          <a:xfrm>
            <a:off x="0" y="490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ffff00"/>
                </a:solidFill>
                <a:latin typeface="Garamond"/>
              </a:rPr>
              <a:t>НА УРОЦІ Я. . . .</a:t>
            </a: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686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ДІЗНА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ЗРОЗУМІВ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ВЧИВСЯ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І ТРУДНОЩІ Я ВІДЧУВ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Я НЕ ВМІВ, А ТЕПЕР УМІЮ . . .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ЙБІЛЬШИЙ МІЙ УСПІХ – ЦЕ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НА НАСТУПНОМУ УРОЦІ Я ХОЧУ . . .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80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8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80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8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80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2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3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8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nodeType="clickEffect" fill="hold">
                      <p:stCondLst>
                        <p:cond delay="indefinite"/>
                      </p:stCondLst>
                      <p:childTnLst>
                        <p:par>
                          <p:cTn id="7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800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8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800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4" dur="800" fill="hold"/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1" dur="800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2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800" fill="hold"/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800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800" fill="hold"/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68544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e5e5ff"/>
                </a:solidFill>
                <a:latin typeface="Garamond"/>
              </a:rPr>
              <a:t>ДОМАШНЄ ЗАВДАННЯ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Опрацювати </a:t>
            </a:r>
            <a:r>
              <a:rPr b="0" lang="en-US" sz="2800" spc="-1" strike="noStrike">
                <a:solidFill>
                  <a:srgbClr val="ffcc00"/>
                </a:solidFill>
                <a:latin typeface="Garamond"/>
                <a:ea typeface="Tahoma"/>
              </a:rPr>
              <a:t>§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3,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0-202 (усно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 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03 (по варіантах),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№</a:t>
            </a:r>
            <a:r>
              <a:rPr b="0" lang="uk-UA" sz="2800" spc="-1" strike="noStrike">
                <a:solidFill>
                  <a:srgbClr val="ffcc00"/>
                </a:solidFill>
                <a:latin typeface="Garamond"/>
                <a:ea typeface="Tahoma"/>
              </a:rPr>
              <a:t>210 (за вибором)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90360" y="213336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Періоди бувають великими, середніми і малими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237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Періоди, що складаютья з одного ряду хімічних елементів називаються малим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2285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Елементом ІІ періоду </a:t>
            </a:r>
            <a:br>
              <a:rPr sz="4400"/>
            </a:b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є Сульфур.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360" y="1981080"/>
            <a:ext cx="7792920" cy="1919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e5e5ff"/>
                </a:solidFill>
                <a:latin typeface="Garamond"/>
              </a:rPr>
              <a:t>Група – це вертикальний стовбчик, де містяться подібні елементи.</a:t>
            </a:r>
            <a:endParaRPr b="1" lang="en-US" sz="40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0360" y="2514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e5e5ff"/>
                </a:solidFill>
                <a:latin typeface="Garamond"/>
              </a:rPr>
              <a:t>До IV групи належить елемент Нітроген. 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33cc33"/>
                </a:solidFill>
                <a:latin typeface="Garamond"/>
              </a:rPr>
              <a:t>ПРАВИЛЬНЕ ТВЕРДЖЕННЯ.</a:t>
            </a: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ffff"/>
                </a:solidFill>
                <a:latin typeface="Garamond"/>
              </a:rPr>
              <a:t>В ОСНОВУ КЛАСИФІКАЦІЇ ПЕРІОДИЧНОЇ СИСТЕМИ ПОКЛАДЕНО ВІДНОСНУ АТОМНУ МАСУ ХІМІЧНИХ ЕЛЕМЕНТІВ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Я</cp:lastModifiedBy>
  <dcterms:modified xsi:type="dcterms:W3CDTF">2015-03-24T08:52:49Z</dcterms:modified>
  <cp:revision>1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b60b000000000001024140</vt:lpwstr>
  </property>
  <property fmtid="{D5CDD505-2E9C-101B-9397-08002B2CF9AE}" pid="3" name="Version">
    <vt:r8>1</vt:r8>
  </property>
</Properties>
</file>