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D3BB-E0B2-4641-91CD-BF78A389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1A98-B7F4-49BF-ACD4-27A085A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85D5-3A0F-48F3-AC2A-A11334C2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EE38-85E9-48BE-86A0-3FE08FA6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A1C-ED50-431C-A2E3-DA99000E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ECB-7BB8-4669-9AB1-9A75590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7925-805A-42D1-B407-FD1376C4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6A04-96B7-4B9B-8C26-8875917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F5F1-3F0F-458C-B3B5-A43BF90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4F7D-7410-4F49-8612-085F12F9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17F-B2E4-40FC-AB9D-59FC492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4B0D-39C8-4393-8F2D-2BBDDDC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58A-35D3-41C8-BCC1-5FBE0CA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B34A-3CF2-44C5-AC9D-946A0CF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AD9-9728-49F4-AB1C-64D4C7B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BA68-D16E-4DD7-8A12-856B61B3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74BF-A20E-44B5-BE1E-7671234E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5471-2372-454F-A9CF-2BE84E8B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D1EF-C89E-40CB-94A0-72114A4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3D32-C11B-4890-9DDC-D513EDB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90BD-5035-43F7-AC8E-7F7041A8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1494-37CF-44F4-879B-7CC17B0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D23D-E1EC-4A41-A077-AEAE3AD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DBF1-D43A-46B0-908B-C39FC2C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63C-F70F-4B9C-83B8-EF72B0D25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538-6AD8-4BBA-AD61-7A298376DA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0;&#1072;&#1081;&#1083;:&#1052;&#1072;&#1088;&#1110;&#1103;_&#1057;&#1082;&#1083;&#1086;&#1076;&#1086;&#1074;&#1089;&#1100;&#1082;&#1072;-&#1050;&#1102;&#1088;&#111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chool.xvatit.com/index.php?title=&#1060;&#1072;&#1081;&#1083;:&#1045;&#1088;&#1085;&#1077;&#1089;&#1090;_&#1056;&#1077;&#1079;&#1077;&#1088;&#1092;&#1086;&#1088;&#1076;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92920" cy="29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 основу класифікацїї хімічних елементів Д.І.Менделєєв взяв відносну атомну масу хімічних елемен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</a:t>
            </a:r>
            <a:r>
              <a:rPr b="0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ХІМІЧНІ ЕЛЕМЕНТИ РОЗМІЩЕНІ В ПОРЯДКУ ЗРОСТАННЯ ЇХ ВІДНОСНИХ АТОМНИХ МА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ІСНУЮТЬ МАЛІ  ТА ВЕЛИКІ ПЕРІО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МАЛИХ ПЕРІОДІВ НАЛЕЖАТЬ 1,2,3, ЯКІ СКЛАДАЮТЬСЯ З ОДНОГО РЯДУ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СУЛЬФУР НАЛЕЖИТЬ ДО ТРЕТЬОГО ПЕРІОДУ ПЕРІОДИЧНОЇ СИСТЕМИ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ГРУПИ ВІДНОСЯТЬСЯ ЕЛЕМЕНТИ ПОДІБНІ ЗА ВЛАСТИВОСТ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НІТРОГЕН ЗНАХОДИТЬСЯ 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І ПЕРІОДИЧНОЇ СИСТЕМІ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Зверніть увагу на суперчність у періодичній системі Д.І.Менделєєва на три пари елементі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Телур – Іод (№52 – 53)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Аргон – Калій (№18 – 19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Кобальт – Нікол (№27 – 28)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розміщені не в порядку зростання їхніх атомних мас, а навпа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ТЕМА УРО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БУДОВА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АТО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Ядро атому приблизно в 10 000 разів менше, ніж сам атом. Таким чином, якщо збільшити атом до розмірів аеропорту Бориспіль, розмір ядра буде меншим від розміру кульки для настільного тені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779328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У Періодичній системі Д.І.Менделєєва хімічні елементи розміщені у порядку зменшення їх відносних атомних мас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ДОСЛІДЖЕ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714680" cy="2276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990440" y="1054080"/>
            <a:ext cx="698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ДЕМОКРІТ: вся природа складається 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томів, найдрібні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асток речовини, які споч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и рухаються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бсолютно пустому просторі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909080" y="419076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 19 столітті Джон Дальтон одержа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відчення існування атомі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ле припускав, що вони неподільні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рія Склодовська-Кюрі (1867—193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ьська і французька вчена — фізик і хімік, одна з творців учення про радіоактивність. Разом із П’ером Кюрі відкрила Полоній і Радій. Добула металічний радій (1910) і дослідила його властивості. Лауреат Нобелівської премії з фізики (1903) разом із П. Кюрі та А. Беккерелем. Лауреат Нобелівської премії з хімії (1911)</a:t>
            </a:r>
            <a:br>
              <a:rPr sz="2000"/>
            </a:b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Image:Марія Склодовська-Кюрі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76408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175120" y="1692360"/>
            <a:ext cx="80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Ернест Резерфор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оказав експериментально, що ат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ається з ядра, оточеного негатив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рядженими частинками — електрон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ланетарна мод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Image:Ернест Резерфорд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295880"/>
            <a:ext cx="2057400" cy="21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5638680" y="4340160"/>
            <a:ext cx="22100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95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Група вчених з Харківського фізико-технічного інституту зробила перші в історії науки знімки ат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8880" y="1828440"/>
            <a:ext cx="79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електронейтральна частинка, що складаєть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позитивно зарядженого ядра та негативно заряджених електроні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2600" y="2895480"/>
            <a:ext cx="47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центральна частина атом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а зосереджує в собі пози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основну масу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63560" y="4679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тони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позитивно заряджені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частинки ядра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80960" y="3124080"/>
            <a:ext cx="391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ментарні частинки, щ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безпечують нега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ної оболонки ато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548880" y="4723920"/>
            <a:ext cx="36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й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ейтральні части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а ато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дро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о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 заряд - -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ней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   заряд - +1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ряд – 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аса – 1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маса – 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nu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4"/>
          <p:cNvSpPr/>
          <p:nvPr/>
        </p:nvSpPr>
        <p:spPr>
          <a:xfrm flipH="1">
            <a:off x="2133720" y="20574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4952880" y="205740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8077320" y="19810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80880" y="205740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057400" y="2590920"/>
            <a:ext cx="2514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 rot="16200000">
            <a:off x="3543120" y="1713960"/>
            <a:ext cx="1143000" cy="62481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162720 h 6248160"/>
              <a:gd name="textAreaBottom" fmla="*/ 608544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114800" y="10666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ОРЯДКОВ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8098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ОТ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p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5530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ЕЛЕКТРОНІВ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03936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37212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143000" y="37339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553080" y="373392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733920" y="365760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33"/>
          <p:cNvSpPr/>
          <p:nvPr/>
        </p:nvSpPr>
        <p:spPr>
          <a:xfrm>
            <a:off x="1190160" y="396252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№</a:t>
            </a: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ОКСИГЕН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34"/>
          <p:cNvSpPr/>
          <p:nvPr/>
        </p:nvSpPr>
        <p:spPr>
          <a:xfrm>
            <a:off x="3697200" y="3886200"/>
            <a:ext cx="245448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ПОЗИ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35"/>
          <p:cNvSpPr/>
          <p:nvPr/>
        </p:nvSpPr>
        <p:spPr>
          <a:xfrm>
            <a:off x="6460560" y="3886200"/>
            <a:ext cx="23569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НЕГА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7"/>
          <p:cNvSpPr/>
          <p:nvPr/>
        </p:nvSpPr>
        <p:spPr>
          <a:xfrm>
            <a:off x="1371600" y="5791320"/>
            <a:ext cx="2857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Протонне число, заряд ядра, порядковий 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38"/>
          <p:cNvSpPr/>
          <p:nvPr/>
        </p:nvSpPr>
        <p:spPr>
          <a:xfrm>
            <a:off x="4495680" y="52578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9"/>
          <p:cNvSpPr/>
          <p:nvPr/>
        </p:nvSpPr>
        <p:spPr>
          <a:xfrm flipV="1">
            <a:off x="4267080" y="5943240"/>
            <a:ext cx="22100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4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243"/>
          <p:cNvSpPr/>
          <p:nvPr/>
        </p:nvSpPr>
        <p:spPr>
          <a:xfrm>
            <a:off x="2165040" y="4766040"/>
            <a:ext cx="53474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6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44"/>
          <p:cNvSpPr/>
          <p:nvPr/>
        </p:nvSpPr>
        <p:spPr>
          <a:xfrm>
            <a:off x="2666880" y="4876920"/>
            <a:ext cx="1676520" cy="916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Нукл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число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nu - 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Ar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На основі відкриття фізичного значення порядкового номера періодичний закон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Д. І. Менделєєва нині формулюється так: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властивості елементів і утворених ними простих і складних речовин перебувають у періодичній залежності від величини заряду ядер їх атомі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ланетарну модель будови атома запропонував …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Англійський вчений Ернест Резерфорд</a:t>
            </a: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Атом це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Електронейтральна частинка, що складається з позитивно зарядженого ядра та негативно заряджених електронів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976320"/>
            <a:ext cx="7792920" cy="48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инки з яких складається ядро атома називаються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ротонами та нейтронами. Загальна назва – нуклони.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1523880" y="3908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1 а.о.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-109800" y="1035360"/>
            <a:ext cx="102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Маси протна і нейтро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приблизно дорівнюють (в а.о.м.) …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гальне число протонів в ядрі атома елемента дорівнює його …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Заряду ядра а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орядковому номер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озрахувати кількість нейтронів можна за формулою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n = nu – 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бери пару (асоціація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сове чис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ей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Пози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є нега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Ядро і елек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рядков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оме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Заряд ядра ат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е має заря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0" y="2133720"/>
            <a:ext cx="1981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362320" y="2743200"/>
            <a:ext cx="198108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2286000" y="22860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2666880" y="3276360"/>
            <a:ext cx="1524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05740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1905120" y="3962160"/>
            <a:ext cx="2438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2480"/>
                <a:gridCol w="216000"/>
                <a:gridCol w="869760"/>
                <a:gridCol w="1663560"/>
                <a:gridCol w="1138680"/>
                <a:gridCol w="1347480"/>
                <a:gridCol w="1311120"/>
                <a:gridCol w="128772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2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5720"/>
                <a:gridCol w="439560"/>
                <a:gridCol w="615960"/>
                <a:gridCol w="1670040"/>
                <a:gridCol w="1143000"/>
                <a:gridCol w="1352520"/>
                <a:gridCol w="1316160"/>
                <a:gridCol w="129384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ульфу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5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НА УРОЦІ Я. . . 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ІЗНА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РОЗУМІВ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ВЧИ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І ТРУДНОЩІ Я ВІДЧУВ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Е ВМІВ, А ТЕПЕР УМІЮ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ИЙ МІЙ УСПІХ – ЦЕ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 НАСТУПНОМУ УРОЦІ Я ХОЧУ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ДОМАШНЄ ЗАВДАНН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Опрацювати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  <a:ea typeface="Tahoma"/>
              </a:rPr>
              <a:t>§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3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0-202 (усно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3 (по варіантах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10 (за вибор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еріоди бувають великими, середніми і мали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и, що складаютья з одного ряду хімічних елементів називаються мали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Елементом ІІ періоду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є Сульф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Група – це вертикальний стовбчик, де містяться подібні елемен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514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 IV групи належить елемент Нітроген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 ОСНОВУ КЛАСИФІКАЦІЇ ПЕРІОДИЧНОЇ СИСТЕМИ ПОКЛАДЕНО ВІДНОСНУ АТОМНУ МАСУ ХІМІЧНИХ ЕЛЕМЕНТІ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3-24T08:52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b000000000001024140</vt:lpwstr>
  </property>
  <property fmtid="{D5CDD505-2E9C-101B-9397-08002B2CF9AE}" pid="3" name="Version">
    <vt:r8>1</vt:r8>
  </property>
</Properties>
</file>