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7B6-98B9-4A51-9E5C-45F321ED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5A3-54E5-463C-ADAE-C05F1D5E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D31-0E22-4031-A455-4878E065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D08-DD61-479D-81B5-116B72EC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2F8-0F09-4071-97CA-5A507FF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168-0EE7-4D08-B2B3-573F906B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A96-CD39-4764-AB65-FEA6867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D84-BB30-409F-AD5F-8DFC64C4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3C8-6DD9-4004-A73E-B4312DFF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258-152F-4EFD-A51E-7A0FC305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B4F-B2A6-4BEE-AD38-C465218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0B4-9A02-4626-980E-0FC3B2C4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A16B-E5C0-4097-B56B-78E2E8552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Nd9GcRYb8UZuZHacgsvQpYFmEp7xAxMhUvyYWP8ixvkYp2anxyAzcHrBg"/>
          <p:cNvPicPr/>
          <p:nvPr/>
        </p:nvPicPr>
        <p:blipFill>
          <a:blip r:embed="rId1"/>
          <a:stretch/>
        </p:blipFill>
        <p:spPr>
          <a:xfrm>
            <a:off x="1116000" y="1052640"/>
            <a:ext cx="676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охм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ий аморфний порошок, не розчинний у  холодній воді, а в гарячій набухає і утворює колоїдний  розчин (клейст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Nd9GcTL7BrYED-28QW3RfXIDGGgacgUqxmzwt1WLu5hdnh2EczoDk-H"/>
          <p:cNvPicPr/>
          <p:nvPr/>
        </p:nvPicPr>
        <p:blipFill>
          <a:blip r:embed="rId1"/>
          <a:stretch/>
        </p:blipFill>
        <p:spPr>
          <a:xfrm>
            <a:off x="468360" y="3357720"/>
            <a:ext cx="323064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ANd9GcS2TinRfUUA5rGMVgFAc5PABU7OTYQ_ZBh9CNLkTEaA9UoF_wct"/>
          <p:cNvPicPr/>
          <p:nvPr/>
        </p:nvPicPr>
        <p:blipFill>
          <a:blip r:embed="rId2"/>
          <a:stretch/>
        </p:blipFill>
        <p:spPr>
          <a:xfrm>
            <a:off x="6084720" y="472428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QrzVlng3AKGPAFmNSyTMX03OUgS5s86pp99UK-L2cTcrzYGLjs"/>
          <p:cNvPicPr/>
          <p:nvPr/>
        </p:nvPicPr>
        <p:blipFill>
          <a:blip r:embed="rId3"/>
          <a:stretch/>
        </p:blipFill>
        <p:spPr>
          <a:xfrm>
            <a:off x="3995640" y="3860640"/>
            <a:ext cx="1941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охм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Хімічні власти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Гідроліз відбувається ступінчасто  до глюк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ер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nH2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2.Повне окисн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6nO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заємодія з йодом (якісна реакці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J2                синє забар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140360" y="4437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35600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067280" y="5373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елюл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С6Н10О5)n Молекули мають лінійну структуру, n-від сотень до 40 тися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Nd9GcTUIWIwdf-QMj52LIzUIclOckgXwi4fV9gYRreRAktO2Ty1nJLdUA"/>
          <p:cNvPicPr/>
          <p:nvPr/>
        </p:nvPicPr>
        <p:blipFill>
          <a:blip r:embed="rId1"/>
          <a:stretch/>
        </p:blipFill>
        <p:spPr>
          <a:xfrm>
            <a:off x="1547640" y="3213000"/>
            <a:ext cx="6264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елюл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а волокниста речовина нерозчинна ані у воді, ані в органічних розчинни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raaka-aine"/>
          <p:cNvPicPr/>
          <p:nvPr/>
        </p:nvPicPr>
        <p:blipFill>
          <a:blip r:embed="rId1"/>
          <a:stretch/>
        </p:blipFill>
        <p:spPr>
          <a:xfrm>
            <a:off x="324000" y="2924280"/>
            <a:ext cx="3743280" cy="32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d9GcS6WuP-Uq_ZrcD7xu09yC_H4pJBqMgNRFlnSSb0IfFnOQUmYBJeRw"/>
          <p:cNvPicPr/>
          <p:nvPr/>
        </p:nvPicPr>
        <p:blipFill>
          <a:blip r:embed="rId2"/>
          <a:stretch/>
        </p:blipFill>
        <p:spPr>
          <a:xfrm>
            <a:off x="4859280" y="3068640"/>
            <a:ext cx="33130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елюл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Гідроліз відбувається ступінчасто  до глюк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2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nH2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вне окисн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6nO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При нагріванні деревини без доступу повітря утворюються метан,  метанол, ацетон, оцтова кисл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284720" y="29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067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§ 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углеводи допомагають нам розв’язати безліч проблем.Вониживлять, вдягають, лікують, зігрівають, забезпечують рух, зберігають сталість внутрішнього середовища  організму, беруть участь у збереженні і відтворенні спадкової інформ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ма уроку:     «Вуглеводи: глюкоза, сахароза, крохмаль, целюлоза.»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углеводи (сахариди) –це сполуки Карбону, Гідрогену, Оксигену, в яких співвідношення між Гідрогеном і Оксигеном  таке, як у води Сn(H2O)m. Як правило містять декілька гідроксогруп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7280" y="2122200"/>
            <a:ext cx="774072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фікація вуглеводів (сахарид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826920" y="3084480"/>
            <a:ext cx="7199640" cy="3134880"/>
            <a:chOff x="826920" y="3084480"/>
            <a:chExt cx="7199640" cy="3134880"/>
          </a:xfrm>
        </p:grpSpPr>
        <p:sp>
          <p:nvSpPr>
            <p:cNvPr id="46" name="AutoShape 5"/>
            <p:cNvSpPr/>
            <p:nvPr/>
          </p:nvSpPr>
          <p:spPr>
            <a:xfrm>
              <a:off x="826920" y="3084480"/>
              <a:ext cx="7199640" cy="30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 flipH="1">
              <a:off x="1977840" y="3084480"/>
              <a:ext cx="863640" cy="45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4425840" y="3237120"/>
              <a:ext cx="0" cy="76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5722200" y="3084480"/>
              <a:ext cx="10771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258920" y="3696840"/>
              <a:ext cx="15829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Моносахари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3850560" y="4003560"/>
              <a:ext cx="166428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Дисахарид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8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8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Сахар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6298560" y="3696840"/>
              <a:ext cx="1438920" cy="10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Полісахари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(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)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Крохма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Целюл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 flipH="1">
              <a:off x="1258560" y="4310280"/>
              <a:ext cx="28764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2410560" y="4310280"/>
              <a:ext cx="14256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827640" y="4687560"/>
              <a:ext cx="1151280" cy="15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Гексо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-Глюк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-Фрукт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2122920" y="4617360"/>
              <a:ext cx="1151280" cy="15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Пенто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Риб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Дезоксириб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люкоза   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6Н12О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278100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4284720" y="1916280"/>
            <a:ext cx="43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езбарвна кристалічна речовина, добре розчинна у воді, солодка на смак (t пл.= 146 о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841_image001"/>
          <p:cNvPicPr/>
          <p:nvPr/>
        </p:nvPicPr>
        <p:blipFill>
          <a:blip r:embed="rId2"/>
          <a:stretch/>
        </p:blipFill>
        <p:spPr>
          <a:xfrm>
            <a:off x="684360" y="1700280"/>
            <a:ext cx="3600360" cy="1272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image002"/>
          <p:cNvPicPr/>
          <p:nvPr/>
        </p:nvPicPr>
        <p:blipFill>
          <a:blip r:embed="rId3"/>
          <a:stretch/>
        </p:blipFill>
        <p:spPr>
          <a:xfrm>
            <a:off x="1116000" y="3213000"/>
            <a:ext cx="197964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ANd9GcRm1cAvCxFz8FGltP2M8M_iVvcNHbwmhnYhl412XHk_uF2wB-RaOQ"/>
          <p:cNvPicPr/>
          <p:nvPr/>
        </p:nvPicPr>
        <p:blipFill>
          <a:blip r:embed="rId4"/>
          <a:stretch/>
        </p:blipFill>
        <p:spPr>
          <a:xfrm>
            <a:off x="4932360" y="4005360"/>
            <a:ext cx="3600360" cy="23032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307214956_13"/>
          <p:cNvPicPr/>
          <p:nvPr/>
        </p:nvPicPr>
        <p:blipFill>
          <a:blip r:embed="rId5"/>
          <a:stretch/>
        </p:blipFill>
        <p:spPr>
          <a:xfrm>
            <a:off x="179280" y="5168880"/>
            <a:ext cx="169704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1307214956_12"/>
          <p:cNvPicPr/>
          <p:nvPr/>
        </p:nvPicPr>
        <p:blipFill>
          <a:blip r:embed="rId6"/>
          <a:stretch/>
        </p:blipFill>
        <p:spPr>
          <a:xfrm>
            <a:off x="2771640" y="5157720"/>
            <a:ext cx="1800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люко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5400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усіх органах зелених рослин, у бджолиному меду, багато у винограді, містять її черешні, вишні, малина, суниця, слива, кавун, гарбуз,капуста, морк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мі людини у 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зах і кров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klubnika%5b47302%5d(300x238)"/>
          <p:cNvPicPr/>
          <p:nvPr/>
        </p:nvPicPr>
        <p:blipFill>
          <a:blip r:embed="rId1"/>
          <a:stretch/>
        </p:blipFill>
        <p:spPr>
          <a:xfrm>
            <a:off x="324000" y="19080"/>
            <a:ext cx="1726920" cy="1392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ANd9GcSNPV_1bfV8pLCsQQ9nxIDUmejJ2lrUgokvQ2CFzFQZBZlaBOXO"/>
          <p:cNvPicPr/>
          <p:nvPr/>
        </p:nvPicPr>
        <p:blipFill>
          <a:blip r:embed="rId2"/>
          <a:stretch/>
        </p:blipFill>
        <p:spPr>
          <a:xfrm>
            <a:off x="6156360" y="443700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GESP3nVMg3BgkCSZV2mIzi-G2p9CzXXQXThYtPn_bQ2iVoPHK"/>
          <p:cNvPicPr/>
          <p:nvPr/>
        </p:nvPicPr>
        <p:blipFill>
          <a:blip r:embed="rId3"/>
          <a:stretch/>
        </p:blipFill>
        <p:spPr>
          <a:xfrm>
            <a:off x="6227640" y="260280"/>
            <a:ext cx="2665440" cy="208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enCX_4HCunAUJw-DK-iMpAzjRl8LsAqZX_wpKKMjrdy-uHXvZ4w"/>
          <p:cNvPicPr/>
          <p:nvPr/>
        </p:nvPicPr>
        <p:blipFill>
          <a:blip r:embed="rId4"/>
          <a:stretch/>
        </p:blipFill>
        <p:spPr>
          <a:xfrm>
            <a:off x="468360" y="4537080"/>
            <a:ext cx="4248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Хімічні 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існа реакція на глюкоз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Н2ОН-(СНОН)4-СОН + Cu(OH)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Н2ОН-(СНОН)4-С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упове окисн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+ 6О2            6СО2 + 6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роді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ирт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         дріжджі                   2С2Н5ОН+ 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лочно-ки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         ферменти             2СН3-СНОН-СО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люконова кисл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ер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                                   С3Н7СООН + 2Н2+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віт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50072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57200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2627280" y="37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050920" y="59500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050920" y="4724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124000" y="530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аха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12Н22О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дається із глюкози та фрукто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image025"/>
          <p:cNvPicPr/>
          <p:nvPr/>
        </p:nvPicPr>
        <p:blipFill>
          <a:blip r:embed="rId1"/>
          <a:stretch/>
        </p:blipFill>
        <p:spPr>
          <a:xfrm>
            <a:off x="1547640" y="3284640"/>
            <a:ext cx="5832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аха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барвна кристалічна речовина, добре розчинна у воді, солодка на смак, утворює карамель при  (t пл.= 160 о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d9GcQvXJFZXPia3VeYAAzkWE9iD3n8onrPx7uIbH4ncpnGjukkLcxa"/>
          <p:cNvPicPr/>
          <p:nvPr/>
        </p:nvPicPr>
        <p:blipFill>
          <a:blip r:embed="rId1"/>
          <a:stretch/>
        </p:blipFill>
        <p:spPr>
          <a:xfrm>
            <a:off x="611280" y="3645000"/>
            <a:ext cx="2622600" cy="288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SQUkaV-_fp89yrBnT83T7cnEd7tQ9WCDLb0y5FT4tboSKosbTgSQ"/>
          <p:cNvPicPr/>
          <p:nvPr/>
        </p:nvPicPr>
        <p:blipFill>
          <a:blip r:embed="rId2"/>
          <a:stretch/>
        </p:blipFill>
        <p:spPr>
          <a:xfrm>
            <a:off x="468360" y="345960"/>
            <a:ext cx="2087640" cy="12286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ANd9GcTEfFRCHhicuuOQZsmGYopdnVdurQnHn6VrEJJ-39i9E_e17ZBpLQ"/>
          <p:cNvPicPr/>
          <p:nvPr/>
        </p:nvPicPr>
        <p:blipFill>
          <a:blip r:embed="rId3"/>
          <a:stretch/>
        </p:blipFill>
        <p:spPr>
          <a:xfrm>
            <a:off x="6084720" y="239760"/>
            <a:ext cx="2232360" cy="153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ANd9GcQn4hnLnhFxRIbXDtiLBfSh7WRrAZFc-tAKn4M41unR97prEAtJoVQjseJoRQ"/>
          <p:cNvPicPr/>
          <p:nvPr/>
        </p:nvPicPr>
        <p:blipFill>
          <a:blip r:embed="rId4"/>
          <a:stretch/>
        </p:blipFill>
        <p:spPr>
          <a:xfrm>
            <a:off x="3492360" y="4149720"/>
            <a:ext cx="1876680" cy="189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ANd9GcTus5bIbEsH06x1b6CGajnaWuoOMZjCXrNO-LDCPjYQrS0YS8xHkQ"/>
          <p:cNvPicPr/>
          <p:nvPr/>
        </p:nvPicPr>
        <p:blipFill>
          <a:blip r:embed="rId5"/>
          <a:stretch/>
        </p:blipFill>
        <p:spPr>
          <a:xfrm>
            <a:off x="5724360" y="3429000"/>
            <a:ext cx="280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хема виробництва цук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Механічна обробка цукрового буря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Дифузія (обробка гарячою водо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Дефекація (обробка розчином вапняного моло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Сатурація (обробка сахарату вуглекислим газ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Випарювання і кристаліз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Додаткове очищ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охм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С6Н10О5)n Макромолекули не однакові за розміром, мають як лінійну,так і розгалужену структу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n-від сотень до кількох тися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SW6OK5PTSeOIy-YVbxfds7EDcFhlzCC1ACt7B8zjsq_CCnVdNm4A"/>
          <p:cNvPicPr/>
          <p:nvPr/>
        </p:nvPicPr>
        <p:blipFill>
          <a:blip r:embed="rId1"/>
          <a:stretch/>
        </p:blipFill>
        <p:spPr>
          <a:xfrm>
            <a:off x="1547640" y="3881520"/>
            <a:ext cx="63374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2:26:53Z</dcterms:created>
  <dc:creator>Admin</dc:creator>
  <dc:description/>
  <dc:language>en-US</dc:language>
  <cp:lastModifiedBy>Admin</cp:lastModifiedBy>
  <dcterms:modified xsi:type="dcterms:W3CDTF">2014-12-15T22:26:04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04000000000001024140</vt:lpwstr>
  </property>
</Properties>
</file>