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7D3E-AB00-4846-9404-C2636FC85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573C-3475-4144-A2B8-CDF542734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765D-E5B9-4EE6-B9FB-F3FDFDA28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CC2C-D2DB-4E55-BE99-8158FA823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66BB2-FE55-41BF-B7E9-5F7FD1AA8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9A940-3075-4A98-81B9-F11B930BF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684E6-9A6E-4C16-A7C2-56D2BD55F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180EE-B018-429E-9853-E591D1E0A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F5372-0C1F-4626-8752-78304EA30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2F7E3-D4BF-4EF4-AB8B-80AF54032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F4C66-42EC-4218-9651-2F0DCD02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B664-2934-41EE-8522-14748B824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25253-F08F-4E36-A30C-A84EF10B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3030B-45BC-4535-B230-901A3992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8EAF0-C38F-4C00-90ED-BD0D9A66F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DBE0D-ECA2-4C91-B56F-389EC34FF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3A73F-4F77-4DDE-A05D-F8A65E80D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9012-6404-4DA3-A79F-0145115A3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FE29-2C59-4246-9576-6E522B89E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8C1D-D72A-48F2-9186-3CBBB3863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CA78-D858-41EA-8BDC-E2E046F8A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D241-B631-4BA4-9700-1E3BF953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BDCF-9495-4B92-A51D-F956F248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EE7F-CB26-4B4E-B709-F51B70DD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391EA-01A7-4122-81A7-EB281F738C5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2F4E2-DAD3-44D1-A501-131F1B0EE465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Arial"/>
              </a:rPr>
              <a:t>Теплодарська загальноосвітня школа І-ІІІ ступенів Теплодарської міської ради Одеської області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Verdana"/>
              </a:rPr>
              <a:t>Тема уроку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Verdana"/>
              </a:rPr>
              <a:t> 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Verdana"/>
              </a:rPr>
              <a:t>        </a:t>
            </a:r>
            <a:r>
              <a:rPr b="0" lang="uk-UA" sz="3200" spc="-1" strike="noStrike">
                <a:solidFill>
                  <a:srgbClr val="eaeaea"/>
                </a:solidFill>
                <a:latin typeface="Verdana"/>
              </a:rPr>
              <a:t>ОКСИДИ, ЇХ СКЛАД, НАЗВИ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Verdana"/>
              </a:rPr>
              <a:t>                                                                           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Verdana"/>
              </a:rPr>
              <a:t>                                            </a:t>
            </a:r>
            <a:r>
              <a:rPr b="0" lang="uk-UA" sz="2000" spc="-1" strike="noStrike">
                <a:solidFill>
                  <a:srgbClr val="eaeaea"/>
                </a:solidFill>
                <a:latin typeface="Verdana"/>
              </a:rPr>
              <a:t>Мещерякова Т.О.,                             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Verdana"/>
              </a:rPr>
              <a:t>                                            </a:t>
            </a:r>
            <a:r>
              <a:rPr b="0" lang="uk-UA" sz="2000" spc="-1" strike="noStrike">
                <a:solidFill>
                  <a:srgbClr val="eaeaea"/>
                </a:solidFill>
                <a:latin typeface="Verdana"/>
              </a:rPr>
              <a:t>учитель химії вищої категорії,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Verdana"/>
              </a:rPr>
              <a:t>                                            </a:t>
            </a:r>
            <a:r>
              <a:rPr b="0" lang="uk-UA" sz="2000" spc="-1" strike="noStrike">
                <a:solidFill>
                  <a:srgbClr val="eaeaea"/>
                </a:solidFill>
                <a:latin typeface="Verdana"/>
              </a:rPr>
              <a:t>учитель –методист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Verdana"/>
              </a:rPr>
              <a:t>                      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Verdana"/>
              </a:rPr>
              <a:t>                            </a:t>
            </a:r>
            <a:r>
              <a:rPr b="0" lang="uk-UA" sz="2000" spc="-1" strike="noStrike">
                <a:solidFill>
                  <a:srgbClr val="eaeaea"/>
                </a:solidFill>
                <a:latin typeface="Verdana"/>
              </a:rPr>
              <a:t>2014/2015 навчальний рік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Arial"/>
              </a:rPr>
              <a:t>Негашене вапно 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a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9" name="Picture 2" descr="E:\Новая папка (3)\Новая папка (2)\негашенная известь.jpg"/>
          <p:cNvPicPr/>
          <p:nvPr/>
        </p:nvPicPr>
        <p:blipFill>
          <a:blip r:embed="rId1"/>
          <a:stretch/>
        </p:blipFill>
        <p:spPr>
          <a:xfrm>
            <a:off x="353880" y="2057400"/>
            <a:ext cx="4422960" cy="4114800"/>
          </a:xfrm>
          <a:prstGeom prst="rect">
            <a:avLst/>
          </a:prstGeom>
          <a:ln w="38160">
            <a:solidFill>
              <a:srgbClr val="254061"/>
            </a:solidFill>
            <a:miter/>
          </a:ln>
        </p:spPr>
      </p:pic>
      <p:pic>
        <p:nvPicPr>
          <p:cNvPr id="140" name="Picture 3" descr="E:\Новая папка (3)\Новая папка (2)\известь.jpg"/>
          <p:cNvPicPr/>
          <p:nvPr/>
        </p:nvPicPr>
        <p:blipFill>
          <a:blip r:embed="rId2"/>
          <a:stretch/>
        </p:blipFill>
        <p:spPr>
          <a:xfrm>
            <a:off x="5257800" y="2057400"/>
            <a:ext cx="3276720" cy="4078440"/>
          </a:xfrm>
          <a:prstGeom prst="rect">
            <a:avLst/>
          </a:prstGeom>
          <a:ln w="38160">
            <a:solidFill>
              <a:srgbClr val="25406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Arial"/>
              </a:rPr>
              <a:t>Силіцій оксид 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iO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3" name="Picture 4" descr="C:\Documents and Settings\Administrator\Рабочий стол\m_5695.jpg"/>
          <p:cNvPicPr/>
          <p:nvPr/>
        </p:nvPicPr>
        <p:blipFill>
          <a:blip r:embed="rId1"/>
          <a:stretch/>
        </p:blipFill>
        <p:spPr>
          <a:xfrm>
            <a:off x="4749840" y="15858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C:\Documents and Settings\Administrator\Рабочий стол\i.jpg"/>
          <p:cNvPicPr/>
          <p:nvPr/>
        </p:nvPicPr>
        <p:blipFill>
          <a:blip r:embed="rId2"/>
          <a:stretch/>
        </p:blipFill>
        <p:spPr>
          <a:xfrm>
            <a:off x="838080" y="3200400"/>
            <a:ext cx="3524400" cy="27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Arial"/>
              </a:rPr>
              <a:t>Висновк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Verdana"/>
              </a:rPr>
              <a:t>Оксиди - складні речовини, що складаються з двох  хімічних               елементів, одним з яких є Оксиген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Verdana"/>
              </a:rPr>
              <a:t>Оксиди за складом поділяють на оксиди металічних, неметалічних, перехідних хімічних елементів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Verdana"/>
              </a:rPr>
              <a:t>Оксиди мають наукові та тривіальні назви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Verdana"/>
              </a:rPr>
              <a:t>Оксиди дуже поширені в природі. Найбільш поширені вода, силіцій оксид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Спасибо за сотрудничество!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Arial"/>
              </a:rPr>
              <a:t>Класифікація складних неорганічних речовин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Verdana"/>
              </a:rPr>
              <a:t>                                        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Verdana"/>
              </a:rPr>
              <a:t>ОКСИДИ ОСНОВИ КИСЛОТИ   СОЛІ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Verdana"/>
              </a:rPr>
              <a:t>                              </a:t>
            </a:r>
            <a:r>
              <a:rPr b="0" lang="uk-UA" sz="2000" spc="-1" strike="noStrike">
                <a:solidFill>
                  <a:srgbClr val="eaeaea"/>
                </a:solidFill>
                <a:latin typeface="Verdana"/>
              </a:rPr>
              <a:t>             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Na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O     NaOH       H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O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    K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O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5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  Ca(OH)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uk-UA" sz="3200" spc="-1" strike="noStrike">
                <a:solidFill>
                  <a:srgbClr val="eaeaea"/>
                </a:solidFill>
                <a:latin typeface="Verdana"/>
              </a:rPr>
              <a:t>НС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l          NaC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" name="Line 4"/>
          <p:cNvSpPr/>
          <p:nvPr/>
        </p:nvSpPr>
        <p:spPr>
          <a:xfrm flipH="1">
            <a:off x="1599840" y="1600200"/>
            <a:ext cx="69372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" name="Line 5"/>
          <p:cNvSpPr/>
          <p:nvPr/>
        </p:nvSpPr>
        <p:spPr>
          <a:xfrm>
            <a:off x="6629400" y="1600200"/>
            <a:ext cx="65736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Line 6"/>
          <p:cNvSpPr/>
          <p:nvPr/>
        </p:nvSpPr>
        <p:spPr>
          <a:xfrm flipH="1">
            <a:off x="3276360" y="1523880"/>
            <a:ext cx="685800" cy="57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" name="Line 7"/>
          <p:cNvSpPr/>
          <p:nvPr/>
        </p:nvSpPr>
        <p:spPr>
          <a:xfrm>
            <a:off x="5181480" y="1600200"/>
            <a:ext cx="6098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-152280" y="154440"/>
            <a:ext cx="121896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</a:t>
            </a:r>
            <a:endParaRPr b="0" lang="en-US" sz="13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</a:t>
            </a:r>
            <a:endParaRPr b="0" lang="en-US" sz="13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   </a:t>
            </a:r>
            <a:endParaRPr b="0" lang="en-US" sz="13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Arial"/>
              </a:rPr>
              <a:t>План вивчення речовин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Verdana"/>
              </a:rPr>
              <a:t>Хімічна формул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uk-UA" sz="3200" spc="-1" strike="noStrike">
                <a:solidFill>
                  <a:srgbClr val="eaeaea"/>
                </a:solidFill>
                <a:latin typeface="Verdana"/>
              </a:rPr>
              <a:t>Будова (молекулярна, іонна, атомна)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Verdana"/>
              </a:rPr>
              <a:t>Фізичні властивості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Verdana"/>
              </a:rPr>
              <a:t>Хімічні властивості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Verdana"/>
              </a:rPr>
              <a:t>Добування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Verdana"/>
              </a:rPr>
              <a:t>Застосування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Arial"/>
              </a:rPr>
              <a:t>Марафон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6" name="Содержимое 3" descr="http://im3-tub-ua.yandex.net/i?id=9f0c58333bde3e6743459d72ba1c3e1f-123-144&amp;n=21"/>
          <p:cNvPicPr/>
          <p:nvPr/>
        </p:nvPicPr>
        <p:blipFill>
          <a:blip r:embed="rId1"/>
          <a:stretch/>
        </p:blipFill>
        <p:spPr>
          <a:xfrm>
            <a:off x="1905120" y="2057400"/>
            <a:ext cx="5715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Arial"/>
              </a:rPr>
              <a:t>Який це оксид 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Verdana"/>
              </a:rPr>
              <a:t>Я и туча , и туман,                                                                                                               и ручей,  и океан,                                                                                                                      и летаю , и бегу,                                                                                                                          и «стеклянной»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uk-UA" sz="3200" spc="-1" strike="noStrike">
                <a:solidFill>
                  <a:srgbClr val="eaeaea"/>
                </a:solidFill>
                <a:latin typeface="Verdana"/>
              </a:rPr>
              <a:t>б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ы</a:t>
            </a:r>
            <a:r>
              <a:rPr b="0" lang="uk-UA" sz="3200" spc="-1" strike="noStrike">
                <a:solidFill>
                  <a:srgbClr val="eaeaea"/>
                </a:solidFill>
                <a:latin typeface="Verdana"/>
              </a:rPr>
              <a:t>ть могу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9" name="Picture 5" descr="E:\Новая папка (3)\Новая папка (2)\вода2.jpg"/>
          <p:cNvPicPr/>
          <p:nvPr/>
        </p:nvPicPr>
        <p:blipFill>
          <a:blip r:embed="rId1"/>
          <a:stretch/>
        </p:blipFill>
        <p:spPr>
          <a:xfrm>
            <a:off x="5119560" y="1676520"/>
            <a:ext cx="3459240" cy="2841480"/>
          </a:xfrm>
          <a:prstGeom prst="rect">
            <a:avLst/>
          </a:prstGeom>
          <a:ln w="38160">
            <a:solidFill>
              <a:srgbClr val="25406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Arial"/>
              </a:rPr>
              <a:t>Алгоритм складання формул оксидів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Verdana"/>
              </a:rPr>
              <a:t>1.Записуємо</a:t>
            </a:r>
            <a:r>
              <a:rPr b="0" lang="uk-UA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uk-UA" sz="2000" spc="-1" strike="noStrike">
                <a:solidFill>
                  <a:srgbClr val="eaeaea"/>
                </a:solidFill>
                <a:latin typeface="Verdana"/>
              </a:rPr>
              <a:t>хімічні символи елементів                  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l</a:t>
            </a:r>
            <a:r>
              <a:rPr b="0" lang="uk-UA" sz="2000" spc="-1" strike="noStrike">
                <a:solidFill>
                  <a:srgbClr val="eaeaea"/>
                </a:solidFill>
                <a:latin typeface="Verdana"/>
              </a:rPr>
              <a:t>О                                            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Verdana"/>
              </a:rPr>
              <a:t>2. Позначаємо валентність елементів римським цифрами   над відповідними символами                                  ІІІ ІІ                          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Verdana"/>
              </a:rPr>
              <a:t>                                                                                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l O</a:t>
            </a:r>
            <a:r>
              <a:rPr b="0" lang="uk-UA" sz="2000" spc="-1" strike="noStrike">
                <a:solidFill>
                  <a:srgbClr val="eaeaea"/>
                </a:solidFill>
                <a:latin typeface="Verdana"/>
              </a:rPr>
              <a:t>                                                              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3</a:t>
            </a:r>
            <a:r>
              <a:rPr b="0" lang="uk-UA" sz="2000" spc="-1" strike="noStrike">
                <a:solidFill>
                  <a:srgbClr val="eaeaea"/>
                </a:solidFill>
                <a:latin typeface="Verdana"/>
              </a:rPr>
              <a:t>. Знаходимо найменше спільне кратне валентностей обох   елементів                                                    ІІІ</a:t>
            </a:r>
            <a:r>
              <a:rPr b="0" lang="uk-UA" sz="2000" spc="-1" strike="noStrike" baseline="30000">
                <a:solidFill>
                  <a:srgbClr val="eaeaea"/>
                </a:solidFill>
                <a:latin typeface="Verdana"/>
              </a:rPr>
              <a:t>6</a:t>
            </a:r>
            <a:r>
              <a:rPr b="0" lang="uk-UA" sz="2000" spc="-1" strike="noStrike">
                <a:solidFill>
                  <a:srgbClr val="eaeaea"/>
                </a:solidFill>
                <a:latin typeface="Verdana"/>
              </a:rPr>
              <a:t>ІІ                             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Verdana"/>
              </a:rPr>
              <a:t>                                                                                 </a:t>
            </a:r>
            <a:r>
              <a:rPr b="0" lang="uk-UA" sz="2000" spc="-1" strike="noStrike">
                <a:solidFill>
                  <a:srgbClr val="eaeaea"/>
                </a:solidFill>
                <a:latin typeface="Verdana"/>
              </a:rPr>
              <a:t>А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l O</a:t>
            </a:r>
            <a:r>
              <a:rPr b="0" lang="uk-UA" sz="2000" spc="-1" strike="noStrike">
                <a:solidFill>
                  <a:srgbClr val="eaeaea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Verdana"/>
              </a:rPr>
              <a:t>4. Ділимо найменше спільне кратне на величину валентності кожного  з хімічних  елементів для  визначення  індексів, які слід поставити справа внизу  біля відповідного символу                                     А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l</a:t>
            </a:r>
            <a:r>
              <a:rPr b="0" lang="uk-UA" sz="2000" spc="-1" strike="noStrike" baseline="-25000">
                <a:solidFill>
                  <a:srgbClr val="eaeaea"/>
                </a:solidFill>
                <a:latin typeface="Verdana"/>
              </a:rPr>
              <a:t>2</a:t>
            </a:r>
            <a:r>
              <a:rPr b="0" lang="uk-UA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O </a:t>
            </a:r>
            <a:r>
              <a:rPr b="0" lang="uk-UA" sz="2000" spc="-1" strike="noStrike" baseline="-25000">
                <a:solidFill>
                  <a:srgbClr val="eaeaea"/>
                </a:solidFill>
                <a:latin typeface="Verdana"/>
              </a:rPr>
              <a:t>3</a:t>
            </a:r>
            <a:r>
              <a:rPr b="0" lang="uk-UA" sz="2000" spc="-1" strike="noStrike">
                <a:solidFill>
                  <a:srgbClr val="eaeaea"/>
                </a:solidFill>
                <a:latin typeface="Verdana"/>
              </a:rPr>
              <a:t>  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Arial"/>
              </a:rPr>
              <a:t>Назви оксидів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70102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Arial"/>
              </a:rPr>
              <a:t>Сухий лід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CO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5" name="Picture 3" descr="G:\алмазы\сухой лёд 2.jpg"/>
          <p:cNvPicPr/>
          <p:nvPr/>
        </p:nvPicPr>
        <p:blipFill>
          <a:blip r:embed="rId1"/>
          <a:stretch/>
        </p:blipFill>
        <p:spPr>
          <a:xfrm>
            <a:off x="2309760" y="2232000"/>
            <a:ext cx="4524480" cy="3267000"/>
          </a:xfrm>
          <a:prstGeom prst="rect">
            <a:avLst/>
          </a:prstGeom>
          <a:ln w="38160">
            <a:solidFill>
              <a:srgbClr val="25406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Arial"/>
              </a:rPr>
              <a:t>Вуглекислий газ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CO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7" name="Picture 15" descr=""/>
          <p:cNvPicPr/>
          <p:nvPr/>
        </p:nvPicPr>
        <p:blipFill>
          <a:blip r:embed="rId1"/>
          <a:srcRect l="0" t="0" r="-128" b="-1063"/>
          <a:stretch/>
        </p:blipFill>
        <p:spPr>
          <a:xfrm>
            <a:off x="3308400" y="2136600"/>
            <a:ext cx="2527200" cy="3457800"/>
          </a:xfrm>
          <a:prstGeom prst="rect">
            <a:avLst/>
          </a:prstGeom>
          <a:ln w="38160">
            <a:solidFill>
              <a:srgbClr val="e5e5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12-11T17:46:45Z</dcterms:modified>
  <cp:revision>8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e06000000000001024140</vt:lpwstr>
  </property>
  <property fmtid="{D5CDD505-2E9C-101B-9397-08002B2CF9AE}" pid="3" name="Version">
    <vt:r8>1</vt:r8>
  </property>
</Properties>
</file>