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FCB-5F27-449D-A45B-B1782AF2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A84-85C6-456F-9712-73FB1495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022-9A91-4109-B993-3FBDA9F9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BAE-7027-4882-8E97-29533AFC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8051-45E9-443E-B577-71BBA04D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B506-EA47-4E83-A5F6-D3491911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9B7D-83CF-419B-8FE4-58625954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5CFF-0701-488F-9052-2368F5AE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07E8-F994-4118-ABE6-63A3304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4561-8C2D-4833-88AD-1A59EDCF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2E03-CF39-4570-91A6-9BCA4E57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809-EA82-4605-9630-46B2B40C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66CB-2478-4E5E-A459-8A21716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1E41-B52E-4C65-8527-9988115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3AED-9654-49DE-B296-6EABED8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E967-37A6-4CD6-A98A-C4E577C3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C31A-ED4C-4ACF-A245-1F85FB81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155-01A3-472A-90E9-16C4CFF8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DE6-0699-483F-AAAB-3728D7A6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D41-91EE-4CC7-BBDC-C0BDCB32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DFB-FE5D-4B1F-9447-C7433FFF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CFF-6E8E-4006-A948-E2883687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20A-A567-4496-8B40-1853992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B94-40D7-4213-88D7-470F634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2780-6728-4978-94F6-1118AF72445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5FFF-7D9C-4F1D-B83E-5F7E25E0267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Arial"/>
              </a:rPr>
              <a:t>Теплодарська загальноосвітня школа І-ІІІ ступенів Теплодарської міської ради Одеської області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Тема уроку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ОКСИДИ, ЇХ СКЛАД, НАЗВ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ещерякова Т.О.,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учитель химії вищої категорії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учитель –методис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2014/2015 навчальний рік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Негашене вапно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2" descr="E:\Новая папка (3)\Новая папка (2)\негашенная известь.jpg"/>
          <p:cNvPicPr/>
          <p:nvPr/>
        </p:nvPicPr>
        <p:blipFill>
          <a:blip r:embed="rId1"/>
          <a:stretch/>
        </p:blipFill>
        <p:spPr>
          <a:xfrm>
            <a:off x="353880" y="2057400"/>
            <a:ext cx="4422960" cy="411480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  <p:pic>
        <p:nvPicPr>
          <p:cNvPr id="140" name="Picture 3" descr="E:\Новая папка (3)\Новая папка (2)\известь.jpg"/>
          <p:cNvPicPr/>
          <p:nvPr/>
        </p:nvPicPr>
        <p:blipFill>
          <a:blip r:embed="rId2"/>
          <a:stretch/>
        </p:blipFill>
        <p:spPr>
          <a:xfrm>
            <a:off x="5257800" y="2057400"/>
            <a:ext cx="3276720" cy="40784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Силіцій оксид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O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4" descr="C:\Documents and Settings\Administrator\Рабочий стол\m_5695.jpg"/>
          <p:cNvPicPr/>
          <p:nvPr/>
        </p:nvPicPr>
        <p:blipFill>
          <a:blip r:embed="rId1"/>
          <a:stretch/>
        </p:blipFill>
        <p:spPr>
          <a:xfrm>
            <a:off x="4749840" y="1585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Administrator\Рабочий стол\i.jpg"/>
          <p:cNvPicPr/>
          <p:nvPr/>
        </p:nvPicPr>
        <p:blipFill>
          <a:blip r:embed="rId2"/>
          <a:stretch/>
        </p:blipFill>
        <p:spPr>
          <a:xfrm>
            <a:off x="838080" y="3200400"/>
            <a:ext cx="35244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- складні речовини, що складаються з двох  хімічних               елементів, одним з яких є Оксиге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за складом поділяють на оксиди металічних, неметалічних, перехідних хімічних елементі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мають наукові та тривіальні назв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Оксиди дуже поширені в природі. Найбільш поширені вода, силіцій оксид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пасибо за сотрудничество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Класифікація складних неорганічних речови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ОКСИДИ ОСНОВИ КИСЛОТИ   СОЛІ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     NaOH       H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Ca(OH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Н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          NaC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 flipH="1">
            <a:off x="1599840" y="1600200"/>
            <a:ext cx="6937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6629400" y="1600200"/>
            <a:ext cx="65736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3276360" y="1523880"/>
            <a:ext cx="6858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5181480" y="1600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-152280" y="154440"/>
            <a:ext cx="12189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План вивчення речови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Хімічна форму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Будова (молекулярна, іонна, атомна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Фізичні властивості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Хімічні властивості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Добуванн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Застосуванн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Марафо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Содержимое 3" descr="http://im3-tub-ua.yandex.net/i?id=9f0c58333bde3e6743459d72ba1c3e1f-123-144&amp;n=21"/>
          <p:cNvPicPr/>
          <p:nvPr/>
        </p:nvPicPr>
        <p:blipFill>
          <a:blip r:embed="rId1"/>
          <a:stretch/>
        </p:blipFill>
        <p:spPr>
          <a:xfrm>
            <a:off x="1905120" y="205740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Який це оксид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Я и туча , и туман,                                                                                                               и ручей,  и океан,                                                                                                                      и летаю , и бегу,                                                                                                                          и «стеклянной»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ы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ть мог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5" descr="E:\Новая папка (3)\Новая папка (2)\вода2.jpg"/>
          <p:cNvPicPr/>
          <p:nvPr/>
        </p:nvPicPr>
        <p:blipFill>
          <a:blip r:embed="rId1"/>
          <a:stretch/>
        </p:blipFill>
        <p:spPr>
          <a:xfrm>
            <a:off x="5119560" y="1676520"/>
            <a:ext cx="3459240" cy="28414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Алгоритм складання формул оксиді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1.Записуємо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хімічні символи елементів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О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2. Позначаємо валентність елементів римським цифрами   над відповідними символами                                  ІІІ ІІ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 O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. Знаходимо найменше спільне кратне валентностей обох   елементів                                                    ІІІ</a:t>
            </a:r>
            <a:r>
              <a:rPr b="0" lang="uk-UA" sz="2000" spc="-1" strike="noStrike" baseline="30000">
                <a:solidFill>
                  <a:srgbClr val="eaeaea"/>
                </a:solidFill>
                <a:latin typeface="Verdana"/>
              </a:rPr>
              <a:t>6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ІІ      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 O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4. Ділимо найменше спільне кратне на величину валентності кожного  з хімічних  елементів для  визначення  індексів, які слід поставити справа внизу  біля відповідного символу                                     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</a:t>
            </a:r>
            <a:r>
              <a:rPr b="0" lang="uk-UA" sz="20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 </a:t>
            </a:r>
            <a:r>
              <a:rPr b="0" lang="uk-UA" sz="2000" spc="-1" strike="noStrike" baseline="-25000">
                <a:solidFill>
                  <a:srgbClr val="eaeaea"/>
                </a:solidFill>
                <a:latin typeface="Verdana"/>
              </a:rPr>
              <a:t>3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Назви оксиді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Сухий лід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CO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3" descr="G:\алмазы\сухой лёд 2.jpg"/>
          <p:cNvPicPr/>
          <p:nvPr/>
        </p:nvPicPr>
        <p:blipFill>
          <a:blip r:embed="rId1"/>
          <a:stretch/>
        </p:blipFill>
        <p:spPr>
          <a:xfrm>
            <a:off x="2309760" y="2232000"/>
            <a:ext cx="4524480" cy="326700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Вуглекислий газ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CO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rcRect l="0" t="0" r="-128" b="-1063"/>
          <a:stretch/>
        </p:blipFill>
        <p:spPr>
          <a:xfrm>
            <a:off x="3308400" y="2136600"/>
            <a:ext cx="2527200" cy="3457800"/>
          </a:xfrm>
          <a:prstGeom prst="rect">
            <a:avLst/>
          </a:prstGeom>
          <a:ln w="38160">
            <a:solidFill>
              <a:srgbClr val="e5e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1T17:46:45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06000000000001024140</vt:lpwstr>
  </property>
  <property fmtid="{D5CDD505-2E9C-101B-9397-08002B2CF9AE}" pid="3" name="Version">
    <vt:r8>1</vt:r8>
  </property>
</Properties>
</file>