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13.jpeg" ContentType="image/jpeg"/>
  <Override PartName="/ppt/media/image25.gif" ContentType="image/gif"/>
  <Override PartName="/ppt/media/image1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notesMasterIdLst>
    <p:notesMasterId r:id="rId52"/>
  </p:notes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Школа" initials="Ш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notesMaster" Target="notesMasters/notesMaster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presProps" Target="presProps.xml"/><Relationship Id="rId65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4-02-13T09:29:24.512000000" idx="1">
    <p:pos x="10" y="10"/>
    <p:text/>
  </p:cm>
</p:cmLst>
</file>

<file path=ppt/comments/comment6.xml><?xml version="1.0" encoding="utf-8"?>
<p:cmLst xmlns:p="http://schemas.openxmlformats.org/presentationml/2006/main">
  <p:cm authorId="0" dt="2014-02-13T09:29:24.512000000" idx="2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dt" idx="15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 type="ftr" idx="15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 type="sldNum" idx="15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8344-C0A5-46A5-B738-7805B75204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4758-974B-4F53-9E55-025E3DF687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3077-B04D-4387-83B8-F6618E08E7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3209-E056-4600-B15B-F9A441DF0E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485-EFDF-4C1E-A0FF-A16B3CEE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E20-B5E8-4237-AB47-1354DDE9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B2855-1D24-432F-BC35-615EF5DD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76D84-EA3D-4D0F-9334-A97FA43A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96C55-60AF-4893-9B53-0630D0FC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5BEB5-1AA2-4E2D-A67D-9AE1729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F0383-FAFD-4EF6-8BCE-B799912C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7386B-8307-4E88-94B4-583CCF11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C2357-38CF-476A-8EA6-3C1018E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A5B4B-9ED6-4C05-A2E0-9F195F36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A9E32-ED3C-493F-93A6-3D824536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7A9F2-14EC-4312-ACC1-6826BFD1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09A-6486-489E-9B54-53B5127D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4F6E7-2389-49D3-A61E-DAEAB17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57507-36A6-4310-B337-299F27DE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96FB5-7CD9-4C5C-BEEB-FF263228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A99B3-FBFB-4113-BE69-6763A010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28888-D392-4C64-A644-1B34E4B0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CA132-3037-4B12-B18A-1FC12250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8CA27-B6A8-4975-BA03-FEDA96C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D5B1B-6C69-4EF2-9C48-931F1C9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E6250-ED32-4B9A-96D3-399D6762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6F0E1-B635-4411-BB89-BF7325E9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A41-C23E-4F6D-882D-8F244295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A3457-37BD-4F61-919E-7B30DC2A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7D2A3-93AA-4691-B04D-2DEC0053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E07A4-D3EC-49FC-9FE0-0954242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E452-0960-4EF4-942E-DC450A4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AC4B1-E20F-404B-92A3-D4377CBD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66C14-F1FE-463D-AD88-233B40B9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52989-217A-42B5-8A02-EACB9841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06CC4-666F-4DAC-A442-D300C2B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95E67-2D40-4B71-BE8D-6430157F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BA941-1ADE-4C08-824B-5E869F32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264-A7F2-478E-8A9C-7ED8E9BC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517E6-E332-427E-9916-36BA4C4A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BC0A5-4719-4C6A-AE6D-0A3F78A6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BE4DD-1CA1-4D4D-AD92-43301A3C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FD282-09D9-4F13-8DE0-D7FFA978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B0271-1079-4A27-998E-6720D82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70B7B-6437-4B8A-B345-A356571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81CAD-4995-4961-BC1E-E5341344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2A201-93AC-484B-83A2-D3C92636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F905-1193-4AFE-B709-B4A291B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1B141-C1B4-4A8B-A020-007C5236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F628-B0EF-44FA-93C4-2928F2A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63660-59E9-4F86-95FB-4A3B641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A20DB-6FEF-462F-A622-E40EB94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3A4E8-F2C8-43D7-BFA1-F808B1F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9FD18-2BE4-4077-AD7E-865DD724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FE648-E939-4806-B7E5-43941110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58B35-094A-4088-AEE1-893CB68F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F4249-18B4-4366-B3BE-2D94EED8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AAD7F-93B9-480B-9CD1-4DD13367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0E450-1476-4B05-A72E-64A4E6AF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B9F94-C9A8-48E9-90AD-CA8604DC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CA34-F8C9-4F9F-893B-73CDE286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BADD0-DE8F-4096-A8D3-846619EE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FDA26-6989-4ABA-B4C4-1FA2D50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2A889-8F7D-47F1-9B3F-9FA44BB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743B3-0095-4418-98B1-FB2FBE37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0B9DF-7421-4AF6-B08E-292BE7A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008A6-B069-4807-A8E4-C5F86126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88E62-CDCC-4767-83AB-2916220F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BDC52-E094-4D3F-B25D-4E7732FD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692BC-6B40-4CB7-88DC-16147106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5EF28-D6D9-4810-9DE6-F4E45A94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22E-41DB-4E16-ACDB-4C1F8C9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969CA-337D-4309-A399-15D13EC7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A270D-9A83-467A-B41A-B62ACCAD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A613E-E059-4086-960E-7460EA62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7452F-A3C6-4DA9-AA9D-822AEF76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8C18B-44FA-4982-911E-B561059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BE87B-6597-4A79-91A7-CD8B98E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8F532-79E3-4252-9CA2-387F610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5F550-A8D6-43C4-BB0D-76EB9492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B0B38-0E90-4E7E-B70E-7B6E5F46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DA1A8-B4B7-4AA5-AD9F-58E13E64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3D76-1BA1-4DE8-A627-F5B27BA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AF545-E990-40A1-B6C2-1AA61AF3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E9DD9-DFCF-4F9F-9391-3437875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04B81-2FB6-4C06-9585-A01E5C2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96110-84DA-4123-AEE7-3C476147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2BA65-FE3C-4614-8054-62BE1B3A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B8D9D-0254-4C1D-A56A-6B78327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E1936-D58D-4AD8-8592-617D438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E0150-0DBF-487D-90DB-98BC120B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A8E2A-2105-435C-8AAD-B5D8D2E7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A96F7-C48B-4022-8443-045BB657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4FEB-AA25-444C-8C64-2DD49101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F06F9-6672-41C3-AD36-2AE8A1DA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DB48B-A418-49C1-A4C6-BBCCE8AA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13ECF-DD04-4738-A40A-F224CBB9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9F4B5-32D1-40A9-8B10-9CCD034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6441C-DCE2-4822-A3D3-4D52B62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E8DF8-ED5C-4963-BC07-DEB4F33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04A64-7122-48AB-86C5-E9BE80D9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C1242-1330-40F0-8493-187620F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29872-EBB7-4AFA-8B7A-939E1DE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E1015-FFC8-4401-810C-3397EF9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A1FA-A3B1-42C6-AD4D-EDCD4D37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E5DCD-17DD-4316-A0E0-F6CC9FF5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9018D-67AD-40FD-99C7-FA5F7ABB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BF037-1428-4830-B06F-6373AB9C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FA52F-945E-48A9-8A6D-4D552982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38D1B-1265-40B5-9012-7576E82F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A3BF6-E66B-43A8-95A6-3D20F076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13171-D4D4-4B0D-8B0D-FC3E1DDD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F2BA3-880E-4454-9BD0-450359CD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867BA-0AD6-4A3F-AE4B-802CD5E5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825C1-5918-4551-A017-F4B850DB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FF0-58E4-40EA-B6E3-D485A2BB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6CBA-0D93-4988-B506-18D7D019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EF2D2-35C2-4589-A326-76696C56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99A1E-B1EE-4B14-98D8-86A8625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66DAD-FCDD-4017-83C8-035005E4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36143-646A-440C-A53A-841B568A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022A8-2844-43E5-8806-FCAA7742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96E09-F928-43A0-A827-C6576F1C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BE1A6-158E-449D-85F8-0607A7D9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25763-880C-4682-BD67-031147CD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BD1A0-1A8D-4FB4-914A-26606C6A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010FF-BDBF-4674-95DC-8AF70EB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6B03-59D7-4882-8F80-1C741DE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9A3DA-69A5-4D8A-8F98-562FAF6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3DE42-CD68-42D6-9C49-12D1CDF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7679D-2A3E-4FF0-8C46-5E518158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3D083-6BB9-4D82-A477-14579AC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634B6-5296-4890-9B4A-D8069087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E7FD7-3883-4E8A-932A-BA54301D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1766B-230F-4D3E-817D-23BE3D4D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9F9D7-3C07-4F03-BF96-9046B4EB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4370C-0BB7-4484-B26A-0F176B00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1ECD5-575C-476B-A394-82B45C77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FE6-3024-42B7-A892-07FF48C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3927B-AE57-42DF-B5FE-739EAFA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799CA-BC1C-41F3-861F-3744AD93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A884B-0D9E-4CF7-9EE6-C11B2E50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7234E-85E3-4F8F-BD5E-52FBE07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FBB229-A3F5-4A19-A780-5888B8E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BB320-2A39-4AC1-8407-48DF2CA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75362-DC88-46AF-AF3B-BE2A1486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B4C44-0F51-478F-9637-E315C506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EA3C2-F0B8-4D6A-BFC7-2B7BAC52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99E653-D6E0-41A5-9102-81DDE22B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1F17-6785-4E2C-8D79-0182F32E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D2136-2834-4AE6-BBE3-DDCBF798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E9E4F-819C-4893-816E-ED983ABE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057BD-A18E-4B98-BBBD-ED186942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EB644D-DA02-46A5-9AD2-E53D8509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473CC3-73E4-41AB-A236-564086D7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F58FC-89FB-4C5B-AA22-9343CDF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C0EEB-8442-40D3-85B4-A31943AA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C4B88-E761-48D5-B066-45B7867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37705-7F1B-46A5-9E12-B1FBE44E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B8A64-2387-4FFD-BD06-1F456B9E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44C6-C3AD-47DE-B2EB-A616F963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0622C-0879-41E0-B1A3-ACC0C81C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94E176-A60A-4A44-9BA1-0424B4B9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AEF09-8206-40E1-B628-D09FDAB1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F3422-DA5B-4454-B698-64C57DBC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1D24F-82EE-4A5E-8557-CE7D80DB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6F7CC-3129-46C0-80A7-DD8AA186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9704D2-F92D-47E0-8631-C4E6018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08643-D9E0-4331-BF0C-8116470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DEC67-56FD-4873-A0B8-40A4B53B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9A3BE-CFF9-4142-B4F8-B931DD0E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7F2E-33A8-4A37-89A2-E8C67EB7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9B2BF-3672-4B38-906E-BF5B1D55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277B0-E910-40D6-B99E-2D012E1D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37ADD-A9D0-4F2A-BA3C-BC83B1C9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9D8A33-7730-49BC-B040-B3222492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C726BB-6B49-427D-A77B-41CBADEA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5BC44-C82E-492F-9F4F-323B59DA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B5B0E3-0FF1-4AC1-AFC1-A6F0CA10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F41B1-B911-4B07-AA00-FFFFBBD8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C6B0D9-D1B0-442E-A3EA-CBE06B1D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8E840-C8DA-4733-9A03-0091D6C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F8F1-A599-4E7C-A44A-62A7E528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D906B-794A-49F4-A760-75872FC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FD530-5E3B-4BA9-AD39-907866E7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A86D84-8F86-46CA-851F-EE1935C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1CC1B-A1A4-4A02-9457-E336D321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7E040-BA29-421C-A3C1-358916FA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93D7EA-C933-46F0-9D3D-2511DE3A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0B5FAA-7166-4447-AEF8-40FE0BE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943D3-DD0F-451B-8719-845870C5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85123B-EA35-458F-8862-6D18583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DF029-B7E7-4681-92F2-ED798453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E69E-95C4-4130-A170-6F7603B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2B2AD5-330D-4868-9B5B-5ADACB73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0DEC16-C197-4812-A988-39778D76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56B77F-0F07-4ED3-93F0-C1A3403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3CFB7-C7DD-4764-BD25-DD93D23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AA001B-FC45-4330-9227-461B3B3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D82F5C-99B2-4A14-B927-519A1EB5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7AE6B-E05D-468A-A2A3-C0263974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B86D04-9499-4F36-8015-5CBA4266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D530E-F016-4C1C-8BFD-3C6EC9F9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2464D-470C-4A1A-A88E-4AFC0ACF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3F9EC-B223-425D-AC83-8AA7A385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E5027B-89DC-4B0D-A188-A8CA9BF7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CBE0B-C513-41F6-BFAB-82AA8DC5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671143-F9CF-4B86-8733-9900C67A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7EE5C8-5D96-4B16-9220-F7D6039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BF238-7794-4454-B011-BDC6C21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A7470B-2032-43E8-8FBA-16E482E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D50239-B89C-424F-91F1-8A769DEF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EBD44E-19A6-4408-ADA8-516B4201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95419E-B71E-4F27-AA69-4C9AFE80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87FD55-77F5-4314-8410-3EDAF66F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624A-6A8D-46B2-822C-E9EBC17E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1C0BE7-DD68-469C-96C4-FF2BA25D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F79D61-9D78-4004-90AD-94C87B92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A084F7-DD21-4A2D-9DB2-4FBDEB46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0B9FFF-735F-44A8-801A-45AD5F56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39F0C8-1A6D-4EB6-BA26-B0C3282D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BD99F2-0F21-4F76-B67F-94F256E9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5C9812-D80C-4028-90C6-CCF6F10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F3AD95-85CB-479E-8E1B-38F7871F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C88DCE-E8F2-4B37-987C-29D1344D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16C8E3-F61A-4848-8271-DC84D0C3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1F0-1871-4105-8A2E-43CB154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B824-265C-4735-BEEC-FDB600F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266FAB-E62D-4541-9251-421A81F5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F20194-FA64-4019-B878-076F983A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E1564F-4916-4C30-9099-28F36041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05459E-2BA5-48CE-9F35-2765A36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4462E6-B11A-4FBE-996B-31079DF7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637FCB-DB87-4462-A26D-B766E313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EEB34E-3B99-4720-B06A-CBED91A1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8F379B-38CE-49DA-8B2F-44651FC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559AB9-28E0-4E84-A7B7-C13A6CC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73A238-0F0C-4DCA-9C65-AEF2611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8311-789C-4F99-8803-223D0B3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8977A7-F44B-4077-8B9A-59FF6AF6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3447C2-5863-47CF-9889-3DE94116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7BCD5C-0B26-45EE-9C76-E3C63972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0A7C77-96FD-45E2-9767-D1897D7C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8BBBD2-CACC-4470-BA26-7F07A825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D512F8-72EE-42FF-9DBA-792728E4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26FC6C-1563-4F93-9D87-9877A1FB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9116A8-92B4-4E6F-BE89-1DF34E9C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6354B3-B51A-44DF-9DFC-C0E758C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17513F-140F-4141-853D-A9B78F7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B6EE-88C1-4D89-84EE-A11767D3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650D4D-E7FE-46EE-B2B3-93234F3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F450B4-BC8F-4536-93CF-2808D92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8AB11A-A780-4A3C-B21E-8852A5F5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494B5E-97DE-4395-BAD4-3B6BBCD3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8E445B-C8F2-4174-9CEC-F1F87106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439190-4463-4171-BDE2-0271E605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84D371-2A7A-4D24-B272-058234AE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C929F8-D341-4A48-AD20-7535FA75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D9E151-E345-4527-9A7A-A5AD16A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316C47-9E11-4E86-AFFD-E595AA6A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DC1F-5F7C-4C34-9EA7-3303500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983655-E246-4F48-BA5D-87D3D0BA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DD326F-994F-4BAA-8B29-10B6F79D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F493B2-E981-4D60-83C6-939F920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A518E8-7AD7-4273-9735-E3D164D7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C8357D-75DF-4EC0-B7EB-9D07998D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21DADE-DFFF-40E2-B378-B6929EA3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87B473-AC09-4540-92BC-8BF80CFB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EB377E-3B3E-4BCB-B5A6-1A4AF546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AAE818-5B97-4929-A35E-4F66708C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6DFDCD-9D92-4CCB-A0EB-10675EA3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B86C-C5BC-49EE-83C6-2918EA7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980A6A-E0CC-4A7C-94F0-0173380C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18B4F3-140E-4C45-9D8C-0EC2595C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AEC23F-988F-477C-A104-6C6FE21E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4A1BC9-259D-4C63-AADB-81106F6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9009CC-232E-41D0-A301-4AAB10F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AFA751-ECB2-4160-B17D-55C48F43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4A0ECC-DD30-42B8-9272-DBDD2D7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33E5D6-C83F-4D67-92CE-B1683D0A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F409A2-79E9-482D-A502-D993968C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9A2496-C67D-473F-870D-1070A73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F4F4F-3DFA-48A8-A991-0C50880B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AA61CF-0AE8-4ADD-95F1-51AF97A4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085BB0-398B-4877-A33E-286A47BE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3F339A-FE19-47F0-920D-1BC92EA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EA029F-FB4F-42C4-88AF-A5BAC243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C7F2B4-56B5-4DC2-B9E4-058C3FFC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D7947C-AFD0-4E71-9AF8-648F6FF0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FDB0A1-05DA-45FA-A689-8090850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376A0C-E841-4720-9627-16A1CC3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1FFAC3-4FDD-42D6-8250-99E6621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5A376A-6075-4659-9E5A-9BD987B6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F57E-80E3-47AB-B09E-CAA8C663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D94B56-8910-4265-B3A5-4C8B5C6E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7083D6-50F8-4981-A788-ED5CFC85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661365-AE98-491B-8D16-B4C1B3A4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B5F187-FFEF-4A80-B324-D755C564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7D72AA-69A7-4E1C-9ACC-084F5BF7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A4533C-DC6E-439C-B492-0F54AF74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7F4E0A-23F0-4040-B693-0FF13FB6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1BB636-44C2-4158-BEF0-EECE9225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CD3C05-EC33-47E2-9B6A-9168FE2B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BC0ABB-0672-42AE-A2F3-219401A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7EA2-6A76-4B19-9165-2EC16ED2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D1C622-798E-427D-B9AB-5927A484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48E897-86DC-498D-964F-A812F4D2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311C81-E7E2-425A-A1EE-87ACC8DC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A5405F-48EC-45B4-9FC0-114501DE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A99EF4-0FBC-420F-89C5-C19C6E50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F62036-26F5-4942-B472-D24974D6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30AD57-E79B-4641-B26C-82DE9ADB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F28C9B-A1F9-489A-8EDC-7A80607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8A48C7-97B1-47AA-A6A9-2BEC1900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6B59BF-074F-4330-A4DB-53A09D3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DE3B1-623C-454F-A2E8-FBAF883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D9C0EC-D307-45D7-B690-8B971E5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166DDA-96E5-4CD4-A1EA-76B6785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D8AE1C-5026-4F0E-8A1E-3A5A65E3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CEC34F-4DF9-4BD2-AEFC-19DFFF42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50F2D3-B6BE-413B-A7A7-C3E37E35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3D00AD-BDB0-41E7-A08A-68027C5F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FD225B-E362-4F8E-95FE-07D431BD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0A98DB-C102-4C20-932D-F0BFDDED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757AA7-8DA0-4B3B-B57B-0DF81DD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999199-A29C-4B93-AC3C-03821143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EEB7-9346-40E4-8DFE-A9F328F8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5A83C2-11BD-4C17-831C-78FDE037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92407E-FB59-4DED-A667-6AD37DF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B0C678-CDBA-4703-96F7-D3E3FDD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970641-DFB4-4312-ABDB-38A9A7C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E6FA85-0FD3-439A-BEAE-7D041476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2DE9B2-DED6-458B-9EB1-CDF2F79A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A88906-31C8-4853-8E02-97141114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DCEA80-0B36-4C29-A062-ED8891A5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F62106-FA31-4990-8424-0B3516DF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8995F3-2243-41A3-A41C-F8B5833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09D-B7EC-44B1-8A47-8936BD1E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60E83-8658-480A-A83E-65719038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633E83-5B22-4A08-BFC4-F08DB890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261A52-B0B0-4FE7-9705-2CB49DB6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CC8BB1-DD2C-48A3-B726-9F8D32BB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90DC96-3676-4C45-A50C-D83E86C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C8E86E-9945-4752-88C7-4A46EF5E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4471AE-091B-4E20-B214-4E67B23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77EAF0-45E1-4894-8691-B909369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5E46A1-ECEC-4C94-82E7-F23FC621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55535D-0D3D-4795-A0C0-9DDACFBC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99A586-BDE0-435E-A3F0-FCD5DEFB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C9A4-38C6-4D4E-958A-700676DB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D5BD3E-A6BA-4E3F-B970-704C5FB0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CF07D0-AE15-43D7-9542-938F1C3C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BBDEC4-26E0-4B63-95D6-4661DB15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93A17F-0561-4591-AF2A-844B6F0D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2E8DF8-BA00-402E-98A4-4774980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006576-4B46-4903-B5DA-F87A371F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377978-5C36-4708-B513-D481719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72DA57-BB97-4CD0-8A1E-3F60CC5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7B924D-B141-4708-BAC8-2C859A32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895FD2-D91E-4480-AC13-1F6C5224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F5AA-52D0-4FE8-87B0-2F51F74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7D9FED-7792-4994-8E6A-C6E3F670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A473BE-2F9F-4515-A7E5-2A7B7765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8335D7-AA50-4A53-B66D-3148FE64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8BE915-A82E-4177-9FB3-13FF0C7A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DB9AB0-7E43-4AA1-9E44-E18BD4C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284B6E-5BAE-48B4-AEFC-21288834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08E813-20C0-4749-8F25-0C90DEE5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83B4D0-8422-4DC4-8CEB-21ABAC2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C00F1C-9D1D-4ECA-AE83-356D4307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E373AD-6052-4B2D-A770-C2F5358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6178-DF46-475F-81B5-0E45ECC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38AA00-2CB3-460E-9A78-E429FE7C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5F8E7F-09CD-4054-AED5-62DEC4FB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351F8E-DDF4-48F6-823E-025598BC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8503D68-C228-40B0-852F-C47386F9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D5F104F-20A2-470B-83AE-586DE653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7222760-E3AB-41D9-87E2-9B8713F9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697B7EA-5C87-4C16-BC49-028A1798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A6D031-5932-48FC-8D0C-F3F1A43A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AB5811-C685-4E6D-91DD-F8125679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6845DFD-A144-455F-87E5-8B2AE01B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4AED-3799-42A3-A615-3F0418C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9E587A3-E989-4FDD-B910-E97A92A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53CA2F7-DF85-4923-8093-25C49E3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E7F5FF8-C530-4437-A7EE-9032007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9D02393-2493-499A-BEF7-1ED5EC0F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436B9C-602F-485F-A4FB-08BAD339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381659-F4E8-44B6-8222-6130FD16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3C8DE7-CC2C-4154-A9F4-1E36A866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2C8277-636B-4B49-B4DE-BA20A1E6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1DAF04-12EE-4F63-AAB9-DA8BABA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6296B0-B989-4FDB-AD81-607A327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05ED-D348-4697-AED2-AAEA8831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9A5C5C-5E83-4001-9876-5B29C396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B77CA1-9B58-4255-B3A4-48D31541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C95CCF-977F-462F-BAAE-B01098E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5AA07C-5321-4B41-A869-35B8958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1C1043-FE48-42C5-8C5B-D46EA3E4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36730F-DEB5-4BC6-B1B3-040867C2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1EFD3F-92B5-420A-90D1-AC9EBCB8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3F83AA4-610F-47BD-962F-A35051F2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FA256AC-3AE5-44B9-89E1-5962C44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719CD01-A435-442D-85C9-1491046F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A467-90E4-49BA-B85B-AD129AE4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FE0B37C-2DDF-4E87-96FC-FCF60633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5D9FA97-C755-47A0-ACDE-F0D7163F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D7D73FC-83A4-4C3D-B4D4-2E7E5182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90DF350-7A08-4435-A6E9-925134B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A9FFDE0-77C6-48D2-A02A-EFE7862C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5F81C9B-B8E1-42B3-9A64-AFADB927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15CA93D-6EA8-4B93-A347-5B9EB681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5C5D983-4AD3-4004-B40F-AFD37B3A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AD2F945-FE6F-4FD4-9EFC-86DD3AB3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CD9455-02A4-46CB-8341-B1EBE8D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6BEC0-AB06-4717-A19D-B3AB56B6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F90CB7-CE9D-49E4-8998-96954304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313CB5-8B3E-44A0-93B5-EC12983E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2F4937-D9A2-4F30-80AF-3B4D0696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0074B2-FD2B-450C-87D1-23D98D38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A24C75-D966-4A97-A553-C1F0359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DF92EB-4EA1-492D-8568-3E70418E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697565-7F09-4936-9CC4-A96AC21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B57352-7EE9-4076-AED0-FB346988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F8CF5F-18C7-4672-98F5-08CAB896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F3C694-A778-4C45-85F9-087F89E1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AB18-1029-4526-8D41-0141FE12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8A3D31-D9B0-41F9-B9BC-2E56CF4E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78E414-7E2C-4F6E-9AAD-2FF15764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797435-8C8E-4D42-B189-40374804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CF3F61-C06C-468C-B671-DA6ADA4A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8B5D2D-2BF4-4F51-8023-3BF41E4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971AF9-CC88-436C-A9B8-2A1AE09A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8AA7A2-6597-421A-88B4-9DBBB3B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0D917F-0C98-4B02-A12B-B2CB604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C54E65-9BD5-4FF6-8847-CD237575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03FFE9-05D4-4AD9-BA21-C1787F4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3434-CCCA-4428-934E-4C96CEBD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5492A3-C90E-4E8E-948F-F428130A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D2FA9D-4C5A-496A-A106-BE2D3AE8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978566-20F4-47E5-BA85-534BD54B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BBAD8D-59FE-4894-BA97-50081440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EF65A9-99B6-43F2-A710-DE06BE20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D362CF-5311-414C-AE6D-C2BD1CAC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A601B6-863E-48CE-ADAE-67903039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2E605F-B38C-46D5-9B40-31A3E1E7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6A73B1-E03A-4380-948E-7F884E07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65AD7B-709F-4F7F-91EA-3CF87131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64A-4143-4A8B-B149-F3E62D86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D92E-8D47-4752-BD90-A1312259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C9AF1B-DEBD-4FB0-A5E5-8A9E87A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D16025-E0F8-40E5-8A44-4DBBD95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D895F2-BDB1-443B-AA16-595F79A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268D11-0DD1-4A0B-8D1C-A79F3540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41F203-D960-4841-8ED5-A564EC93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E999B4-CE11-4013-A103-FD08E9A0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46E893-BF2E-41EE-A17C-AA056E6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B2106E-067B-41E4-A95E-D3691A09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AC4EFA-DC02-4A2A-8DDF-E29B9DE6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694B0D-75B6-4C36-9F46-78C1D41F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B6A5-E9EA-49EC-8C72-7B61AA89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C8CEF8-889B-403D-BA4A-D75C8E8C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1ED5C6-2607-4917-A7AA-9902E9E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16D18A-B5D2-4FD1-B06C-19A661A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6CC5691-71F9-41CB-8479-550F6AE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7E9840-BF0F-41FB-85DB-8BF0590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BC29DF-7039-4DC9-B4C2-EC70ECAA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AB1F2DF-6626-42F9-845E-C9B28D6F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67EB65-A7F9-462B-9631-0A8A279F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09FD9D-4A1A-4715-883E-2B9F8695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5AFD2E5-50BB-44F1-A37F-009D44E3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3703B-CAA3-441C-B102-A72FFC8B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E209A0-331F-4D8B-B66D-FF36CCB1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768C52-F4A1-494F-AB42-EEB68F0B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45E34A-6A7F-40EA-BBE4-E944DA07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65232A-FB65-47C1-9F90-E86C000E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99FFB1-0DF3-43D4-8D6D-417FFE3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387C24-FE2B-49AF-AF4E-33774E48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DD5D24-7DD3-4BAB-9495-9D2D4BC4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D5D54F-45D0-4071-B336-9F9D95D9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D81666-48E9-44D3-988A-8D340B75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D7563C-7890-4EF0-BF60-F6460643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CCB7B-D58C-4F4C-938B-4F5E903C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DF065C-5763-4F2C-AE20-2D14F12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CFF8EA-185C-4D52-AFDD-01593B2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1616D2F-5B44-49B0-BA5D-C29767E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BEE051-7407-454B-B930-EFDBB6C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A70755-B92F-4550-9522-C6D49437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DF66B6-153B-4BE9-B3B0-84A4EF74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6BC800-7342-4B72-AB1A-A9865C2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A4A122-DC50-4CAA-8A19-E7C9085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8FDA26-B304-4250-BAD7-B718C9CF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4322DF-37EA-44C7-85AE-6BCBAA2E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FDD9-EFC2-443D-93B3-A5C22141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8F3541-C50D-477F-8471-8990D721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BA6EE4-4D95-4E5D-A8F5-D56BB6FE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0D25AE-F13A-4F96-B598-80795D1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84D41F-BBAE-4E52-A5C6-06D469A8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A42D0F-9DD8-4FEB-BFA0-0238D0F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ADD599-66A0-4395-BF77-4BCC286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5E71DE-7E92-4DF1-A013-5C5062A2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46CC5E-4691-4CE6-A417-892B8E8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57F33B-7757-4B72-B762-9339A8C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0D4644-F56D-4F5D-9CAB-349B30C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781D0-1018-404D-99E6-EE3FB01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17BDA5-94D6-441F-8426-DFDAF3DE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C6AEF9-EE20-4D9A-9CF1-654EE308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B81BF1-4D3C-4D4E-9E88-7584E8D8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F6A4A1-9242-408B-9586-66998C03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CA1BA1-BEFD-4EF9-B82F-35383EEC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7115AFC-C66E-493C-ABED-0DDC8AD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EE5DEF-92DA-423B-8809-505699C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005FC6-0E49-4FAD-8861-2E2EA83C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F7640D-3EA5-4EEC-A265-CB853AC3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4844CA-ECD1-4669-8346-C99FC9EE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7CC54-730A-4508-92DE-A06C345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CB1B76-2C25-498B-8BF0-0B5D5F65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DE51D5-7914-4A98-8FEC-E9F408B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3E8D43-D443-4E52-A02D-E550758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FF1250-2600-4B71-A50E-855DF07D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E7BFE4-1FAB-40E6-B907-4C291A38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881102-8FD6-4EBD-A94E-0937027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604E87A-F54A-4354-B8D0-80244129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5B39E8-0871-45ED-B857-1CE1249B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5E3EAB-071F-4502-AEDE-269C0CC6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28F363-6D1D-445B-88DE-557516D3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2D4D3-F111-4BAE-9251-9CCD7E78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EF0209B-5014-4092-AAA5-5E51C64F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8E68BE-2E39-48EB-8BFC-E4669C7A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5DD242-2A7F-45D8-8704-8043EA9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97AF67-5D37-4ED9-A9DE-5B67003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6D36CF-4F82-439B-8FED-040CFFA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31058F-F159-44C8-B414-C0231F4F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4B164B-44FF-4775-AF8E-45625783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091404-2C40-4CCF-9BC6-2B5BA73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12AD570-A988-454D-866A-0B7575BC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3ECF56-36A8-479C-8ED2-729DF3DD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B5AF-C9BF-48BD-812D-6054561C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B04595-614F-4ABD-927E-D2FF962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A2BABC-B283-48E0-878E-13EE8E41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F70BD6-5A30-451D-A6C0-431E84C2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4C47C5A-7E66-4CC6-B19C-368DB48E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74DAEE-7484-4188-9F98-38AF960D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D831399-59D1-4568-A1A8-6204B2BC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318964-E46E-482A-BE82-8C77AC4B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A573092-1D0B-4BA9-8930-3431D4B8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525CF9-F953-475B-B350-FBE1B8EA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CA49FC-CF29-423A-B439-8A52AD57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DED5-B99C-4D6A-8CDD-52E52F43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914E924-A1F6-425A-B010-D38BC0C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4B0B8F-D799-4079-A94F-0A15434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BE0806-C98A-4EC5-8C37-8A226F3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F7623C-BD5C-43C9-8447-C9F8DB9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6C1D849-D57C-47D8-8D04-5905252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A3E6945-D783-496E-ABA1-E4EBDB3A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1543B5-9676-4969-AD79-408C4C54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B11C64A-166F-426B-8E47-51F594F5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1AE7CF-1482-4DDD-A95E-835D421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472E609-8E2A-42FE-9547-22DB9193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51E-BED0-461A-89D4-CDB37258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D8AE-2D82-4B7E-87AA-4D6F041F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DF896C-D1C0-4053-817E-1FEBA909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1BEE4-29D4-418C-9678-401B6BA6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FA7C-4E3C-42EF-A66E-B4CF476F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8F491-26B8-4A6D-B77A-778CADC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BF55F-2465-4969-811C-609F78CA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CD54-6C5E-4DB3-B352-DECF83D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4CED3-714A-4BB5-8CE0-266093CA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5D80F-9D52-405F-ADF3-B85F470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EE22-B1B4-47E9-B3AD-7BA6E32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AF7B-8167-4CB1-8227-A9358425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7A0-E3E6-421D-847B-504A1DB8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1C0D-98A4-43F5-8881-3E6723C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A1C41-C99D-4A9C-AAFE-7A59DA81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F54E-CEBA-45B6-93E7-042D8D1F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61E13-FA13-478E-9148-832EC082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6E88-B2B3-412E-A17C-5532441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9923-6962-4E0D-B4C3-99F0B63D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50FA7-486A-425C-8829-D087861F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09DD-D9E3-42B0-BDDE-6101F3A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BE69B-A369-4DA2-BA0E-6A2CA3E0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7635-7D26-4F38-B292-47E8815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D6F-88F6-4CA1-83D2-5861451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6A240-C05F-4103-B901-6C0C665B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02C1-67FC-4C2C-B541-D7244DD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05FD-63D8-461D-B396-A185493A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DA9E-0E15-465D-B616-EF553BBC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CC46-6EF7-4CBD-96A1-78330059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11FE-34D1-4A4A-B6F3-288F209F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117B-71CB-42E6-B763-7EAAEA05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188F-0D49-4675-9A2E-A89C0F8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DC91-60A5-4A27-915A-33AAEC50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9E929-EC79-4FA1-BD6E-4D645BA7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0D1-69C1-43E8-8A2A-5612580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7727-913E-47FA-9A19-63BC386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E593-71E9-4C87-8EEF-C670A87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B777B-69D6-4325-9021-06C5FF6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FF86A-D2B5-447B-8EDB-1F75CCC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E3A2-482E-4B3F-98B0-37C47E02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C8F2-E39C-4FDB-84B2-DB128037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897B3-5812-4BCE-833D-CFE12CC1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02108-4365-48E6-A3E4-A44D2073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9169D-7246-4E02-9C1F-D796E19B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0AD22-81E5-40B6-9059-9B9E7867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77.xml"/><Relationship Id="rId10" Type="http://schemas.openxmlformats.org/officeDocument/2006/relationships/slideLayout" Target="../slideLayouts/slideLayout278.xml"/><Relationship Id="rId11" Type="http://schemas.openxmlformats.org/officeDocument/2006/relationships/slideLayout" Target="../slideLayouts/slideLayout279.xml"/><Relationship Id="rId12" Type="http://schemas.openxmlformats.org/officeDocument/2006/relationships/slideLayout" Target="../slideLayouts/slideLayout280.xml"/><Relationship Id="rId13" Type="http://schemas.openxmlformats.org/officeDocument/2006/relationships/slideLayout" Target="../slideLayouts/slideLayout281.xml"/><Relationship Id="rId14" Type="http://schemas.openxmlformats.org/officeDocument/2006/relationships/slideLayout" Target="../slideLayouts/slideLayout282.xml"/><Relationship Id="rId15" Type="http://schemas.openxmlformats.org/officeDocument/2006/relationships/slideLayout" Target="../slideLayouts/slideLayout283.xml"/><Relationship Id="rId16" Type="http://schemas.openxmlformats.org/officeDocument/2006/relationships/slideLayout" Target="../slideLayouts/slideLayout284.xml"/><Relationship Id="rId17" Type="http://schemas.openxmlformats.org/officeDocument/2006/relationships/slideLayout" Target="../slideLayouts/slideLayout285.xml"/><Relationship Id="rId18" Type="http://schemas.openxmlformats.org/officeDocument/2006/relationships/slideLayout" Target="../slideLayouts/slideLayout286.xml"/><Relationship Id="rId19" Type="http://schemas.openxmlformats.org/officeDocument/2006/relationships/slideLayout" Target="../slideLayouts/slideLayout287.xml"/><Relationship Id="rId20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A5D9-4B53-4594-B50A-5011DB4FD6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30BB-75D9-4EF8-8EB8-E0725298990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7C2B-E570-4C12-96A5-AA2E094F9AF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EF8-3013-4635-AC2B-FD0F01E8AA8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BF2B-9775-4BA3-AC5D-BFF30A56672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D5B9-6EDB-43DF-8628-F7DC6D33CBB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72D7-1A75-4366-9EA3-3B0BA1D0191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B1C-FF45-43FD-85FD-C5BB6FF6F9C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8000-2504-49F3-9A40-00659124C50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7CF9-85AD-4D51-89E1-019727509AE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F999-42D9-40ED-BC5F-C12941F0E7A8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A4F-C253-42BD-A0C7-5EB9DC6A6CE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2794-23C3-4084-9E47-7CB128C691D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0F6-5B6B-482F-9B25-10B7F5BAA9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2A90-FAFB-4808-B1DA-6377D2CF87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6EFF-3E80-412E-A4A3-6DD7C611EAD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9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102-CDC0-4764-9C82-F37DFB00AD6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9"/>
    <p:sldLayoutId id="2147483949" r:id="rId10"/>
    <p:sldLayoutId id="2147483950" r:id="rId11"/>
    <p:sldLayoutId id="2147483951" r:id="rId12"/>
    <p:sldLayoutId id="2147483952" r:id="rId13"/>
    <p:sldLayoutId id="2147483953" r:id="rId14"/>
    <p:sldLayoutId id="2147483954" r:id="rId15"/>
    <p:sldLayoutId id="2147483955" r:id="rId16"/>
    <p:sldLayoutId id="2147483956" r:id="rId17"/>
    <p:sldLayoutId id="2147483957" r:id="rId18"/>
    <p:sldLayoutId id="2147483958" r:id="rId19"/>
    <p:sldLayoutId id="2147483959" r:id="rId20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0833-8F24-44AC-8F11-DF2AF6FADFF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Полилиния 3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олилиния 4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6E5-0610-458D-A805-73F22E78907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8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8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8CD3-AEDD-4AAE-83A7-31D1AA6470E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Полилиния 3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Полилиния 4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8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8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8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70BD-53B5-4EBC-A4B2-3156B4413B5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8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8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8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2ED-D99C-420A-8B9D-2C5D993C536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C328-2DAA-4FFF-8578-D33FA63449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dt" idx="8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ftr" idx="8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sldNum" idx="9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EBD8-4B2C-415A-9CBF-7899DED288E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9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9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9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BBB2-9806-4176-A2B7-1F6504C0680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9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9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9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B538-089A-44BD-8C97-C9A535182C7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9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9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9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004B-7895-41BD-8A86-1966C33413B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10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10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10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005D-1273-475F-ABF9-4E9DF2E0B0A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10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10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10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1C8-1816-402B-8B84-9C6860F1939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 type="dt" idx="10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 type="ftr" idx="10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 type="sldNum" idx="10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6249-1F20-42CE-8F54-F80BD4D307E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Прямая соединительная линия 3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Прямая соединительная линия 4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Овал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dt" idx="10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D4E0-3959-49B5-8E80-CAC8B14ADBE2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sldNum" idx="1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31AD-A83D-4C51-B320-DC5AC7B9ED9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ftr" idx="1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Прямая соединительная линия 3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B049-9E08-4902-9E9A-D45962E41B98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1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41A9-9198-4788-B8C5-FBE6BCC8C78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sldNum" idx="1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CC4E-97E4-4C7C-A251-7F1A56178D5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dt" idx="11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D5E0-C8AE-461C-9452-3325510D49C6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3DF1-0CDE-440F-A2FD-A200321017C8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dt" idx="1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FDC-AF3F-4B41-A5FA-AAAC67DB66DD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 type="ftr" idx="1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 type="sldNum" idx="12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9AC-3D65-49E7-BE68-0C0959C2AA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4945-89A8-4550-A2D2-17757F2AA5FD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F8ED-4AAF-40A3-8846-DB788C870C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7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68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0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B276-4E28-4724-8E68-648A404BFEA6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2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2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31E7-E993-41C9-A2A9-28C16FD34E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1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8128-34C0-43FB-A29A-6BFA1949711E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12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12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7D88-9F91-46DE-8CBB-E3025CBA2F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dt" idx="1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098-5D92-4888-8DBF-315FB1DBB269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 type="ftr" idx="1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 type="sldNum" idx="13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7332-E9B2-421F-9C86-E8D8FA8C03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6219-7CC9-46ED-86B5-32B6D0A74175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3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3397-DCBF-4A6D-9A4C-0467A643DD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 type="dt" idx="13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95D3-2623-4965-9D7C-C0CB57AC2044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 type="ftr" idx="13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 type="sldNum" idx="13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7D9E-B366-4225-BCB4-BDCC0D3F6A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dt" idx="13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CA63-D81F-4D3C-8221-8CD16CA45FD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ftr" idx="14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 type="sldNum" idx="14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5C28-A760-457A-ABBE-68BB72288A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 type="dt" idx="14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32E6-6EE6-42C2-8296-77EE2B52B23A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 type="ftr" idx="14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 type="sldNum" idx="14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8064-CF8E-4B20-A734-CE8BC47238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 type="dt" idx="14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E2E9-D8E7-40EC-8D5E-CE6510CA98E9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 type="ftr" idx="14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 type="sldNum" idx="14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8316-DD46-4A30-A54B-E9C714FC37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5CF-8914-4470-9A5F-D0DE0A5D3906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 type="dt" idx="14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7FA2-C6AA-424F-B632-F84B6EA179AC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 type="ftr" idx="14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 type="sldNum" idx="15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B2E1-67C9-44FD-B7FD-9E4A9A98BF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0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0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A27C-43F6-4B20-AD5C-A8A97DC5CAB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C23-78DE-4E59-9064-F514D0E6ECB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B1C-5CFD-4A60-8882-64577DE7C326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8D05-4C2E-439E-8659-412CDDD2CE0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7850-4578-4F60-AE79-A87FD23E6CBF}" type="datetime">
              <a:rPr b="0" lang="ru-RU" sz="1400" spc="-1" strike="noStrike">
                <a:solidFill>
                  <a:srgbClr val="696464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5283-3B75-4FED-BB37-43BC9C5169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<Relationship Id="rId3" Type="http://schemas.openxmlformats.org/officeDocument/2006/relationships/comments" Target="../comments/commen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<Relationship Id="rId3" Type="http://schemas.openxmlformats.org/officeDocument/2006/relationships/comments" Target="../comments/comment6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1" name="Объект 3" descr=""/>
          <p:cNvPicPr/>
          <p:nvPr/>
        </p:nvPicPr>
        <p:blipFill>
          <a:blip r:embed="rId1"/>
          <a:stretch/>
        </p:blipFill>
        <p:spPr>
          <a:xfrm>
            <a:off x="-311040" y="0"/>
            <a:ext cx="9458280" cy="6858000"/>
          </a:xfrm>
          <a:prstGeom prst="rect">
            <a:avLst/>
          </a:prstGeom>
          <a:ln w="0">
            <a:noFill/>
          </a:ln>
        </p:spPr>
      </p:pic>
      <p:sp>
        <p:nvSpPr>
          <p:cNvPr id="2172" name="Прямоугольник 4"/>
          <p:cNvSpPr/>
          <p:nvPr/>
        </p:nvSpPr>
        <p:spPr>
          <a:xfrm>
            <a:off x="0" y="3809880"/>
            <a:ext cx="475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Тепло своїх долонь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Я друзям відд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Урок новий, ціка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Я з радістю поч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араграф 21 - опрацюва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араграф 10   - повтори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исьмово виконати завдання у робочому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зошиті за вибором </a:t>
            </a:r>
            <a:r>
              <a:rPr b="0" lang="en-US" sz="3200" spc="-1" strike="noStrike">
                <a:solidFill>
                  <a:srgbClr val="002060"/>
                </a:solidFill>
                <a:latin typeface="Constantia"/>
              </a:rPr>
              <a:t>I-IV</a:t>
            </a: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 рівні  на стор. 113 – 114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Творче завдання. Підготувати   повідомлення про відкриття  радіоактивності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0" name="Заголовок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2201" name="Номер слайда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719-6FCA-4469-8D5F-79CB75D9B65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3" name="Picture 5" descr=""/>
          <p:cNvPicPr/>
          <p:nvPr/>
        </p:nvPicPr>
        <p:blipFill>
          <a:blip r:embed="rId3"/>
          <a:stretch/>
        </p:blipFill>
        <p:spPr>
          <a:xfrm>
            <a:off x="6380280" y="4005360"/>
            <a:ext cx="23907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4" name="Горизонтальный свиток 5"/>
          <p:cNvGrpSpPr/>
          <p:nvPr/>
        </p:nvGrpSpPr>
        <p:grpSpPr>
          <a:xfrm>
            <a:off x="-79200" y="304920"/>
            <a:ext cx="5376600" cy="4779720"/>
            <a:chOff x="-79200" y="304920"/>
            <a:chExt cx="5376600" cy="4779720"/>
          </a:xfrm>
        </p:grpSpPr>
        <p:pic>
          <p:nvPicPr>
            <p:cNvPr id="2205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-79200" y="304920"/>
              <a:ext cx="537660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584280" y="965160"/>
              <a:ext cx="4341600" cy="34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7" name="Picture 10" descr="0091"/>
          <p:cNvPicPr/>
          <p:nvPr/>
        </p:nvPicPr>
        <p:blipFill>
          <a:blip r:embed="rId3"/>
          <a:stretch/>
        </p:blipFill>
        <p:spPr>
          <a:xfrm rot="911400">
            <a:off x="7604280" y="32040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10" descr="0091"/>
          <p:cNvPicPr/>
          <p:nvPr/>
        </p:nvPicPr>
        <p:blipFill>
          <a:blip r:embed="rId4"/>
          <a:stretch/>
        </p:blipFill>
        <p:spPr>
          <a:xfrm rot="911400">
            <a:off x="888840" y="560664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10" descr="0091"/>
          <p:cNvPicPr/>
          <p:nvPr/>
        </p:nvPicPr>
        <p:blipFill>
          <a:blip r:embed="rId5"/>
          <a:stretch/>
        </p:blipFill>
        <p:spPr>
          <a:xfrm rot="911400">
            <a:off x="3603600" y="510660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10" descr="0091"/>
          <p:cNvPicPr/>
          <p:nvPr/>
        </p:nvPicPr>
        <p:blipFill>
          <a:blip r:embed="rId6"/>
          <a:stretch/>
        </p:blipFill>
        <p:spPr>
          <a:xfrm rot="911400">
            <a:off x="7729560" y="587484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10" descr="0091"/>
          <p:cNvPicPr/>
          <p:nvPr/>
        </p:nvPicPr>
        <p:blipFill>
          <a:blip r:embed="rId7"/>
          <a:stretch/>
        </p:blipFill>
        <p:spPr>
          <a:xfrm rot="911400">
            <a:off x="7483320" y="312228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10" descr="0091"/>
          <p:cNvPicPr/>
          <p:nvPr/>
        </p:nvPicPr>
        <p:blipFill>
          <a:blip r:embed="rId8"/>
          <a:stretch/>
        </p:blipFill>
        <p:spPr>
          <a:xfrm rot="911400">
            <a:off x="5273640" y="988920"/>
            <a:ext cx="528840" cy="51912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10" descr="0091"/>
          <p:cNvPicPr/>
          <p:nvPr/>
        </p:nvPicPr>
        <p:blipFill>
          <a:blip r:embed="rId9"/>
          <a:stretch/>
        </p:blipFill>
        <p:spPr>
          <a:xfrm rot="911400">
            <a:off x="1943280" y="4592520"/>
            <a:ext cx="617400" cy="60660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10" descr="0091"/>
          <p:cNvPicPr/>
          <p:nvPr/>
        </p:nvPicPr>
        <p:blipFill>
          <a:blip r:embed="rId10"/>
          <a:stretch/>
        </p:blipFill>
        <p:spPr>
          <a:xfrm rot="911400">
            <a:off x="5773680" y="4367160"/>
            <a:ext cx="649440" cy="63828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10" descr="0091"/>
          <p:cNvPicPr/>
          <p:nvPr/>
        </p:nvPicPr>
        <p:blipFill>
          <a:blip r:embed="rId11"/>
          <a:stretch/>
        </p:blipFill>
        <p:spPr>
          <a:xfrm rot="911400">
            <a:off x="3916440" y="60480"/>
            <a:ext cx="528480" cy="51912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10" descr="0091"/>
          <p:cNvPicPr/>
          <p:nvPr/>
        </p:nvPicPr>
        <p:blipFill>
          <a:blip r:embed="rId12"/>
          <a:stretch/>
        </p:blipFill>
        <p:spPr>
          <a:xfrm rot="911400">
            <a:off x="1501920" y="349200"/>
            <a:ext cx="528480" cy="51912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10" descr="0091"/>
          <p:cNvPicPr/>
          <p:nvPr/>
        </p:nvPicPr>
        <p:blipFill>
          <a:blip r:embed="rId13"/>
          <a:stretch/>
        </p:blipFill>
        <p:spPr>
          <a:xfrm rot="911400">
            <a:off x="6102000" y="2171880"/>
            <a:ext cx="528480" cy="518760"/>
          </a:xfrm>
          <a:prstGeom prst="rect">
            <a:avLst/>
          </a:prstGeom>
          <a:ln w="0">
            <a:noFill/>
          </a:ln>
        </p:spPr>
      </p:pic>
      <p:pic>
        <p:nvPicPr>
          <p:cNvPr id="2218" name="Picture 10" descr="0091"/>
          <p:cNvPicPr/>
          <p:nvPr/>
        </p:nvPicPr>
        <p:blipFill>
          <a:blip r:embed="rId14"/>
          <a:stretch/>
        </p:blipFill>
        <p:spPr>
          <a:xfrm rot="911400">
            <a:off x="3130560" y="5918040"/>
            <a:ext cx="528480" cy="519120"/>
          </a:xfrm>
          <a:prstGeom prst="rect">
            <a:avLst/>
          </a:prstGeom>
          <a:ln w="0">
            <a:noFill/>
          </a:ln>
        </p:spPr>
      </p:pic>
      <p:sp>
        <p:nvSpPr>
          <p:cNvPr id="2219" name="Прямоугольник 1"/>
          <p:cNvSpPr/>
          <p:nvPr/>
        </p:nvSpPr>
        <p:spPr>
          <a:xfrm>
            <a:off x="611280" y="92556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Працювали ви старан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То ж урок пройшов не ма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Працювали від душі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клас -</a:t>
            </a: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 ви молодці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3" name="Picture 2" descr="http://gotovie-prezentacii.ru/wp-content/uploads/2013/02/himiya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79280" y="4508640"/>
            <a:ext cx="878544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росто знати- це не все, знання потрібно використовувати. »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.Гете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5" name="Прямоугольник 3" descr=""/>
          <p:cNvPicPr/>
          <p:nvPr/>
        </p:nvPicPr>
        <p:blipFill>
          <a:blip r:embed="rId2"/>
          <a:stretch/>
        </p:blipFill>
        <p:spPr>
          <a:xfrm>
            <a:off x="2139840" y="2236680"/>
            <a:ext cx="48643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Заголовок 1" descr=""/>
          <p:cNvPicPr/>
          <p:nvPr/>
        </p:nvPicPr>
        <p:blipFill>
          <a:blip r:embed="rId1"/>
          <a:stretch/>
        </p:blipFill>
        <p:spPr>
          <a:xfrm>
            <a:off x="433440" y="109440"/>
            <a:ext cx="8418600" cy="2298960"/>
          </a:xfrm>
          <a:prstGeom prst="rect">
            <a:avLst/>
          </a:prstGeom>
          <a:ln w="0">
            <a:noFill/>
          </a:ln>
        </p:spPr>
      </p:pic>
      <p:pic>
        <p:nvPicPr>
          <p:cNvPr id="2177" name="Подзаголовок 2" descr=""/>
          <p:cNvPicPr/>
          <p:nvPr/>
        </p:nvPicPr>
        <p:blipFill>
          <a:blip r:embed="rId2"/>
          <a:stretch/>
        </p:blipFill>
        <p:spPr>
          <a:xfrm>
            <a:off x="4492800" y="3524400"/>
            <a:ext cx="4028760" cy="279072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3"/>
          <a:stretch/>
        </p:blipFill>
        <p:spPr>
          <a:xfrm>
            <a:off x="0" y="2592360"/>
            <a:ext cx="3429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4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5"/>
          <p:cNvSpPr/>
          <p:nvPr/>
        </p:nvSpPr>
        <p:spPr>
          <a:xfrm>
            <a:off x="1274760" y="115920"/>
            <a:ext cx="360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Calibri"/>
              </a:rPr>
              <a:t>Вам потріб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Прямоугольник 4"/>
          <p:cNvSpPr/>
          <p:nvPr/>
        </p:nvSpPr>
        <p:spPr>
          <a:xfrm>
            <a:off x="357120" y="1125360"/>
            <a:ext cx="8286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ати уявлення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 довгу і коротку форми періодичної систе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нат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у періодичної системи; закономірності зміни властивостей хімічних елементі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міт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використовувати періодичну систему для пошуку інформації про хімічні елементи та їх власти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1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Century Schoolbook"/>
              </a:rPr>
              <a:t>Довгоперіодний варіан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entury Schoolbook"/>
            </a:endParaRPr>
          </a:p>
        </p:txBody>
      </p:sp>
      <p:pic>
        <p:nvPicPr>
          <p:cNvPr id="2184" name="Picture 4" descr=""/>
          <p:cNvPicPr/>
          <p:nvPr/>
        </p:nvPicPr>
        <p:blipFill>
          <a:blip r:embed="rId1"/>
          <a:stretch/>
        </p:blipFill>
        <p:spPr>
          <a:xfrm>
            <a:off x="108000" y="1370160"/>
            <a:ext cx="892800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5" name="Picture 4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6" name="Rectangle 5"/>
          <p:cNvSpPr/>
          <p:nvPr/>
        </p:nvSpPr>
        <p:spPr>
          <a:xfrm>
            <a:off x="1289880" y="115920"/>
            <a:ext cx="68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Calibri"/>
              </a:rPr>
              <a:t>Завдання</a:t>
            </a:r>
            <a:r>
              <a:rPr b="1" lang="ru-RU" sz="4400" spc="-1" strike="noStrike">
                <a:solidFill>
                  <a:srgbClr val="0066ff"/>
                </a:solidFill>
                <a:latin typeface="Calibri"/>
              </a:rPr>
              <a:t> для закріпл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Прямоугольник 4"/>
          <p:cNvSpPr/>
          <p:nvPr/>
        </p:nvSpPr>
        <p:spPr>
          <a:xfrm>
            <a:off x="357120" y="1214280"/>
            <a:ext cx="82868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в періодичній системі розташований елемент №20? Складіть формулу його оксиду й гідрокси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О, Са(ОН)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упа, 4 період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віть елементи: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 період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, головна підгрупа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 період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а, побічна під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e3611"/>
                </a:solidFill>
                <a:latin typeface="Calibri"/>
              </a:rPr>
              <a:t>Закономірності періодичної системи хімічних елементі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Зміна металічних та неметалічних властивостей елементів по періодах і групах 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металічні властивості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неметалічні властивості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посилюються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посилюютьс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Максимальна валентність елементів вищих оксиді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відповідає номеру групи (крім побічних підгруп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Валентність елементів неметалів у сполуках з Гідрогеном визначається різницею між числом 8 і номером груп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190" name="Прямая со стрелкой 4"/>
          <p:cNvCxnSpPr/>
          <p:nvPr/>
        </p:nvCxnSpPr>
        <p:spPr>
          <a:xfrm flipH="1">
            <a:off x="571320" y="2785680"/>
            <a:ext cx="2160" cy="85788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1" name="Прямая со стрелкой 6"/>
          <p:cNvCxnSpPr/>
          <p:nvPr/>
        </p:nvCxnSpPr>
        <p:spPr>
          <a:xfrm flipH="1" flipV="1">
            <a:off x="785520" y="2571480"/>
            <a:ext cx="2358000" cy="216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2" name="Прямая со стрелкой 9"/>
          <p:cNvCxnSpPr/>
          <p:nvPr/>
        </p:nvCxnSpPr>
        <p:spPr>
          <a:xfrm>
            <a:off x="5214960" y="2571840"/>
            <a:ext cx="2358000" cy="216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3" name="Прямая со стрелкой 10"/>
          <p:cNvCxnSpPr/>
          <p:nvPr/>
        </p:nvCxnSpPr>
        <p:spPr>
          <a:xfrm flipV="1">
            <a:off x="5000760" y="2785320"/>
            <a:ext cx="2160" cy="85788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Завдання для закріпленн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1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Складіть формулу вищого оксиду й укажіть його характер для елементів № 12, 30, 16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2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Складіть формули летких сполук із Гідрогеном для елементів № 15, 35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Назвіть елементи 5 періоду, які мають формулу вищого оксиду 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R</a:t>
            </a:r>
            <a:r>
              <a:rPr b="0" lang="en-US" sz="3600" spc="-1" strike="noStrike" baseline="-25000">
                <a:solidFill>
                  <a:srgbClr val="003300"/>
                </a:solidFill>
                <a:latin typeface="Century Schoolbook"/>
              </a:rPr>
              <a:t>2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O</a:t>
            </a:r>
            <a:r>
              <a:rPr b="0" lang="en-US" sz="3600" spc="-1" strike="noStrike" baseline="-25000">
                <a:solidFill>
                  <a:srgbClr val="003300"/>
                </a:solidFill>
                <a:latin typeface="Century Schoolbook"/>
              </a:rPr>
              <a:t>3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8" name="Вертикальный свиток 3"/>
          <p:cNvSpPr/>
          <p:nvPr/>
        </p:nvSpPr>
        <p:spPr>
          <a:xfrm>
            <a:off x="539640" y="836640"/>
            <a:ext cx="8064720" cy="4840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1e2fd"/>
              </a:gs>
              <a:gs pos="100000">
                <a:srgbClr val="76c6f1"/>
              </a:gs>
            </a:gsLst>
            <a:lin ang="5400000"/>
          </a:gradFill>
          <a:ln w="9360">
            <a:solidFill>
              <a:srgbClr val="5eccf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ьохвалентний метал масою 4,5 г при взаємодії з хлоридною кислотою виділяє водень о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ємом 5,6 л (н.у.). Визначте метал, напишіть формули його оксиду та гідроксиду, вкажіть їх харак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7:09:16Z</dcterms:created>
  <dc:creator>Admin</dc:creator>
  <dc:description/>
  <dc:language>en-US</dc:language>
  <cp:lastModifiedBy>Admin</cp:lastModifiedBy>
  <dcterms:modified xsi:type="dcterms:W3CDTF">2014-05-29T06:26:29Z</dcterms:modified>
  <cp:revision>2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28000000000001024140</vt:lpwstr>
  </property>
</Properties>
</file>