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51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13.jpeg" ContentType="image/jpeg"/>
  <Override PartName="/ppt/media/image25.gif" ContentType="image/gif"/>
  <Override PartName="/ppt/media/image1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4.xml" ContentType="application/vnd.openxmlformats-officedocument.presentationml.comments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notesMasterIdLst>
    <p:notesMasterId r:id="rId52"/>
  </p:notesMasterIdLst>
  <p:sldIdLst>
    <p:sldId id="256" r:id="rId53"/>
    <p:sldId id="257" r:id="rId54"/>
    <p:sldId id="258" r:id="rId55"/>
    <p:sldId id="259" r:id="rId56"/>
    <p:sldId id="260" r:id="rId57"/>
    <p:sldId id="261" r:id="rId58"/>
    <p:sldId id="262" r:id="rId59"/>
    <p:sldId id="263" r:id="rId60"/>
    <p:sldId id="264" r:id="rId61"/>
    <p:sldId id="265" r:id="rId62"/>
    <p:sldId id="266" r:id="rId6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Школа" initials="Ш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notesMaster" Target="notesMasters/notesMaster1.xml"/><Relationship Id="rId53" Type="http://schemas.openxmlformats.org/officeDocument/2006/relationships/slide" Target="slides/slide1.xml"/><Relationship Id="rId54" Type="http://schemas.openxmlformats.org/officeDocument/2006/relationships/slide" Target="slides/slide2.xml"/><Relationship Id="rId55" Type="http://schemas.openxmlformats.org/officeDocument/2006/relationships/slide" Target="slides/slide3.xml"/><Relationship Id="rId56" Type="http://schemas.openxmlformats.org/officeDocument/2006/relationships/slide" Target="slides/slide4.xml"/><Relationship Id="rId57" Type="http://schemas.openxmlformats.org/officeDocument/2006/relationships/slide" Target="slides/slide5.xml"/><Relationship Id="rId58" Type="http://schemas.openxmlformats.org/officeDocument/2006/relationships/slide" Target="slides/slide6.xml"/><Relationship Id="rId59" Type="http://schemas.openxmlformats.org/officeDocument/2006/relationships/slide" Target="slides/slide7.xml"/><Relationship Id="rId60" Type="http://schemas.openxmlformats.org/officeDocument/2006/relationships/slide" Target="slides/slide8.xml"/><Relationship Id="rId61" Type="http://schemas.openxmlformats.org/officeDocument/2006/relationships/slide" Target="slides/slide9.xml"/><Relationship Id="rId62" Type="http://schemas.openxmlformats.org/officeDocument/2006/relationships/slide" Target="slides/slide10.xml"/><Relationship Id="rId63" Type="http://schemas.openxmlformats.org/officeDocument/2006/relationships/slide" Target="slides/slide11.xml"/><Relationship Id="rId64" Type="http://schemas.openxmlformats.org/officeDocument/2006/relationships/presProps" Target="presProps.xml"/><Relationship Id="rId65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4-02-13T09:29:24.512000000" idx="1">
    <p:pos x="10" y="10"/>
    <p:text/>
  </p:cm>
</p:cmLst>
</file>

<file path=ppt/comments/comment6.xml><?xml version="1.0" encoding="utf-8"?>
<p:cmLst xmlns:p="http://schemas.openxmlformats.org/presentationml/2006/main">
  <p:cm authorId="0" dt="2014-02-13T09:29:24.512000000" idx="2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 type="dt" idx="15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 type="ftr" idx="15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6"/>
          <p:cNvSpPr>
            <a:spLocks noGrp="1"/>
          </p:cNvSpPr>
          <p:nvPr>
            <p:ph type="sldNum" idx="15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6237-3125-4150-8999-2CE708B239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B277-4445-4E44-8916-31D6F8EC28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4076-7A3C-44F4-9810-64D0A90177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B828-CA51-4111-9A8C-5CD8DE36F9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A80-AAA0-4EE8-8875-B541C952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614-6F8E-448A-B80D-6A18397A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F3884-E19D-4DFC-81C4-E46BFD87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93E15-B340-44E8-BB3A-D416BCC3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5919C-9442-40A2-B292-304865B1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D3920-3D67-444A-B854-552EEDE9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D1E21-1819-4CFF-81EC-7B56DDD1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0B0D8-2644-4CAC-B19E-ED415B6F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F8E82-6011-4CAB-A865-4C7140B1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1B60C-7B1E-4263-9FE5-6EB2A83F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28F3D-2322-4B5F-A8AC-01D0EF98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F5861-BF5D-4571-9535-3DC433DF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08F2-CB57-41D2-926E-A85AFDDF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0ECCB-6941-424D-8D6E-7C1EFE66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8DAF7-86A6-4B56-94E6-3F2EDD72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6B2E6-59D4-4C31-9A86-54CE2B70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B45CF-60DD-44D6-9C94-98AD3A09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9252C-33F7-4FB2-B977-D473CED6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BBBC8-067A-40AE-97A5-52BC5F92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F9B46-50CA-4B2B-A2DE-68A6CF79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4F1D8-D0F1-4E2D-8472-871768DF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E88D1-4FA0-4B47-B855-EC700729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E70FB-0B37-4A74-A234-56ABDD79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1F3-7A5A-443C-983A-049E95B1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3C6D5-E9B2-42B8-938D-BFC526C6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F0CA2-12EB-4CF8-9376-CEF9C783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A2999-B591-4E83-BC90-64B8A300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C79FE-3DEB-4C66-AE4F-32E19BBD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B1588-8B5D-4357-8D06-DF3443A3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63F01-9E7F-4703-B759-6EF41F89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8CD17-1C6D-4A3A-A13C-B1F03326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26933-6E38-42DF-8C4C-58D05F74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48511-3C26-49D0-B50C-E8EF75B3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310BC-2C36-4F50-AA7E-E4A53B81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4A7E-FAFF-42A7-BF57-53C464D4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D5715-06B4-40EB-B9AF-B5A4C1A4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3F83D-580A-420C-9015-53808588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E4602-4120-4FA2-BF7C-940EF555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43BB0-3160-417F-9E01-A6F7D317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100E5-A458-4FEF-8E46-376DCEB2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1A4CD-E6C6-471B-BF2A-C67875BE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D2A33-50C4-4BF0-B817-AB6959E1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AC94D-58F4-4AD4-BB78-F78EB07B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9C28D-A7A7-48DF-8BDD-2A8A121D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40690-F4DE-4B0A-8155-A5C7C1FA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BD6F-C4A0-431F-B84F-BB50BA36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4271F-13F7-4A25-ACD2-30868ED1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0175A-54FC-4C69-8CF1-70E6D660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FB3F7-4B18-4A4C-ABB5-AE96396A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DC502-A688-4952-9E6B-DB3109D6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A8BB0-76F2-477F-9FC4-16B43F6E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C9C74-CFD4-4E52-B0DE-5FEA9DAE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2B215-0C9F-43E3-B55B-5CDAB106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3EFE4-4923-495C-9F40-5E8E33E5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57727-5255-4EBD-8703-6F44C164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C32E8-D442-4CEA-BC49-E7D39333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616F-25AF-4834-BB6C-BCB27B97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591B3-DA80-471C-97B9-8906956A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181FA-6B7A-423E-8CB2-A3A525C6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A89E7-FB7C-4135-BA9B-3FCF8354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C620F-8E35-49DC-923A-F265394C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02CE2-970B-4F44-87CC-26D5B171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5D4FF-939D-48C8-89C4-49CC55B5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A5A3F-D1F3-4BBE-8268-33E117C4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C3B03E-98CC-4AE5-9580-07EEA228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098733-58DE-4648-A519-1092B97D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F5EF0-32A1-4994-9B78-AAB4714B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A38C-790C-4A85-9F3A-B096D42D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09407-EA9B-4F47-BFB6-9B1BC4E2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EE6517-42A5-4076-893A-10540799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969626-ADD1-4BC3-9F5E-4756BB14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BBC06-7728-40D2-BB00-F4CA5E89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8C3C6-4385-4ABE-82CB-75732393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3F8FD-D9BD-4AF5-A54D-71942DE5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9649F-57B1-4FF4-8A4D-060088F3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FF4CE1-006B-4DAC-95C5-4655E04D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C85DAD-226C-4EBE-BBB9-F3D2A464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5FA17-585E-4AE5-BB4F-C4914EB5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C926-A451-4D80-A975-B19C1F56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B65F1-BE82-48E0-A84D-C14A4C44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302588-3626-4E84-8C49-3C68C10D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D9FC8-8464-4CD4-8991-E3D608E3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29C950-9E62-412E-9DFD-87E49A4D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AFB3D9-2831-4572-B361-CC14EDAE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15971-AFB3-4A5D-AF3E-16CF5FCF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799012-AFE1-4831-8B45-356C931D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88CD3F-7FE6-46C9-BE0B-E39925D3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5923F-ED38-4FE7-A0B5-05C3EC7E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18B899-DA22-4867-88D4-45083335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A840-132F-4340-B214-568461A7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52B09-78CB-47B7-834A-C2CCAF6E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38FD1B-CD61-4B30-960E-D54179F0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05FC2-FE81-47A2-AEDB-2025A722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F6FED-AFF2-43F0-AECC-B1C12867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98D99E-ED42-48EB-8A55-8224E395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89473-1776-4B74-ACBE-A012C9C1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2D8B0-820F-459D-BAA7-3249E07E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437764-2CED-4170-A4A1-E187E091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8E4971-16BF-464E-8285-7F480462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608B3-9A1D-4346-B751-F2DC49A7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2AD5-8CAF-4C6D-9D41-C1A88166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610550-3E3E-4BDD-80ED-A61B10E7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B75EDC-D6D0-4782-ADA5-5368D49B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02A1CB-B381-4E42-B5B8-6B0CE8CE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6D4E15-A244-474A-9DD6-CB05AB24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C213E-C4D7-4D76-B53B-A9D9F164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F9D6A9-B1F0-4B37-9A13-88579802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350D86-E52C-4EA7-A894-7D3066AA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C205AB-837D-4D0F-88B4-1A491C99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B32834-97D9-443A-B2F7-AF098862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3B7DCB-CBC4-42A0-9B8C-A9D477AB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079-48DD-4706-9B9E-18450431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A099-6455-49E8-A036-FF002FD4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3F7D68-CD40-423B-A51C-DBFCAA4B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9D94DE-BE6B-423A-961A-91A30C5C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5D94BB-BAE5-4603-AF1B-06F6A687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59AD75-3541-43E2-8270-51ADFA91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7F4152-25C9-497E-B04B-BD272712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382680-D5ED-4DB5-B796-17939E95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ECFB1C-E057-43D7-91E6-DF31701C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5C507F-3743-4CEA-922C-C661B3C1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EEB3D6-CA93-4750-B2A8-48E48923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3F3ABB-A0E7-4079-82AA-80769EFF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4D24-D30D-4EE3-BEDC-A196CAC3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B0C43-0733-4898-8DAA-60763D97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CC01D9-BEDA-43CE-BDFB-41E61219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93CABD-B620-4254-8611-7FB41CF3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B873D-9EC8-4361-BD66-33F1A09A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12CB93-AAF0-4285-BA30-7090B15A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D831F-EFFD-4660-8964-5CDE1ACC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56566D-5652-4EA9-8096-8B27E2FE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29594C-64F4-4C06-97C8-A4EB4A69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7EA224-BD6A-4236-B0F7-8747814D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259E2E-976B-498B-887F-DBC8B65F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AB64-2686-4130-BBBC-E71F653D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A0B139-42B4-402C-B10E-8E234422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30CD52-E88A-4F4E-8DCD-0364F6D5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7BA941-9A90-48D1-9594-A78B8415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93214E-25E0-4313-ACBD-9C7BA0E7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D0B768-CB1F-4089-AAEC-6F00A111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C69A73-F784-4A7C-95D2-AF83D2CF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75B78F-E6CF-4CB8-9461-10BAC9F9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C4FF51-E047-4229-BE63-39B3823F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EA779-C445-4530-A981-11345532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62304F-41F4-4ED7-A2FF-9DD8926E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59AC-2432-48BD-A5DA-E3CCD2E4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0AB4AE-4E6D-4963-934A-2C512840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C7D005-C9FD-4836-84ED-BB59A7F4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9DCEB-E82E-48BD-AB21-1C98DB74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8E22A2-C765-4217-845E-4E620EAB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4BEA25-50BA-40AD-A211-DF6C05E3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E412D1-7D6E-4BA4-9D54-574D5575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2EB648-0C6A-4D14-BFF2-34537B1C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E0CD21-1E64-4E91-A886-97C8DFB8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7FC108-35DB-41A3-A81C-B2180473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8D4623-E13B-4B56-AC78-418DF139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DE9A-0B96-41FC-8ADB-E2BD4E07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7697F7-7D2F-4390-A32E-28D1C69E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7175C9-A6E8-4ADE-BE8B-F8E806FA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230F41-80A4-411D-BF8D-6FC1E7E0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9C3D96-31BA-4C3B-9328-5FF2B8D9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3F8BF5-EDF3-49FB-836A-2FB7625B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A377A1-D4DE-4EE8-B1AB-B6408D51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03F0B4-2CCB-4A98-91EA-CAFA46A9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E14ABE-CAA8-4691-AB58-15625F21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459A05-C4B3-4264-8AED-552FB44F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FECF46-2218-4F86-A70C-E0D50E5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F1D40-0069-453D-94B2-AF0220DD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E08BC7-7A43-4FDD-9C6D-C2CEA31A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3726E8-1468-4D6A-86F6-0A92588A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E481A2-3AA0-4FE6-90D8-A4255A43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43386F-24AC-49B7-969E-C5E2FA8E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9E7E13-C4B9-4F8F-9A44-6F601B1C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1ED5F1-CA1B-4EC7-870C-D665B43C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A7E63A-F542-42CE-A63A-A36A1BDC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E36C0B-6A64-4023-AFE7-E1EA5EEE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BB844A-BD5E-4BBA-9338-EA3F5C78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1895DF-4962-4B10-BADB-832BF776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6E9AA-0F91-4F8A-BF81-1287CCAB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50F667-D7C8-4D07-8B3D-49B87593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F509F1-4160-4EA3-AE5B-A4A575C5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FDE639-37AB-48A7-85BA-47EC666D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76618D-2027-41CF-B181-BAB145F5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5F2473-DADE-4490-9EF6-93DF7F8B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217C2B-9FD6-456C-B224-DA5A2996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85724B-DECF-480F-AD49-7D333AB7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50BA86-044B-4FC9-BDB1-6F61C1FA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ACA333-0DC9-42DB-A1C5-7578FFE3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D62040-FA5B-48A8-994E-D8E40233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C67D4-0F54-40C3-82DB-C2653C18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E1D4AB-5263-4E9F-A120-3AE7C6A9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EFFAC0-F2AF-4E71-9AFC-CBD39C73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4BC346-F4B5-436E-B23D-626B4148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981631-B90E-48B0-B4FF-F92AD290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CC9D9D-5563-4BBD-88F8-900FE1CE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199FF0-C579-4C32-9FF5-7394FAF7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D90D21-2C6D-4224-84F7-641F4B90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4AB7B5-2A60-45EF-9AA9-4E96FA2E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31B221-01A4-4F4A-AD14-1AC431E5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1730B0-17A3-4DE3-BE35-E3E4B9E6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24436-9A79-4E2A-A3EA-B236C4E9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A644F6-ABCE-40C1-800A-734CAC93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B920C6-A0D2-4288-B3F4-B5021C4F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BC0C5E-7D3F-4334-99C6-E1007E8C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F25C03-DD2F-4507-B629-C3659D40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3E5B2E-1EF4-4D08-91D3-1A194AC5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BC938B-E82C-4E3E-87D5-871C9283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C09B77-E105-4515-92C8-F8CF1189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3F5F9F-0A65-46FC-9187-8BBAEB0B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D6BFD9-3D4E-420C-911F-A17F5087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123250-9179-439F-AA14-F5B7F996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D9C69-2E3D-4404-93E7-C7B41D98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8B684F-AA22-4D25-9803-55348625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A5B08A-99EA-4B83-81F3-3B783989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EB24F7-4922-4DA5-B366-F344BFC4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793410-6905-4B60-9278-0DD11CE8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23BD5B-E093-4401-8654-57B2C7DF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F09B7C-4ABE-4848-B2A9-4B52EB53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15FA27-126A-46B5-8974-18229A78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C258AA-FC16-4971-BECF-AFD0D72E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7A1B22-86B6-43A2-830F-C44544A8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8166D4-4691-42BD-A668-552DB9E8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DD1-ACDC-426A-9ED2-05118F39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3CA13-3734-4690-BC53-4C796AF7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76CF21-C903-4151-BD88-C4F1A577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5E2F20-B360-49D9-BA83-B6621658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CF38FD-10B0-4C19-AC96-C9032712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B748C5-E8A7-4CD8-9B56-18551B39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972D13-37F5-4296-90D1-71AAD0CE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54747A-761E-4425-AC42-CCAFEBE9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79D1A6-79BB-45E7-8A97-27444C7D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EAC94F-D815-4C64-AF27-ADECBA67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42E186-104E-457E-B8EF-AF9D9E9D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0F7104-1CE2-40E4-B85D-99023C2F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C838D-33BA-4E7A-99A2-E40B68AA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191D37-C383-4B89-A40C-E3FF4FE2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DDBD89-295E-480C-8049-691A6CDA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F9A0EE-46B0-4F43-90CD-E6E9DA3E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EEDBF3-8920-49CF-B152-FF616A16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FDCA12-0ED1-42AA-A28F-7EC46875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68F4B6-5DAE-44FC-9EFD-80D0B5D4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D21781-CE05-41AE-A87D-C8A98524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34F755-2809-44BD-84C6-D895113F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138687-74EF-46F4-9CB9-AE1C31B7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9EE367-45F6-41F6-97AD-209A1F49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C9BBC-7362-4791-A23A-BE7A1B74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D6D8FF-09EB-400C-AE45-E9C77CF1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1291A1-4BBE-4029-8991-D0AE9B1A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7605BC-A054-4597-8FD3-3E3BD3F8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E62A54-AB8F-4B91-8F73-DD7E4BD2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3BFF91-6EFA-4C43-BD74-E9C68408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A0FF49-B121-49F6-AACD-12D8D37C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F03555-94AF-47F0-A34E-9A327AD9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9E881E-91D2-442F-9D1A-5B72A10E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42883A-C796-40BB-9320-770D6F7E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F47A30-FF67-4B2F-ACFD-18E8C0FA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C837F-77AE-4B97-AF4F-4ABCA35F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8C5E75-2F98-430C-8E73-AEEAA596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4CEA1D-E3FE-4BA0-9A99-242CEF1F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0B9831-1924-4597-8EEF-82231633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AD1189-A341-45F2-B4E3-8C7FFA4D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41A2AC-B6DE-4E2B-8C4F-36041C91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B36FAE-01F0-4C02-85BB-593C21EB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5B7B1B-66B2-4A57-88F3-C3CB9160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4F0447-B9A1-42DC-B8C4-C23CC2F2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A02795-4E9A-4933-9303-0CF07F09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D6A643-0228-468B-8842-017DA79F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2C4BF-7D0F-47EA-A88E-FF405C33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447903-C5AB-4035-98AD-E6D3B894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6E6AF0-39A3-48EB-9548-593F36A0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AE1211-51C7-4F9B-81AA-08DA7433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7A2B34-4E87-4DDC-AB30-3887C51B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852878-8A84-4921-AE0C-341D29A5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5B1AC2-4F12-4ECC-8897-77BBC70B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D3092A-C86D-4352-B164-3DC0B36C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D34A0C-123B-44A9-A4AD-62A13FC2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311E23-EB34-45CC-8318-7EC77E1B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C7393A-313F-4434-8402-00C58D5E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6576-812C-47E5-AB6A-475179B0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1E4DA9-131F-430A-88F6-001F037D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856A7D-E052-48BB-ACC8-128B49D0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D114F0-00B3-446B-A9C0-F8CBC562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85A463-C33A-4B3A-A658-29D623C9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E4ADBD-EBF2-45CA-91DA-63C94702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840646-3D19-4DC0-860E-D7A20274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BC0E88-9129-4FAE-8115-E92BA87F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06E354-8D99-43DD-873F-58FFEE64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52E42B-B698-4023-928F-3949E0B6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2AA815-DCD4-4246-B568-D845D3EA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0135-670B-4AC1-9E34-BDBB0CCC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166F90-752E-40A6-B6C5-3E91FDD4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CD0A8E-3FC9-4DB3-B2E5-CE1B7083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95C690-7535-42BB-8093-76D15A99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611608-F660-4D33-A620-8A716165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FBBB5C-080A-4E7F-B88F-814EE04A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E8B8A9-7C47-407D-9708-5F0905D3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2128FE-2717-484B-A9D7-B92FFC61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F09933-C7E5-4E81-87F4-F033880A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515D4F-FFFE-49F0-B94E-D77BE855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DB47B8-B851-4C90-8B6E-2B715E1E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DBDD2-4412-40C4-B94B-A35C50BC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11FF4C-671E-4615-AE60-24D5A368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EDF822-64E8-4F60-B302-87C237AB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CF4761-5CE1-463E-8D39-F4B0CD3D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321B2E-250C-4DB4-9F18-9A0E6153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EE2D8F-EDC1-4391-86A8-AA336D5A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C50387-ABAE-475E-9342-65CBCBEC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780287-FE70-4F96-A709-BC79A09F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A9331E-2E96-4A7D-81DC-68CEBC35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C267DE-A8A0-4EDE-B75D-8B535A6F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1816DB-9864-4F26-A205-1E8A0794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ECE23-712E-437B-8887-2C743902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59F64D-2813-499C-925C-A023DADB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1EE935-7ADA-4832-BCBE-0BC32B79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8D3BAB-F929-4B1F-B891-BD0D2801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2417A8-B2C4-4596-A9CA-FB464B4B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440DC3-9182-4FF9-82AC-361D1CF6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2F8FB1-12D4-448E-84F0-30BC2A2B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80187A-239B-4131-98E2-C8E63C65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6CC1BFA-4C7F-4274-A3B8-387D73DE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2DD849-B5AD-46A6-BD9C-05C020C1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2AEB3C-7F03-412C-A141-4AC93235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73D33-616E-44F3-B82D-90F9B979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AAB94C-5869-4AB6-AA9A-10015919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296E18-5EB5-4EF0-8C94-F9E028A1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2511D9-FE39-4118-9C14-DF17736D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34FB8D0-6458-438E-A018-B6772721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4A77B3-2849-4101-9D50-F8503781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35794B-4F7D-4612-AF40-7A8DC1DB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691A8E-8CB9-4A4C-9A54-142132AF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A853F9-8132-42FB-96C6-FD5C7B32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57251A-D4F7-473F-9408-25A2F1BD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684FE6-2D27-4DFF-9371-D7BFD167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32B-D9CF-4338-9913-12BB0C0F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F7C50-1633-4A8E-A8CB-DEE3678F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889492-164A-441A-B13B-2E8CD70A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2CA197-CEDB-439C-AB73-6907D8DF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604188-4588-4B2F-8A1B-6E6F96E0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89EB69-8977-4FEA-A045-C836AD4A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A456AB-8466-4700-924B-70A55274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61F696-9FDB-4F34-B4D9-F26F1637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20F4B9-CD4B-4C2D-97DA-1C9C1995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40BA69-FD29-4479-9B85-A20A4F98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C3817B-FFB4-41B9-B263-0372B389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463272-F44B-4085-9230-3F42859D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EA84E-BCC2-4D48-9AAD-A68D0FB5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993A85-14DE-454B-98A3-28439FA0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732D79-85A2-4FE8-820E-03840692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92202C-D76D-4BB7-8D18-C910B978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FB6DD8-483F-4E74-804A-70DC081E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DDA186-1500-4CB7-92C3-1B83DE8C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7B57336-AA64-4732-9D49-6373021A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C115DAB-0212-4BED-9522-891CED74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F63431-1CF4-46E1-8047-21D6ACEC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107600-27FB-4C30-B991-FD5EEBB4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CC9C39-4AF4-41C1-AD05-A3144EF0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B388C-27E9-470E-9D0F-B508F0C1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DE2589-6D83-4A9C-BEB4-4805D1B2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A4A830-129D-4F0D-BD51-20293D6F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B1558A-A441-4D8F-B426-55DEB547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F13496-2C0E-4470-9DAB-E96FF43B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1AEC59-3E38-4767-BDD3-A0F66493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0DBEEF-922B-4364-8DC8-149A42CF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8E63CB-EE73-4061-8D05-8CC18182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0A3D5D-FA11-4D77-9899-48821219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303C6F-7713-45EA-986D-4F7AD078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6C1EDA-4F64-4A5E-8B4F-71C64F5B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7C3A7-56A8-4FE8-AAE0-1FD51077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0C191D-BBBE-4986-B5EA-41AAF9CF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B899FA-D9E9-47E0-9F98-B863C93D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3F139C-8C3F-44DD-9A06-8A63E790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59148EA-0AE0-4452-BF1F-63C9146E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EF7CF9B-6EF0-454A-8167-9C7F2974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E3308DF-C10D-4434-B51C-CF2AAFE2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CDA960D-C1D8-4DED-872B-753328A8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1391166-28FB-4559-AF53-C6BD6C3D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C557533-34AC-4F1D-B5CC-49A640C3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FDCD3A7-9CC1-472A-BB32-B2EE3C33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55B2A-4098-413A-BB29-07516B10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45E5012-5129-472B-994C-232898CE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A4F1FB3-A873-4A0C-B06C-20AAFB52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D131897-667E-46FB-8D46-6B700D39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88DDBBE-0FB5-4207-A7B1-34D6ED1F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057244E-3CE1-4F18-9134-2C1173C1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AE1901-5F25-4C8B-A5AE-DFDB592E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7BE6868-6214-4C41-94A7-A72636C5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4CE3E7-B042-44E2-966B-7D6F3281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D89577-4F3B-4F22-B391-B62ACB57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95A7EAE-D01D-416D-9EB3-0E75BBA4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089AA-BA82-402F-943D-B5695B91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72592F-19E4-45D6-850A-DBA098F2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9D6A6B9-1F26-45ED-9DF7-AAB49DEB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23EB83E-FCAB-447B-822B-8CDA7902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2D4EBA-A680-4822-8F04-AB4804EE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8E8ED0-225D-48BB-9CF3-B93B6C35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B88595-C2A2-4CD0-83AC-1A806042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E187420-7972-4E74-A48F-A5E5AFD8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23EA8F4-6574-4FFC-8CAD-E5FA11DA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B4F0D8E-75D3-4475-8D77-D53BA7E2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500A813-476F-40B0-BCF5-C56CC325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4D31B-55C5-48F0-9B14-62EAB94C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3EBA32A-F3B8-4237-A19B-07221DC1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E7D75C1-C9D7-4AF6-8865-6BF5CE66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443CAC7-9CE5-4F83-AF0D-69C58B97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12BE0F2-9C67-4463-A3D5-08C941B7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3681AA2-0357-48CF-85CE-9126BD63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1E4DEF6-9A07-45B3-BD10-57554DF7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B2F664E-BCF3-44AC-90FF-F696DC21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A3DEDFD-DD63-4159-AFA2-65ADC7AF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F1E61DE-EE13-43E7-A372-963C83B3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842AE5-F031-4204-B95B-0C7B8435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1C6A0-B339-4960-8EDF-2D5A99A4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8EAE2CA-AC62-45E5-AC9F-44104D79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0C0BEFA-9740-438C-8064-E4B8AB02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6E84F13-4803-480E-8227-94724571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9AAADB8-3CCA-42ED-AB4E-DF1CC67B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1FFD6B0-E140-4217-ACED-D5BE8B30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8D7E985-50E8-480E-B323-D0E02E31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841576-5028-43A2-9E95-5B59E50C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52F104B-6682-4495-B5ED-8B12F6B1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3E265D5-5064-4753-85B7-7531B8B7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841F561-ED91-4D74-B00D-752D3C86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48B86-7AFC-49FB-ADB4-6947C613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EC3904-A5B8-4064-899A-EBC3A94C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0F581C3-E1A7-4522-86C2-7C566349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E42A196-C1F7-4A15-BC74-A783B395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95B48E-B75C-4290-91EA-8D09A863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87B70ED-0F14-4DC3-BAB0-4F3DF6B0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F0506C7-2DED-4D65-9F1A-E82F6D2F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7331157-6762-4F05-BC83-BCAC1738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79D67A2-BD35-46E9-9D38-BC503A01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05B0A83-EAB5-479F-BDEC-966625AF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F0B731E-DDA1-46DF-B02B-6C472D20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0D7A1-3E09-4328-98C6-BCCE5CDE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800C613-275A-4E08-8944-68B28408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05E4C7A-A147-4BEE-BA39-F981F26A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AE59662-BA4E-4FE6-94F6-BD50FA0E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06F6EF2-8FBF-4E58-9C42-4F7190A7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D75CABE-AC11-4C00-B6AC-9175B16C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8A199AB-B71D-41D1-AC1F-761C88E3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3AF5DB1-BC4A-41BB-AA74-812A29CC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04DD30A-24FD-48FC-884A-0717E8E8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A230636-0773-4E09-BE19-4B011606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6B1EF4-D4EE-4D76-A392-32E49F5D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F7B-0590-4B6C-9803-D15B5F12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80C75-1D75-4E0F-99C2-5966FC77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B157AE0-C396-4C49-81A6-FDF8EA17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E516AAC-6C7B-4E99-8CA8-13B89138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68B6860-F2BF-4CC5-8C5E-8D6DF738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75EE1B1-A949-40A3-BC5F-D2BB2EDB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3CCCE96-7859-49CD-9A15-A480122E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EFE99F-C021-4D63-9CE3-625F69E1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C462C2B-27DE-4DBB-95FE-538F9CCE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BCEFD8D-51DF-423A-A921-1563317B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A6398D-9982-42B9-A82C-C524C618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12B7FCF-4E00-4689-9BA2-261BF197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364A0-97CB-4D80-81C1-E5D61A7D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06E7918-754D-4377-8C6D-BE9A6632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374670F-934B-42A7-8F75-81E9ACBB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F631A1A-B994-4141-8A03-A682E5E5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36B4855-B69F-4A5E-BA6A-5E0B4B07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7F18097-9F71-4923-8404-A2C2C7EF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C7E0F10-288A-4028-A390-3D023BF4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01A228F-74A1-46CC-8D03-4646E023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49CD86F-31CD-4DB0-9A28-6EC26D06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B99BB02-85F0-42BD-B56A-73CB1D89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8FFFF96-DB89-4B1B-98C2-56C37142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43E79-D0F1-4431-B4A7-DAB1674E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BEAD5A-041E-41E3-8EDF-F31E87BC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DAE867E-5534-4851-95C5-12A1AA24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FD5FB5D-3DAA-4E1A-AAE9-8B5BB45F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726B2BA-7E64-4E2E-B7E9-F68A34D3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0D31358-554F-442F-8918-47B0F0BD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8AB793E-9E00-4422-A40E-FA6F56A9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34C4AC9-156A-44F1-9087-98DED02D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C3AD5FD-3754-43CF-B39C-99BC2834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BF34912-1117-4126-A584-502AE667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E40DB43-EFAA-4B24-96DB-ED9889AC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C2B6E-6130-48F8-955A-3F8FCD1C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EC0C794-A9B7-4119-90CA-1534FDAF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CF1A695-DAE9-4082-B051-88755EA4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C481690-0338-46B1-B9E8-8BCF62E4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8687309-597E-412A-B612-DD17126C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FC0E4B3-A160-485D-9FBB-964F576F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2AA1A6E-FA55-4750-83DB-01E68549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6477A8C-4375-4C8F-B06C-3FAA99A4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915AA5B-3C73-4E12-88EC-E6711EA2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4B257DA-8490-4B86-BD4B-04348C37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0A05A67-2990-4532-9A44-39C08290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03687-6316-4C36-BF9F-02958BCB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B4AAAE3-49B7-43CB-8459-7740A635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45309E-14A7-4FBF-A726-8A73393A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B4F046F-C0A0-420A-A611-2BCFFAD1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076EFB3-66CD-422D-AE0E-CFF26045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80D7B1A-1742-429A-AE3A-FE7EEDD9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C1A79B0-055E-4426-BBE1-CAB6D179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D8F58C0-3856-4A0C-B78E-F87DEBCA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6394FB8-AEE0-43FF-8164-264A0CA0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8DEDCC2-DD03-43BC-9450-8E7669BF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E394AE2-B4A1-4D94-A3F5-41CFA3E7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39FEE-CC09-4B9B-AF12-DF4B14D6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4D0DA7F-780F-42CA-B3C5-4FD8E4DE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406B6AC-D04B-4FDB-A414-6745B3B7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1D643CB-F771-4FA2-AC94-2C3C485C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B90DD76-4EAF-4D3F-82DE-41ED4EA5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26C3461-D737-49DB-9753-D439E7A3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D80F049-F8EE-415F-B1BC-9356B98D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0424E8C-A99E-4EB6-8A6E-BA3F6F4E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5F37B2E-39A3-4B52-B49B-F550C27B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5DB1D15-3F67-48F0-BD7D-008FDECD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B040156-BA46-44D8-A8D6-E6543B69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5B1C2-51E2-412A-B5D8-2C35C06A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174E77A-15F1-448F-AC4C-D208F2B7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8730D6F-CF36-40AF-B62A-F6BF6767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6FCCF87-A3AC-4551-8ACD-BE986BDA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4FEE72E-A0D7-423A-9690-7DBA13BE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940896A-7F8A-41E5-A345-05DF0A7F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63E69B4-44CF-4BB6-8C3A-000416E1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EF58565-15D6-4A4F-BA9C-13E444F8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D75D320-1317-4A30-A742-000942BE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FF2AF5-58EA-4243-859A-23B73FC7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CF301B9-7AA7-4323-95A0-82C8EA4D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EF834-0391-474D-98A1-5880495F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957AA7B-00F5-4891-8BBD-AF337C82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EF45E5D-603E-498C-8803-DF2E979D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3069AC6-ABA2-44D3-8D22-267A2983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BFC8789-3433-4A92-89A7-1903EBBA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DDB8BD-64B0-49ED-9782-38CF1073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096820E-A40C-4D31-A061-AC66020B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897234E-9D09-4E27-BC20-D5CD2E27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5289360-015B-4114-ABAD-E4D5DAF1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063536C-6BBB-4065-B4F3-DC9F81C8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C2B0AFF-0C1C-4490-8F00-4941DCEB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D14A7-456C-4562-A90D-C14F1C08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655C58C-F7A0-4C8D-BEE5-CDAC624A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4331A2C-A22F-482E-BF0A-C48EDF50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548353A-5F3A-44D5-BA71-DDA228AD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6B59E2F-B963-4104-9E97-4E4BBCDA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03DF563-2B16-4215-B16E-237D8BDE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793C1D6-CBFA-4922-84C2-E4861F35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AB7C64F-8767-48CE-8315-5E350577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BB30F43-A8A8-4CF0-85D3-1397E553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6924913-C88F-4021-8FFC-DC7EDB2B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404FF8D-08C5-4B98-84F7-C02681BD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10F73-CCAF-4081-964A-7D6F8738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E20F541-8839-46B1-B747-3AB28390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29BF037-8FFF-4EED-90C4-E332391E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2BC5129-F178-4D0E-A10C-08A56BA4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E9B7EF4-5EA8-48E1-B18F-E08EECCF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A97C34A-75A0-4489-B92E-A91C5EB5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8617193-52F9-40B9-8208-8DC4CB5E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7095FD5-DF83-4AA6-882E-E18F60AE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EDFDBB3-DAB6-4B78-8750-7D0C17BB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3FB54FC-A31A-45D1-8ABC-A8717604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125A1CE-EC98-44C7-AEBE-8773F670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E25-DB45-482F-8188-36D03F9C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C96FB-F79B-4324-9F0D-9C8D961D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4A58558-D76E-457E-8251-2DA0B080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6A5B7-CF8D-4E26-B222-345C8F33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82A1D-A438-4779-A6EB-CECCB479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E3FBD-BE52-429F-9C04-42556331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74D50-AE9E-48F3-863B-26CD0972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2E6E4-F3C0-41EF-8382-74718CA4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A4D20-EA3C-4B9F-8B1B-67197DF6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DE83C-7745-48AC-9F24-D4CFC8A3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E33B5-408E-4E7D-8893-BCD351A7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20BE3-4A00-460E-817C-12137F7D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E73-0F1C-4139-9962-F88B944B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DC1CE-E176-4A53-AD3C-376C8BE4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4C02D-528D-40DB-9E9D-8AB3F091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9D66C-DC79-4105-8C0F-13BE45CD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26BB2-F426-4814-8BF7-85A627E1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3BC0A-B077-4746-BE70-16386828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70BC2-8EC1-4E9B-8E73-4FDB5078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3D688-9543-460F-870C-1A8D7A7E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A04C4-578F-436C-8A17-A11284B6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50F93-5679-4891-B81B-F905DAA7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8EAE5-872D-4139-8C63-44FBEED7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2F5-EEAF-4B07-B806-C72BB66A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887C7-6216-4EA8-B7CB-C60E1385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0B23F-E6FA-4BCA-B788-15BB1FE6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2CAD4-BA2B-4921-A49D-BD87327D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1FB27-9702-42BE-AD8D-1F87E51F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1CE23-39C1-4ADB-958A-9140B51E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03382-D2FC-4663-83DA-12B6FEB4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E2EC4-300D-448B-B9F2-7BC4BEFD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773FA-50A8-4F08-B34D-B7A214DA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D7C58-6F6F-4C5F-9574-DADB8B9D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47D55-23FA-499B-8093-9EB7DFDA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B95-44BD-4716-905C-FBED6986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75722-DFB3-4F61-AA6A-9ADAE508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9048F-2681-462B-A8B2-ED87108D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42D2F-4E83-431E-B819-7B1E660F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E21A5-4899-4AF9-98AB-6EEB0C1C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3F8E1-39C5-4A8C-A403-967AA186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5DA08-6127-4799-B560-BBFAB3B2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D173C-263D-4248-852F-E21D3364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8A527-3F3F-43A0-9605-ECFF5B13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511E2-BF91-4709-85CA-E50F5EBD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58AFA-0CEA-4169-B1DE-2FC7FE3F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77.xml"/><Relationship Id="rId10" Type="http://schemas.openxmlformats.org/officeDocument/2006/relationships/slideLayout" Target="../slideLayouts/slideLayout278.xml"/><Relationship Id="rId11" Type="http://schemas.openxmlformats.org/officeDocument/2006/relationships/slideLayout" Target="../slideLayouts/slideLayout279.xml"/><Relationship Id="rId12" Type="http://schemas.openxmlformats.org/officeDocument/2006/relationships/slideLayout" Target="../slideLayouts/slideLayout280.xml"/><Relationship Id="rId13" Type="http://schemas.openxmlformats.org/officeDocument/2006/relationships/slideLayout" Target="../slideLayouts/slideLayout281.xml"/><Relationship Id="rId14" Type="http://schemas.openxmlformats.org/officeDocument/2006/relationships/slideLayout" Target="../slideLayouts/slideLayout282.xml"/><Relationship Id="rId15" Type="http://schemas.openxmlformats.org/officeDocument/2006/relationships/slideLayout" Target="../slideLayouts/slideLayout283.xml"/><Relationship Id="rId16" Type="http://schemas.openxmlformats.org/officeDocument/2006/relationships/slideLayout" Target="../slideLayouts/slideLayout284.xml"/><Relationship Id="rId17" Type="http://schemas.openxmlformats.org/officeDocument/2006/relationships/slideLayout" Target="../slideLayouts/slideLayout285.xml"/><Relationship Id="rId18" Type="http://schemas.openxmlformats.org/officeDocument/2006/relationships/slideLayout" Target="../slideLayouts/slideLayout286.xml"/><Relationship Id="rId19" Type="http://schemas.openxmlformats.org/officeDocument/2006/relationships/slideLayout" Target="../slideLayouts/slideLayout287.xml"/><Relationship Id="rId20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8F5E-5CDF-4312-8BBF-7ED9407B9C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B185-25E8-4C66-96D7-27CB3C7B523A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D20D-31FA-40DB-9C41-431BA2B77A1B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1BDC-9CF6-42F2-A14A-62B339341DAC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775D-DA1B-42E1-A319-ED260CD463A0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7D9F-9394-432A-BB2F-4022A45039E2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D094-9C04-4DEB-A6E6-8BB6E3F21ADF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73D0-45EF-49EB-8611-720F56F6C086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BAD1-8DE5-440F-A763-4B9FE0925903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AE33-AA1A-46D2-AE60-5EFC512894D2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74FD-A4DB-4BCE-9F9D-1D1CAD8725F6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78D0-2320-4E48-8C2A-E8825209A748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F4A0-29A9-4D55-81EE-05C21E59F3EF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5CBD-85CF-4619-BFEC-3B6ED84A0E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5B5B-CD11-4FBF-B3EF-78E07772DE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91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9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920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3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924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6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6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6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F027-8C26-404C-B708-FE3C66C5615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96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97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97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97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98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98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7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7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7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1B9D-5D65-4237-A735-977E58E7194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9"/>
    <p:sldLayoutId id="2147483949" r:id="rId10"/>
    <p:sldLayoutId id="2147483950" r:id="rId11"/>
    <p:sldLayoutId id="2147483951" r:id="rId12"/>
    <p:sldLayoutId id="2147483952" r:id="rId13"/>
    <p:sldLayoutId id="2147483953" r:id="rId14"/>
    <p:sldLayoutId id="2147483954" r:id="rId15"/>
    <p:sldLayoutId id="2147483955" r:id="rId16"/>
    <p:sldLayoutId id="2147483956" r:id="rId17"/>
    <p:sldLayoutId id="2147483957" r:id="rId18"/>
    <p:sldLayoutId id="2147483958" r:id="rId19"/>
    <p:sldLayoutId id="2147483959" r:id="rId20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02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03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3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7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7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7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9536-170E-401C-A237-8FA4868B662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Полилиния 3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Полилиния 4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7EAD-713F-43E5-87C6-55A85417811C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7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8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8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50E7-2C28-4503-9381-B4FB9E10EBC5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Полилиния 3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Полилиния 4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dt" idx="8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ftr" idx="8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sldNum" idx="8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25C9-C9B7-414C-A5A4-C9B269E4AC4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 type="dt" idx="8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 type="ftr" idx="8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 type="sldNum" idx="8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3BFF-DAAE-4577-B44D-2B87DE805BC7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5D86-93B3-4A75-8925-FAFE26E90D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dt" idx="8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 type="ftr" idx="8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 type="sldNum" idx="9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79DB-1B7D-47CE-8BDC-76C94DC18E6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dt" idx="9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 type="ftr" idx="9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 type="sldNum" idx="9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A44F-5B14-4D88-B33E-E4C2C25D1075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9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9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9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23BA-9EE2-404C-B415-34536AB8F640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 type="dt" idx="9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 type="ftr" idx="9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 type="sldNum" idx="9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FE9A-A294-4A08-ADEE-120A947198E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dt" idx="10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 type="ftr" idx="10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 type="sldNum" idx="10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E1E3-E5E3-4D1F-918F-82957E292E13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dt" idx="10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ftr" idx="10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sldNum" idx="10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FE2F-F158-4C0F-BF21-CCAF0F35E489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 type="dt" idx="10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 type="ftr" idx="10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 type="sldNum" idx="10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F598-81F5-4B8E-BC28-72BBA089AED8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Прямая соединительная линия 3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Прямая соединительная линия 4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Овал 5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 type="dt" idx="10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386C-E8BB-4AA3-8A07-79F1D2972683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 type="sldNum" idx="1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A25F-DA5A-4CC0-8247-B737F407035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 type="ftr" idx="1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Демидова О.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Прямая соединительная линия 3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1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23D0-9366-42F3-ADF2-10F5CEAB4192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11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Демидова О.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1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8663-66A0-4F89-AEFE-67494E6E09F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sldNum" idx="1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78C8-095C-479B-BE5C-8F026C6306B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ftr" idx="11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Демидова О.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 type="dt" idx="11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60C8-89F7-4E59-814A-3C5C1F11E30F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C779-5E80-4E6E-A163-B5B4673D3BE2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 type="dt" idx="11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840D-BBA7-4C27-A1A0-44749FEFD586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 type="ftr" idx="11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 type="sldNum" idx="12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D759-55E1-449F-B211-3C8C557E32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0EA6-FF6B-4D7F-B399-BC35B17DC420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BD38-139F-4E35-9FD6-3AC1C74FE0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7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768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0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dt" idx="12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A36F-5635-46A6-A3AC-BCD8C7EB75FF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 type="ftr" idx="125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 type="sldNum" idx="12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25E3-DF20-4E40-AC2F-7E787DF1D4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 type="dt" idx="12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2918-1EB2-4A96-A644-9500AC3C0507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 type="ftr" idx="12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 type="sldNum" idx="12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462B-41ED-434D-9B7A-1905C33E26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 type="dt" idx="13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1F47-CBE7-44F3-9361-F1D44A74B069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 type="ftr" idx="13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 type="sldNum" idx="13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33A8-3EC4-4781-A5B7-9686481E43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 type="dt" idx="13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DA8E-846C-4C9B-BA3B-F5B908DFCF8D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 type="ftr" idx="13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 type="sldNum" idx="13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C63C-A874-4CD3-AFCC-9DEF3E6B07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 type="dt" idx="13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A48A-2DDC-41B2-B716-0A826E50DE2D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 type="ftr" idx="13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 type="sldNum" idx="13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B00A-8EE0-4E1C-B940-50DC2B2A4E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 type="dt" idx="13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1C57-8A10-4430-A193-96AB8FF59B12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 type="ftr" idx="14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5"/>
          <p:cNvSpPr>
            <a:spLocks noGrp="1"/>
          </p:cNvSpPr>
          <p:nvPr>
            <p:ph type="sldNum" idx="14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11B5-64A5-44DC-889C-45EDA73EC6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 type="dt" idx="14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597B-0A3A-420E-A97A-02AB6B3ED8E3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 type="ftr" idx="143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5"/>
          <p:cNvSpPr>
            <a:spLocks noGrp="1"/>
          </p:cNvSpPr>
          <p:nvPr>
            <p:ph type="sldNum" idx="14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8B81-CDA8-4CC9-ADDB-C7DF69B1DC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 type="dt" idx="14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5FED-15A6-4C6D-A259-B87053B566BB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 type="ftr" idx="14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 type="sldNum" idx="14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84C6-9464-4A5C-9CEE-E994CAA876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3D13-487C-4DFD-A7CF-E25467849612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 type="dt" idx="14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EF5F-A207-456A-B841-00720DA93541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 type="ftr" idx="14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 type="sldNum" idx="15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5B73-A90C-4B2E-AB3D-CD2B79E322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0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0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1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1011-E489-4DDE-B5C6-B2B5A4C6399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6E5E-5BB3-4796-9EDC-5701BCFF0B02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2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FCDA-AD9C-41C2-A7DE-94D3FEABC13D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2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Демидова О.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2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6375-A80F-427E-A797-F255A3F2DDB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95B2-5C74-4359-B033-31BADF81873C}" type="datetime">
              <a:rPr b="0" lang="ru-RU" sz="1400" spc="-1" strike="noStrike">
                <a:solidFill>
                  <a:srgbClr val="696464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41C2-6AD1-47F6-B443-B87B5F534D1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5.gif"/><Relationship Id="rId14" Type="http://schemas.openxmlformats.org/officeDocument/2006/relationships/image" Target="../media/image25.gif"/><Relationship Id="rId15" Type="http://schemas.openxmlformats.org/officeDocument/2006/relationships/slideLayout" Target="../slideLayouts/slideLayout30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81.xml"/><Relationship Id="rId3" Type="http://schemas.openxmlformats.org/officeDocument/2006/relationships/comments" Target="../comments/commen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81.xml"/><Relationship Id="rId3" Type="http://schemas.openxmlformats.org/officeDocument/2006/relationships/comments" Target="../comments/comment6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1" name="Объект 3" descr=""/>
          <p:cNvPicPr/>
          <p:nvPr/>
        </p:nvPicPr>
        <p:blipFill>
          <a:blip r:embed="rId1"/>
          <a:stretch/>
        </p:blipFill>
        <p:spPr>
          <a:xfrm>
            <a:off x="-311040" y="0"/>
            <a:ext cx="9458280" cy="6858000"/>
          </a:xfrm>
          <a:prstGeom prst="rect">
            <a:avLst/>
          </a:prstGeom>
          <a:ln w="0">
            <a:noFill/>
          </a:ln>
        </p:spPr>
      </p:pic>
      <p:sp>
        <p:nvSpPr>
          <p:cNvPr id="2172" name="Прямоугольник 4"/>
          <p:cNvSpPr/>
          <p:nvPr/>
        </p:nvSpPr>
        <p:spPr>
          <a:xfrm>
            <a:off x="0" y="3809880"/>
            <a:ext cx="475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Тепло своїх долонь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Я друзям відда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Урок новий, ціка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Я з радістю поч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Параграф 21 - опрацювати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Параграф 10   - повторити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Письмово виконати завдання у робочому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зошиті за вибором </a:t>
            </a:r>
            <a:r>
              <a:rPr b="0" lang="en-US" sz="3200" spc="-1" strike="noStrike">
                <a:solidFill>
                  <a:srgbClr val="002060"/>
                </a:solidFill>
                <a:latin typeface="Constantia"/>
              </a:rPr>
              <a:t>I-IV</a:t>
            </a:r>
            <a:r>
              <a:rPr b="0" lang="uk-UA" sz="3200" spc="-1" strike="noStrike">
                <a:solidFill>
                  <a:srgbClr val="002060"/>
                </a:solidFill>
                <a:latin typeface="Constantia"/>
              </a:rPr>
              <a:t> рівні  на стор. 113 – 114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Творче завдання. Підготувати   повідомлення про відкриття  радіоактивності.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0" name="Заголовок 1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2201" name="Номер слайда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43E1-D6EB-46A8-B580-77709BD390A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3" name="Picture 5" descr=""/>
          <p:cNvPicPr/>
          <p:nvPr/>
        </p:nvPicPr>
        <p:blipFill>
          <a:blip r:embed="rId3"/>
          <a:stretch/>
        </p:blipFill>
        <p:spPr>
          <a:xfrm>
            <a:off x="6380280" y="4005360"/>
            <a:ext cx="23907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4" name="Горизонтальный свиток 5"/>
          <p:cNvGrpSpPr/>
          <p:nvPr/>
        </p:nvGrpSpPr>
        <p:grpSpPr>
          <a:xfrm>
            <a:off x="-79200" y="304920"/>
            <a:ext cx="5376600" cy="4779720"/>
            <a:chOff x="-79200" y="304920"/>
            <a:chExt cx="5376600" cy="4779720"/>
          </a:xfrm>
        </p:grpSpPr>
        <p:pic>
          <p:nvPicPr>
            <p:cNvPr id="2205" name="Горизонтальный свиток 5" descr=""/>
            <p:cNvPicPr/>
            <p:nvPr/>
          </p:nvPicPr>
          <p:blipFill>
            <a:blip r:embed="rId2"/>
            <a:stretch/>
          </p:blipFill>
          <p:spPr>
            <a:xfrm>
              <a:off x="-79200" y="304920"/>
              <a:ext cx="5376600" cy="47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584280" y="965160"/>
              <a:ext cx="4341600" cy="34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07" name="Picture 10" descr="0091"/>
          <p:cNvPicPr/>
          <p:nvPr/>
        </p:nvPicPr>
        <p:blipFill>
          <a:blip r:embed="rId3"/>
          <a:stretch/>
        </p:blipFill>
        <p:spPr>
          <a:xfrm rot="911400">
            <a:off x="7604280" y="320400"/>
            <a:ext cx="931680" cy="914400"/>
          </a:xfrm>
          <a:prstGeom prst="rect">
            <a:avLst/>
          </a:prstGeom>
          <a:ln w="0">
            <a:noFill/>
          </a:ln>
        </p:spPr>
      </p:pic>
      <p:pic>
        <p:nvPicPr>
          <p:cNvPr id="2208" name="Picture 10" descr="0091"/>
          <p:cNvPicPr/>
          <p:nvPr/>
        </p:nvPicPr>
        <p:blipFill>
          <a:blip r:embed="rId4"/>
          <a:stretch/>
        </p:blipFill>
        <p:spPr>
          <a:xfrm rot="911400">
            <a:off x="888840" y="5606640"/>
            <a:ext cx="932040" cy="914400"/>
          </a:xfrm>
          <a:prstGeom prst="rect">
            <a:avLst/>
          </a:prstGeom>
          <a:ln w="0">
            <a:noFill/>
          </a:ln>
        </p:spPr>
      </p:pic>
      <p:pic>
        <p:nvPicPr>
          <p:cNvPr id="2209" name="Picture 10" descr="0091"/>
          <p:cNvPicPr/>
          <p:nvPr/>
        </p:nvPicPr>
        <p:blipFill>
          <a:blip r:embed="rId5"/>
          <a:stretch/>
        </p:blipFill>
        <p:spPr>
          <a:xfrm rot="911400">
            <a:off x="3603600" y="5106600"/>
            <a:ext cx="932040" cy="914400"/>
          </a:xfrm>
          <a:prstGeom prst="rect">
            <a:avLst/>
          </a:prstGeom>
          <a:ln w="0">
            <a:noFill/>
          </a:ln>
        </p:spPr>
      </p:pic>
      <p:pic>
        <p:nvPicPr>
          <p:cNvPr id="2210" name="Picture 10" descr="0091"/>
          <p:cNvPicPr/>
          <p:nvPr/>
        </p:nvPicPr>
        <p:blipFill>
          <a:blip r:embed="rId6"/>
          <a:stretch/>
        </p:blipFill>
        <p:spPr>
          <a:xfrm rot="911400">
            <a:off x="7729560" y="5874840"/>
            <a:ext cx="931680" cy="914400"/>
          </a:xfrm>
          <a:prstGeom prst="rect">
            <a:avLst/>
          </a:prstGeom>
          <a:ln w="0">
            <a:noFill/>
          </a:ln>
        </p:spPr>
      </p:pic>
      <p:pic>
        <p:nvPicPr>
          <p:cNvPr id="2211" name="Picture 10" descr="0091"/>
          <p:cNvPicPr/>
          <p:nvPr/>
        </p:nvPicPr>
        <p:blipFill>
          <a:blip r:embed="rId7"/>
          <a:stretch/>
        </p:blipFill>
        <p:spPr>
          <a:xfrm rot="911400">
            <a:off x="7483320" y="3122280"/>
            <a:ext cx="932040" cy="914400"/>
          </a:xfrm>
          <a:prstGeom prst="rect">
            <a:avLst/>
          </a:prstGeom>
          <a:ln w="0">
            <a:noFill/>
          </a:ln>
        </p:spPr>
      </p:pic>
      <p:pic>
        <p:nvPicPr>
          <p:cNvPr id="2212" name="Picture 10" descr="0091"/>
          <p:cNvPicPr/>
          <p:nvPr/>
        </p:nvPicPr>
        <p:blipFill>
          <a:blip r:embed="rId8"/>
          <a:stretch/>
        </p:blipFill>
        <p:spPr>
          <a:xfrm rot="911400">
            <a:off x="5273640" y="988920"/>
            <a:ext cx="528840" cy="519120"/>
          </a:xfrm>
          <a:prstGeom prst="rect">
            <a:avLst/>
          </a:prstGeom>
          <a:ln w="0">
            <a:noFill/>
          </a:ln>
        </p:spPr>
      </p:pic>
      <p:pic>
        <p:nvPicPr>
          <p:cNvPr id="2213" name="Picture 10" descr="0091"/>
          <p:cNvPicPr/>
          <p:nvPr/>
        </p:nvPicPr>
        <p:blipFill>
          <a:blip r:embed="rId9"/>
          <a:stretch/>
        </p:blipFill>
        <p:spPr>
          <a:xfrm rot="911400">
            <a:off x="1943280" y="4592520"/>
            <a:ext cx="617400" cy="606600"/>
          </a:xfrm>
          <a:prstGeom prst="rect">
            <a:avLst/>
          </a:prstGeom>
          <a:ln w="0">
            <a:noFill/>
          </a:ln>
        </p:spPr>
      </p:pic>
      <p:pic>
        <p:nvPicPr>
          <p:cNvPr id="2214" name="Picture 10" descr="0091"/>
          <p:cNvPicPr/>
          <p:nvPr/>
        </p:nvPicPr>
        <p:blipFill>
          <a:blip r:embed="rId10"/>
          <a:stretch/>
        </p:blipFill>
        <p:spPr>
          <a:xfrm rot="911400">
            <a:off x="5773680" y="4367160"/>
            <a:ext cx="649440" cy="638280"/>
          </a:xfrm>
          <a:prstGeom prst="rect">
            <a:avLst/>
          </a:prstGeom>
          <a:ln w="0">
            <a:noFill/>
          </a:ln>
        </p:spPr>
      </p:pic>
      <p:pic>
        <p:nvPicPr>
          <p:cNvPr id="2215" name="Picture 10" descr="0091"/>
          <p:cNvPicPr/>
          <p:nvPr/>
        </p:nvPicPr>
        <p:blipFill>
          <a:blip r:embed="rId11"/>
          <a:stretch/>
        </p:blipFill>
        <p:spPr>
          <a:xfrm rot="911400">
            <a:off x="3916440" y="60480"/>
            <a:ext cx="528480" cy="519120"/>
          </a:xfrm>
          <a:prstGeom prst="rect">
            <a:avLst/>
          </a:prstGeom>
          <a:ln w="0">
            <a:noFill/>
          </a:ln>
        </p:spPr>
      </p:pic>
      <p:pic>
        <p:nvPicPr>
          <p:cNvPr id="2216" name="Picture 10" descr="0091"/>
          <p:cNvPicPr/>
          <p:nvPr/>
        </p:nvPicPr>
        <p:blipFill>
          <a:blip r:embed="rId12"/>
          <a:stretch/>
        </p:blipFill>
        <p:spPr>
          <a:xfrm rot="911400">
            <a:off x="1501920" y="349200"/>
            <a:ext cx="528480" cy="519120"/>
          </a:xfrm>
          <a:prstGeom prst="rect">
            <a:avLst/>
          </a:prstGeom>
          <a:ln w="0">
            <a:noFill/>
          </a:ln>
        </p:spPr>
      </p:pic>
      <p:pic>
        <p:nvPicPr>
          <p:cNvPr id="2217" name="Picture 10" descr="0091"/>
          <p:cNvPicPr/>
          <p:nvPr/>
        </p:nvPicPr>
        <p:blipFill>
          <a:blip r:embed="rId13"/>
          <a:stretch/>
        </p:blipFill>
        <p:spPr>
          <a:xfrm rot="911400">
            <a:off x="6102000" y="2171880"/>
            <a:ext cx="528480" cy="518760"/>
          </a:xfrm>
          <a:prstGeom prst="rect">
            <a:avLst/>
          </a:prstGeom>
          <a:ln w="0">
            <a:noFill/>
          </a:ln>
        </p:spPr>
      </p:pic>
      <p:pic>
        <p:nvPicPr>
          <p:cNvPr id="2218" name="Picture 10" descr="0091"/>
          <p:cNvPicPr/>
          <p:nvPr/>
        </p:nvPicPr>
        <p:blipFill>
          <a:blip r:embed="rId14"/>
          <a:stretch/>
        </p:blipFill>
        <p:spPr>
          <a:xfrm rot="911400">
            <a:off x="3130560" y="5918040"/>
            <a:ext cx="528480" cy="519120"/>
          </a:xfrm>
          <a:prstGeom prst="rect">
            <a:avLst/>
          </a:prstGeom>
          <a:ln w="0">
            <a:noFill/>
          </a:ln>
        </p:spPr>
      </p:pic>
      <p:sp>
        <p:nvSpPr>
          <p:cNvPr id="2219" name="Прямоугольник 1"/>
          <p:cNvSpPr/>
          <p:nvPr/>
        </p:nvSpPr>
        <p:spPr>
          <a:xfrm>
            <a:off x="611280" y="925560"/>
            <a:ext cx="475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Працювали ви старан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То ж урок пройшов не мар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Працювали від душі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клас -</a:t>
            </a: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 ви молодці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3" name="Picture 2" descr="http://gotovie-prezentacii.ru/wp-content/uploads/2013/02/himiya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179280" y="4508640"/>
            <a:ext cx="878544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Просто знати- це не все, знання потрібно використовувати. »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.Гете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5" name="Прямоугольник 3" descr=""/>
          <p:cNvPicPr/>
          <p:nvPr/>
        </p:nvPicPr>
        <p:blipFill>
          <a:blip r:embed="rId2"/>
          <a:stretch/>
        </p:blipFill>
        <p:spPr>
          <a:xfrm>
            <a:off x="2139840" y="2236680"/>
            <a:ext cx="48643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6" name="Заголовок 1" descr=""/>
          <p:cNvPicPr/>
          <p:nvPr/>
        </p:nvPicPr>
        <p:blipFill>
          <a:blip r:embed="rId1"/>
          <a:stretch/>
        </p:blipFill>
        <p:spPr>
          <a:xfrm>
            <a:off x="433440" y="109440"/>
            <a:ext cx="8418600" cy="2298960"/>
          </a:xfrm>
          <a:prstGeom prst="rect">
            <a:avLst/>
          </a:prstGeom>
          <a:ln w="0">
            <a:noFill/>
          </a:ln>
        </p:spPr>
      </p:pic>
      <p:pic>
        <p:nvPicPr>
          <p:cNvPr id="2177" name="Подзаголовок 2" descr=""/>
          <p:cNvPicPr/>
          <p:nvPr/>
        </p:nvPicPr>
        <p:blipFill>
          <a:blip r:embed="rId2"/>
          <a:stretch/>
        </p:blipFill>
        <p:spPr>
          <a:xfrm>
            <a:off x="4492800" y="3524400"/>
            <a:ext cx="4028760" cy="279072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2" descr=""/>
          <p:cNvPicPr/>
          <p:nvPr/>
        </p:nvPicPr>
        <p:blipFill>
          <a:blip r:embed="rId3"/>
          <a:stretch/>
        </p:blipFill>
        <p:spPr>
          <a:xfrm>
            <a:off x="0" y="2592360"/>
            <a:ext cx="3429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4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5"/>
          <p:cNvSpPr/>
          <p:nvPr/>
        </p:nvSpPr>
        <p:spPr>
          <a:xfrm>
            <a:off x="1274760" y="115920"/>
            <a:ext cx="360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Calibri"/>
              </a:rPr>
              <a:t>Вам потрібн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Прямоугольник 4"/>
          <p:cNvSpPr/>
          <p:nvPr/>
        </p:nvSpPr>
        <p:spPr>
          <a:xfrm>
            <a:off x="357120" y="1125360"/>
            <a:ext cx="8286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ати уявлення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 довгу і коротку форми періодичної систе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нати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у періодичної системи; закономірності зміни властивостей хімічних елементів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міт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використовувати періодичну систему для пошуку інформації про хімічні елементи та їх властивост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10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50"/>
                </a:solidFill>
                <a:latin typeface="Century Schoolbook"/>
              </a:rPr>
              <a:t>Довгоперіодний варіан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 type="subTitle"/>
          </p:nvPr>
        </p:nvSpPr>
        <p:spPr>
          <a:xfrm>
            <a:off x="0" y="47628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entury Schoolbook"/>
            </a:endParaRPr>
          </a:p>
        </p:txBody>
      </p:sp>
      <p:pic>
        <p:nvPicPr>
          <p:cNvPr id="2184" name="Picture 4" descr=""/>
          <p:cNvPicPr/>
          <p:nvPr/>
        </p:nvPicPr>
        <p:blipFill>
          <a:blip r:embed="rId1"/>
          <a:stretch/>
        </p:blipFill>
        <p:spPr>
          <a:xfrm>
            <a:off x="108000" y="1370160"/>
            <a:ext cx="892800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5" name="Picture 4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6" name="Rectangle 5"/>
          <p:cNvSpPr/>
          <p:nvPr/>
        </p:nvSpPr>
        <p:spPr>
          <a:xfrm>
            <a:off x="1289880" y="115920"/>
            <a:ext cx="684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Calibri"/>
              </a:rPr>
              <a:t>Завдання</a:t>
            </a:r>
            <a:r>
              <a:rPr b="1" lang="ru-RU" sz="4400" spc="-1" strike="noStrike">
                <a:solidFill>
                  <a:srgbClr val="0066ff"/>
                </a:solidFill>
                <a:latin typeface="Calibri"/>
              </a:rPr>
              <a:t> для закріпл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Прямоугольник 4"/>
          <p:cNvSpPr/>
          <p:nvPr/>
        </p:nvSpPr>
        <p:spPr>
          <a:xfrm>
            <a:off x="357120" y="1214280"/>
            <a:ext cx="82868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в періодичній системі розташований елемент №20? Складіть формулу його оксиду й гідрокси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аО, Са(ОН)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рупа, 4 період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віть елементи: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4 період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, головна підгрупа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5 період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а, побічна під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e3611"/>
                </a:solidFill>
                <a:latin typeface="Calibri"/>
              </a:rPr>
              <a:t>Закономірності періодичної системи хімічних елементів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214200" y="1599840"/>
            <a:ext cx="8715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Зміна металічних та неметалічних властивостей елементів по періодах і групах 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металічні властивості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неметалічні властивості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посилюються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 посилюютьс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r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r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Максимальна валентність елементів вищих оксиді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відповідає номеру групи (крім побічних підгруп)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Валентність елементів неметалів у сполуках з Гідрогеном визначається різницею між числом 8 і номером груп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8628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190" name="Прямая со стрелкой 4"/>
          <p:cNvCxnSpPr/>
          <p:nvPr/>
        </p:nvCxnSpPr>
        <p:spPr>
          <a:xfrm flipH="1">
            <a:off x="571320" y="2785680"/>
            <a:ext cx="2160" cy="857880"/>
          </a:xfrm>
          <a:prstGeom prst="straightConnector1">
            <a:avLst/>
          </a:prstGeom>
          <a:ln w="7632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191" name="Прямая со стрелкой 6"/>
          <p:cNvCxnSpPr/>
          <p:nvPr/>
        </p:nvCxnSpPr>
        <p:spPr>
          <a:xfrm flipH="1" flipV="1">
            <a:off x="785520" y="2571480"/>
            <a:ext cx="2358000" cy="2160"/>
          </a:xfrm>
          <a:prstGeom prst="straightConnector1">
            <a:avLst/>
          </a:prstGeom>
          <a:ln w="7632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192" name="Прямая со стрелкой 9"/>
          <p:cNvCxnSpPr/>
          <p:nvPr/>
        </p:nvCxnSpPr>
        <p:spPr>
          <a:xfrm>
            <a:off x="5214960" y="2571840"/>
            <a:ext cx="2358000" cy="2160"/>
          </a:xfrm>
          <a:prstGeom prst="straightConnector1">
            <a:avLst/>
          </a:prstGeom>
          <a:ln w="7632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193" name="Прямая со стрелкой 10"/>
          <p:cNvCxnSpPr/>
          <p:nvPr/>
        </p:nvCxnSpPr>
        <p:spPr>
          <a:xfrm flipV="1">
            <a:off x="5000760" y="2785320"/>
            <a:ext cx="2160" cy="857880"/>
          </a:xfrm>
          <a:prstGeom prst="straightConnector1">
            <a:avLst/>
          </a:prstGeom>
          <a:ln w="76320">
            <a:solidFill>
              <a:srgbClr val="af340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c00000"/>
                </a:solidFill>
                <a:uFillTx/>
                <a:latin typeface="Century Schoolbook"/>
              </a:rPr>
              <a:t>Завдання для закріпленн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 type="subTitle"/>
          </p:nvPr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entury Schoolbook"/>
              </a:rPr>
              <a:t>1) </a:t>
            </a:r>
            <a:r>
              <a:rPr b="0" lang="uk-UA" sz="3600" spc="-1" strike="noStrike">
                <a:solidFill>
                  <a:srgbClr val="003300"/>
                </a:solidFill>
                <a:latin typeface="Century Schoolbook"/>
              </a:rPr>
              <a:t>Складіть формулу вищого оксиду й укажіть його характер для елементів № 12, 30, 16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entury Schoolbook"/>
              </a:rPr>
              <a:t>2) </a:t>
            </a:r>
            <a:r>
              <a:rPr b="0" lang="uk-UA" sz="3600" spc="-1" strike="noStrike">
                <a:solidFill>
                  <a:srgbClr val="003300"/>
                </a:solidFill>
                <a:latin typeface="Century Schoolbook"/>
              </a:rPr>
              <a:t>Складіть формули летких сполук із Гідрогеном для елементів № 15, 35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entury Schoolbook"/>
              </a:rPr>
              <a:t>3</a:t>
            </a: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) </a:t>
            </a:r>
            <a:r>
              <a:rPr b="0" lang="uk-UA" sz="3600" spc="-1" strike="noStrike">
                <a:solidFill>
                  <a:srgbClr val="003300"/>
                </a:solidFill>
                <a:latin typeface="Century Schoolbook"/>
              </a:rPr>
              <a:t>Назвіть елементи 5 періоду, які мають формулу вищого оксиду </a:t>
            </a:r>
            <a:r>
              <a:rPr b="0" lang="en-US" sz="3600" spc="-1" strike="noStrike">
                <a:solidFill>
                  <a:srgbClr val="003300"/>
                </a:solidFill>
                <a:latin typeface="Century Schoolbook"/>
              </a:rPr>
              <a:t>R</a:t>
            </a:r>
            <a:r>
              <a:rPr b="0" lang="en-US" sz="3600" spc="-1" strike="noStrike" baseline="-25000">
                <a:solidFill>
                  <a:srgbClr val="003300"/>
                </a:solidFill>
                <a:latin typeface="Century Schoolbook"/>
              </a:rPr>
              <a:t>2</a:t>
            </a:r>
            <a:r>
              <a:rPr b="0" lang="en-US" sz="3600" spc="-1" strike="noStrike">
                <a:solidFill>
                  <a:srgbClr val="003300"/>
                </a:solidFill>
                <a:latin typeface="Century Schoolbook"/>
              </a:rPr>
              <a:t>O</a:t>
            </a:r>
            <a:r>
              <a:rPr b="0" lang="en-US" sz="3600" spc="-1" strike="noStrike" baseline="-25000">
                <a:solidFill>
                  <a:srgbClr val="003300"/>
                </a:solidFill>
                <a:latin typeface="Century Schoolbook"/>
              </a:rPr>
              <a:t>3</a:t>
            </a:r>
            <a:r>
              <a:rPr b="0" lang="en-US" sz="3600" spc="-1" strike="noStrike">
                <a:solidFill>
                  <a:srgbClr val="0033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title"/>
          </p:nvPr>
        </p:nvSpPr>
        <p:spPr>
          <a:xfrm>
            <a:off x="817560" y="3131640"/>
            <a:ext cx="717552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8" name="Вертикальный свиток 3"/>
          <p:cNvSpPr/>
          <p:nvPr/>
        </p:nvSpPr>
        <p:spPr>
          <a:xfrm>
            <a:off x="539640" y="836640"/>
            <a:ext cx="8064720" cy="4840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1e2fd"/>
              </a:gs>
              <a:gs pos="100000">
                <a:srgbClr val="76c6f1"/>
              </a:gs>
            </a:gsLst>
            <a:lin ang="5400000"/>
          </a:gradFill>
          <a:ln w="9360">
            <a:solidFill>
              <a:srgbClr val="5eccf3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ьохвалентний метал масою 4,5 г при взаємодії з хлоридною кислотою виділяє водень о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ємом 5,6 л (н.у.). Визначте метал, напишіть формули його оксиду та гідроксиду, вкажіть їх характ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7:09:16Z</dcterms:created>
  <dc:creator>Admin</dc:creator>
  <dc:description/>
  <dc:language>en-US</dc:language>
  <cp:lastModifiedBy>Admin</cp:lastModifiedBy>
  <dcterms:modified xsi:type="dcterms:W3CDTF">2014-05-29T06:26:29Z</dcterms:modified>
  <cp:revision>2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28000000000001024140</vt:lpwstr>
  </property>
</Properties>
</file>