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13.jpeg" ContentType="image/jpeg"/>
  <Override PartName="/ppt/media/image25.gif" ContentType="image/gif"/>
  <Override PartName="/ppt/media/image1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notesMasterIdLst>
    <p:notesMasterId r:id="rId52"/>
  </p:notes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Школа" initials="Ш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notesMaster" Target="notesMasters/notesMaster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4-02-13T09:29:24.512000000" idx="1">
    <p:pos x="10" y="10"/>
    <p:text/>
  </p:cm>
</p:cmLst>
</file>

<file path=ppt/comments/comment6.xml><?xml version="1.0" encoding="utf-8"?>
<p:cmLst xmlns:p="http://schemas.openxmlformats.org/presentationml/2006/main">
  <p:cm authorId="0" dt="2014-02-13T09:29:24.512000000" idx="2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dt" idx="15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 type="ftr" idx="15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 type="sldNum" idx="15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D40-FC28-4DAA-928B-C0652289AE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18C-BEF0-4F28-844D-D6314B8F3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49FA-F8FF-4685-B0DE-F08FAF5983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DD6-4EC3-4FA5-9E05-9F3BC61B8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371-1C16-4486-AD58-BC0D088D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990-7AC0-493E-9BAC-FF55EC2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4F462-FD5A-4664-9C7E-961BC70C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E9C56-1528-4CF6-A0D2-929F8BF5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909E3-2365-4443-B5AB-A24DC1A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12012-09BE-499A-9AE6-DDE59E0F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C216-35A0-459A-BB01-96D89DA4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32C7C-E236-4ABC-8889-2FF0353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6768C-4E69-4AFB-945E-339A762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8DF66-867F-42D8-8788-863A6ACB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D001-9BC5-44A9-90B7-CA4683AB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058CA-6799-43E5-AEB7-5FCFD816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A34-0626-4149-A650-8B3C19E8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71FFC-959A-4D05-8897-8D1C7029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EEDBD-68FE-4A39-867B-74788CA5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36EE5-AEE8-4029-9572-D3030709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5CF2A-59A1-45A5-8B54-60FC3540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38D78-C44F-4FF6-AA03-BACEDB0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F604-194A-4BF8-9B5F-42C8757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B9C49-7CB7-4A0B-A232-FD00F98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E588B-4588-46A4-8119-1AD5DA0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9C9E8-87C5-4BB4-B146-7EC8A73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422DA-9EB7-4FEC-AA66-8A54314A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953-D435-4A72-94F7-DB934BEA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281D-4B3C-48EC-A4DE-96F493A9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3B8B7-C6DD-4341-ACDB-BC458BBD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0332A-343B-499E-9CD5-645918FC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7750B-C778-4815-B319-C66A5C36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8B767-7C70-4CE3-83A4-A7C1451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86CCA-8A61-4F0F-9174-A15B8F2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BD224-2DDD-429D-86DF-15BB92C5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DCDCA-223E-40D8-95D7-1D0C0E4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9752-B03B-45D1-B890-9EE24FA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C0B51-2EF5-4FF2-A10A-B1D4EDEE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F6FC-3E23-44A6-9A3A-D2FD42A1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BABD7-B616-4CD9-8721-B0143B90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AC53C-BAB4-4D63-B8DD-27D1AED8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BAA7-3A08-4FFE-8529-CEB1DE37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449BE-A537-4A2F-8A29-81B7DD92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1DE5-FC8C-497D-8B64-4F9A85A8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47042-1850-4CF3-BFD6-1AEC619E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19BF1-57AD-48C8-9206-E577B270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663BB-AB51-4315-ABA1-82066E8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1D4B1-5710-4A3A-A725-D56DCDB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B1EA8-A87F-4C2F-AB35-8B5C069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04B5-5B28-4347-AA42-F574D613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D819B-8512-441C-8E5B-7732F52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C8BBC-CE4B-4BB9-B504-3A14296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0751D-E927-4D0E-A632-7ED1AFC9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851EB-395B-4819-AFF9-8F8FEAA2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A4E7B-B00B-4091-A52B-49E8A8BE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3359C-08DD-4E32-A3B7-57DB4254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C7C18-BB1D-47B5-AE5D-79DAE800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56537-9550-4E0D-AAB2-1EEBEA5C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C0EB6-1426-4391-8295-C8F4386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2A572-0F43-4337-A8F0-5CEA244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9529-842E-41B6-A30D-3FAC924D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2EABE-92C0-47C0-B605-F11D93A2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AED4C-A2D3-4291-B469-66BC2DF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D9A9B-B931-487F-8060-9F09C7B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42E6-4FEA-44F1-A9A8-413A98E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5ACF1-4F4F-44F8-A4E6-D474150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57292-ED5A-4311-94A6-0CDC8B72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779BB-0152-42DD-8138-09CC01E0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9BD85-BC4C-439D-B3CC-0C793DBB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624E7-2CBA-460C-B423-FAAC6AF1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2CC80-E9DF-4045-BF2A-E2416204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6F3-A25E-4BF2-A136-3C869A89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0F4BC-18CA-42B6-B260-8E72E049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34504-F65B-4B75-A1C5-E3A85E7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5CB73-E1DD-4253-8FC3-AB49A537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09F50-00EB-4A30-B9D4-09E64FBD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0A401-EF0A-4C54-9793-F2FE2BB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AA8FC-450F-475E-8B78-01C01F4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EA89A-5FE0-4E3B-BA33-928C68C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9F409-3C77-4F5D-A4B3-085F327C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CF4FF-D283-44CD-8BA1-C75E8A4D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3C505-F49B-42C0-B540-38C962A1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0D1-34E2-4DE0-930E-616AA64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B0FE5-784B-4D5F-B1EF-436BAF1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3A36C-88CC-45C2-A21A-021CD999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385E0-722B-42E3-BEE8-77DCADB4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DCB7B-A02B-49CC-970D-5DEDC0B5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4B9B3-4E61-4D70-866F-E56A433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03ED0-45D9-4B4F-8F64-A14BDE7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38A4C-F3C4-41A8-844B-85BE466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425AB-6755-4929-B714-33EC9DC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67BAB-1CB2-45C0-B283-C5617E3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7E841-7963-4584-B4E6-3F04FAC9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3154-B622-4BB5-B277-6FDCBD3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CF918-526A-463F-95B8-0B80470B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AC835-4832-4967-A491-05BDCC78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5B26F-0D73-4971-9C5F-6F4E600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34238-F035-4BA8-AA68-9950001B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E4F02-8F68-4932-B35E-197E429F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C12A3-5FB0-47AA-9ADF-A40EB529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16428-B044-45A2-A9C9-0040ABA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E2296-F981-4132-A13A-C4FA341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A4A36-07A4-4782-8EEE-A4D24BD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B848A-C7D4-4D4F-BF9C-1D5082F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765-7CA4-427E-93A2-7BD498F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109E3-B66F-4CE6-AE00-7CF7FC5A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B58AF-86F0-4450-A339-F2276F0F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29226-14C0-476F-A482-5003ED3E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6D462-12B3-48D6-9349-FADA40FC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E58BF-05D7-46DB-92AC-E01A7B54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6966B-0AB2-4A2E-AE86-EC70F512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8C1F9-AA0B-4A3D-B2B6-28329DA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34D02-1563-44DD-B51C-03E2E25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10C98-32AF-4668-83F9-713F4E3C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53274-9F58-4745-AB49-5F418D2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81A-8D56-476D-8D1E-4D68927D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C444-74D9-47C0-93CD-9F9FF7F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8F2A3-5DCF-49EE-83BB-E549650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AD198-EF66-452D-9D74-A48EB591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E63BF-B715-4ABA-9BE5-4DAB927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A563D-052C-464C-97C0-D27E47E5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7FFDE-FE6C-47AE-B405-CFE9E75A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FF9BC-32D0-4811-A9C1-8098B03D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A2C2E-D0AA-4FB8-AC57-C9AFD173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3C593-7F85-4898-9D67-74F85000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A5D6A-AD20-496B-BAA6-5F12C3E8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17713-0C8C-4D71-9389-D63DF78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892-6D4D-431E-A666-224F9C3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B5E4D-E984-44A2-8A2B-90EE58F5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707DF-1B88-4A59-BCFD-5F2A4AD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E4161-73AA-4B19-881F-6FD7515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C3D7B-C0C7-4E1B-BEB9-30730D5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595EC-F54A-4A3D-B34C-1267AE4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31B8B-300D-466A-9C4E-2F5CFF6F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40468-5263-4F6B-981D-0C0C90D7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32EBE-A181-4C33-BFC5-24C24E47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99051-5B48-40D1-9520-705AAEC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D4363-59A6-4490-9C9E-4A4B473C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7E6-2693-4B85-8C9E-28883651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480D5-FC9B-4B51-9B71-8D7E29A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21E7C-F0FF-4C78-8A46-6338D31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10FBF-FAC4-499B-8FF9-6DE375E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AAD25-5C59-4180-99E9-2A11A87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F8D2E-E2B7-4DFB-829C-E0F4662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23495-9A94-4FF2-B0F6-95F79E1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D83F4-A95F-4BCA-8048-70918E5E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5D967-CE50-42CD-9F9D-B1E9A2F9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866B4-8163-4CD1-87D3-BC8D5EB3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FE043-875B-4C55-933F-EC52B1CC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01C-4027-496E-9068-244E552E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C8A9B-ABA0-4660-9780-E0D2A462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66640-D0F5-4259-874E-BE790EB0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F8FAA-22C9-40B2-9D7F-8B39E06D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41CE6-7DAE-416B-B971-306CA26A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531CB-1A9D-455A-AD1E-29BE04C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C9A7F-6BD6-4D92-8419-2103FE6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36675-DD4F-4132-BCE0-8773A00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59933-5135-46C4-B1C1-5AFA1E3B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8F38B-2836-49C1-9792-F8FD7E3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CFC31-9267-4FBB-ACA0-79C387BA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8E7-0C6C-48AD-9E94-FE972247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02610-FD2F-4C62-9F36-244E714B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4BA1C-A7B6-43E4-8A65-6303706B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476D9-D924-42A5-B7A2-E6115D9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D6948-4EDA-4C2E-9D9D-7E9C3883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D2136-1AE2-4D62-BADC-BD51A2C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78B14-4A07-464D-83C9-13CA66D0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5C01C-D9DC-41CB-86AF-30B5DBE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0BD95-1EC0-4300-9E87-1EFCCAD5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6B46C-9D6B-48EE-883F-8162B2A9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8342E-DE25-42C4-BD81-6F1103C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CAC5-D9F5-4863-99AD-60DF928F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1A04A-E253-4C22-AC89-D915B84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58BE6-3A7D-4F27-A30E-C4FFF88D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D9C23-FDBB-44A5-ACFC-6689DBF6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8421D-A208-446A-9E0E-BE7E3824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4DEB0C-FD02-4785-AB03-88814E6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53C7CB-4711-41D6-AFB3-83216ED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F1932-8E60-46E4-9E32-E46675C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3A121-57AA-4088-B6F3-D903BA5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3C29D5-3F41-434F-86E4-E75C6D2B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D20D7-0473-4B70-ADC2-D14FB40B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3E3E-0F73-417F-B5C3-0217B865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1AB93-CD02-4E8A-93C0-F33E078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B327B-7CE0-425C-A246-40822F7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60D7C-7206-4E82-B891-C9CED93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BD3B3-3F80-4AE4-AFAB-CE0EE85D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582F9-6AE0-4BEE-916F-78A532CA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8C39A-DEE0-44BA-93AD-0275DFE8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38A9EA-6614-406D-B80B-7A5784B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FE6E7C-CA4D-4B01-A3C7-B575DA1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1858DE-C390-4789-B83C-13EAC8D6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F09CD0-D797-4F1E-8AD5-7ADE8739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020A-005E-4AD5-8B1E-74A57DAE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A4C1A-6007-41E7-9385-77942E33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1A7639-E365-4387-BFB2-D8EFA057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ED560-F732-4B9B-84EE-FCD7515F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FAC80-7DBA-4CB6-BE96-CD6AD63C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3C624E-6FD0-4BBB-9B04-BDB89AB6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24E48C-A28E-4244-BD31-A8317687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09D2D9-1471-49F0-8C9D-7170A0F7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2D6252-2C1D-41C5-B192-4B3D9743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D12016-2889-4467-AF92-5316F85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14500D-5C1F-4B8E-AA4B-C23907A5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023E-59F7-4DF8-B7B6-5E5567C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356A4-F63A-45E9-B4B3-A0272012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2A7A62-BDCB-4C6F-B96F-7235843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8CC28B-8742-497F-BA9C-D912CCD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819F60-957B-475B-BD42-205AE46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BD5A1A-A762-428D-A709-7379B8C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21E08-1DB0-4D32-8D8D-B9E8A71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3F5AE1-A496-44A3-BFEE-618BA8B2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3467B-BC30-42F9-97E2-72E2A6FF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EE76E5-50C6-4DF3-8E81-6D99493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0D822E-A4DD-498C-B91A-DE0D1814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5C3F-5A9B-4CB1-B359-C7CCA910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3E96FB-8BEA-4A75-94AF-F599826F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8350AF-D557-4F71-ABB3-06989255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7FA58C-BA0A-4332-BC5F-C9636539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54423A-A444-413F-ACC6-97914DBF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9251B8-2FD2-4B7A-8F76-E0EF047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3DE4D1-6EB5-44AD-8D21-6BDBBF8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CC724B-158F-427F-AB56-CC71C38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B11A99-9594-4A38-879B-5E07CC9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72AC1-6E85-434E-A19E-545C293C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67C165-9B8B-4361-B24D-A0F3586D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091-40F7-4CD8-96AD-27B38B7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D317-EAB1-44BE-A980-0998A5C0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8706F2-43CE-4059-A3B9-00AC2C8B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4A8B71-AA51-4F30-B5E7-8D7931B7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D02CD9-4C6D-4F20-AADA-93829443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A11E2D-45C2-48F0-BEEC-2A7F429C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82FA6-3823-41C0-B092-4A7AC23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01EA0A-502E-43C2-B5A8-ED340282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85A97C-CABD-4969-BC1F-1BFD0105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6E2B32-B257-45B1-A72D-F5A5346B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ED2F77-400D-453C-911D-64070D7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B0577E-7A47-441C-A9F0-2DBBD3B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057C-8F31-423F-A15A-DBB78AC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7CD558-10D5-45DF-8983-EB514966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A15627-E6AF-49AA-90AF-89B1CBB0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B12DA-07F7-4A06-A4FD-39C025ED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BD14AB-AE9A-4156-81FA-70AF142B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697C9C-B78F-4190-8D00-04E3FD2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2A57BA-AF4E-4E2A-8815-7E52FB0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13AE0F-8E19-4ACA-A625-BAB5215C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3914AA-6FEF-4CB8-9B99-F044CA20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56FCD2-1779-401B-91C2-B8DA1DF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82BFAB-7595-4460-80C4-C3CA39D3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F574-43E7-4D34-A559-060BC5C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6DA830-DAF3-424B-A408-43BD797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056A1F-F194-40EF-812B-9340522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135D6E-6182-43D8-9881-95510F02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9D3659-9389-4E61-A19E-34D12D82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88D55A-A63B-4938-B7AC-F61CE5A8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2B2452-3DD3-48B7-82DC-74D8B7F0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515E1F-F509-4615-BDDB-90282454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CCA12E-A7A8-4496-AB11-1CC97A2B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B81237-A7E6-4AE2-B3F7-F4CA781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E4F50C-E5F4-4469-BCA0-AB037AC1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84A5-6F77-4DA0-8445-0A6F1F5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965D82-EBAD-4D30-9F5F-8FF4B92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4DD45D-2418-407A-8A20-47D9892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50E5BD-69C6-4C56-8EFC-A92E85A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35CB75-FA0D-44EB-920F-BA69AA4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9D624A-50E6-49E8-BB29-6823A68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453CFA-41D2-40D2-BDB9-D4691A91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E99266-C657-4966-9BC7-0DD3DC4F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85DD73-213F-4D09-AF3E-19A4E65B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B90C2C-9857-43FA-9152-33ED7C52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0E8211-0E75-462D-B2D8-6B257A3A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2406-6BEE-4E77-B764-10CD7742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8BE69F-413F-4861-9D4D-6493ED9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E84E08-7BB4-4E05-937F-69717D2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B40091-BD13-4729-AA58-8329E721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04A670-EC77-40DD-99AD-90CAC83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83436C-512D-4000-932D-817C6223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E98389-5755-4051-A676-4995F05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7DA58D-5E14-4B13-B5B2-661FA0C9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B09495-00CA-44E2-A78E-3078ED37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91C05A-2325-4D66-8AC6-77ADF4CE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740B36-B4FA-43EA-8F57-F3A6E732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D0E8-B18E-478D-84FC-265A8DE6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7FDA23-2C8D-4499-AC01-8E9E66BE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BB9C95-E8DD-4399-888E-3925128C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782546-50D4-4935-AF3A-18DD6AA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8A5786-6CCC-4A57-A599-7EF91E42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B327BE-9276-491D-9991-354D6E42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20C9FF-0BAE-438F-BAF5-123FD98D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62BD28-0627-4830-B23F-8BFD1597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06C309-5B05-4322-BCDC-B7FAF36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F7ED32-6793-4588-A7F7-5754145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9FA75E-9EA9-49F9-A1C8-6BCBCA2C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EADB-4700-40B6-B5D8-F61A0451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0CA688-C719-4389-94A1-8F250162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905AE0-7CF1-4221-A1BA-DC75EAFB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932ADB-C60D-47F9-9DEB-8B62772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EC7FFE-D853-4263-BD9F-3B75F8D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F5916F-F597-4DDE-A1BB-7C37817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0AA27E-087C-48F6-9BA2-BD38A9A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B8A38E-BE6E-4A3F-9086-DDBF0AB2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C8BA60-07BB-4C0B-9550-0743C1B5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C014BB-BCAD-489E-BC0F-25CA839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251509-1CAB-459A-8E21-0B2F413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80815-9A2E-4DF3-86B8-B4B24F87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93FDE4-D323-4785-B95F-60C19CC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45DEA7-06B7-4290-921B-14956482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EB0B1D-DC36-4451-B1DB-E50CDC6B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F718D4-ED4D-4DAB-8637-E0E4154D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3D62F0-7924-4D09-9F48-8833BC5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8BC9D6-71C9-479A-ACCA-C24B538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A33340-B81E-4606-8873-9E17CD8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9C548B-AD8E-481A-9E79-F6D392E1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3B3A1E-D7C7-447C-BBA4-D3A6DD7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36C2DF-198A-45A5-8F7A-06C1F8B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6CD6-0967-43E4-8AFD-47271D36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A05FDD-1709-453A-BF31-5A39968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E45B32-DB1C-4B7D-AA69-33D0FD4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CE5F0E-9C57-45C7-9481-2EEE76A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322801-7819-48E1-A3A9-293547A1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47741D-41F2-4FD3-BF4A-4AF89CE5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915449-02F1-402E-B4AA-0CD1C633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48C3B6-4B2E-4662-A76F-7C0F16C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BB0327-AF7A-40B7-BD59-5F5D702C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277D04-6E71-48CD-B806-6034437C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5119B8-B905-4055-A171-0BB44CD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51A0-BF87-42B4-9102-CE937FB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947016-7696-4C51-BD70-3B244BC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2AD707-ADAB-4715-AD05-BCA5C53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F25A58-A514-4D70-9629-85A4F71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80EF5B-E824-4AFD-BA9E-32B4E23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6451F4-3D31-499B-864D-A30D6A7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827421-B600-4D8A-9A94-80BB5E3B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C02EF5-984C-40F5-822E-E20F578B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6F9457-A024-4796-987E-B65FDD67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C0B38E-F26B-4907-B381-E877692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EEE9B1-B038-47EE-AEF0-17554D8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0DB-24B2-428D-B8FD-78CAD318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AADD-3D5E-4213-BE7A-D34F174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36600C-C7BF-45FF-8DC6-E8B0B90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1CA71F-54A1-42AB-87E4-0D9F933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660E58-32EF-46ED-9B3E-EC5ABEE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C32F25-64F2-4B03-B213-2DCF38D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7D3CF3-7BEC-420A-A053-AEB3550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0CB47F-62D3-4DD5-97B6-B0F87AF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3267DF-6F0F-41EF-B201-3C978AD1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B866AC-A218-4D0A-8858-1470F0C0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8FAAF8-68E8-4865-9B4F-BB844B54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FEC104-F586-439B-8252-07543C51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3CB8-1789-4F90-A82E-7AF3349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3E0C85-0903-4BE7-B47B-385FBB68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A2F613-1C29-48B4-B919-993B0F86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E722B9-AD36-4D26-90E1-2F0C4A9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B35CEB-08DA-4B26-BFFB-BF7A9ACD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A36705-0462-4737-A243-F444D74E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504F22-FCD4-49B7-B2F9-4655032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29D5FC-D64C-4405-AC14-39676CB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5B9570-CE11-421F-97D3-440BA63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502BE6-3909-467B-96E4-2DFCF85B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35C6CE-3B9D-4D23-BE30-4FEC1EE0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F16F-7CDF-443B-B24F-839D344E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FA2322-D564-4ADB-8C1B-97F46AC8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872AE4-7954-4A59-83D5-B4F8D84D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D13500-1145-4B2C-AF41-611D48EF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CA0FBD-4273-4B83-9911-6B4F5CCB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11C4AF-CB47-4744-953C-173FF19B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7A6FE0-2AFA-437E-BF54-0EA5BB5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BAAF68-5679-4997-8C3F-02F407F4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539584-B56A-468A-A600-2E703FA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56FBAA-F32A-4A26-BA95-91B05E1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D70410-4047-46ED-9BB1-52ECEB0D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9005-7127-4CAA-A446-76C7B05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16C9E9-CCC8-4173-B180-A64D5C5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B96093-50DD-4A52-936B-F49D8AEC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A30492-B28B-4721-9636-2C175E41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0453A9-A493-49F4-896B-F73E8A8C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496BB3-8DED-4CAD-B7E4-C9E0087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450F4B7-DFEC-480A-A6A1-DAF30BE7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0E5371C-3534-4762-B158-B4B16444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E9A13CA-E618-4970-9D01-EA4F812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BA0DACF-3BB5-4F75-B6F3-CD9F8A9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216974F-1B58-481C-9A1C-6F93406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97C2-A3A4-423F-96FC-D08B527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11A47C9-5DD8-4CBF-96FF-932543D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711D6B-5EC2-494D-8C2A-FE50E79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B333E76-5970-4822-A49E-2303936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AFAAF3B-635A-45AF-BD42-2B1B1993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A34438D-BAA9-495F-9BCA-F5FDE5F9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33659F-B2A2-461A-9B64-EF0A6DE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156D87-1A67-469D-82FC-60BAC4E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4951B5-C516-4D3A-B855-EB02E72F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C7CE81-0DEB-4238-A7A2-7BC0CB4E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A3C491-3E30-4F18-8768-2A3FBF04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2B7C-CBC6-4608-92BE-6DC2C3E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152E51-B4F7-4853-BC65-67FE9EFD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31534E-E48E-43B2-954C-9A9D750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766404-DC50-475F-8687-5610CD2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5CF34F-EC61-4054-A43B-74436202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D8846A-F3AE-4EB8-935E-33CF20BA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6B822F-AC9E-43C2-AA81-2894E9D4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FB9A73-0CFE-45F0-8831-8F98000E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5299AAA-3CFC-484D-BF12-C8DDFEA6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A885A3D-B1A6-4A24-A9B9-D2FC4CB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E0FD5AA-536E-4588-ADC0-CB934CE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899F-71F0-43B1-A3C6-7BAFDBA5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5019907-E1FF-4FE2-B45B-5EDF5E2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771D81F-D265-4C17-8D91-833D6DC3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D124759-43D1-4E80-979E-5EB12670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E775E87-5D6E-4DD2-BDB9-A5FC144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32180FA-CE91-45FA-8511-7EE0A2B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A4B8A5D-F41F-4E33-911F-25932A7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F7E8C88-5013-4656-A0A0-0755E7F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6BC56C8-4985-43C0-ACA1-B4751C44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3CF409A-97AB-4D2E-898B-33238125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842117-057A-4150-BA0C-083DCB31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A35A-9A0F-48F5-88F5-22A1CE91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36783B-EE0A-4424-9BB7-2620EE2B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E728C3-E7F1-40D4-B47A-1F4A41E4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253B3D-D61E-41DB-85B4-94A0129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5426AD-5AA5-41B0-888E-34338C5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F31D1C-BAB4-41A9-9FE2-8D9255E9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FBAC60-E2BD-48F8-BEFB-9514B1C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5A6399-2F0E-4195-95A9-32BBE14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CB9C15-F0E3-4C7B-B1A5-9828721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03E64C-ABD8-447A-B1E8-64A703D6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7A1588-98FF-486E-96E7-FA3B88A4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84F0-26D4-45A8-A678-C494E996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11D35A-7C4B-49C3-8209-41E28970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A5FE0E-C8FC-443B-A154-F99AB029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EA74DC-E8FF-4E10-8AF9-29ED360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855CF6-50F5-43A6-8FA3-E153419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852DE9-F665-4D86-9B23-EA1D7D5A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2C3D51-D7C1-42D1-B435-8667EF62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A3ADBB-D730-47BF-BE57-27914C57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D229A1-587D-427E-9E8B-5367D09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0CB978-F8D1-4E82-B7E5-16AF67D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2886B9-D770-42F1-BC89-30F2DAB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84CE-91FC-4572-BDA3-3F0AB996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FBB4A3-FD18-4C5B-B46B-DD060A0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0EE877-11ED-487D-8F68-EB8C49E2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B9A359-ECF9-4642-B155-1F1E8D08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F7C6A1-FC9E-41C1-A518-8EE7EA84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8AC41B-8BB7-4114-97FC-EF5BA335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A34BFB-1E72-4584-9CEB-FE7B9AF6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85F52C-2CF0-4D69-988E-4D9A7B2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8BA7E5-D73B-48BC-A2B9-BBEFF02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C9D16F-C714-492B-8BAB-717D2E10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7F281E-63E1-42DF-B5D1-B4A06A6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816-4B12-423D-A64A-CA5BBDA3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81D2-84EA-4F22-8519-F862406A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198ED1-B072-4E2D-AF6E-5CA1ED9F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4EA18C-1943-4163-9C80-597AE5E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EE7EB0-9392-4A5B-89C0-89E3879D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8E260C-5E93-4449-BD80-2ABE051C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92A0B0-4577-4C6C-94F8-CC1AAB46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90D958-FA2B-46BD-B49E-389A3309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968AD0-B40B-41C9-8F7B-2E2D0926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C51CF9-AAB9-4723-9D32-D995DE5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EDAEDE2-B1DB-439C-9013-3178EAC3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0E12BA-2CF2-496A-A920-B97ED7C8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B7DC-556A-4BD2-8335-E058765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34EFF1-139B-451B-B124-A5225083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1B7125-A014-4937-B010-0F820B1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D10AD05-DC64-47A0-BF3B-68F75AC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0A78AD-5FFD-4EEF-898D-F45EDC69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65AC50-7FCA-44A0-B6CF-041B098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02E7CB-1D6F-494E-8F55-62D1FCFE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AA0FE6-A97D-49EC-A2B2-808094B5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79E845-ACFD-48A7-90D7-8EECA25A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AC3DF8-5590-4B4B-8B89-C7F0822B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6A193A-ABE4-4FF8-97B2-EC5EBAA7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04C5-A91E-4B30-B9FD-872BED98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9DDB31-2F12-4FE7-A253-A373F18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18353D-C39F-4613-BD4E-EA98E1E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62EB64-6813-4957-B6C8-6794CE19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A693AA-8BF0-4ACC-8F81-3B0A061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8B031A-2916-4B81-8B82-9486B31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5B4D69-A786-4A50-98C7-D472E9A5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81D7A0-FC05-4C85-BA47-5ED48503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E5835B-80B4-4459-B04B-3F715A2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C9C070-8379-4507-8508-F875A5DD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74C305-305E-4043-880A-A9074102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9C2F-3A71-42E5-9F77-643AC32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7A1E3B-D480-4926-8DC4-8F545B3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6A0B5D-490D-41A3-AC8B-77BF2B3C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98ACF0-221C-48CC-8C98-9C23936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E96D86-3DB3-4D33-AAAD-78C8EC5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355EAC-0A1C-4FD6-A58C-2FE46E1A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DAE87A-5F6E-4A9D-B1B3-46097BD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6C5F75-5DB8-4A84-9AD2-7A95DFE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57E9A0-9A66-409D-A82E-6FFBF5F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E0F6C4-D9B5-461C-A7E9-3C06265C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EF3388-4D5A-4DC1-B9E3-47EA0E43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5FB5-9196-49BA-A1B4-417B8E72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8ED3D1F-BB61-4773-ADEE-0286559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50F9FD-E419-409D-872C-2BA65B5B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024969-7ACD-4ACC-9CC2-E0C983F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F99B75-FE92-4AEA-B636-50060B0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C29EF7-9337-4419-A5FD-754E966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6925A75-05CC-4DCC-8E5F-9F720EBA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1DC54A0-29C0-48B1-8A90-644839A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DAF98E-BEAA-4658-8FC3-04A20018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14B141-5892-4F87-9AF9-155D3EB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1073DD-043D-4CF2-A759-6DAED37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55A1-21FE-4FDE-AE9B-40ED1285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19541F-7106-49F8-AE08-6197F8E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CF4183-A5AB-4E53-BD0B-3EDECA23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D514C4-073D-414E-8668-D52CC963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5FEC47-1FE9-4FB7-BC46-879C3E12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FA05FC-FAD9-46B1-BF37-5EFF016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0076B9A-50DF-41B9-B950-D27BE74F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F39E73-3AD5-4339-B48D-E8FE909D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24C1AA-6786-45B7-BE4B-A289EBD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197D49-7AD7-427C-B9E3-F76BEA46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360A3C-93E8-4DD6-8481-0222609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AD3D-EB1C-4802-A89B-0D6B0A4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3DD348-F898-488A-8783-A5EB1F9B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BD8B80-E575-4B15-8E63-F2CF9043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3E6072-5428-4A4F-A52B-BEBF3E07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CDCF06-CA75-4F39-A196-E974ED28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561368-E90A-4939-BAE0-6CD0BE4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E17CA5-F52E-4DFC-9D4C-D2B9C73D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C455AC-D95C-4762-81AB-3765FA8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DDC067-1D5B-42B4-B131-A057CC7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0E4D66-10DD-4F4B-9C65-7552A0D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ACD24C-CA1C-4B63-A836-DD1F198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F916-48A9-4111-BB5A-DABF7D9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07F827-A53E-4482-95F1-B221BB61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62E0BA-B152-4FE4-B9EF-B9BE233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14F34E-1F69-4361-8863-E832B0A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A28B0B-8DBE-4432-999A-8E8F660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3B5A5E-2190-43FE-AE37-1694F550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429D84-00DB-483E-AA92-3CBF15B8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AFEF66-9783-4B3E-AF4C-E42FDD9C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D139A2-9DDC-4A2F-9F2C-BA62F5AB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CD000D-16C4-4275-BBF1-3D01163F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1A6695-F30E-4DE0-AB05-1A194021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7E8A-67B1-4D22-BD82-D66DE7F3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593BB9-05E3-483D-8F15-56CDB575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0D827D7-0AC6-44B2-8B4C-511166E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C899FB-6E11-4A8F-B866-793F979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11F432-6343-4798-8520-83C9BF2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729FC0-E0E7-4805-B5D3-7DAC03B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BB1B34-558A-4A57-B00F-A51AD05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994248-058B-4D21-81A4-BBBC88D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2E0FC11-D0EE-4A94-91DB-BFC64D85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864A85-53B8-470E-96D0-03EADBAD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6B0A3A-7077-400A-B259-66FE620D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6238-C34C-4CD4-80C8-A4BD6285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4E9EBB-0E35-4AD3-9BAF-63434B2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4E7984-7EF0-4086-9D22-83916B0C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455747-1164-4FAF-AEDA-098BC3EC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E6E70B-E54A-45F8-B207-2C2B887C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EFF320-5026-4CD0-9B55-D0EF277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30239E-1CC6-42EE-9B7F-0BC15A4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258982-DCA1-4775-93B4-B3AD7465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BA2125-F60A-4752-82DA-DDEEDC1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D86653-7A52-4362-9952-EEA790F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6622EA-C334-4A6A-A49F-2EE93DDF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470-BC0F-4706-8602-B9EC925E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93BBF-D66A-4383-9920-814FFCD7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4B4E8F-7F23-4A76-8577-DAF6700E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E497-EC7D-4E6C-8CC5-38A9F053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0A016-FA19-4525-B551-B682498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E131-88D2-45A9-9CD0-EBEEF51F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A286-CAE7-472E-AA6F-7C07199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630F-D159-4938-8F73-5319418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A4C2-12B8-49F6-8305-2F59707A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FEF7-BF33-40F2-BF86-252A448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655C-6A1A-4CAF-9235-EC7A05C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3F9D-A78A-4F73-B167-4267E8E8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1C1-1DBF-402C-917D-5E944835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AFAD-F1BB-4485-9386-B7C5128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B153-9AF8-4AB6-8D70-A21D189D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9CB4-1949-46C1-B1FF-55ED1A4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DD34-6106-4700-8833-5BCE5ADB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FE33-8B02-4D09-9C22-C949F387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3442-B186-43EF-BE67-4CFF329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BBE49-8D59-4D42-84E9-1738D7CC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89CCB-EA4F-4F67-84DF-FB8427C7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BBBA-FE17-45A8-8385-BEC1BFF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751D-7435-442A-B4D3-0EE8876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1AB-3B97-442C-94B7-A4D7EF2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12047-40DE-46E6-8DBD-AA9FBE4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5081-4CEF-462B-8BB2-44255C1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F8086-F27F-4DA6-9690-411D59A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3861E-47DB-4DF2-BA0D-712397B0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9EE70-D84A-4648-B99B-D8CDF2A2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E5AD-CF5A-4DA9-A491-AAA1A6D5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B4759-CDC5-4BDF-845B-4F63BB7B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2CBCB-70FD-41E4-B428-D495E80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7393-9129-41D6-A297-837E354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74B8-1188-49A4-B902-2975F69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A42-C38A-4ED4-8143-214CF08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0DD0-B592-4E22-823C-BB33EBF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E654E-0597-4C24-A92D-6EED2C7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858B-BCF0-48A7-811F-FE55DC4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A0EF3-6591-4415-90B4-6652AC06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7529-8532-4EA6-BB9D-E8E42BC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B1B9-0D22-46B2-A114-5AFBF461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58019-51FB-4845-95C7-C77EAC91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6C5B7-C7AD-4814-9DF1-4ED50E6E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A879A-173F-4FF4-B315-F7F1D33E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57F9E-9B00-4369-9248-FD542F7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77.xml"/><Relationship Id="rId10" Type="http://schemas.openxmlformats.org/officeDocument/2006/relationships/slideLayout" Target="../slideLayouts/slideLayout278.xml"/><Relationship Id="rId11" Type="http://schemas.openxmlformats.org/officeDocument/2006/relationships/slideLayout" Target="../slideLayouts/slideLayout279.xml"/><Relationship Id="rId12" Type="http://schemas.openxmlformats.org/officeDocument/2006/relationships/slideLayout" Target="../slideLayouts/slideLayout280.xml"/><Relationship Id="rId13" Type="http://schemas.openxmlformats.org/officeDocument/2006/relationships/slideLayout" Target="../slideLayouts/slideLayout281.xml"/><Relationship Id="rId14" Type="http://schemas.openxmlformats.org/officeDocument/2006/relationships/slideLayout" Target="../slideLayouts/slideLayout282.xml"/><Relationship Id="rId15" Type="http://schemas.openxmlformats.org/officeDocument/2006/relationships/slideLayout" Target="../slideLayouts/slideLayout283.xml"/><Relationship Id="rId16" Type="http://schemas.openxmlformats.org/officeDocument/2006/relationships/slideLayout" Target="../slideLayouts/slideLayout284.xml"/><Relationship Id="rId17" Type="http://schemas.openxmlformats.org/officeDocument/2006/relationships/slideLayout" Target="../slideLayouts/slideLayout285.xml"/><Relationship Id="rId18" Type="http://schemas.openxmlformats.org/officeDocument/2006/relationships/slideLayout" Target="../slideLayouts/slideLayout286.xml"/><Relationship Id="rId19" Type="http://schemas.openxmlformats.org/officeDocument/2006/relationships/slideLayout" Target="../slideLayouts/slideLayout287.xml"/><Relationship Id="rId20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BEE2-2EFE-46B5-9291-F294FAB659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838-5301-4351-BE8A-69826067CE37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45F7-B161-4D45-9E9D-2E2A815926E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20DF-3F8F-45D1-B3E0-18D3EA3FC00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CA2-E2B2-4A59-A291-A7DD5865695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50D-417D-426E-AD3E-61A26BD6120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C24-03A9-4ABF-9671-5139908BF04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DD35-A0FC-44B2-85D4-E28E03A1439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61A7-EDCC-4F71-B751-10B20AB7A367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7257-6DF3-4C6F-8BFF-C27077EEB84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817-FBFC-47C6-9AF7-076016FAC33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AACC-A016-43DB-B35C-73C3116A447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0A87-EE1D-410B-BE97-BC80EF4A770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2F92-C250-4E33-9B61-26C807D77D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2FFA-8B97-4024-88AD-D0887A1E07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93F0-FDD6-4170-8717-FA9E5531C7F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9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6B3C-8A55-4975-92C9-B864D546791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9"/>
    <p:sldLayoutId id="2147483949" r:id="rId10"/>
    <p:sldLayoutId id="2147483950" r:id="rId11"/>
    <p:sldLayoutId id="2147483951" r:id="rId12"/>
    <p:sldLayoutId id="2147483952" r:id="rId13"/>
    <p:sldLayoutId id="2147483953" r:id="rId14"/>
    <p:sldLayoutId id="2147483954" r:id="rId15"/>
    <p:sldLayoutId id="2147483955" r:id="rId16"/>
    <p:sldLayoutId id="2147483956" r:id="rId17"/>
    <p:sldLayoutId id="2147483957" r:id="rId18"/>
    <p:sldLayoutId id="2147483958" r:id="rId19"/>
    <p:sldLayoutId id="2147483959" r:id="rId20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3BF1-EF18-44D8-9B6A-FFC5AE89C71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Полилиния 3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олилиния 4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A8C-9406-4BCA-A8E5-A6F6243B4D4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B13-249A-4C59-A908-6AF8F38EE86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Полилиния 3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Полилиния 4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4643-C089-4F33-AB37-EC8DDE05904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ED8F-140F-4C52-A4D3-202C274B947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87C3-EDD0-43CE-A572-7C1CF1B65D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dt" idx="8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ftr" idx="8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sldNum" idx="9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BF3-D4B5-4F7D-8705-3CBE085C71E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9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9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9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E642-78A9-43AA-87E9-8F9F3B886A3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9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9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9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D549-395E-4CB9-B1D0-DEA39F08EF4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9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9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9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34E-855C-4041-87F4-1615A6A1298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10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10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10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6DFA-10BB-428B-972A-DEFF2AB2B18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10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10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10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EAB2-8BF1-46B7-BF28-D6D5DA9D0F6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10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10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10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4BA-F6BE-4CFE-A807-37B46044E95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Прямая соединительная линия 3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Прямая соединительная линия 4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Овал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10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0EF7-CF61-44C9-8A64-A108F66A1422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sldNum" idx="1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3C4A-F426-40D3-A4F4-9F05D553F9E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ftr" idx="1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Прямая соединительная линия 3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9290-15CD-4818-BBFC-364109A898E5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1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E3B-EF99-4BCB-900F-769C99D4A7A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sldNum" idx="1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302-F37B-40B5-A769-B13C81E3A95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dt" idx="11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98ED-299D-435A-808C-9B31E059C92E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49F-8213-462A-A92C-EE0690B6F038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C1FC-95C8-4986-94B7-D95FC969966B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2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9C18-EE79-41B6-8DBA-C7D01ADE6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3E7-BCA4-417D-BF47-35B92AE3E79F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EBE-A6FB-4DAF-9712-5355E91FDA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7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68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0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F0E0-A90F-4BC3-BD66-B7E8E8872B09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2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2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3D2-D5EF-4103-8F16-81F6D493FB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1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E9E-1D2F-4205-A185-4B84BA0F16D8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12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12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BE5D-8026-4D5B-9193-3A99B2C3D9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dt" idx="1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AF4-778A-4AB8-B510-928A7240D8A5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 type="ftr" idx="1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 type="sldNum" idx="1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76C2-7500-4F81-8AD5-1FA8CACEBC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63A-343B-43E5-9D1D-8247691B0763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3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064D-833A-479D-B36A-91599BC139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3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E7A3-BAD2-4AE2-BA36-63E912F981E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3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3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E1B-2846-4E92-9549-19A7A85661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dt" idx="13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6402-47EE-4B0D-84D3-3E552FD0B671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ftr" idx="14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 type="sldNum" idx="1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57E-230D-498E-A975-49B47866CF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 type="dt" idx="1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7A1-49B2-41B8-954D-B1E5311EEEAE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 type="ftr" idx="14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 type="sldNum" idx="1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181-85C7-42C8-87A7-C9262073CC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 type="dt" idx="1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0AAE-F510-4AB5-BB5D-B9F34010146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 type="ftr" idx="1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 type="sldNum" idx="1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603-CD43-4359-B19B-92AEE17A84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E4B-A585-497D-A944-5B4E81A0043C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 type="dt" idx="1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4C52-3C27-4A27-A3F8-A7F16EB4C18E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 type="ftr" idx="14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 type="sldNum" idx="15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753-333B-4617-9459-59E2B069D8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0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0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3EF7-9511-4C75-AA9C-F332A6437D2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074-8F53-4854-ACDB-AA0732CA59F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5DC-8AC7-4E0E-A612-D6A22473E494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AD0-0AB2-4204-8B7A-EFAC72E5012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F00-1930-4D1F-AA39-1C1311B37758}" type="datetime">
              <a:rPr b="0" lang="ru-RU" sz="1400" spc="-1" strike="noStrike">
                <a:solidFill>
                  <a:srgbClr val="696464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85A-C325-4D58-BE52-7756ADC720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<Relationship Id="rId3" Type="http://schemas.openxmlformats.org/officeDocument/2006/relationships/comments" Target="../comments/commen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<Relationship Id="rId3" Type="http://schemas.openxmlformats.org/officeDocument/2006/relationships/comments" Target="../comments/comment6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1" name="Объект 3" descr=""/>
          <p:cNvPicPr/>
          <p:nvPr/>
        </p:nvPicPr>
        <p:blipFill>
          <a:blip r:embed="rId1"/>
          <a:stretch/>
        </p:blipFill>
        <p:spPr>
          <a:xfrm>
            <a:off x="-311040" y="0"/>
            <a:ext cx="9458280" cy="6858000"/>
          </a:xfrm>
          <a:prstGeom prst="rect">
            <a:avLst/>
          </a:prstGeom>
          <a:ln w="0">
            <a:noFill/>
          </a:ln>
        </p:spPr>
      </p:pic>
      <p:sp>
        <p:nvSpPr>
          <p:cNvPr id="2172" name="Прямоугольник 4"/>
          <p:cNvSpPr/>
          <p:nvPr/>
        </p:nvSpPr>
        <p:spPr>
          <a:xfrm>
            <a:off x="0" y="3809880"/>
            <a:ext cx="475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Тепло своїх долонь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Я друзям від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Урок новий, ціка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Я з радістю поч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араграф 21 - опрацюва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араграф 10   - повтори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исьмово виконати завдання у робочому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зошиті за вибором </a:t>
            </a:r>
            <a:r>
              <a:rPr b="0" lang="en-US" sz="3200" spc="-1" strike="noStrike">
                <a:solidFill>
                  <a:srgbClr val="002060"/>
                </a:solidFill>
                <a:latin typeface="Constantia"/>
              </a:rPr>
              <a:t>I-IV</a:t>
            </a: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 рівні  на стор. 113 – 114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Творче завдання. Підготувати   повідомлення про відкриття  радіоактивності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0" name="Заголовок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2201" name="Номер слайда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530E-B3E9-47DA-A706-877205DED49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3" name="Picture 5" descr=""/>
          <p:cNvPicPr/>
          <p:nvPr/>
        </p:nvPicPr>
        <p:blipFill>
          <a:blip r:embed="rId3"/>
          <a:stretch/>
        </p:blipFill>
        <p:spPr>
          <a:xfrm>
            <a:off x="6380280" y="4005360"/>
            <a:ext cx="23907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4" name="Горизонтальный свиток 5"/>
          <p:cNvGrpSpPr/>
          <p:nvPr/>
        </p:nvGrpSpPr>
        <p:grpSpPr>
          <a:xfrm>
            <a:off x="-79200" y="304920"/>
            <a:ext cx="5376600" cy="4779720"/>
            <a:chOff x="-79200" y="304920"/>
            <a:chExt cx="5376600" cy="4779720"/>
          </a:xfrm>
        </p:grpSpPr>
        <p:pic>
          <p:nvPicPr>
            <p:cNvPr id="2205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-79200" y="304920"/>
              <a:ext cx="537660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584280" y="965160"/>
              <a:ext cx="4341600" cy="34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7" name="Picture 10" descr="0091"/>
          <p:cNvPicPr/>
          <p:nvPr/>
        </p:nvPicPr>
        <p:blipFill>
          <a:blip r:embed="rId3"/>
          <a:stretch/>
        </p:blipFill>
        <p:spPr>
          <a:xfrm rot="911400">
            <a:off x="7604280" y="32040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10" descr="0091"/>
          <p:cNvPicPr/>
          <p:nvPr/>
        </p:nvPicPr>
        <p:blipFill>
          <a:blip r:embed="rId4"/>
          <a:stretch/>
        </p:blipFill>
        <p:spPr>
          <a:xfrm rot="911400">
            <a:off x="888840" y="560664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10" descr="0091"/>
          <p:cNvPicPr/>
          <p:nvPr/>
        </p:nvPicPr>
        <p:blipFill>
          <a:blip r:embed="rId5"/>
          <a:stretch/>
        </p:blipFill>
        <p:spPr>
          <a:xfrm rot="911400">
            <a:off x="3603600" y="510660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10" descr="0091"/>
          <p:cNvPicPr/>
          <p:nvPr/>
        </p:nvPicPr>
        <p:blipFill>
          <a:blip r:embed="rId6"/>
          <a:stretch/>
        </p:blipFill>
        <p:spPr>
          <a:xfrm rot="911400">
            <a:off x="7729560" y="587484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10" descr="0091"/>
          <p:cNvPicPr/>
          <p:nvPr/>
        </p:nvPicPr>
        <p:blipFill>
          <a:blip r:embed="rId7"/>
          <a:stretch/>
        </p:blipFill>
        <p:spPr>
          <a:xfrm rot="911400">
            <a:off x="7483320" y="312228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10" descr="0091"/>
          <p:cNvPicPr/>
          <p:nvPr/>
        </p:nvPicPr>
        <p:blipFill>
          <a:blip r:embed="rId8"/>
          <a:stretch/>
        </p:blipFill>
        <p:spPr>
          <a:xfrm rot="911400">
            <a:off x="5273640" y="988920"/>
            <a:ext cx="528840" cy="51912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10" descr="0091"/>
          <p:cNvPicPr/>
          <p:nvPr/>
        </p:nvPicPr>
        <p:blipFill>
          <a:blip r:embed="rId9"/>
          <a:stretch/>
        </p:blipFill>
        <p:spPr>
          <a:xfrm rot="911400">
            <a:off x="1943280" y="4592520"/>
            <a:ext cx="617400" cy="60660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0" descr="0091"/>
          <p:cNvPicPr/>
          <p:nvPr/>
        </p:nvPicPr>
        <p:blipFill>
          <a:blip r:embed="rId10"/>
          <a:stretch/>
        </p:blipFill>
        <p:spPr>
          <a:xfrm rot="911400">
            <a:off x="5773680" y="4367160"/>
            <a:ext cx="649440" cy="63828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10" descr="0091"/>
          <p:cNvPicPr/>
          <p:nvPr/>
        </p:nvPicPr>
        <p:blipFill>
          <a:blip r:embed="rId11"/>
          <a:stretch/>
        </p:blipFill>
        <p:spPr>
          <a:xfrm rot="911400">
            <a:off x="3916440" y="60480"/>
            <a:ext cx="528480" cy="51912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10" descr="0091"/>
          <p:cNvPicPr/>
          <p:nvPr/>
        </p:nvPicPr>
        <p:blipFill>
          <a:blip r:embed="rId12"/>
          <a:stretch/>
        </p:blipFill>
        <p:spPr>
          <a:xfrm rot="911400">
            <a:off x="1501920" y="349200"/>
            <a:ext cx="528480" cy="51912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10" descr="0091"/>
          <p:cNvPicPr/>
          <p:nvPr/>
        </p:nvPicPr>
        <p:blipFill>
          <a:blip r:embed="rId13"/>
          <a:stretch/>
        </p:blipFill>
        <p:spPr>
          <a:xfrm rot="911400">
            <a:off x="6102000" y="2171880"/>
            <a:ext cx="528480" cy="51876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10" descr="0091"/>
          <p:cNvPicPr/>
          <p:nvPr/>
        </p:nvPicPr>
        <p:blipFill>
          <a:blip r:embed="rId14"/>
          <a:stretch/>
        </p:blipFill>
        <p:spPr>
          <a:xfrm rot="911400">
            <a:off x="3130560" y="5918040"/>
            <a:ext cx="528480" cy="519120"/>
          </a:xfrm>
          <a:prstGeom prst="rect">
            <a:avLst/>
          </a:prstGeom>
          <a:ln w="0">
            <a:noFill/>
          </a:ln>
        </p:spPr>
      </p:pic>
      <p:sp>
        <p:nvSpPr>
          <p:cNvPr id="2219" name="Прямоугольник 1"/>
          <p:cNvSpPr/>
          <p:nvPr/>
        </p:nvSpPr>
        <p:spPr>
          <a:xfrm>
            <a:off x="611280" y="92556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Працювали ви старан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То ж урок пройшов не ма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Працювали від душі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клас -</a:t>
            </a: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 ви молодці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3" name="Picture 2" descr="http://gotovie-prezentacii.ru/wp-content/uploads/2013/02/himiya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79280" y="4508640"/>
            <a:ext cx="878544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росто знати- це не все, знання потрібно використовувати. 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.Гете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5" name="Прямоугольник 3" descr=""/>
          <p:cNvPicPr/>
          <p:nvPr/>
        </p:nvPicPr>
        <p:blipFill>
          <a:blip r:embed="rId2"/>
          <a:stretch/>
        </p:blipFill>
        <p:spPr>
          <a:xfrm>
            <a:off x="2139840" y="2236680"/>
            <a:ext cx="4864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Заголовок 1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8418600" cy="2298960"/>
          </a:xfrm>
          <a:prstGeom prst="rect">
            <a:avLst/>
          </a:prstGeom>
          <a:ln w="0">
            <a:noFill/>
          </a:ln>
        </p:spPr>
      </p:pic>
      <p:pic>
        <p:nvPicPr>
          <p:cNvPr id="2177" name="Подзаголовок 2" descr=""/>
          <p:cNvPicPr/>
          <p:nvPr/>
        </p:nvPicPr>
        <p:blipFill>
          <a:blip r:embed="rId2"/>
          <a:stretch/>
        </p:blipFill>
        <p:spPr>
          <a:xfrm>
            <a:off x="4492800" y="3524400"/>
            <a:ext cx="4028760" cy="279072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3"/>
          <a:stretch/>
        </p:blipFill>
        <p:spPr>
          <a:xfrm>
            <a:off x="0" y="2592360"/>
            <a:ext cx="3429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4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5"/>
          <p:cNvSpPr/>
          <p:nvPr/>
        </p:nvSpPr>
        <p:spPr>
          <a:xfrm>
            <a:off x="1274760" y="115920"/>
            <a:ext cx="360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Calibri"/>
              </a:rPr>
              <a:t>Вам потріб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Прямоугольник 4"/>
          <p:cNvSpPr/>
          <p:nvPr/>
        </p:nvSpPr>
        <p:spPr>
          <a:xfrm>
            <a:off x="357120" y="1125360"/>
            <a:ext cx="8286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ати уявлення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 довгу і коротку форми періодичної систе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нат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у періодичної системи; закономірності зміни властивостей хімічних елементі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міт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використовувати періодичну систему для пошуку інформації про хімічні елементи та їх власти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1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Century Schoolbook"/>
              </a:rPr>
              <a:t>Довгоперіодний варіан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entury Schoolbook"/>
            </a:endParaRPr>
          </a:p>
        </p:txBody>
      </p:sp>
      <p:pic>
        <p:nvPicPr>
          <p:cNvPr id="2184" name="Picture 4" descr=""/>
          <p:cNvPicPr/>
          <p:nvPr/>
        </p:nvPicPr>
        <p:blipFill>
          <a:blip r:embed="rId1"/>
          <a:stretch/>
        </p:blipFill>
        <p:spPr>
          <a:xfrm>
            <a:off x="108000" y="1370160"/>
            <a:ext cx="8928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5" name="Picture 4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6" name="Rectangle 5"/>
          <p:cNvSpPr/>
          <p:nvPr/>
        </p:nvSpPr>
        <p:spPr>
          <a:xfrm>
            <a:off x="1289880" y="115920"/>
            <a:ext cx="68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Calibri"/>
              </a:rPr>
              <a:t>Завдання</a:t>
            </a:r>
            <a:r>
              <a:rPr b="1" lang="ru-RU" sz="4400" spc="-1" strike="noStrike">
                <a:solidFill>
                  <a:srgbClr val="0066ff"/>
                </a:solidFill>
                <a:latin typeface="Calibri"/>
              </a:rPr>
              <a:t> для закріпл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Прямоугольник 4"/>
          <p:cNvSpPr/>
          <p:nvPr/>
        </p:nvSpPr>
        <p:spPr>
          <a:xfrm>
            <a:off x="357120" y="1214280"/>
            <a:ext cx="82868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в періодичній системі розташований елемент №20? Складіть формулу його оксиду й гідрокси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О, Са(ОН)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упа, 4 період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віть елементи: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 період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, головна підгрупа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 період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, побічна під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e3611"/>
                </a:solidFill>
                <a:latin typeface="Calibri"/>
              </a:rPr>
              <a:t>Закономірності періодичної системи хімічних елементі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міна металічних та неметалічних властивостей елементів по періодах і групах 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металічні властивості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неметалічні властивості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посилюються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посилюю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Максимальна валентність елементів вищих оксиді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відповідає номеру групи (крім побічних підгруп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Валентність елементів неметалів у сполуках з Гідрогеном визначається різницею між числом 8 і номером груп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190" name="Прямая со стрелкой 4"/>
          <p:cNvCxnSpPr/>
          <p:nvPr/>
        </p:nvCxnSpPr>
        <p:spPr>
          <a:xfrm flipH="1">
            <a:off x="571320" y="2785680"/>
            <a:ext cx="2160" cy="85788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1" name="Прямая со стрелкой 6"/>
          <p:cNvCxnSpPr/>
          <p:nvPr/>
        </p:nvCxnSpPr>
        <p:spPr>
          <a:xfrm flipH="1" flipV="1">
            <a:off x="785520" y="2571480"/>
            <a:ext cx="2358000" cy="216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2" name="Прямая со стрелкой 9"/>
          <p:cNvCxnSpPr/>
          <p:nvPr/>
        </p:nvCxnSpPr>
        <p:spPr>
          <a:xfrm>
            <a:off x="5214960" y="2571840"/>
            <a:ext cx="2358000" cy="216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3" name="Прямая со стрелкой 10"/>
          <p:cNvCxnSpPr/>
          <p:nvPr/>
        </p:nvCxnSpPr>
        <p:spPr>
          <a:xfrm flipV="1">
            <a:off x="5000760" y="2785320"/>
            <a:ext cx="2160" cy="85788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Завдання для закріпленн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1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Складіть формулу вищого оксиду й укажіть його характер для елементів № 12, 30, 16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2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Складіть формули летких сполук із Гідрогеном для елементів № 15, 35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Назвіть елементи 5 періоду, які мають формулу вищого оксиду 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R</a:t>
            </a:r>
            <a:r>
              <a:rPr b="0" lang="en-US" sz="3600" spc="-1" strike="noStrike" baseline="-25000">
                <a:solidFill>
                  <a:srgbClr val="003300"/>
                </a:solidFill>
                <a:latin typeface="Century Schoolbook"/>
              </a:rPr>
              <a:t>2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O</a:t>
            </a:r>
            <a:r>
              <a:rPr b="0" lang="en-US" sz="3600" spc="-1" strike="noStrike" baseline="-25000">
                <a:solidFill>
                  <a:srgbClr val="003300"/>
                </a:solidFill>
                <a:latin typeface="Century Schoolbook"/>
              </a:rPr>
              <a:t>3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8" name="Вертикальный свиток 3"/>
          <p:cNvSpPr/>
          <p:nvPr/>
        </p:nvSpPr>
        <p:spPr>
          <a:xfrm>
            <a:off x="539640" y="836640"/>
            <a:ext cx="8064720" cy="4840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1e2fd"/>
              </a:gs>
              <a:gs pos="100000">
                <a:srgbClr val="76c6f1"/>
              </a:gs>
            </a:gsLst>
            <a:lin ang="5400000"/>
          </a:gra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ьохвалентний метал масою 4,5 г при взаємодії з хлоридною кислотою виділяє водень о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ємом 5,6 л (н.у.). Визначте метал, напишіть формули його оксиду та гідроксиду, вкажіть їх хар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7:09:16Z</dcterms:created>
  <dc:creator>Admin</dc:creator>
  <dc:description/>
  <dc:language>en-US</dc:language>
  <cp:lastModifiedBy>Admin</cp:lastModifiedBy>
  <dcterms:modified xsi:type="dcterms:W3CDTF">2014-05-29T06:26:29Z</dcterms:modified>
  <cp:revision>2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28000000000001024140</vt:lpwstr>
  </property>
</Properties>
</file>