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103-4D0F-4091-81CF-C3E407D1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EBC-6428-4925-8AD9-DB7CD734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EA0-AFD5-44E4-819D-741186D0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EC4-31F6-4950-90FC-E830472E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0B46-E13E-4CDB-9260-1E047FAC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243-FDFE-48E6-A3E3-1DFC13E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CE3B-1FA0-41BC-AD5C-4F2BDB1A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0E7-FF4F-48FB-AC63-4ADA01C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D3A9-58EA-40F6-BE85-10C6E157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41DF-E730-4A9A-84CC-92E13163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0665-E761-4E39-AC97-542A0A45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A3A-BBD0-4B4A-9B91-1ED0840F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D1FF-7455-4E52-AACE-DD87F07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DE8D-6A45-4265-B14B-90E5991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52EE-C3A3-4B7D-A718-16225F4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9B1-7F33-4624-8F92-A1FC1382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D59-25E2-4B49-90D7-56303E2E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5C4A-77AB-47EA-8415-D8EFC608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596D-A25F-4622-A6A2-64FDBCB1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8378-2C42-462F-BE84-9E8A7A54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893F-3568-44CB-A96D-0B693DEB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B750-DF11-4F80-9296-C4121AE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051-EA44-442B-8C33-126BA678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065E-59B3-4D28-9E11-1DC8AF7C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382A-3B10-4C58-A4F1-26A89E42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0D04-5B00-458D-BCA8-938A0F9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7445-8DCD-49FD-AA08-FBE5021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2441-81B3-42A4-8CF6-BB30C9E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14F2-A0D8-413B-8315-4B205509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BF91-8AE2-40EB-B455-34BA3FEE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18F-71A6-4FAB-887C-0EAED6CA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CAA-60EF-46E9-8742-4291A1D5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95A-3663-40F1-9A91-EA2109E3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D6B-A95A-42E1-84DB-6DB2D45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FE6-29FF-423E-9640-00C09EE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D02-2E87-4398-A0E6-2388CF1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EC26-04D9-41F0-BF91-A139E8E53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3E33-7100-4D7A-992C-00ECED0E1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670-5195-4E19-838D-036C874B2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 rot="10800000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6" descr="&amp;KHcy;&amp;iukcy;&amp;mcy;&amp;iukcy;&amp;chcy;&amp;ncy;&amp;iukcy; &amp;fcy;&amp;ocy;&amp;rcy;&amp;mcy;&amp;ucy;&amp;lcy;&amp;icy; &amp;rcy;&amp;iecy;&amp;chcy;&amp;ocy;&amp;vcy;&amp;icy;&amp;ncy;"/>
          <p:cNvPicPr/>
          <p:nvPr/>
        </p:nvPicPr>
        <p:blipFill>
          <a:blip r:embed="rId1"/>
          <a:srcRect l="0" t="0" r="0" b="-8"/>
          <a:stretch/>
        </p:blipFill>
        <p:spPr>
          <a:xfrm>
            <a:off x="785880" y="785880"/>
            <a:ext cx="7643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3" descr="http://image.slidesharecdn.com/himformul-111005044924-phpapp02/95/slide-17-728.jpg?1317808323"/>
          <p:cNvPicPr/>
          <p:nvPr/>
        </p:nvPicPr>
        <p:blipFill>
          <a:blip r:embed="rId1"/>
          <a:stretch/>
        </p:blipFill>
        <p:spPr>
          <a:xfrm>
            <a:off x="1285920" y="214200"/>
            <a:ext cx="6500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74680"/>
            <a:ext cx="7000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иклади хімічних форму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одержимое 6" descr="Him7_9_9 изм.jpg"/>
          <p:cNvPicPr/>
          <p:nvPr/>
        </p:nvPicPr>
        <p:blipFill>
          <a:blip r:embed="rId1"/>
          <a:stretch/>
        </p:blipFill>
        <p:spPr>
          <a:xfrm>
            <a:off x="500040" y="1000080"/>
            <a:ext cx="8072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Содержимое 3" descr="http://image.slidesharecdn.com/himformul-111005044924-phpapp02/95/slide-10-728.jpg?1317808323"/>
          <p:cNvPicPr/>
          <p:nvPr/>
        </p:nvPicPr>
        <p:blipFill>
          <a:blip r:embed="rId1"/>
          <a:stretch/>
        </p:blipFill>
        <p:spPr>
          <a:xfrm>
            <a:off x="1428840" y="428760"/>
            <a:ext cx="6161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одержимое 3" descr="http://image.slidesharecdn.com/himformul-111005044924-phpapp02/95/slide-11-728.jpg?1317808323"/>
          <p:cNvPicPr/>
          <p:nvPr/>
        </p:nvPicPr>
        <p:blipFill>
          <a:blip r:embed="rId1"/>
          <a:stretch/>
        </p:blipFill>
        <p:spPr>
          <a:xfrm>
            <a:off x="1554120" y="357120"/>
            <a:ext cx="61610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одержимое 3" descr="http://image.slidesharecdn.com/himformul-111005044924-phpapp02/95/slide-12-728.jpg?1317808323"/>
          <p:cNvPicPr/>
          <p:nvPr/>
        </p:nvPicPr>
        <p:blipFill>
          <a:blip r:embed="rId1"/>
          <a:stretch/>
        </p:blipFill>
        <p:spPr>
          <a:xfrm>
            <a:off x="1554120" y="285840"/>
            <a:ext cx="608976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клади написання хімічних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орм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Him7_9_8.jpg"/>
          <p:cNvPicPr/>
          <p:nvPr/>
        </p:nvPicPr>
        <p:blipFill>
          <a:blip r:embed="rId1"/>
          <a:srcRect l="0" t="0" r="20" b="0"/>
          <a:stretch/>
        </p:blipFill>
        <p:spPr>
          <a:xfrm>
            <a:off x="500040" y="1000080"/>
            <a:ext cx="8072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значення складу простих та складних речов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клад води позначається формулою Н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 читаєтьс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ш-два- о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зо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–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ен-дв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углекислого газу - С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це-о –дв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ухонної солі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l – 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натрій хлор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итної соди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натрій-аш-це-о-т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ульфатної кислоти–Н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ш-два-ес-о-чоти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Слайд УзагТаЗакрЗнань.jpg"/>
          <p:cNvPicPr/>
          <p:nvPr/>
        </p:nvPicPr>
        <p:blipFill>
          <a:blip r:embed="rId1"/>
          <a:stretch/>
        </p:blipFill>
        <p:spPr>
          <a:xfrm>
            <a:off x="608040" y="544680"/>
            <a:ext cx="78217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3" descr="http://image.slidesharecdn.com/himformul-111005044924-phpapp02/95/slide-25-728.jpg?1317808323"/>
          <p:cNvPicPr/>
          <p:nvPr/>
        </p:nvPicPr>
        <p:blipFill>
          <a:blip r:embed="rId1"/>
          <a:stretch/>
        </p:blipFill>
        <p:spPr>
          <a:xfrm>
            <a:off x="1214280" y="214200"/>
            <a:ext cx="65725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льний мікроф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йцікавішим на цьому уроці для мене бул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пер я знаю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триманні знання знадобляться мені в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alibri"/>
              </a:rPr>
              <a:t>МЕТА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Ознайомитись з поняттями “</a:t>
            </a:r>
            <a:r>
              <a:rPr b="0" lang="uk-UA" sz="3200" spc="-1" strike="noStrike">
                <a:solidFill>
                  <a:srgbClr val="00b050"/>
                </a:solidFill>
                <a:latin typeface="Calibri"/>
              </a:rPr>
              <a:t>хімічна формула”, “індекс”, “коефіцієнт</a:t>
            </a: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Сформувати уявлення про спосіб записування складу простих та складних речовин з використанням хімічних символів та індексі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Навчитися читати хімічні формули простих і складних речовин та визначати їхній якісний та кількісний скл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§8 підручни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письмово вправи на с. 72 №1, 7,  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класти твір на тему: “Що станеться, якщо зникнуть усі хімічні формули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2" descr="Слайд ДякЗаСпівпрац.jpg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8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http://image.slidesharecdn.com/himformul-111005044924-phpapp02/95/slide-6-728.jpg?1317808323"/>
          <p:cNvPicPr/>
          <p:nvPr/>
        </p:nvPicPr>
        <p:blipFill>
          <a:blip r:embed="rId1"/>
          <a:stretch/>
        </p:blipFill>
        <p:spPr>
          <a:xfrm>
            <a:off x="1357200" y="285840"/>
            <a:ext cx="6929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http://image.slidesharecdn.com/himformul-111005044924-phpapp02/95/slide-5-728.jpg?1317808323"/>
          <p:cNvPicPr/>
          <p:nvPr/>
        </p:nvPicPr>
        <p:blipFill>
          <a:blip r:embed="rId1"/>
          <a:stretch/>
        </p:blipFill>
        <p:spPr>
          <a:xfrm>
            <a:off x="1554120" y="357120"/>
            <a:ext cx="58039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Хімічна формула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це умовний запис складу речовини за допомогою знаків хімічних елементів та індексі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http://image.slidesharecdn.com/himformul-111005044924-phpapp02/95/slide-15-728.jpg?1317808323"/>
          <p:cNvPicPr/>
          <p:nvPr/>
        </p:nvPicPr>
        <p:blipFill>
          <a:blip r:embed="rId1"/>
          <a:stretch/>
        </p:blipFill>
        <p:spPr>
          <a:xfrm>
            <a:off x="1143000" y="428760"/>
            <a:ext cx="6929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3" descr="http://image.slidesharecdn.com/himformul-111005044924-phpapp02/95/slide-16-728.jpg?1317808323"/>
          <p:cNvPicPr/>
          <p:nvPr/>
        </p:nvPicPr>
        <p:blipFill>
          <a:blip r:embed="rId1"/>
          <a:stretch/>
        </p:blipFill>
        <p:spPr>
          <a:xfrm>
            <a:off x="1214280" y="214200"/>
            <a:ext cx="6715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age.slidesharecdn.com/himformul-111005044924-phpapp02/95/slide-14-728.jpg?1317808323"/>
          <p:cNvPicPr/>
          <p:nvPr/>
        </p:nvPicPr>
        <p:blipFill>
          <a:blip r:embed="rId1"/>
          <a:stretch/>
        </p:blipFill>
        <p:spPr>
          <a:xfrm>
            <a:off x="857160" y="285840"/>
            <a:ext cx="7286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3" descr="http://image.slidesharecdn.com/himformul-111005044924-phpapp02/95/slide-13-728.jpg?1317808323"/>
          <p:cNvPicPr/>
          <p:nvPr/>
        </p:nvPicPr>
        <p:blipFill>
          <a:blip r:embed="rId1"/>
          <a:stretch/>
        </p:blipFill>
        <p:spPr>
          <a:xfrm>
            <a:off x="1428840" y="285840"/>
            <a:ext cx="66434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3T08:40:19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  <property fmtid="{D5CDD505-2E9C-101B-9397-08002B2CF9AE}" pid="3" name="PPT_Export_sFileName">
    <vt:lpwstr>D:\O-diski\01 Продукт\Химия 7 класс\Материалы диска\Уроки\Урок 11 Химические формулы веществ\P-Урок 11 Химические формулы веществ.Ppt</vt:lpwstr>
  </property>
</Properties>
</file>