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607-4FC4-4005-8EE9-A21B8D87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72C-39FE-4091-A3C9-893E155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11B-6985-4CA1-9B8A-2ECA9C23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4E3-F723-4CC0-B62D-BA65C4CA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5B91-B33F-44F7-A871-1D184D9F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6D4-5500-4D53-9F2C-AB34DBB0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909D-B58B-46DC-B5C2-2A9462A4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A95B-BCF3-463A-BCA5-BF6F97C8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34B1-D731-4B6B-AC23-AB77073A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0C76-1D30-4340-89CC-870B8E8C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21D3-947D-4B9A-89C9-6DB9CA3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C8F-3E8B-4624-8499-D8DAE293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B815-AEC1-4BA9-9330-B15D7F8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5F7-3D32-4549-A99D-8AF5CD7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AFC0-FE44-4F04-A714-6DF450D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CD66-6699-4CA5-B95A-65A4F7C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3BFD-FB00-4472-9525-67C679A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4261-07ED-4C4E-B728-0C8A430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A3E7-076C-4AEB-8698-26AB63B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34D4-A4EA-4DD4-908B-E097ECE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56FA-7179-47A5-A861-C89AE12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C178-3E99-43B9-9083-B7DD225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02A-0E8B-4451-ADD1-56A1C07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554B-9F4A-47B6-99DB-54A98EEE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9A6B-C89F-4703-A387-E9CB6778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698E-B9D3-43FD-BAD8-1C4E92B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4EE0-7139-40E1-BBAF-80CE45D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631C-48F3-46F9-9707-5862A75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B684-0E8D-4AC9-9D00-A8093363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05F6-A2BD-4B60-ADD0-5F46E344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BB8-EE4C-490F-8A65-E701974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AB9-22EA-4F07-81F4-CBD14677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64D-FC18-4A74-9E72-A869B931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A61-5EB0-4962-870B-A8683BA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09A-668B-4D9B-9C45-18C65B1B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77D-A2F2-4579-AE80-8B9C3FC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4CE-10DC-4941-9D26-DE07EC25E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0476-B31E-4733-946B-3B1EB7EC0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A2AC-99B4-4799-B32D-D520B3243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 rot="10800000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6" descr="&amp;KHcy;&amp;iukcy;&amp;mcy;&amp;iukcy;&amp;chcy;&amp;ncy;&amp;iukcy; &amp;fcy;&amp;ocy;&amp;rcy;&amp;mcy;&amp;ucy;&amp;lcy;&amp;icy; &amp;rcy;&amp;iecy;&amp;chcy;&amp;ocy;&amp;vcy;&amp;icy;&amp;ncy;"/>
          <p:cNvPicPr/>
          <p:nvPr/>
        </p:nvPicPr>
        <p:blipFill>
          <a:blip r:embed="rId1"/>
          <a:srcRect l="0" t="0" r="0" b="-8"/>
          <a:stretch/>
        </p:blipFill>
        <p:spPr>
          <a:xfrm>
            <a:off x="785880" y="785880"/>
            <a:ext cx="76438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http://image.slidesharecdn.com/himformul-111005044924-phpapp02/95/slide-17-728.jpg?1317808323"/>
          <p:cNvPicPr/>
          <p:nvPr/>
        </p:nvPicPr>
        <p:blipFill>
          <a:blip r:embed="rId1"/>
          <a:stretch/>
        </p:blipFill>
        <p:spPr>
          <a:xfrm>
            <a:off x="1285920" y="214200"/>
            <a:ext cx="6500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74680"/>
            <a:ext cx="7000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клади хімічних форму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одержимое 6" descr="Him7_9_9 изм.jpg"/>
          <p:cNvPicPr/>
          <p:nvPr/>
        </p:nvPicPr>
        <p:blipFill>
          <a:blip r:embed="rId1"/>
          <a:stretch/>
        </p:blipFill>
        <p:spPr>
          <a:xfrm>
            <a:off x="500040" y="1000080"/>
            <a:ext cx="8072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Содержимое 3" descr="http://image.slidesharecdn.com/himformul-111005044924-phpapp02/95/slide-10-728.jpg?1317808323"/>
          <p:cNvPicPr/>
          <p:nvPr/>
        </p:nvPicPr>
        <p:blipFill>
          <a:blip r:embed="rId1"/>
          <a:stretch/>
        </p:blipFill>
        <p:spPr>
          <a:xfrm>
            <a:off x="1428840" y="428760"/>
            <a:ext cx="6161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3" descr="http://image.slidesharecdn.com/himformul-111005044924-phpapp02/95/slide-11-728.jpg?1317808323"/>
          <p:cNvPicPr/>
          <p:nvPr/>
        </p:nvPicPr>
        <p:blipFill>
          <a:blip r:embed="rId1"/>
          <a:stretch/>
        </p:blipFill>
        <p:spPr>
          <a:xfrm>
            <a:off x="1554120" y="357120"/>
            <a:ext cx="61610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3" descr="http://image.slidesharecdn.com/himformul-111005044924-phpapp02/95/slide-12-728.jpg?1317808323"/>
          <p:cNvPicPr/>
          <p:nvPr/>
        </p:nvPicPr>
        <p:blipFill>
          <a:blip r:embed="rId1"/>
          <a:stretch/>
        </p:blipFill>
        <p:spPr>
          <a:xfrm>
            <a:off x="1554120" y="285840"/>
            <a:ext cx="608976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клади написання хімічних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Him7_9_8.jpg"/>
          <p:cNvPicPr/>
          <p:nvPr/>
        </p:nvPicPr>
        <p:blipFill>
          <a:blip r:embed="rId1"/>
          <a:srcRect l="0" t="0" r="20" b="0"/>
          <a:stretch/>
        </p:blipFill>
        <p:spPr>
          <a:xfrm>
            <a:off x="500040" y="1000080"/>
            <a:ext cx="8072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значення складу простих та складних речов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клад води позначається формулою Н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 читається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ш-два- о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зо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–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ен-д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углекислого газу - С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це-о –д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ухонної солі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Cl 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атрій хлор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итної соди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натрій-аш-це-о-т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ульфатної кислоти–Н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ш-два-ес-о-чоти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Слайд УзагТаЗакрЗнань.jpg"/>
          <p:cNvPicPr/>
          <p:nvPr/>
        </p:nvPicPr>
        <p:blipFill>
          <a:blip r:embed="rId1"/>
          <a:stretch/>
        </p:blipFill>
        <p:spPr>
          <a:xfrm>
            <a:off x="608040" y="544680"/>
            <a:ext cx="782172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3" descr="http://image.slidesharecdn.com/himformul-111005044924-phpapp02/95/slide-25-728.jpg?1317808323"/>
          <p:cNvPicPr/>
          <p:nvPr/>
        </p:nvPicPr>
        <p:blipFill>
          <a:blip r:embed="rId1"/>
          <a:stretch/>
        </p:blipFill>
        <p:spPr>
          <a:xfrm>
            <a:off x="1214280" y="214200"/>
            <a:ext cx="657252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льний мікроф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йцікавішим на цьому уроці для мене бул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пер я зна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триманні знання знадобляться мені 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Calibri"/>
              </a:rPr>
              <a:t>МЕТА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Ознайомитись з поняттями “</a:t>
            </a:r>
            <a:r>
              <a:rPr b="0" lang="uk-UA" sz="3200" spc="-1" strike="noStrike">
                <a:solidFill>
                  <a:srgbClr val="00b050"/>
                </a:solidFill>
                <a:latin typeface="Calibri"/>
              </a:rPr>
              <a:t>хімічна формула”, “індекс”, “коефіцієнт</a:t>
            </a: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Сформувати уявлення про спосіб записування складу простих та складних речовин з використанням хімічних символів та індексі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Calibri"/>
              </a:rPr>
              <a:t>Навчитися читати хімічні формули простих і складних речовин та визначати їхній якісний та кількісний скл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рацювати §8 підручни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конати письмово вправи на с. 72 №1, 7,  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класти твір на тему: “Що станеться, якщо зникнуть усі хімічні формули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2" descr="Слайд ДякЗаСпівпрац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http://image.slidesharecdn.com/himformul-111005044924-phpapp02/95/slide-6-728.jpg?1317808323"/>
          <p:cNvPicPr/>
          <p:nvPr/>
        </p:nvPicPr>
        <p:blipFill>
          <a:blip r:embed="rId1"/>
          <a:stretch/>
        </p:blipFill>
        <p:spPr>
          <a:xfrm>
            <a:off x="1357200" y="285840"/>
            <a:ext cx="69296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http://image.slidesharecdn.com/himformul-111005044924-phpapp02/95/slide-5-728.jpg?1317808323"/>
          <p:cNvPicPr/>
          <p:nvPr/>
        </p:nvPicPr>
        <p:blipFill>
          <a:blip r:embed="rId1"/>
          <a:stretch/>
        </p:blipFill>
        <p:spPr>
          <a:xfrm>
            <a:off x="1554120" y="357120"/>
            <a:ext cx="58039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Хімічна формула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це умовний запис складу речовини за допомогою знаків хімічних елементів та індексі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http://image.slidesharecdn.com/himformul-111005044924-phpapp02/95/slide-15-728.jpg?1317808323"/>
          <p:cNvPicPr/>
          <p:nvPr/>
        </p:nvPicPr>
        <p:blipFill>
          <a:blip r:embed="rId1"/>
          <a:stretch/>
        </p:blipFill>
        <p:spPr>
          <a:xfrm>
            <a:off x="1143000" y="428760"/>
            <a:ext cx="6929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3" descr="http://image.slidesharecdn.com/himformul-111005044924-phpapp02/95/slide-16-728.jpg?1317808323"/>
          <p:cNvPicPr/>
          <p:nvPr/>
        </p:nvPicPr>
        <p:blipFill>
          <a:blip r:embed="rId1"/>
          <a:stretch/>
        </p:blipFill>
        <p:spPr>
          <a:xfrm>
            <a:off x="1214280" y="214200"/>
            <a:ext cx="6715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age.slidesharecdn.com/himformul-111005044924-phpapp02/95/slide-14-728.jpg?1317808323"/>
          <p:cNvPicPr/>
          <p:nvPr/>
        </p:nvPicPr>
        <p:blipFill>
          <a:blip r:embed="rId1"/>
          <a:stretch/>
        </p:blipFill>
        <p:spPr>
          <a:xfrm>
            <a:off x="857160" y="285840"/>
            <a:ext cx="7286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3" descr="http://image.slidesharecdn.com/himformul-111005044924-phpapp02/95/slide-13-728.jpg?1317808323"/>
          <p:cNvPicPr/>
          <p:nvPr/>
        </p:nvPicPr>
        <p:blipFill>
          <a:blip r:embed="rId1"/>
          <a:stretch/>
        </p:blipFill>
        <p:spPr>
          <a:xfrm>
            <a:off x="1428840" y="285840"/>
            <a:ext cx="6643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3T08:40:1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  <property fmtid="{D5CDD505-2E9C-101B-9397-08002B2CF9AE}" pid="3" name="PPT_Export_sFileName">
    <vt:lpwstr>D:\O-diski\01 Продукт\Химия 7 класс\Материалы диска\Уроки\Урок 11 Химические формулы веществ\P-Урок 11 Химические формулы веществ.Ppt</vt:lpwstr>
  </property>
</Properties>
</file>