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CA11-AADC-4AF0-BC39-36CD82E9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2511-064D-47F2-B4A8-9587F2B1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DE6-569D-48EE-B27B-7A21A63E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155-F827-47DB-8155-65ED9225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D0E-3315-4301-AE20-16E4301F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456-EF32-4CF6-A6D7-C9D9A7A4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E56C-E19F-47A3-BABB-113AD2F2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F661-25C4-461F-8546-DA884425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FA5-FD40-4E2C-9BD4-057BE429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ACFA-54EC-4AE7-AA4A-24D88E09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C81-13F5-485F-AC27-AFB6B628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209B-5CAA-4EE7-A723-B0E04C4F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37FF-7285-42B7-B5C6-3AFEDCF22A6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772080" indent="0"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Моносахариди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– це складні багатоатомні спирти, у яких один з атомів карбону має подвійний зв‘язок з атомом оксиген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Види моносахаридів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(залежно від кількості атомів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карбону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в молекулі)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Схема 2" descr=""/>
          <p:cNvPicPr/>
          <p:nvPr/>
        </p:nvPicPr>
        <p:blipFill>
          <a:blip r:embed="rId1"/>
          <a:stretch/>
        </p:blipFill>
        <p:spPr>
          <a:xfrm>
            <a:off x="1627200" y="1401840"/>
            <a:ext cx="6121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Найпоширеніші   моносахариди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ff0066"/>
                </a:solidFill>
                <a:latin typeface="Calibri"/>
              </a:rPr>
              <a:t>глюкоза       фруктоза       галактози        маноз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альдоза)        (кетоза)            (альдози)          (альдози)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64" name="Прямая со стрелкой 3"/>
          <p:cNvCxnSpPr/>
          <p:nvPr/>
        </p:nvCxnSpPr>
        <p:spPr>
          <a:xfrm flipH="1">
            <a:off x="1571040" y="1784880"/>
            <a:ext cx="5720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7"/>
          <p:cNvCxnSpPr/>
          <p:nvPr/>
        </p:nvCxnSpPr>
        <p:spPr>
          <a:xfrm flipH="1">
            <a:off x="5214600" y="171432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9"/>
          <p:cNvCxnSpPr/>
          <p:nvPr/>
        </p:nvCxnSpPr>
        <p:spPr>
          <a:xfrm>
            <a:off x="6215040" y="1714320"/>
            <a:ext cx="100080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11"/>
          <p:cNvCxnSpPr/>
          <p:nvPr/>
        </p:nvCxnSpPr>
        <p:spPr>
          <a:xfrm flipH="1">
            <a:off x="3355200" y="1714320"/>
            <a:ext cx="252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8" name="Picture 2" descr="G:\8112012\img176.jpg"/>
          <p:cNvPicPr/>
          <p:nvPr/>
        </p:nvPicPr>
        <p:blipFill>
          <a:blip r:embed="rId1"/>
          <a:stretch/>
        </p:blipFill>
        <p:spPr>
          <a:xfrm>
            <a:off x="500040" y="3449520"/>
            <a:ext cx="3146400" cy="2979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G:\8112012\img177.jpg"/>
          <p:cNvPicPr/>
          <p:nvPr/>
        </p:nvPicPr>
        <p:blipFill>
          <a:blip r:embed="rId2"/>
          <a:stretch/>
        </p:blipFill>
        <p:spPr>
          <a:xfrm>
            <a:off x="4929120" y="3429000"/>
            <a:ext cx="34290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28400" y="285840"/>
            <a:ext cx="8358120" cy="5000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28400" y="53575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У дозрілих фруктах  збільшується  вміст глюкози, яка  утворюється при розпаді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i="1" lang="ru-RU" sz="2800" spc="-1" strike="noStrike">
                <a:solidFill>
                  <a:srgbClr val="c0504d"/>
                </a:solidFill>
                <a:latin typeface="Calibri"/>
              </a:rPr>
              <a:t>гідролізі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крохмалю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2" descr="G:\8112012\238526_450x450.jpg"/>
          <p:cNvPicPr/>
          <p:nvPr/>
        </p:nvPicPr>
        <p:blipFill>
          <a:blip r:embed="rId2"/>
          <a:stretch/>
        </p:blipFill>
        <p:spPr>
          <a:xfrm>
            <a:off x="571680" y="357120"/>
            <a:ext cx="3929040" cy="279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G:\8112012\frukt.jpg"/>
          <p:cNvPicPr/>
          <p:nvPr/>
        </p:nvPicPr>
        <p:blipFill>
          <a:blip r:embed="rId3"/>
          <a:stretch/>
        </p:blipFill>
        <p:spPr>
          <a:xfrm>
            <a:off x="4857840" y="357120"/>
            <a:ext cx="3900240" cy="282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G:\8112012\ovoshi_i_frykti_b.jpg"/>
          <p:cNvPicPr/>
          <p:nvPr/>
        </p:nvPicPr>
        <p:blipFill>
          <a:blip r:embed="rId4"/>
          <a:stretch/>
        </p:blipFill>
        <p:spPr>
          <a:xfrm>
            <a:off x="2714760" y="3214800"/>
            <a:ext cx="35607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080" y="612720"/>
            <a:ext cx="570852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56760" y="5072040"/>
            <a:ext cx="828684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Таутомерія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– це явище, коли одна ізомерна форма легко переходить в інш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G:\8112012\img178.jpg"/>
          <p:cNvPicPr/>
          <p:nvPr/>
        </p:nvPicPr>
        <p:blipFill>
          <a:blip r:embed="rId2"/>
          <a:stretch/>
        </p:blipFill>
        <p:spPr>
          <a:xfrm>
            <a:off x="1857240" y="642960"/>
            <a:ext cx="5643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11640" y="2133720"/>
            <a:ext cx="2966760" cy="200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А)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В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ізомер глюкоз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Б) 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а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ізомер глюкоз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56000" y="4220640"/>
            <a:ext cx="29876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Значення: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збільшення різноманіття біологічних речовин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G:\8112012\img179.jpg"/>
          <p:cNvPicPr/>
          <p:nvPr/>
        </p:nvPicPr>
        <p:blipFill>
          <a:blip r:embed="rId1"/>
          <a:stretch/>
        </p:blipFill>
        <p:spPr>
          <a:xfrm>
            <a:off x="324000" y="189000"/>
            <a:ext cx="5616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Робота в групах </a:t>
            </a:r>
            <a:br>
              <a:rPr sz="48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1-а «Глюкоза»;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  2-а «Фруктоза»;    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3-я «Галактоза. Маноза»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Домашне завдання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працювати § 8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овторити § 10 – 11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Амінокислоти </a:t>
            </a:r>
            <a:br>
              <a:rPr sz="44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ліцин, аланін, валін, лейцин, ізолейцин, фенілаланін, пролін, метіонін, серін, треонін, тирозин, триптофан, аспарагін, глутамін, цистеїн, лізин, аргінін, гістидин, аспарагінова кислота, глутамінова кислота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казати відповідність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івень структури організвції білка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. Первинн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. Вторинн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3. Тетинн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4. Четвертинн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ип зв‘язку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) йонні і водневі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б) пептидний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) водневі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) дисульфідний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Вуглеводи: загальна характеристика та класифікація. Моносахариди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Із перелічених продуктів харчування назвіть ті, які, на вашу думку, будуть містити багато вуглеводів.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ало, яблуко, м‘ясо, булочка, молоко, капуста, виноград, яйце, вишня, риба, слива.  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Вуглеводи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(за хімічною структурою) 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Кетонна група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Альдегідна група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кетози)                                        (альдози)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G:\8112012\img176.jpg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000760" y="3714840"/>
            <a:ext cx="3143160" cy="264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G:\8112012\img177.jpg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14240" y="3714840"/>
            <a:ext cx="3214800" cy="2714400"/>
          </a:xfrm>
          <a:prstGeom prst="rect">
            <a:avLst/>
          </a:prstGeom>
          <a:ln w="0">
            <a:noFill/>
          </a:ln>
        </p:spPr>
      </p:pic>
      <p:cxnSp>
        <p:nvCxnSpPr>
          <p:cNvPr id="52" name="Прямая со стрелкой 5"/>
          <p:cNvCxnSpPr/>
          <p:nvPr/>
        </p:nvCxnSpPr>
        <p:spPr>
          <a:xfrm flipH="1">
            <a:off x="2286000" y="2357280"/>
            <a:ext cx="643320" cy="5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1"/>
          <p:cNvCxnSpPr/>
          <p:nvPr/>
        </p:nvCxnSpPr>
        <p:spPr>
          <a:xfrm>
            <a:off x="5928840" y="2285640"/>
            <a:ext cx="71532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«Навчаючись - навчаю» </a:t>
            </a:r>
            <a:br>
              <a:rPr sz="2800"/>
            </a:br>
            <a:br>
              <a:rPr sz="2800"/>
            </a:br>
            <a:r>
              <a:rPr b="1" i="1" lang="ru-RU" sz="4000" spc="-1" strike="noStrike">
                <a:solidFill>
                  <a:srgbClr val="c0504d"/>
                </a:solidFill>
                <a:latin typeface="Calibri"/>
              </a:rPr>
              <a:t>Самостійна робота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з підручником 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(с. 51 «Функції вуглеводів»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i="1" lang="ru-RU" sz="4800" spc="-1" strike="noStrike">
                <a:solidFill>
                  <a:srgbClr val="c0504d"/>
                </a:solidFill>
                <a:latin typeface="Calibri"/>
              </a:rPr>
              <a:t>Функції вуглеводів</a:t>
            </a:r>
            <a:r>
              <a:rPr b="1" i="1" lang="ru-RU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4800" spc="-1" strike="noStrike">
                <a:solidFill>
                  <a:srgbClr val="c0504d"/>
                </a:solidFill>
                <a:latin typeface="Calibri"/>
              </a:rPr>
              <a:t>:</a:t>
            </a: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1. Енергетична (1г – 17,6 кДЖ).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2. Структурна.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3. Запас поживних речовин.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4. Захисна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                    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i="1" lang="ru-RU" sz="4400" spc="-1" strike="noStrike" u="sng">
                <a:solidFill>
                  <a:srgbClr val="c0504d"/>
                </a:solidFill>
                <a:uFillTx/>
                <a:latin typeface="Calibri"/>
              </a:rPr>
              <a:t>Вуглеводи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ffcc00"/>
                </a:solidFill>
                <a:latin typeface="Calibri"/>
              </a:rPr>
              <a:t>Моносахариди       Олігосахариди      Полісахариди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7" name="Прямая со стрелкой 3"/>
          <p:cNvCxnSpPr/>
          <p:nvPr/>
        </p:nvCxnSpPr>
        <p:spPr>
          <a:xfrm flipH="1">
            <a:off x="2071440" y="2000160"/>
            <a:ext cx="142920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5"/>
          <p:cNvCxnSpPr/>
          <p:nvPr/>
        </p:nvCxnSpPr>
        <p:spPr>
          <a:xfrm flipH="1">
            <a:off x="4498200" y="1999800"/>
            <a:ext cx="252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7"/>
          <p:cNvCxnSpPr/>
          <p:nvPr/>
        </p:nvCxnSpPr>
        <p:spPr>
          <a:xfrm>
            <a:off x="5286240" y="2000160"/>
            <a:ext cx="150120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11:10:17Z</dcterms:created>
  <dc:creator>Admin</dc:creator>
  <dc:description/>
  <dc:language>en-US</dc:language>
  <cp:lastModifiedBy>Admin</cp:lastModifiedBy>
  <dcterms:modified xsi:type="dcterms:W3CDTF">2014-03-13T12:40:36Z</dcterms:modified>
  <cp:revision>17</cp:revision>
  <dc:subject/>
  <dc:title>Амінокислоти  Гліцин, аланін, валін, лейцин, ізолейцин, фенілаланін, пролін, метіонін, серін, треонін, тирозин, триптофан, аспарагін, глутамін, цистеїн, лізин, аргінін, гістидин, аспарагінова кислота, глутамінова кислота.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4000000000001024140</vt:lpwstr>
  </property>
</Properties>
</file>