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5AD-F02A-40C6-8796-1DD8620D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144-60AD-42EB-9CC9-BDE9F048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A56-12C5-4C84-B53D-CF8F5597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D2E-D49E-4DB2-B958-8FEFAC06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B7F-1253-4F8F-B30B-F956CB0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C8E-F73C-4785-B011-3768521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028-F0EE-47F5-94D0-6FA4CF28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9E8-29A0-4D9B-B018-1966905E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DE3-000B-4EE3-8710-14369F25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D44-38A3-462E-8A65-4703D14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D15-963F-45F2-9FCE-D7BAC36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E5A-3CD6-42AA-AD83-A73D702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46B-4251-4848-B742-89D5AAE72E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772080" indent="0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носахарид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це складні багатоатомні спирти, у яких один з атомів карбону має подвійний зв‘язок з атомом оксиген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иди моносахариді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(залежно від кількості атомів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карбону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в молекулі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хема 2" descr=""/>
          <p:cNvPicPr/>
          <p:nvPr/>
        </p:nvPicPr>
        <p:blipFill>
          <a:blip r:embed="rId1"/>
          <a:stretch/>
        </p:blipFill>
        <p:spPr>
          <a:xfrm>
            <a:off x="1627200" y="1401840"/>
            <a:ext cx="6121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айпоширеніші   моносахарид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глюкоза       фруктоза       галактози        маноз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альдоза)        (кетоза)            (альдози)          (альдози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4" name="Прямая со стрелкой 3"/>
          <p:cNvCxnSpPr/>
          <p:nvPr/>
        </p:nvCxnSpPr>
        <p:spPr>
          <a:xfrm flipH="1">
            <a:off x="1571040" y="1784880"/>
            <a:ext cx="5720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 flipH="1">
            <a:off x="5214600" y="171432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6215040" y="1714320"/>
            <a:ext cx="10008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1"/>
          <p:cNvCxnSpPr/>
          <p:nvPr/>
        </p:nvCxnSpPr>
        <p:spPr>
          <a:xfrm flipH="1">
            <a:off x="3355200" y="1714320"/>
            <a:ext cx="25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8" name="Picture 2" descr="G:\8112012\img176.jpg"/>
          <p:cNvPicPr/>
          <p:nvPr/>
        </p:nvPicPr>
        <p:blipFill>
          <a:blip r:embed="rId1"/>
          <a:stretch/>
        </p:blipFill>
        <p:spPr>
          <a:xfrm>
            <a:off x="500040" y="3449520"/>
            <a:ext cx="3146400" cy="29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G:\8112012\img177.jpg"/>
          <p:cNvPicPr/>
          <p:nvPr/>
        </p:nvPicPr>
        <p:blipFill>
          <a:blip r:embed="rId2"/>
          <a:stretch/>
        </p:blipFill>
        <p:spPr>
          <a:xfrm>
            <a:off x="4929120" y="342900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8400" y="285840"/>
            <a:ext cx="8358120" cy="5000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28400" y="5357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 дозрілих фруктах  збільшується  вміст глюкози, яка  утворюється при розпаді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c0504d"/>
                </a:solidFill>
                <a:latin typeface="Calibri"/>
              </a:rPr>
              <a:t>гідролізі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крохмал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G:\8112012\238526_450x450.jpg"/>
          <p:cNvPicPr/>
          <p:nvPr/>
        </p:nvPicPr>
        <p:blipFill>
          <a:blip r:embed="rId2"/>
          <a:stretch/>
        </p:blipFill>
        <p:spPr>
          <a:xfrm>
            <a:off x="571680" y="357120"/>
            <a:ext cx="3929040" cy="279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G:\8112012\frukt.jpg"/>
          <p:cNvPicPr/>
          <p:nvPr/>
        </p:nvPicPr>
        <p:blipFill>
          <a:blip r:embed="rId3"/>
          <a:stretch/>
        </p:blipFill>
        <p:spPr>
          <a:xfrm>
            <a:off x="4857840" y="357120"/>
            <a:ext cx="3900240" cy="28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G:\8112012\ovoshi_i_frykti_b.jpg"/>
          <p:cNvPicPr/>
          <p:nvPr/>
        </p:nvPicPr>
        <p:blipFill>
          <a:blip r:embed="rId4"/>
          <a:stretch/>
        </p:blipFill>
        <p:spPr>
          <a:xfrm>
            <a:off x="2714760" y="3214800"/>
            <a:ext cx="35607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080" y="612720"/>
            <a:ext cx="57085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56760" y="5072040"/>
            <a:ext cx="8286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Таутомері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це явище, коли одна ізомерна форма легко переходить в інш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G:\8112012\img178.jpg"/>
          <p:cNvPicPr/>
          <p:nvPr/>
        </p:nvPicPr>
        <p:blipFill>
          <a:blip r:embed="rId2"/>
          <a:stretch/>
        </p:blipFill>
        <p:spPr>
          <a:xfrm>
            <a:off x="1857240" y="64296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11640" y="2133720"/>
            <a:ext cx="2966760" cy="20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ізомер глюкоз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Б)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а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ізомер глюкоз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56000" y="4220640"/>
            <a:ext cx="2987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Значення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збільшення різноманіття біологічних речови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G:\8112012\img179.jpg"/>
          <p:cNvPicPr/>
          <p:nvPr/>
        </p:nvPicPr>
        <p:blipFill>
          <a:blip r:embed="rId1"/>
          <a:stretch/>
        </p:blipFill>
        <p:spPr>
          <a:xfrm>
            <a:off x="324000" y="189000"/>
            <a:ext cx="56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Робота в групах 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1-а «Глюкоза»;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2-а «Фруктоза»;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3-я «Галактоза. Маноза»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омашне завданн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працювати § 8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вторити § 10 – 11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мінокислоти 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ліцин, аланін, валін, лейцин, ізолейцин, фенілаланін, пролін, метіонін, серін, треонін, тирозин, триптофан, аспарагін, глутамін, цистеїн, лізин, аргінін, гістидин, аспарагінова кислота, глутамінова кислот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казати відповідні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івень структури організвції білк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. Перв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. Втор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. Тет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. Четверт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ип зв‘язку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йонні і воднев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) пептидни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) воднев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) дисульфідни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Вуглеводи: загальна характеристика та класифікація. Моносахари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Із перелічених продуктів харчування назвіть ті, які, на вашу думку, будуть містити багато вуглеводів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ало, яблуко, м‘ясо, булочка, молоко, капуста, виноград, яйце, вишня, риба, слива. 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Вуглевод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(за хімічною структурою)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Кетонна груп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Альдегідна група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кетози)                                        (альдози)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G:\8112012\img176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00760" y="3714840"/>
            <a:ext cx="3143160" cy="26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G:\8112012\img177.jpg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14240" y="3714840"/>
            <a:ext cx="3214800" cy="2714400"/>
          </a:xfrm>
          <a:prstGeom prst="rect">
            <a:avLst/>
          </a:prstGeom>
          <a:ln w="0">
            <a:noFill/>
          </a:ln>
        </p:spPr>
      </p:pic>
      <p:cxnSp>
        <p:nvCxnSpPr>
          <p:cNvPr id="52" name="Прямая со стрелкой 5"/>
          <p:cNvCxnSpPr/>
          <p:nvPr/>
        </p:nvCxnSpPr>
        <p:spPr>
          <a:xfrm flipH="1">
            <a:off x="2286000" y="2357280"/>
            <a:ext cx="64332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1"/>
          <p:cNvCxnSpPr/>
          <p:nvPr/>
        </p:nvCxnSpPr>
        <p:spPr>
          <a:xfrm>
            <a:off x="5928840" y="2285640"/>
            <a:ext cx="7153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Навчаючись - навчаю» </a:t>
            </a: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c0504d"/>
                </a:solidFill>
                <a:latin typeface="Calibri"/>
              </a:rPr>
              <a:t>Самостійна робота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з підручником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(с. 51 «Функції вуглеводів»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Функції вуглеводів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: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1. Енергетична (1г – 17,6 кДЖ)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2. Структурна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3. Запас поживних речовин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4. Захисн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Вуглево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ffcc00"/>
                </a:solidFill>
                <a:latin typeface="Calibri"/>
              </a:rPr>
              <a:t>Моносахариди       Олігосахариди      Полісахари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7" name="Прямая со стрелкой 3"/>
          <p:cNvCxnSpPr/>
          <p:nvPr/>
        </p:nvCxnSpPr>
        <p:spPr>
          <a:xfrm flipH="1">
            <a:off x="2071440" y="2000160"/>
            <a:ext cx="14292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5"/>
          <p:cNvCxnSpPr/>
          <p:nvPr/>
        </p:nvCxnSpPr>
        <p:spPr>
          <a:xfrm flipH="1">
            <a:off x="4498200" y="199980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7"/>
          <p:cNvCxnSpPr/>
          <p:nvPr/>
        </p:nvCxnSpPr>
        <p:spPr>
          <a:xfrm>
            <a:off x="5286240" y="2000160"/>
            <a:ext cx="15012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1:10:17Z</dcterms:created>
  <dc:creator>Admin</dc:creator>
  <dc:description/>
  <dc:language>en-US</dc:language>
  <cp:lastModifiedBy>Admin</cp:lastModifiedBy>
  <dcterms:modified xsi:type="dcterms:W3CDTF">2014-03-13T12:40:36Z</dcterms:modified>
  <cp:revision>17</cp:revision>
  <dc:subject/>
  <dc:title>Амінокислоти  Гліцин, аланін, валін, лейцин, ізолейцин, фенілаланін, пролін, метіонін, серін, треонін, тирозин, триптофан, аспарагін, глутамін, цистеїн, лізин, аргінін, гістидин, аспарагінова кислота, глутамінова кислота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4000000000001024140</vt:lpwstr>
  </property>
</Properties>
</file>