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3.jpeg" ContentType="image/jpeg"/>
  <Override PartName="/ppt/media/image12.jpeg" ContentType="image/jpeg"/>
  <Override PartName="/ppt/media/image10.jpeg" ContentType="image/jpeg"/>
  <Override PartName="/ppt/media/image5.png" ContentType="image/png"/>
  <Override PartName="/ppt/media/image9.png" ContentType="image/png"/>
  <Override PartName="/ppt/media/image7.png" ContentType="image/png"/>
  <Override PartName="/ppt/media/image11.jpeg" ContentType="image/jpeg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2.jpeg" ContentType="image/jpeg"/>
  <Override PartName="/ppt/media/image4.jpeg" ContentType="image/jpeg"/>
  <Override PartName="/ppt/media/image6.jpeg" ContentType="image/jpeg"/>
  <Override PartName="/ppt/media/image14.jpeg" ContentType="image/jpeg"/>
  <Override PartName="/ppt/media/image8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24834-4C47-4F7F-8359-F9FBD0F84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9EA28-6C78-42C5-9B31-54A280217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BEA52-718F-4E06-8164-37FC1046C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CEEC2-A338-464F-AC4F-B46D56761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444C6-3C71-4BC8-8EF0-E42FF678B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1049D-D140-4D38-A675-83A2FA717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3720C-0AB6-4C1E-BE88-E6EA81D55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A7098-8AE7-47E6-B071-811C9F625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9FF06-760D-4361-AE66-AC1571482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4F2BD-75F4-40CF-9BB6-6A772A776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564EA-FC65-41F8-93C0-64E74923F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2BEFA-CEA4-46DE-84E9-30636E71E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B6F8F-3D82-4281-AC2E-5CC3A97F6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E6A64-A86F-495D-9567-29D25D8A4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D4183-95BB-4F74-9F4C-5728C1836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7BF73-74E5-4AE7-855C-8E249207F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7B380-93B2-479E-804C-6ED3E9922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70F0CA-2E03-4E03-B96F-F02F86DC0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93746A-FE98-41BB-BE97-F87B77BA8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8D3DAB-754C-4907-B8EF-89E9C7CCA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7F8A70-C51E-4E7F-9AB9-31B6670DB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1B4BDC-AAFD-4772-8309-6A2A18BF0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AAE76-DA61-47A0-B070-5B363562F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284E2D-C56D-42C7-A3AC-40C4E0F35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9C7F94-ED9F-40EE-9FC7-0D7BB4E50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1ED05E-4ECA-4DF5-A22B-F948636DA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DD02CC-6167-4683-B7B6-33808EB02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2349DB-1333-4C39-BFBC-44274F271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FCFCC4-1162-4819-9319-F7CBC8887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E03055-84DB-4041-88A4-F268C07C1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7F781C-FDF0-4028-975D-B4FE48F5D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C2BBCD-1E39-4064-89A6-30B3DCDE0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172763-93DD-41CF-A2E5-C319B5A24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C2950-4018-4CCB-8FE6-0F1AB0FF8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AC449E-0A84-4740-82F5-41A2C0C4C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BD3EA2-9BB5-4526-8DF7-76729DBA8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4724D6-D8F6-4216-B408-8F8FA72D4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B26C3E-F9C9-4AEF-94F3-974563BB2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7AFDCF-6A93-4E57-A593-D641AB74B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48805A-638E-43DF-A942-DEB21881F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E1C926-7C00-42C0-994A-998448B20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703DEA-EA5E-4FFC-872E-293EA908A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48DE99-9937-45E2-AE46-1ACB6D9B5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181A4F-3584-4474-BBDF-FCAE7D410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ADD25-E273-4A9B-B7A5-1E4802C99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ACA0F4-52FD-42D5-9B55-C47C1951D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BD856E-18CF-456E-9367-8062A07FB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53DBA3-E836-402D-88E9-3F9A0E06B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28BDBA-0F83-4000-A203-F78047131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4429C6-37DE-469B-BAA2-ECA707DFE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760762-2F4E-446B-B0B1-7A70D9907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ADE57C-9B57-4B90-B51C-A8452CDE9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376CB5-9F6E-4031-BDA8-E1C628E74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D3E61E-B474-4D9D-A068-9CF91DE87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9C8F11-0C10-4A9D-99FA-BA7D6B780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6CBCA-F699-4FFF-AF52-EEB7E5EE5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F5D1B0-5484-4BFF-84C4-AE1B431E9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D436E-86FE-4B17-A9FB-96F0467C6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403FE-5C96-47DF-A167-DEF7842A4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9B2F2-22A5-4103-9554-55CF58E6D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50000">
              <a:srgbClr val="99ccff"/>
            </a:gs>
            <a:gs pos="100000">
              <a:srgbClr val="ff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C2D7B-1128-4D97-95F1-A22567179DC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50000">
              <a:srgbClr val="99ccff"/>
            </a:gs>
            <a:gs pos="100000">
              <a:srgbClr val="ff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42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AutoShape 4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9E663-41B5-4160-9DD1-24241C56B54A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50000">
              <a:srgbClr val="99ccff"/>
            </a:gs>
            <a:gs pos="100000">
              <a:srgbClr val="ff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87" name="AutoShape 3"/>
            <p:cNvSpPr/>
            <p:nvPr/>
          </p:nvSpPr>
          <p:spPr>
            <a:xfrm>
              <a:off x="-3238560" y="685800"/>
              <a:ext cx="4114800" cy="312408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AutoShape 4"/>
            <p:cNvSpPr/>
            <p:nvPr/>
          </p:nvSpPr>
          <p:spPr>
            <a:xfrm>
              <a:off x="-2425680" y="0"/>
              <a:ext cx="3093840" cy="315432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F9936-C433-4732-B3F5-9DBD7330F7C4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50000">
              <a:srgbClr val="99ccff"/>
            </a:gs>
            <a:gs pos="100000">
              <a:srgbClr val="ff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32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AutoShape 4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13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AutoShape 5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B89AC-E82B-40CD-987E-AFCE42293F56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50000">
              <a:srgbClr val="99ccff"/>
            </a:gs>
            <a:gs pos="100000">
              <a:srgbClr val="ff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1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82" name="AutoShape 3"/>
            <p:cNvSpPr/>
            <p:nvPr/>
          </p:nvSpPr>
          <p:spPr>
            <a:xfrm>
              <a:off x="-3238560" y="685800"/>
              <a:ext cx="4114800" cy="312408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AutoShape 4"/>
            <p:cNvSpPr/>
            <p:nvPr/>
          </p:nvSpPr>
          <p:spPr>
            <a:xfrm>
              <a:off x="-2425680" y="0"/>
              <a:ext cx="3093840" cy="315432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18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AutoShape 4"/>
            <p:cNvSpPr/>
            <p:nvPr/>
          </p:nvSpPr>
          <p:spPr>
            <a:xfrm>
              <a:off x="-2514600" y="1371600"/>
              <a:ext cx="3657600" cy="365760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AutoShape 5"/>
            <p:cNvSpPr/>
            <p:nvPr/>
          </p:nvSpPr>
          <p:spPr>
            <a:xfrm>
              <a:off x="-3222720" y="304920"/>
              <a:ext cx="4038840" cy="403848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58535-A13F-4FC5-93CB-2BD889AD50F0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image" Target="../media/image6.jpe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10920" y="301680"/>
            <a:ext cx="8039160" cy="66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25056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ЇЖА ЩО НАСОЛОДЖУЄ СВОЇМ СМАКОМ, І ЗУШУЄ ЇСТИ БІЛЬШЕ НІЖ ЦЕ ПОТРІБНО, ОТРУЮЄ, ЗАМІСТЬ ТОГО ЩОБЖИВИТИ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Ф. ФЕНЕЛО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285560" y="42840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Georgia"/>
              </a:rPr>
              <a:t>ПЕРЕГЛЯД ВІДЕОФІЛЬМУ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10920" y="4869000"/>
            <a:ext cx="8064360" cy="17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269" name="Picture 5" descr="КЛАСС 039"/>
          <p:cNvPicPr/>
          <p:nvPr/>
        </p:nvPicPr>
        <p:blipFill>
          <a:blip r:embed="rId1"/>
          <a:stretch/>
        </p:blipFill>
        <p:spPr>
          <a:xfrm>
            <a:off x="5715000" y="3429000"/>
            <a:ext cx="3135240" cy="342900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  <p:pic>
        <p:nvPicPr>
          <p:cNvPr id="270" name="Picture 4" descr=""/>
          <p:cNvPicPr/>
          <p:nvPr/>
        </p:nvPicPr>
        <p:blipFill>
          <a:blip r:embed="rId2"/>
          <a:stretch/>
        </p:blipFill>
        <p:spPr>
          <a:xfrm>
            <a:off x="357120" y="1714680"/>
            <a:ext cx="4707000" cy="235728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  <p:pic>
        <p:nvPicPr>
          <p:cNvPr id="271" name="Picture 7" descr="1_5_160_3"/>
          <p:cNvPicPr/>
          <p:nvPr/>
        </p:nvPicPr>
        <p:blipFill>
          <a:blip r:embed="rId3"/>
          <a:stretch/>
        </p:blipFill>
        <p:spPr>
          <a:xfrm>
            <a:off x="1712880" y="3929040"/>
            <a:ext cx="3624120" cy="240984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</p:spTree>
  </p:cSld>
  <p:transition spd="med">
    <p:split dir="out" orient="vert"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8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Коли купуєш продукти харчування,зверни увагу на етикетку 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Picture 4" descr="f165p20-3"/>
          <p:cNvPicPr/>
          <p:nvPr/>
        </p:nvPicPr>
        <p:blipFill>
          <a:blip r:embed="rId1"/>
          <a:stretch/>
        </p:blipFill>
        <p:spPr>
          <a:xfrm>
            <a:off x="357120" y="1643040"/>
            <a:ext cx="3724200" cy="4967280"/>
          </a:xfrm>
          <a:prstGeom prst="rect">
            <a:avLst/>
          </a:prstGeom>
          <a:ln w="66600">
            <a:solidFill>
              <a:srgbClr val="008000"/>
            </a:solidFill>
            <a:miter/>
          </a:ln>
        </p:spPr>
      </p:pic>
      <p:pic>
        <p:nvPicPr>
          <p:cNvPr id="274" name="Picture 17" descr="фото с сайта г-ты &quot;Новые известия&quot;"/>
          <p:cNvPicPr/>
          <p:nvPr/>
        </p:nvPicPr>
        <p:blipFill>
          <a:blip r:embed="rId2"/>
          <a:stretch/>
        </p:blipFill>
        <p:spPr>
          <a:xfrm>
            <a:off x="4568760" y="1628640"/>
            <a:ext cx="4154400" cy="4969080"/>
          </a:xfrm>
          <a:prstGeom prst="rect">
            <a:avLst/>
          </a:prstGeom>
          <a:ln w="63360">
            <a:solidFill>
              <a:srgbClr val="008000"/>
            </a:solidFill>
            <a:miter/>
          </a:ln>
        </p:spPr>
      </p:pic>
      <p:pic>
        <p:nvPicPr>
          <p:cNvPr id="275" name="Object 20" descr=""/>
          <p:cNvPicPr/>
          <p:nvPr/>
        </p:nvPicPr>
        <p:blipFill>
          <a:blip r:embed="rId3"/>
          <a:stretch/>
        </p:blipFill>
        <p:spPr>
          <a:xfrm>
            <a:off x="6431040" y="1278000"/>
            <a:ext cx="155520" cy="14760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/>
          </p:nvPr>
        </p:nvSpPr>
        <p:spPr>
          <a:xfrm>
            <a:off x="250560" y="285840"/>
            <a:ext cx="8893080" cy="55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Georgia"/>
              </a:rPr>
              <a:t>Лабораторний дослід № 7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Georgia"/>
              </a:rPr>
              <a:t>ТЕМА:Ознайомлення зі змістом етикеток на харчових продуктах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Georgia"/>
              </a:rPr>
              <a:t>МЕТА: Навчитися характеризувати склад продукту, за змістом етикетк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Georgia"/>
              </a:rPr>
              <a:t>ХІД РОБОТИ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Georgia"/>
              </a:rPr>
              <a:t>1.За штрих-кодом визначте країну виробник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Georgia"/>
              </a:rPr>
              <a:t>2.Зверніть увагу на дату виробництва та кінцевий термін зберіганн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Georgia"/>
              </a:rPr>
              <a:t>3.Визначте вміст білків жирів і вуглеводів у продуктах харчуванн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Georgia"/>
              </a:rPr>
              <a:t>4.Визначте ,які Е-числа входять до складу ппродукту та іх вплив на організ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WordArt 4"/>
          <p:cNvSpPr txBox="1"/>
          <p:nvPr/>
        </p:nvSpPr>
        <p:spPr>
          <a:xfrm>
            <a:off x="539640" y="189000"/>
            <a:ext cx="820908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7769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2600">
                  <a:solidFill>
                    <a:srgbClr val="cc0000"/>
                  </a:solidFill>
                  <a:miter/>
                </a:ln>
                <a:solidFill>
                  <a:srgbClr val="ff0000"/>
                </a:solidFill>
                <a:effectLst>
                  <a:outerShdw dist="107932" dir="18900000" blurRad="0" rotWithShape="0">
                    <a:srgbClr val="868686">
                      <a:alpha val="50000"/>
                    </a:srgbClr>
                  </a:outerShdw>
                </a:effectLst>
                <a:latin typeface="Bookman Old Style"/>
              </a:rPr>
              <a:t> </a:t>
            </a:r>
            <a:endParaRPr b="1" lang="en-US" sz="2000" spc="1" strike="noStrike">
              <a:ln w="12600">
                <a:solidFill>
                  <a:srgbClr val="cc0000"/>
                </a:solidFill>
                <a:miter/>
              </a:ln>
              <a:solidFill>
                <a:srgbClr val="ff0000"/>
              </a:solidFill>
              <a:effectLst>
                <a:outerShdw dist="107932" dir="18900000" blurRad="0" rotWithShape="0">
                  <a:srgbClr val="868686">
                    <a:alpha val="50000"/>
                  </a:srgbClr>
                </a:outerShdw>
              </a:effectLst>
              <a:latin typeface="Bookman Old Style"/>
              <a:ea typeface="Bookman Old Style"/>
            </a:endParaRPr>
          </a:p>
        </p:txBody>
      </p:sp>
      <p:pic>
        <p:nvPicPr>
          <p:cNvPr id="278" name="Picture 31" descr="КЛАСС 042"/>
          <p:cNvPicPr/>
          <p:nvPr/>
        </p:nvPicPr>
        <p:blipFill>
          <a:blip r:embed="rId1"/>
          <a:stretch/>
        </p:blipFill>
        <p:spPr>
          <a:xfrm>
            <a:off x="6912000" y="5183280"/>
            <a:ext cx="2232000" cy="167472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</p:spTree>
  </p:cSld>
  <p:transition spd="med">
    <p:split dir="out" orient="vert"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3" dur="500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9" dur="80"/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0" dur="80"/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1" dur="80"/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0" fill="hold"/>
                                        <p:tgtEl>
                                          <p:spTgt spid="2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0" fill="hold"/>
                                        <p:tgtEl>
                                          <p:spTgt spid="2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2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2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87" dur="2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/>
          </p:nvPr>
        </p:nvSpPr>
        <p:spPr>
          <a:xfrm>
            <a:off x="250560" y="836280"/>
            <a:ext cx="856908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Object 38" descr=""/>
          <p:cNvPicPr/>
          <p:nvPr/>
        </p:nvPicPr>
        <p:blipFill>
          <a:blip r:embed="rId1"/>
          <a:stretch/>
        </p:blipFill>
        <p:spPr>
          <a:xfrm>
            <a:off x="71424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/>
          </p:nvPr>
        </p:nvSpPr>
        <p:spPr>
          <a:xfrm>
            <a:off x="250560" y="285840"/>
            <a:ext cx="8893080" cy="55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Georgia"/>
              </a:rPr>
              <a:t>ЧИ ЗАЛЕЖИТЬ ЗДОРОВЯ ЛЮДИНИ ВІД ПРОДУКТІВ, ЯКІ ВОНА СПОЖИВАЄ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WordArt 4"/>
          <p:cNvSpPr txBox="1"/>
          <p:nvPr/>
        </p:nvSpPr>
        <p:spPr>
          <a:xfrm>
            <a:off x="539640" y="189000"/>
            <a:ext cx="820908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7769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2600">
                  <a:solidFill>
                    <a:srgbClr val="cc0000"/>
                  </a:solidFill>
                  <a:miter/>
                </a:ln>
                <a:solidFill>
                  <a:srgbClr val="ff0000"/>
                </a:solidFill>
                <a:effectLst>
                  <a:outerShdw dist="107932" dir="18900000" blurRad="0" rotWithShape="0">
                    <a:srgbClr val="868686">
                      <a:alpha val="50000"/>
                    </a:srgbClr>
                  </a:outerShdw>
                </a:effectLst>
                <a:latin typeface="Bookman Old Style"/>
              </a:rPr>
              <a:t> </a:t>
            </a:r>
            <a:endParaRPr b="1" lang="en-US" sz="2000" spc="1" strike="noStrike">
              <a:ln w="12600">
                <a:solidFill>
                  <a:srgbClr val="cc0000"/>
                </a:solidFill>
                <a:miter/>
              </a:ln>
              <a:solidFill>
                <a:srgbClr val="ff0000"/>
              </a:solidFill>
              <a:effectLst>
                <a:outerShdw dist="107932" dir="18900000" blurRad="0" rotWithShape="0">
                  <a:srgbClr val="868686">
                    <a:alpha val="50000"/>
                  </a:srgbClr>
                </a:outerShdw>
              </a:effectLst>
              <a:latin typeface="Bookman Old Style"/>
              <a:ea typeface="Bookman Old Style"/>
            </a:endParaRPr>
          </a:p>
        </p:txBody>
      </p:sp>
      <p:pic>
        <p:nvPicPr>
          <p:cNvPr id="285" name="Picture 31" descr="КЛАСС 042"/>
          <p:cNvPicPr/>
          <p:nvPr/>
        </p:nvPicPr>
        <p:blipFill>
          <a:blip r:embed="rId1"/>
          <a:stretch/>
        </p:blipFill>
        <p:spPr>
          <a:xfrm>
            <a:off x="6912000" y="5183280"/>
            <a:ext cx="2232000" cy="167472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</p:spTree>
  </p:cSld>
  <p:transition spd="med">
    <p:split dir="out" orient="vert"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800"/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800" fill="hold"/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800" fill="hold"/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800" fill="hold"/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Bookman Old Style"/>
              </a:rPr>
              <a:t>ДОМАШНЯ РОБО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Picture 4" descr="AMPRODUC"/>
          <p:cNvPicPr/>
          <p:nvPr/>
        </p:nvPicPr>
        <p:blipFill>
          <a:blip r:embed="rId1"/>
          <a:stretch/>
        </p:blipFill>
        <p:spPr>
          <a:xfrm>
            <a:off x="611280" y="2133720"/>
            <a:ext cx="3214440" cy="3456000"/>
          </a:xfrm>
          <a:prstGeom prst="rect">
            <a:avLst/>
          </a:prstGeom>
          <a:ln w="0">
            <a:noFill/>
          </a:ln>
        </p:spPr>
      </p:pic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3851280" y="2060640"/>
            <a:ext cx="4906800" cy="38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ідготувати додаткову інформаціюпро харчові добавки в продуктах харчуван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10920" y="301680"/>
            <a:ext cx="8039160" cy="66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uk-UA" sz="4400" spc="-1" strike="noStrike">
                <a:solidFill>
                  <a:srgbClr val="ff0066"/>
                </a:solidFill>
                <a:latin typeface="Arial"/>
              </a:rPr>
              <a:t>Тести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5056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Завдання 1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SimSun"/>
                <a:ea typeface="SimSun"/>
              </a:rPr>
              <a:t>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варіант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- виберіть з переліку продукти  харчування, 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  <a:ea typeface="SimSun"/>
              </a:rPr>
              <a:t>Ⅱ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 вариант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–поживні речови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а)картопля , б)білки, в)рис, г) жири д) яблука, е) м'ясо, є) мінеральні солі, ж) вода, з) вуглеводи, і)риб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</a:rPr>
              <a:t>Завдання 2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SimSun"/>
                <a:ea typeface="SimSun"/>
              </a:rPr>
              <a:t>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вариант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- виберіть з переліку продукти які містять            жирі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  <a:ea typeface="SimSun"/>
              </a:rPr>
              <a:t>Ⅱ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вариант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- вугливод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а)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 сир,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б)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 капуста,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)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 хліб,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г)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 риба,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)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 виноград,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е)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 колбаса,                     є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 гречка, ж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 сметана, з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 горіхи, і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 картопл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0000"/>
                </a:solidFill>
                <a:latin typeface="Arial"/>
              </a:rPr>
              <a:t>Гра “Третій зайвий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WordArt 5" descr=""/>
          <p:cNvPicPr/>
          <p:nvPr/>
        </p:nvPicPr>
        <p:blipFill>
          <a:blip r:embed="rId1"/>
          <a:stretch/>
        </p:blipFill>
        <p:spPr>
          <a:xfrm>
            <a:off x="590400" y="1768320"/>
            <a:ext cx="8029800" cy="376740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555640" y="-360"/>
            <a:ext cx="388908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0000"/>
                </a:solidFill>
                <a:latin typeface="Georgia"/>
              </a:rPr>
              <a:t>Відповіді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68360" y="907920"/>
            <a:ext cx="822960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  <a:ea typeface="SimSun"/>
              </a:rPr>
              <a:t>Ⅰ</a:t>
            </a: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варіант                 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Arial Narrow"/>
                <a:ea typeface="SimSun"/>
              </a:rPr>
              <a:t>Ⅱ</a:t>
            </a: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 варіан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Завдання 1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 :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Bookman Old Style"/>
              </a:rPr>
              <a:t>а, в, д, е, і         б, г,є, ж, з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Завдання 2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 :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Bookman Old Style"/>
              </a:rPr>
              <a:t>а, г, е, ж,з,         б, в, д, є,і, </a:t>
            </a:r>
            <a:r>
              <a:rPr b="0" lang="ru-RU" sz="36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4"/>
          <p:cNvSpPr/>
          <p:nvPr/>
        </p:nvSpPr>
        <p:spPr>
          <a:xfrm>
            <a:off x="428760" y="4000680"/>
            <a:ext cx="8715240" cy="23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 Black"/>
              </a:rPr>
              <a:t>  </a:t>
            </a:r>
            <a:r>
              <a:rPr b="0" lang="ru-RU" sz="4000" spc="-1" strike="noStrike">
                <a:solidFill>
                  <a:srgbClr val="0000ff"/>
                </a:solidFill>
                <a:latin typeface="Arial Black"/>
              </a:rPr>
              <a:t>не має помилок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«5»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Arial Black"/>
              </a:rPr>
              <a:t>   </a:t>
            </a:r>
            <a:r>
              <a:rPr b="0" lang="ru-RU" sz="4000" spc="-1" strike="noStrike">
                <a:solidFill>
                  <a:srgbClr val="0000ff"/>
                </a:solidFill>
                <a:latin typeface="Arial Black"/>
              </a:rPr>
              <a:t>1</a:t>
            </a:r>
            <a:r>
              <a:rPr b="0" lang="en-US" sz="4000" spc="-1" strike="noStrike">
                <a:solidFill>
                  <a:srgbClr val="0000ff"/>
                </a:solidFill>
                <a:latin typeface="Arial Black"/>
              </a:rPr>
              <a:t> - 2</a:t>
            </a:r>
            <a:r>
              <a:rPr b="0" lang="ru-RU" sz="4000" spc="-1" strike="noStrike">
                <a:solidFill>
                  <a:srgbClr val="0000ff"/>
                </a:solidFill>
                <a:latin typeface="Arial Black"/>
              </a:rPr>
              <a:t> помилки</a:t>
            </a:r>
            <a:r>
              <a:rPr b="0" lang="ru-RU" sz="4000" spc="-1" strike="noStrike">
                <a:solidFill>
                  <a:srgbClr val="99cc00"/>
                </a:solidFill>
                <a:latin typeface="Times New Roman"/>
              </a:rPr>
              <a:t> </a:t>
            </a:r>
            <a:r>
              <a:rPr b="0" lang="ru-RU" sz="4000" spc="-1" strike="noStrike">
                <a:solidFill>
                  <a:srgbClr val="0000ff"/>
                </a:solidFill>
                <a:latin typeface="Times New Roman"/>
              </a:rPr>
              <a:t>–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«4»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Arial Black"/>
              </a:rPr>
              <a:t>   </a:t>
            </a:r>
            <a:r>
              <a:rPr b="0" lang="en-US" sz="4000" spc="-1" strike="noStrike">
                <a:solidFill>
                  <a:srgbClr val="0000ff"/>
                </a:solidFill>
                <a:latin typeface="Arial Black"/>
              </a:rPr>
              <a:t>3 - 4</a:t>
            </a:r>
            <a:r>
              <a:rPr b="0" lang="ru-RU" sz="4000" spc="-1" strike="noStrike">
                <a:solidFill>
                  <a:srgbClr val="0000ff"/>
                </a:solidFill>
                <a:latin typeface="Arial Black"/>
              </a:rPr>
              <a:t> помилки</a:t>
            </a:r>
            <a:r>
              <a:rPr b="0" lang="ru-RU" sz="4000" spc="-1" strike="noStrike">
                <a:solidFill>
                  <a:srgbClr val="99cc00"/>
                </a:solidFill>
                <a:latin typeface="Times New Roman"/>
              </a:rPr>
              <a:t> </a:t>
            </a:r>
            <a:r>
              <a:rPr b="0" lang="ru-RU" sz="4000" spc="-1" strike="noStrike">
                <a:solidFill>
                  <a:srgbClr val="0000ff"/>
                </a:solidFill>
                <a:latin typeface="Times New Roman"/>
              </a:rPr>
              <a:t>–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«3»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4"/>
          <p:cNvSpPr/>
          <p:nvPr/>
        </p:nvSpPr>
        <p:spPr>
          <a:xfrm>
            <a:off x="214200" y="449280"/>
            <a:ext cx="8569440" cy="6408720"/>
          </a:xfrm>
          <a:prstGeom prst="rect">
            <a:avLst/>
          </a:prstGeom>
          <a:noFill/>
          <a:ln w="1015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0" name="Picture 31" descr="КЛАСС 042"/>
          <p:cNvPicPr/>
          <p:nvPr/>
        </p:nvPicPr>
        <p:blipFill>
          <a:blip r:embed="rId1"/>
          <a:stretch/>
        </p:blipFill>
        <p:spPr>
          <a:xfrm>
            <a:off x="1428840" y="2286000"/>
            <a:ext cx="2232000" cy="167472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p:pic>
        <p:nvPicPr>
          <p:cNvPr id="241" name="Picture 32" descr=""/>
          <p:cNvPicPr/>
          <p:nvPr/>
        </p:nvPicPr>
        <p:blipFill>
          <a:blip r:embed="rId2"/>
          <a:stretch/>
        </p:blipFill>
        <p:spPr>
          <a:xfrm>
            <a:off x="1500120" y="4214880"/>
            <a:ext cx="2160720" cy="1689120"/>
          </a:xfrm>
          <a:prstGeom prst="rect">
            <a:avLst/>
          </a:prstGeom>
          <a:ln w="63360">
            <a:solidFill>
              <a:srgbClr val="0000ff"/>
            </a:solidFill>
            <a:miter/>
          </a:ln>
        </p:spPr>
      </p:pic>
      <p:pic>
        <p:nvPicPr>
          <p:cNvPr id="242" name="Picture 33" descr=""/>
          <p:cNvPicPr/>
          <p:nvPr/>
        </p:nvPicPr>
        <p:blipFill>
          <a:blip r:embed="rId3"/>
          <a:stretch/>
        </p:blipFill>
        <p:spPr>
          <a:xfrm>
            <a:off x="4572000" y="2714760"/>
            <a:ext cx="1943280" cy="1388880"/>
          </a:xfrm>
          <a:prstGeom prst="rect">
            <a:avLst/>
          </a:prstGeom>
          <a:ln w="57240">
            <a:solidFill>
              <a:srgbClr val="009900"/>
            </a:solidFill>
            <a:miter/>
          </a:ln>
        </p:spPr>
      </p:pic>
      <p:grpSp>
        <p:nvGrpSpPr>
          <p:cNvPr id="243" name="WordArt 34"/>
          <p:cNvGrpSpPr/>
          <p:nvPr/>
        </p:nvGrpSpPr>
        <p:grpSpPr>
          <a:xfrm>
            <a:off x="3127320" y="5413320"/>
            <a:ext cx="5480280" cy="1451160"/>
            <a:chOff x="3127320" y="5413320"/>
            <a:chExt cx="5480280" cy="1451160"/>
          </a:xfrm>
        </p:grpSpPr>
        <p:pic>
          <p:nvPicPr>
            <p:cNvPr id="244" name="WordArt 34" descr=""/>
            <p:cNvPicPr/>
            <p:nvPr/>
          </p:nvPicPr>
          <p:blipFill>
            <a:blip r:embed="rId4"/>
            <a:stretch/>
          </p:blipFill>
          <p:spPr>
            <a:xfrm>
              <a:off x="3127320" y="5413320"/>
              <a:ext cx="5480280" cy="145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5" name=""/>
            <p:cNvSpPr/>
            <p:nvPr/>
          </p:nvSpPr>
          <p:spPr>
            <a:xfrm>
              <a:off x="3132000" y="5421240"/>
              <a:ext cx="5472360" cy="143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6" name="AutoShape 36"/>
          <p:cNvSpPr/>
          <p:nvPr/>
        </p:nvSpPr>
        <p:spPr>
          <a:xfrm rot="823200">
            <a:off x="3666960" y="3830760"/>
            <a:ext cx="2305080" cy="108252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7" name="Picture 37" descr="01"/>
          <p:cNvPicPr/>
          <p:nvPr/>
        </p:nvPicPr>
        <p:blipFill>
          <a:blip r:embed="rId5"/>
          <a:stretch/>
        </p:blipFill>
        <p:spPr>
          <a:xfrm>
            <a:off x="5072040" y="4929120"/>
            <a:ext cx="2232000" cy="1656000"/>
          </a:xfrm>
          <a:prstGeom prst="rect">
            <a:avLst/>
          </a:prstGeom>
          <a:ln w="38160">
            <a:solidFill>
              <a:srgbClr val="008000"/>
            </a:solidFill>
            <a:miter/>
          </a:ln>
        </p:spPr>
      </p:pic>
      <p:grpSp>
        <p:nvGrpSpPr>
          <p:cNvPr id="248" name="WordArt 30"/>
          <p:cNvGrpSpPr/>
          <p:nvPr/>
        </p:nvGrpSpPr>
        <p:grpSpPr>
          <a:xfrm>
            <a:off x="603360" y="396720"/>
            <a:ext cx="6046560" cy="1309680"/>
            <a:chOff x="603360" y="396720"/>
            <a:chExt cx="6046560" cy="1309680"/>
          </a:xfrm>
        </p:grpSpPr>
        <p:pic>
          <p:nvPicPr>
            <p:cNvPr id="249" name="WordArt 30" descr=""/>
            <p:cNvPicPr/>
            <p:nvPr/>
          </p:nvPicPr>
          <p:blipFill>
            <a:blip r:embed="rId6"/>
            <a:stretch/>
          </p:blipFill>
          <p:spPr>
            <a:xfrm>
              <a:off x="603360" y="396720"/>
              <a:ext cx="6046560" cy="130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0" name=""/>
            <p:cNvSpPr/>
            <p:nvPr/>
          </p:nvSpPr>
          <p:spPr>
            <a:xfrm>
              <a:off x="611280" y="404640"/>
              <a:ext cx="603252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51" name="Прямоугольник 11" descr=""/>
          <p:cNvPicPr/>
          <p:nvPr/>
        </p:nvPicPr>
        <p:blipFill>
          <a:blip r:embed="rId7"/>
          <a:stretch/>
        </p:blipFill>
        <p:spPr>
          <a:xfrm>
            <a:off x="4346640" y="3213000"/>
            <a:ext cx="444600" cy="408240"/>
          </a:xfrm>
          <a:prstGeom prst="rect">
            <a:avLst/>
          </a:prstGeom>
          <a:ln w="0">
            <a:noFill/>
          </a:ln>
        </p:spPr>
      </p:pic>
      <p:pic>
        <p:nvPicPr>
          <p:cNvPr id="252" name="Прямоугольник 13" descr=""/>
          <p:cNvPicPr/>
          <p:nvPr/>
        </p:nvPicPr>
        <p:blipFill>
          <a:blip r:embed="rId8"/>
          <a:stretch/>
        </p:blipFill>
        <p:spPr>
          <a:xfrm>
            <a:off x="353880" y="298440"/>
            <a:ext cx="8156880" cy="158580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9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0000"/>
                </a:solidFill>
                <a:latin typeface="Arial"/>
              </a:rPr>
              <a:t>Мета уроку 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- формувати поняття про харчові добавки, показати учням значення харчових добавок, їхню необхідність і небезпеку для здоров’я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- визначити значення хімії в сучасній харчовій промисловості; розвивати критичне мислення учні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-  виховувати дбайливе ставлення до власного здоров’я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15" descr="Eating_200"/>
          <p:cNvPicPr/>
          <p:nvPr/>
        </p:nvPicPr>
        <p:blipFill>
          <a:blip r:embed="rId1"/>
          <a:stretch/>
        </p:blipFill>
        <p:spPr>
          <a:xfrm>
            <a:off x="0" y="5173560"/>
            <a:ext cx="2373480" cy="168444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  <p:pic>
        <p:nvPicPr>
          <p:cNvPr id="256" name="Picture 17" descr="iCA9UKALQ"/>
          <p:cNvPicPr/>
          <p:nvPr/>
        </p:nvPicPr>
        <p:blipFill>
          <a:blip r:embed="rId2"/>
          <a:stretch/>
        </p:blipFill>
        <p:spPr>
          <a:xfrm>
            <a:off x="6983280" y="4697280"/>
            <a:ext cx="2160720" cy="216072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</p:spTree>
  </p:cSld>
  <p:transition spd="med">
    <p:split dir="out" orient="vert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" dur="8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" dur="8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" dur="8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" dur="8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" dur="8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" dur="8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" dur="8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" dur="8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" dur="8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000"/>
            </a:br>
            <a:br>
              <a:rPr sz="5000"/>
            </a:br>
            <a:br>
              <a:rPr sz="5000"/>
            </a:br>
            <a:br>
              <a:rPr sz="5000"/>
            </a:br>
            <a:r>
              <a:rPr b="0" i="1" lang="ru-RU" sz="3000" spc="-1" strike="noStrike">
                <a:solidFill>
                  <a:srgbClr val="009999"/>
                </a:solidFill>
                <a:latin typeface="Monotype Corsiva"/>
              </a:rPr>
              <a:t> </a:t>
            </a:r>
            <a:br>
              <a:rPr sz="1500"/>
            </a:br>
            <a:br>
              <a:rPr sz="1500"/>
            </a:br>
            <a:br>
              <a:rPr sz="5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3" descr="P1310082"/>
          <p:cNvPicPr/>
          <p:nvPr/>
        </p:nvPicPr>
        <p:blipFill>
          <a:blip r:embed="rId1"/>
          <a:stretch/>
        </p:blipFill>
        <p:spPr>
          <a:xfrm>
            <a:off x="3780000" y="333360"/>
            <a:ext cx="5153040" cy="6264360"/>
          </a:xfrm>
          <a:prstGeom prst="rect">
            <a:avLst/>
          </a:prstGeom>
          <a:ln w="47520">
            <a:solidFill>
              <a:srgbClr val="990099"/>
            </a:solidFill>
            <a:miter/>
          </a:ln>
        </p:spPr>
      </p:pic>
      <p:sp>
        <p:nvSpPr>
          <p:cNvPr id="259" name="Text Box 4"/>
          <p:cNvSpPr/>
          <p:nvPr/>
        </p:nvSpPr>
        <p:spPr>
          <a:xfrm>
            <a:off x="179280" y="1413000"/>
            <a:ext cx="33829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7200" spc="-1" strike="noStrike">
                <a:solidFill>
                  <a:srgbClr val="000000"/>
                </a:solidFill>
                <a:latin typeface="Arbat"/>
              </a:rPr>
              <a:t>Їсти чи не їсти?</a:t>
            </a:r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" dur="80"/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" dur="80"/>
                                        <p:tgtEl>
                                          <p:spTgt spid="2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" dur="80"/>
                                        <p:tgtEl>
                                          <p:spTgt spid="2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/>
          </p:nvPr>
        </p:nvSpPr>
        <p:spPr>
          <a:xfrm>
            <a:off x="785520" y="1714680"/>
            <a:ext cx="7924680" cy="146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арчові добавки це – речовини які ,ніколи не споживаються самостійно а вводяться в продукти харчування при виготовленні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WordArt 4"/>
          <p:cNvSpPr txBox="1"/>
          <p:nvPr/>
        </p:nvSpPr>
        <p:spPr>
          <a:xfrm>
            <a:off x="684360" y="260280"/>
            <a:ext cx="61196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778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Bookman Old Style"/>
              </a:rPr>
              <a:t>Харчові добавк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Bookman Old Style"/>
              <a:ea typeface="Bookman Old Style"/>
            </a:endParaRPr>
          </a:p>
        </p:txBody>
      </p:sp>
      <p:sp>
        <p:nvSpPr>
          <p:cNvPr id="262" name="Rectangle 5"/>
          <p:cNvSpPr/>
          <p:nvPr/>
        </p:nvSpPr>
        <p:spPr>
          <a:xfrm>
            <a:off x="785880" y="3214800"/>
            <a:ext cx="782316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ff0066"/>
                </a:solidFill>
                <a:latin typeface="Georgia"/>
              </a:rPr>
              <a:t>Сучасні харчові добавки виконують дві функції :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Rectangle 6"/>
          <p:cNvSpPr/>
          <p:nvPr/>
        </p:nvSpPr>
        <p:spPr>
          <a:xfrm>
            <a:off x="539640" y="3716280"/>
            <a:ext cx="792504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3880" indent="-3538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Прямоугольник 5"/>
          <p:cNvSpPr/>
          <p:nvPr/>
        </p:nvSpPr>
        <p:spPr>
          <a:xfrm>
            <a:off x="1357200" y="4000680"/>
            <a:ext cx="7215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- Збільшують термін зберігання продуктів;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- Посилюють приємні смакові якості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71680" y="260280"/>
            <a:ext cx="82152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70c0"/>
                </a:solidFill>
                <a:latin typeface="Arial"/>
              </a:rPr>
              <a:t>Харчові добавки позначаються літерою 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95280" y="155736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i="1" lang="ru-RU" sz="40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1" i="1" lang="ru-RU" sz="4000" spc="-1" strike="noStrike">
                <a:solidFill>
                  <a:srgbClr val="ff0000"/>
                </a:solidFill>
                <a:latin typeface="Garamond"/>
              </a:rPr>
              <a:t>Е</a:t>
            </a:r>
            <a:r>
              <a:rPr b="1" lang="ru-RU" sz="3600" spc="-1" strike="noStrike">
                <a:solidFill>
                  <a:srgbClr val="000000"/>
                </a:solidFill>
                <a:latin typeface="Garamond"/>
              </a:rPr>
              <a:t>  (від слова  «</a:t>
            </a:r>
            <a:r>
              <a:rPr b="1" lang="en-US" sz="3600" spc="-1" strike="noStrike">
                <a:solidFill>
                  <a:srgbClr val="000000"/>
                </a:solidFill>
                <a:latin typeface="Garamond"/>
              </a:rPr>
              <a:t>Europe</a:t>
            </a:r>
            <a:r>
              <a:rPr b="1" lang="ru-RU" sz="3600" spc="-1" strike="noStrike">
                <a:solidFill>
                  <a:srgbClr val="000000"/>
                </a:solidFill>
                <a:latin typeface="Garamond"/>
              </a:rPr>
              <a:t>») і</a:t>
            </a:r>
            <a:r>
              <a:rPr b="1" i="1" lang="ru-RU" sz="4000" spc="-1" strike="noStrike">
                <a:solidFill>
                  <a:srgbClr val="ff0000"/>
                </a:solidFill>
                <a:latin typeface="Garamond"/>
              </a:rPr>
              <a:t>трьохзначным числом</a:t>
            </a:r>
            <a:r>
              <a:rPr b="1" lang="ru-RU" sz="3600" spc="-1" strike="noStrike">
                <a:solidFill>
                  <a:srgbClr val="000000"/>
                </a:solidFill>
                <a:latin typeface="Garamond"/>
              </a:rPr>
              <a:t>, що розміщується після букви 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Garamond"/>
              </a:rPr>
              <a:t>Цифри говорят про тип харчової добавки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9" dur="8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0" dur="8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" dur="8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2640"/>
                            </p:stCondLst>
                            <p:childTnLst>
                              <p:par>
                                <p:cTn id="1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5" dur="80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6" dur="80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" dur="80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31T21:13:55Z</dcterms:created>
  <dc:creator>user</dc:creator>
  <dc:description/>
  <dc:language>en-US</dc:language>
  <cp:lastModifiedBy>Admin</cp:lastModifiedBy>
  <dcterms:modified xsi:type="dcterms:W3CDTF">2014-01-10T05:47:51Z</dcterms:modified>
  <cp:revision>33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0c0b000000000001024140</vt:lpwstr>
  </property>
</Properties>
</file>