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0E9-3846-4C6A-AA99-03EC0C72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5FD-7680-438A-9D1A-9F7A18BF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A98-3F42-4EDD-90ED-B2787C89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8B9-402D-4681-B5AD-854E3B03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D45E-DCB2-4217-87D6-DD53D0D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244F-3B40-40EB-9C58-866151E8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8A63-E371-4178-9B58-C3AF0C5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B1A2-33DD-4484-801C-7FC8AE79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5CFE-98BE-4E11-99FA-0B0F55A1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C02A-BAD5-4E44-B987-D76262F3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50D8-9E1A-493E-B312-7C36470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6C5-CAC9-4442-B782-2A6A186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CB82-4D79-4CBF-BF8D-73EE4FF6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ED7E-2B3B-4957-B59E-B393E4C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4D47-B497-4DB1-A8CC-F73C124D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B622-D199-4CE9-B911-0FA31C2A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BD9E-D401-4D9A-B4CF-CDC19E84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B799-FF7D-4B03-A70A-ED6EF392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38A0-61A7-44DD-8546-78CD2ED2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77E8-DD15-4F9B-92DE-C9258528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F629-795F-43F1-8687-85AA2CDC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29833-EE43-420E-938A-19DD03C6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315-4049-4D46-9A9C-9ADD5F16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5E35-7ED2-4144-90B4-39EEB169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5547-671D-400C-81B4-FA18F4E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E353-7A05-4A6B-9F68-4463EBB8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6A23-118B-4587-B24E-096AE9FA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D067-490C-4756-A53F-F216AF31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81B0-EF63-4052-84EC-3E25B589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0C59-D573-4669-9737-F349235D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23196-468E-4551-B68D-825A601A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0AE0-E2C1-40FE-98D9-7B6149FB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22AE-8732-42ED-A2CC-82F889AD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678-6507-4A77-9AA9-83C72257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D9B2-C799-448C-BD4F-9889D496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434D8-1E9E-4980-B286-5908D49C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8C5D-A339-4BCF-8D1E-04CD99C7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B167-7DE2-4201-905E-B5240AD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9552-818A-48AA-9DB3-A669185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4DC8A-E841-4F33-AED9-68B1401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1A2D-F807-4EBC-89FD-BC125DBB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85C1-0DCC-4B7E-A4FA-0BAA49D9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B277A-78D1-4FFF-B60D-746F72AB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35084-A838-47F4-BE1A-2D2555AB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229-B140-481C-8117-CE8D7AA9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A0C47-8B7C-4231-A800-3C91F22F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0739-48DD-4BD1-B21F-85A37141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F4F0-C984-446D-AB17-7525E523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03DD-7EDD-40F5-BA7F-44A398AC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AD504-47CE-43FC-8A87-31D2F7EC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DF747-33A2-44C1-AF0E-3FD3483A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D0CD-5D32-4033-84D9-AC6BA549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DB2BE-D8A3-43E9-AB05-71614C6B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417C-84CF-4A49-8D40-1C904CF9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AAE4A-048E-41C7-A440-2E027177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DE6-5079-4902-ACC2-2F58F286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5CD53-D421-491F-BC1B-2B02FF34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02E-A483-45A7-92C7-DD26CFFE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EAF-D089-4032-8E4A-E3072605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B6D-9819-4533-90AE-9F243C49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790E-C830-429A-BED3-82D44B5CD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4C9A-BE1F-4615-984E-72FF611F2E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6029-63FE-41C0-AB64-B5582C0034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24AE-E1B3-4B49-B78B-B442BBFEBD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92E3-16DF-47F3-8767-DD014DC44D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ЇЖА ЩО НАСОЛОДЖУЄ СВОЇМ СМАКОМ, І ЗУШУЄ ЇСТИ БІЛЬШЕ НІЖ ЦЕ ПОТРІБНО, ОТРУЮЄ, ЗАМІСТЬ ТОГО ЩОБЖИВИТ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Ф. ФЕНЕ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Georgia"/>
              </a:rPr>
              <a:t>ПЕРЕГЛЯД ВІДЕОФІЛЬ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0920" y="4869000"/>
            <a:ext cx="80643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9" name="Picture 5" descr="КЛАСС 039"/>
          <p:cNvPicPr/>
          <p:nvPr/>
        </p:nvPicPr>
        <p:blipFill>
          <a:blip r:embed="rId1"/>
          <a:stretch/>
        </p:blipFill>
        <p:spPr>
          <a:xfrm>
            <a:off x="5715000" y="3429000"/>
            <a:ext cx="3135240" cy="3429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4707000" cy="2357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1" name="Picture 7" descr="1_5_160_3"/>
          <p:cNvPicPr/>
          <p:nvPr/>
        </p:nvPicPr>
        <p:blipFill>
          <a:blip r:embed="rId3"/>
          <a:stretch/>
        </p:blipFill>
        <p:spPr>
          <a:xfrm>
            <a:off x="1712880" y="3929040"/>
            <a:ext cx="3624120" cy="2409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 spd="med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ли купуєш продукти харчування,зверни увагу на етикетку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f165p20-3"/>
          <p:cNvPicPr/>
          <p:nvPr/>
        </p:nvPicPr>
        <p:blipFill>
          <a:blip r:embed="rId1"/>
          <a:stretch/>
        </p:blipFill>
        <p:spPr>
          <a:xfrm>
            <a:off x="357120" y="1643040"/>
            <a:ext cx="3724200" cy="496728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pic>
        <p:nvPicPr>
          <p:cNvPr id="274" name="Picture 17" descr="фото с сайта г-ты &quot;Новые известия&quot;"/>
          <p:cNvPicPr/>
          <p:nvPr/>
        </p:nvPicPr>
        <p:blipFill>
          <a:blip r:embed="rId2"/>
          <a:stretch/>
        </p:blipFill>
        <p:spPr>
          <a:xfrm>
            <a:off x="4568760" y="1628640"/>
            <a:ext cx="4154400" cy="4969080"/>
          </a:xfrm>
          <a:prstGeom prst="rect">
            <a:avLst/>
          </a:prstGeom>
          <a:ln w="63360">
            <a:solidFill>
              <a:srgbClr val="008000"/>
            </a:solidFill>
            <a:miter/>
          </a:ln>
        </p:spPr>
      </p:pic>
      <p:pic>
        <p:nvPicPr>
          <p:cNvPr id="275" name="Object 20" descr=""/>
          <p:cNvPicPr/>
          <p:nvPr/>
        </p:nvPicPr>
        <p:blipFill>
          <a:blip r:embed="rId3"/>
          <a:stretch/>
        </p:blipFill>
        <p:spPr>
          <a:xfrm>
            <a:off x="6431040" y="1278000"/>
            <a:ext cx="155520" cy="147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Лабораторний дослід №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ТЕМА:Ознайомлення зі змістом етикеток на харчових проду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МЕТА: Навчитися характеризувати склад продукту, за змістом етик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ХІД РОБО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1.За штрих-кодом визначте країну вироб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2.Зверніть увагу на дату виробництва та кінцевий термін зберіг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3.Визначте вміст білків жирів і вуглеводів у продуктах харч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4.Визначте ,які Е-числа входять до складу ппродукту та іх вплив на організ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78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ject 38" descr=""/>
          <p:cNvPicPr/>
          <p:nvPr/>
        </p:nvPicPr>
        <p:blipFill>
          <a:blip r:embed="rId1"/>
          <a:stretch/>
        </p:blipFill>
        <p:spPr>
          <a:xfrm>
            <a:off x="714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ЧИ ЗАЛЕЖИТЬ ЗДОРОВЯ ЛЮДИНИ ВІД ПРОДУКТІВ, ЯКІ ВОНА СПОЖИВАЄ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85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ДОМАШНЯ РО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AMPRODUC"/>
          <p:cNvPicPr/>
          <p:nvPr/>
        </p:nvPicPr>
        <p:blipFill>
          <a:blip r:embed="rId1"/>
          <a:stretch/>
        </p:blipFill>
        <p:spPr>
          <a:xfrm>
            <a:off x="611280" y="2133720"/>
            <a:ext cx="3214440" cy="3456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51280" y="2060640"/>
            <a:ext cx="4906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ідготувати додаткову інформаціюпро харчові добавки в продуктах харч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Те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і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 харчування,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поживні речов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картопля , б)білки, в)рис, г) жири д) яблука, е) м'ясо, є) мінеральні солі, ж) вода, з) вуглеводи, і)р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які містять            жир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углив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ир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пуст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хліб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риб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иноград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олбаса,                     є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речка, ж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метана, з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оріхи, 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ртоп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Гра “Третій зайвий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WordArt 5" descr=""/>
          <p:cNvPicPr/>
          <p:nvPr/>
        </p:nvPicPr>
        <p:blipFill>
          <a:blip r:embed="rId1"/>
          <a:stretch/>
        </p:blipFill>
        <p:spPr>
          <a:xfrm>
            <a:off x="590400" y="1768320"/>
            <a:ext cx="8029800" cy="37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88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Відповіді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Ⅰ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аріант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Ⅱ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варі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в, д, е, і         б, г,є, ж, з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г, е, ж,з,         б, в, д, є,і,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28760" y="4000680"/>
            <a:ext cx="87152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не має помило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- 2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4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3 - 4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3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214200" y="449280"/>
            <a:ext cx="8569440" cy="6408720"/>
          </a:xfrm>
          <a:prstGeom prst="rect">
            <a:avLst/>
          </a:prstGeom>
          <a:noFill/>
          <a:ln w="101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1" descr="КЛАСС 042"/>
          <p:cNvPicPr/>
          <p:nvPr/>
        </p:nvPicPr>
        <p:blipFill>
          <a:blip r:embed="rId1"/>
          <a:stretch/>
        </p:blipFill>
        <p:spPr>
          <a:xfrm>
            <a:off x="1428840" y="228600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41" name="Picture 32" descr=""/>
          <p:cNvPicPr/>
          <p:nvPr/>
        </p:nvPicPr>
        <p:blipFill>
          <a:blip r:embed="rId2"/>
          <a:stretch/>
        </p:blipFill>
        <p:spPr>
          <a:xfrm>
            <a:off x="1500120" y="4214880"/>
            <a:ext cx="2160720" cy="1689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242" name="Picture 33" descr=""/>
          <p:cNvPicPr/>
          <p:nvPr/>
        </p:nvPicPr>
        <p:blipFill>
          <a:blip r:embed="rId3"/>
          <a:stretch/>
        </p:blipFill>
        <p:spPr>
          <a:xfrm>
            <a:off x="4572000" y="2714760"/>
            <a:ext cx="1943280" cy="1388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grpSp>
        <p:nvGrpSpPr>
          <p:cNvPr id="243" name="WordArt 34"/>
          <p:cNvGrpSpPr/>
          <p:nvPr/>
        </p:nvGrpSpPr>
        <p:grpSpPr>
          <a:xfrm>
            <a:off x="3127320" y="5413320"/>
            <a:ext cx="5480280" cy="1451160"/>
            <a:chOff x="3127320" y="5413320"/>
            <a:chExt cx="5480280" cy="1451160"/>
          </a:xfrm>
        </p:grpSpPr>
        <p:pic>
          <p:nvPicPr>
            <p:cNvPr id="244" name="WordArt 34" descr=""/>
            <p:cNvPicPr/>
            <p:nvPr/>
          </p:nvPicPr>
          <p:blipFill>
            <a:blip r:embed="rId4"/>
            <a:stretch/>
          </p:blipFill>
          <p:spPr>
            <a:xfrm>
              <a:off x="3127320" y="5413320"/>
              <a:ext cx="54802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132000" y="5421240"/>
              <a:ext cx="5472360" cy="14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AutoShape 36"/>
          <p:cNvSpPr/>
          <p:nvPr/>
        </p:nvSpPr>
        <p:spPr>
          <a:xfrm rot="823200">
            <a:off x="3666960" y="3830760"/>
            <a:ext cx="2305080" cy="10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37" descr="01"/>
          <p:cNvPicPr/>
          <p:nvPr/>
        </p:nvPicPr>
        <p:blipFill>
          <a:blip r:embed="rId5"/>
          <a:stretch/>
        </p:blipFill>
        <p:spPr>
          <a:xfrm>
            <a:off x="5072040" y="4929120"/>
            <a:ext cx="2232000" cy="165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248" name="WordArt 30"/>
          <p:cNvGrpSpPr/>
          <p:nvPr/>
        </p:nvGrpSpPr>
        <p:grpSpPr>
          <a:xfrm>
            <a:off x="603360" y="396720"/>
            <a:ext cx="6046560" cy="1309680"/>
            <a:chOff x="603360" y="396720"/>
            <a:chExt cx="6046560" cy="1309680"/>
          </a:xfrm>
        </p:grpSpPr>
        <p:pic>
          <p:nvPicPr>
            <p:cNvPr id="249" name="WordArt 30" descr=""/>
            <p:cNvPicPr/>
            <p:nvPr/>
          </p:nvPicPr>
          <p:blipFill>
            <a:blip r:embed="rId6"/>
            <a:stretch/>
          </p:blipFill>
          <p:spPr>
            <a:xfrm>
              <a:off x="603360" y="396720"/>
              <a:ext cx="60465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11280" y="404640"/>
              <a:ext cx="60325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Прямоугольник 11" descr=""/>
          <p:cNvPicPr/>
          <p:nvPr/>
        </p:nvPicPr>
        <p:blipFill>
          <a:blip r:embed="rId7"/>
          <a:stretch/>
        </p:blipFill>
        <p:spPr>
          <a:xfrm>
            <a:off x="4346640" y="321300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3" descr=""/>
          <p:cNvPicPr/>
          <p:nvPr/>
        </p:nvPicPr>
        <p:blipFill>
          <a:blip r:embed="rId8"/>
          <a:stretch/>
        </p:blipFill>
        <p:spPr>
          <a:xfrm>
            <a:off x="353880" y="298440"/>
            <a:ext cx="815688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Мета уроку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формувати поняття про харчові добавки, показати учням значення харчових добавок, їхню необхідність і небезпеку для здоров’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визначити значення хімії в сучасній харчовій промисловості; розвивати критичне мислення уч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 виховувати дбайливе ставлення до власного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Eating_200"/>
          <p:cNvPicPr/>
          <p:nvPr/>
        </p:nvPicPr>
        <p:blipFill>
          <a:blip r:embed="rId1"/>
          <a:stretch/>
        </p:blipFill>
        <p:spPr>
          <a:xfrm>
            <a:off x="0" y="5173560"/>
            <a:ext cx="2373480" cy="1684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56" name="Picture 17" descr="iCA9UKALQ"/>
          <p:cNvPicPr/>
          <p:nvPr/>
        </p:nvPicPr>
        <p:blipFill>
          <a:blip r:embed="rId2"/>
          <a:stretch/>
        </p:blipFill>
        <p:spPr>
          <a:xfrm>
            <a:off x="6983280" y="4697280"/>
            <a:ext cx="2160720" cy="216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i="1" lang="ru-RU" sz="3000" spc="-1" strike="noStrike">
                <a:solidFill>
                  <a:srgbClr val="009999"/>
                </a:solidFill>
                <a:latin typeface="Monotype Corsiva"/>
              </a:rPr>
              <a:t> </a:t>
            </a:r>
            <a:br>
              <a:rPr sz="1500"/>
            </a:br>
            <a:br>
              <a:rPr sz="1500"/>
            </a:br>
            <a:br>
              <a:rPr sz="5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P1310082"/>
          <p:cNvPicPr/>
          <p:nvPr/>
        </p:nvPicPr>
        <p:blipFill>
          <a:blip r:embed="rId1"/>
          <a:stretch/>
        </p:blipFill>
        <p:spPr>
          <a:xfrm>
            <a:off x="3780000" y="333360"/>
            <a:ext cx="5153040" cy="6264360"/>
          </a:xfrm>
          <a:prstGeom prst="rect">
            <a:avLst/>
          </a:prstGeom>
          <a:ln w="47520">
            <a:solidFill>
              <a:srgbClr val="990099"/>
            </a:solidFill>
            <a:miter/>
          </a:ln>
        </p:spPr>
      </p:pic>
      <p:sp>
        <p:nvSpPr>
          <p:cNvPr id="259" name="Text Box 4"/>
          <p:cNvSpPr/>
          <p:nvPr/>
        </p:nvSpPr>
        <p:spPr>
          <a:xfrm>
            <a:off x="179280" y="141300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00"/>
                </a:solidFill>
                <a:latin typeface="Arbat"/>
              </a:rPr>
              <a:t>Їсти чи не їсти?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85520" y="1714680"/>
            <a:ext cx="7924680" cy="14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чові добавки це – речовини які ,ніколи не споживаються самостійно а вводяться в продукти харчування при виготовлен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684360" y="260280"/>
            <a:ext cx="61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Харчові доба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785880" y="3214800"/>
            <a:ext cx="7823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Georgia"/>
              </a:rPr>
              <a:t>Сучасні харчові добавки виконують дві функції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39640" y="3716280"/>
            <a:ext cx="7925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1357200" y="4000680"/>
            <a:ext cx="721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Збільшують термін зберігання продуктів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Посилюють приємні смакові якості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60280"/>
            <a:ext cx="8215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Харчові добавки позначаються літерою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(від слова  «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urope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») і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трьохзначным числом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, що розміщується після букви 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Цифри говорят про тип харчової добавк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64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3:55Z</dcterms:created>
  <dc:creator>user</dc:creator>
  <dc:description/>
  <dc:language>en-US</dc:language>
  <cp:lastModifiedBy>Admin</cp:lastModifiedBy>
  <dcterms:modified xsi:type="dcterms:W3CDTF">2014-01-10T05:47:51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b000000000001024140</vt:lpwstr>
  </property>
</Properties>
</file>