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247-83A0-4B05-B398-212BD34A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419-1C4E-4C7F-B5C1-33F24B45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D2B-05CA-46E2-9069-F11B8CE4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7C30-CFC0-4CAA-85CC-834FD0D1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A7AB-7B94-48F2-AE77-F2E01E4B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F22C-2ECD-4B3C-A1A5-8CAB4CAA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6B00-76FB-456D-9280-3273CB2E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E138-F80E-4D14-B4AD-B3A89C08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EB37-2A69-449A-993B-F6335B07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398E-623C-48AD-B209-721FCFB0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5494-27A8-42A1-B02B-5B71E00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837-346E-4CD3-A300-0189843F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5135-E95F-44C2-ADCF-0E58A3A8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2154-4DFB-4466-AAF9-BD95C58A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C7BA-11AF-4063-90A0-F5D2CFCC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77F8-00A7-42B7-A472-3E7D09D5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E1DF-11C0-4335-968C-C4EFFB24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C29EF-11CF-472D-AD76-CC46C34A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1942-B78D-41D1-A053-3344EA23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00BA7-E7C3-48AD-B81A-A734AA4F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FBD7-776B-4BA3-8521-88936396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1544-F87E-4C08-8BA8-21312A12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EEE-4563-49A3-BED0-1BA1EBF7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23767-EFC1-4C06-8654-6C87DA41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B6C87-F4A5-4859-BA51-FB6F93E5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00E78-E668-4BA2-B1A2-FA0FE51D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24EF-DB0F-483F-BD1C-15E51A65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F5A67-4E8C-45FE-89CE-38712E50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A26CD-A3DB-4EF2-8A3F-39A2F8F4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1778F-83E3-4DCE-B83C-65425CDD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28820-B7DB-43BE-B4A2-3227DEE2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3177-BC39-48A2-922E-09D59044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27CE0-64F7-40CE-8194-59025C95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C70-2B22-407D-9923-2661D420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E2548-CF8C-4C73-A183-F986870B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315E6-3FFC-4F7E-B4E3-F85A9BEC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DE89F-A5B7-4335-8C43-C5021293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B90C6-FB3A-4B50-912D-00DC2CC3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1824-8D50-4497-8202-8866093A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DC172-C333-4A7A-8360-DD0B1490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64870-6974-48CE-9519-7F666718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1160D-BDB8-4C0C-AFFB-28C3AFF3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4F79F-0EDA-4C1D-8A44-B06572E3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94555-B0B6-4E88-826A-027E8EA0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4E4-22D2-4616-A01B-41E80AF1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2CE79-6464-4D7E-AC06-77229B74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2B6A6-47B9-4896-A114-C7919152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010C3-3267-4432-9740-5F501C6E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DDD60-EEC6-41D4-91C0-57C363D5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39FA6-C1A4-47DC-B222-D88D7902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03A2C-BD5A-4F98-94A4-23475709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E5CF8-1FF1-4C8C-8F51-C2B1EDB9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DFFFE-E66D-42DD-980E-F111EEF7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CA074-6D7A-4422-9FF8-5B7B4F71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EAEF4-42A4-4B6F-8C92-F3586CFA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A60-6001-4548-94B2-1B3154AB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66F82-A819-48DA-A1E8-F60EF302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677-92DF-419C-AD19-AF5B1FF4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682-1EF7-4896-A332-13861B96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833-CC2C-4583-99B4-CEE0F10C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7D7B-D561-4C73-8806-FCD7223BC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383C-C6AD-4527-A3F1-D79A8341D76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8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1B62-DDD3-4D2C-A1ED-613B8F21EBE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F4BD-C87E-4885-8F55-56311C6C73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8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58D6-2103-44D2-844C-1B91F092F0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80391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ЇЖА ЩО НАСОЛОДЖУЄ СВОЇМ СМАКОМ, І ЗУШУЄ ЇСТИ БІЛЬШЕ НІЖ ЦЕ ПОТРІБНО, ОТРУЮЄ, ЗАМІСТЬ ТОГО ЩОБЖИВИТ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Ф. ФЕНЕЛ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85560" y="4284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Georgia"/>
              </a:rPr>
              <a:t>ПЕРЕГЛЯД ВІДЕОФІЛЬМ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0920" y="4869000"/>
            <a:ext cx="806436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69" name="Picture 5" descr="КЛАСС 039"/>
          <p:cNvPicPr/>
          <p:nvPr/>
        </p:nvPicPr>
        <p:blipFill>
          <a:blip r:embed="rId1"/>
          <a:stretch/>
        </p:blipFill>
        <p:spPr>
          <a:xfrm>
            <a:off x="5715000" y="3429000"/>
            <a:ext cx="3135240" cy="3429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70" name="Picture 4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4707000" cy="2357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71" name="Picture 7" descr="1_5_160_3"/>
          <p:cNvPicPr/>
          <p:nvPr/>
        </p:nvPicPr>
        <p:blipFill>
          <a:blip r:embed="rId3"/>
          <a:stretch/>
        </p:blipFill>
        <p:spPr>
          <a:xfrm>
            <a:off x="1712880" y="3929040"/>
            <a:ext cx="3624120" cy="24098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ransition spd="med">
    <p:split dir="out" orient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оли купуєш продукти харчування,зверни увагу на етикетку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f165p20-3"/>
          <p:cNvPicPr/>
          <p:nvPr/>
        </p:nvPicPr>
        <p:blipFill>
          <a:blip r:embed="rId1"/>
          <a:stretch/>
        </p:blipFill>
        <p:spPr>
          <a:xfrm>
            <a:off x="357120" y="1643040"/>
            <a:ext cx="3724200" cy="4967280"/>
          </a:xfrm>
          <a:prstGeom prst="rect">
            <a:avLst/>
          </a:prstGeom>
          <a:ln w="66600">
            <a:solidFill>
              <a:srgbClr val="008000"/>
            </a:solidFill>
            <a:miter/>
          </a:ln>
        </p:spPr>
      </p:pic>
      <p:pic>
        <p:nvPicPr>
          <p:cNvPr id="274" name="Picture 17" descr="фото с сайта г-ты &quot;Новые известия&quot;"/>
          <p:cNvPicPr/>
          <p:nvPr/>
        </p:nvPicPr>
        <p:blipFill>
          <a:blip r:embed="rId2"/>
          <a:stretch/>
        </p:blipFill>
        <p:spPr>
          <a:xfrm>
            <a:off x="4568760" y="1628640"/>
            <a:ext cx="4154400" cy="4969080"/>
          </a:xfrm>
          <a:prstGeom prst="rect">
            <a:avLst/>
          </a:prstGeom>
          <a:ln w="63360">
            <a:solidFill>
              <a:srgbClr val="008000"/>
            </a:solidFill>
            <a:miter/>
          </a:ln>
        </p:spPr>
      </p:pic>
      <p:pic>
        <p:nvPicPr>
          <p:cNvPr id="275" name="Object 20" descr=""/>
          <p:cNvPicPr/>
          <p:nvPr/>
        </p:nvPicPr>
        <p:blipFill>
          <a:blip r:embed="rId3"/>
          <a:stretch/>
        </p:blipFill>
        <p:spPr>
          <a:xfrm>
            <a:off x="6431040" y="1278000"/>
            <a:ext cx="155520" cy="147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50560" y="285840"/>
            <a:ext cx="88930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Лабораторний дослід №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ТЕМА:Ознайомлення зі змістом етикеток на харчових продукт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МЕТА: Навчитися характеризувати склад продукту, за змістом етике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ХІД РОБОТ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1.За штрих-кодом визначте країну вироб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2.Зверніть увагу на дату виробництва та кінцевий термін зберіг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3.Визначте вміст білків жирів і вуглеводів у продуктах харчу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4.Визначте ,які Е-числа входять до складу ппродукту та іх вплив на організ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539640" y="18900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77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Bookman Old Style"/>
              </a:rPr>
              <a:t> </a:t>
            </a:r>
            <a:endParaRPr b="1" lang="en-US" sz="20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78" name="Picture 31" descr="КЛАСС 042"/>
          <p:cNvPicPr/>
          <p:nvPr/>
        </p:nvPicPr>
        <p:blipFill>
          <a:blip r:embed="rId1"/>
          <a:stretch/>
        </p:blipFill>
        <p:spPr>
          <a:xfrm>
            <a:off x="6912000" y="518328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Object 38" descr=""/>
          <p:cNvPicPr/>
          <p:nvPr/>
        </p:nvPicPr>
        <p:blipFill>
          <a:blip r:embed="rId1"/>
          <a:stretch/>
        </p:blipFill>
        <p:spPr>
          <a:xfrm>
            <a:off x="714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50560" y="285840"/>
            <a:ext cx="88930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ЧИ ЗАЛЕЖИТЬ ЗДОРОВЯ ЛЮДИНИ ВІД ПРОДУКТІВ, ЯКІ ВОНА СПОЖИВАЄ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4"/>
          <p:cNvSpPr txBox="1"/>
          <p:nvPr/>
        </p:nvSpPr>
        <p:spPr>
          <a:xfrm>
            <a:off x="539640" y="18900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77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Bookman Old Style"/>
              </a:rPr>
              <a:t> </a:t>
            </a:r>
            <a:endParaRPr b="1" lang="en-US" sz="20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85" name="Picture 31" descr="КЛАСС 042"/>
          <p:cNvPicPr/>
          <p:nvPr/>
        </p:nvPicPr>
        <p:blipFill>
          <a:blip r:embed="rId1"/>
          <a:stretch/>
        </p:blipFill>
        <p:spPr>
          <a:xfrm>
            <a:off x="6912000" y="518328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ДОМАШНЯ РО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AMPRODUC"/>
          <p:cNvPicPr/>
          <p:nvPr/>
        </p:nvPicPr>
        <p:blipFill>
          <a:blip r:embed="rId1"/>
          <a:stretch/>
        </p:blipFill>
        <p:spPr>
          <a:xfrm>
            <a:off x="611280" y="2133720"/>
            <a:ext cx="3214440" cy="3456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51280" y="2060640"/>
            <a:ext cx="4906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ідготувати додаткову інформаціюпро харчові добавки в продуктах харч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80391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Те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вдання 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imSun"/>
                <a:ea typeface="SimSun"/>
              </a:rPr>
              <a:t>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рі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виберіть з переліку продукти  харчування,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Ⅱ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вари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поживні речов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)картопля , б)білки, в)рис, г) жири д) яблука, е) м'ясо, є) мінеральні солі, ж) вода, з) вуглеводи, і)ри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вдання 2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imSun"/>
                <a:ea typeface="SimSun"/>
              </a:rPr>
              <a:t>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ри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виберіть з переліку продукти які містять            жир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Ⅱ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ри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вуглив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сир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апуст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хліб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риб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виноград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олбаса,                     є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гречка, ж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сметана, з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горіхи, і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артоп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Гра “Третій зайвий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WordArt 5" descr=""/>
          <p:cNvPicPr/>
          <p:nvPr/>
        </p:nvPicPr>
        <p:blipFill>
          <a:blip r:embed="rId1"/>
          <a:stretch/>
        </p:blipFill>
        <p:spPr>
          <a:xfrm>
            <a:off x="590400" y="1768320"/>
            <a:ext cx="8029800" cy="3767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88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Georgia"/>
              </a:rPr>
              <a:t>Відповіді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SimSun"/>
              </a:rPr>
              <a:t>Ⅰ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аріант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SimSun"/>
              </a:rPr>
              <a:t>Ⅱ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варі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вдання 1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а, в, д, е, і         б, г,є, ж, з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вдання 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а, г, е, ж,з,         б, в, д, є,і,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28760" y="4000680"/>
            <a:ext cx="87152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не має помилок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 - 2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помилки</a:t>
            </a: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4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3 - 4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помилки</a:t>
            </a: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3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214200" y="449280"/>
            <a:ext cx="8569440" cy="6408720"/>
          </a:xfrm>
          <a:prstGeom prst="rect">
            <a:avLst/>
          </a:prstGeom>
          <a:noFill/>
          <a:ln w="1015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1" descr="КЛАСС 042"/>
          <p:cNvPicPr/>
          <p:nvPr/>
        </p:nvPicPr>
        <p:blipFill>
          <a:blip r:embed="rId1"/>
          <a:stretch/>
        </p:blipFill>
        <p:spPr>
          <a:xfrm>
            <a:off x="1428840" y="228600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41" name="Picture 32" descr=""/>
          <p:cNvPicPr/>
          <p:nvPr/>
        </p:nvPicPr>
        <p:blipFill>
          <a:blip r:embed="rId2"/>
          <a:stretch/>
        </p:blipFill>
        <p:spPr>
          <a:xfrm>
            <a:off x="1500120" y="4214880"/>
            <a:ext cx="2160720" cy="16891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242" name="Picture 33" descr=""/>
          <p:cNvPicPr/>
          <p:nvPr/>
        </p:nvPicPr>
        <p:blipFill>
          <a:blip r:embed="rId3"/>
          <a:stretch/>
        </p:blipFill>
        <p:spPr>
          <a:xfrm>
            <a:off x="4572000" y="2714760"/>
            <a:ext cx="1943280" cy="1388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grpSp>
        <p:nvGrpSpPr>
          <p:cNvPr id="243" name="WordArt 34"/>
          <p:cNvGrpSpPr/>
          <p:nvPr/>
        </p:nvGrpSpPr>
        <p:grpSpPr>
          <a:xfrm>
            <a:off x="3127320" y="5413320"/>
            <a:ext cx="5480280" cy="1451160"/>
            <a:chOff x="3127320" y="5413320"/>
            <a:chExt cx="5480280" cy="1451160"/>
          </a:xfrm>
        </p:grpSpPr>
        <p:pic>
          <p:nvPicPr>
            <p:cNvPr id="244" name="WordArt 34" descr=""/>
            <p:cNvPicPr/>
            <p:nvPr/>
          </p:nvPicPr>
          <p:blipFill>
            <a:blip r:embed="rId4"/>
            <a:stretch/>
          </p:blipFill>
          <p:spPr>
            <a:xfrm>
              <a:off x="3127320" y="5413320"/>
              <a:ext cx="548028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132000" y="5421240"/>
              <a:ext cx="5472360" cy="14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AutoShape 36"/>
          <p:cNvSpPr/>
          <p:nvPr/>
        </p:nvSpPr>
        <p:spPr>
          <a:xfrm rot="823200">
            <a:off x="3666960" y="3830760"/>
            <a:ext cx="2305080" cy="10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37" descr="01"/>
          <p:cNvPicPr/>
          <p:nvPr/>
        </p:nvPicPr>
        <p:blipFill>
          <a:blip r:embed="rId5"/>
          <a:stretch/>
        </p:blipFill>
        <p:spPr>
          <a:xfrm>
            <a:off x="5072040" y="4929120"/>
            <a:ext cx="2232000" cy="1656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grpSp>
        <p:nvGrpSpPr>
          <p:cNvPr id="248" name="WordArt 30"/>
          <p:cNvGrpSpPr/>
          <p:nvPr/>
        </p:nvGrpSpPr>
        <p:grpSpPr>
          <a:xfrm>
            <a:off x="603360" y="396720"/>
            <a:ext cx="6046560" cy="1309680"/>
            <a:chOff x="603360" y="396720"/>
            <a:chExt cx="6046560" cy="1309680"/>
          </a:xfrm>
        </p:grpSpPr>
        <p:pic>
          <p:nvPicPr>
            <p:cNvPr id="249" name="WordArt 30" descr=""/>
            <p:cNvPicPr/>
            <p:nvPr/>
          </p:nvPicPr>
          <p:blipFill>
            <a:blip r:embed="rId6"/>
            <a:stretch/>
          </p:blipFill>
          <p:spPr>
            <a:xfrm>
              <a:off x="603360" y="396720"/>
              <a:ext cx="60465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11280" y="404640"/>
              <a:ext cx="603252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Прямоугольник 11" descr=""/>
          <p:cNvPicPr/>
          <p:nvPr/>
        </p:nvPicPr>
        <p:blipFill>
          <a:blip r:embed="rId7"/>
          <a:stretch/>
        </p:blipFill>
        <p:spPr>
          <a:xfrm>
            <a:off x="4346640" y="3213000"/>
            <a:ext cx="444600" cy="40824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13" descr=""/>
          <p:cNvPicPr/>
          <p:nvPr/>
        </p:nvPicPr>
        <p:blipFill>
          <a:blip r:embed="rId8"/>
          <a:stretch/>
        </p:blipFill>
        <p:spPr>
          <a:xfrm>
            <a:off x="353880" y="298440"/>
            <a:ext cx="8156880" cy="1585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Мета уроку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формувати поняття про харчові добавки, показати учням значення харчових добавок, їхню необхідність і небезпеку для здоров’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визначити значення хімії в сучасній харчовій промисловості; розвивати критичне мислення учн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 виховувати дбайливе ставлення до власного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5" descr="Eating_200"/>
          <p:cNvPicPr/>
          <p:nvPr/>
        </p:nvPicPr>
        <p:blipFill>
          <a:blip r:embed="rId1"/>
          <a:stretch/>
        </p:blipFill>
        <p:spPr>
          <a:xfrm>
            <a:off x="0" y="5173560"/>
            <a:ext cx="2373480" cy="1684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56" name="Picture 17" descr="iCA9UKALQ"/>
          <p:cNvPicPr/>
          <p:nvPr/>
        </p:nvPicPr>
        <p:blipFill>
          <a:blip r:embed="rId2"/>
          <a:stretch/>
        </p:blipFill>
        <p:spPr>
          <a:xfrm>
            <a:off x="6983280" y="4697280"/>
            <a:ext cx="2160720" cy="2160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i="1" lang="ru-RU" sz="3000" spc="-1" strike="noStrike">
                <a:solidFill>
                  <a:srgbClr val="009999"/>
                </a:solidFill>
                <a:latin typeface="Monotype Corsiva"/>
              </a:rPr>
              <a:t> </a:t>
            </a:r>
            <a:br>
              <a:rPr sz="1500"/>
            </a:br>
            <a:br>
              <a:rPr sz="1500"/>
            </a:br>
            <a:br>
              <a:rPr sz="5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P1310082"/>
          <p:cNvPicPr/>
          <p:nvPr/>
        </p:nvPicPr>
        <p:blipFill>
          <a:blip r:embed="rId1"/>
          <a:stretch/>
        </p:blipFill>
        <p:spPr>
          <a:xfrm>
            <a:off x="3780000" y="333360"/>
            <a:ext cx="5153040" cy="6264360"/>
          </a:xfrm>
          <a:prstGeom prst="rect">
            <a:avLst/>
          </a:prstGeom>
          <a:ln w="47520">
            <a:solidFill>
              <a:srgbClr val="990099"/>
            </a:solidFill>
            <a:miter/>
          </a:ln>
        </p:spPr>
      </p:pic>
      <p:sp>
        <p:nvSpPr>
          <p:cNvPr id="259" name="Text Box 4"/>
          <p:cNvSpPr/>
          <p:nvPr/>
        </p:nvSpPr>
        <p:spPr>
          <a:xfrm>
            <a:off x="179280" y="1413000"/>
            <a:ext cx="338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0000"/>
                </a:solidFill>
                <a:latin typeface="Arbat"/>
              </a:rPr>
              <a:t>Їсти чи не їсти?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85520" y="1714680"/>
            <a:ext cx="7924680" cy="146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чові добавки це – речовини які ,ніколи не споживаються самостійно а вводяться в продукти харчування при виготовлен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684360" y="260280"/>
            <a:ext cx="611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Харчові добав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785880" y="3214800"/>
            <a:ext cx="78231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66"/>
                </a:solidFill>
                <a:latin typeface="Georgia"/>
              </a:rPr>
              <a:t>Сучасні харчові добавки виконують дві функції 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539640" y="3716280"/>
            <a:ext cx="7925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5"/>
          <p:cNvSpPr/>
          <p:nvPr/>
        </p:nvSpPr>
        <p:spPr>
          <a:xfrm>
            <a:off x="1357200" y="4000680"/>
            <a:ext cx="721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 Збільшують термін зберігання продуктів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 Посилюють приємні смакові якості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260280"/>
            <a:ext cx="82152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Харчові добавки позначаються літерою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 (від слова  «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urope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») і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трьохзначным числом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, що розміщується після букви 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Цифри говорят про тип харчової добавки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64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13:55Z</dcterms:created>
  <dc:creator>user</dc:creator>
  <dc:description/>
  <dc:language>en-US</dc:language>
  <cp:lastModifiedBy>Admin</cp:lastModifiedBy>
  <dcterms:modified xsi:type="dcterms:W3CDTF">2014-01-10T05:47:51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b000000000001024140</vt:lpwstr>
  </property>
</Properties>
</file>