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B538-43BB-43EF-8126-DABBD447E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404-E6C4-470A-AAFE-BA546E08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7EC5-0DA1-49B8-BDC2-8996C306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4E1-214B-4E15-852D-A3B5E9E4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0A42-619B-4A5E-8930-F58C94D6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588-A00D-4FA5-ACA3-04272716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8F22-4462-4FCC-94F7-896F7939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367A-78DA-4ED6-91F0-FC8C2F97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3D4B-9579-489B-8A49-2AFFB67F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84B8-E20E-43FB-9B6B-68EFC2B3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039C-F51E-4F6C-8DE7-35B1123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266-70F5-47BC-AB2A-9C21402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61A5-1F7B-4C69-B86C-91668E1A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CF5F2-CCF3-4471-AA34-9C49FE88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94537-28E1-478C-B2FB-0900C7C5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02D8-B920-4972-8B00-462252211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8FF6-7EDC-4C65-B64E-2B7846101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6D023-32DD-484A-B5E4-D61D5DF6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4EFA-9429-4170-9786-6E833C02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3584-CF4C-4AA1-BE5D-6CDCAEA4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380EA-3418-443A-BDB1-62807582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65D43-635E-439C-B69D-11A81B01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5162-62FC-49E1-BF6E-3A2C648F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D7405-4473-46E1-B0D1-E087AAF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0A68A-FF1F-43B9-B57A-6FD5CC5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4CF4-2575-4CA3-8E05-117D1006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E3D32-521C-4700-9DFD-17EB915C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DB6CC-6660-4F61-8CC9-DF4D6D406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CF0F1-BDAA-45D9-8D56-2509BE2B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8A0C2-E447-460B-8ED2-87077521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A944C-F7AD-43C4-ABF2-02475D60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6501D-9901-4B3A-ADD6-3DD4F93E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F0988-931B-4A0E-9CD7-54998E45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67E-0AC6-4EFA-A6C7-FD4F26FE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7C912-848C-4091-B372-EC6D856A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B6E3D-7236-4B5C-BDA7-A7F9E064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6D633-9172-4D35-97B0-0ADEE3C5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56E4-2747-4282-97D2-EF6A971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0A045-B222-44FF-80B7-C2F128DE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5DB0-1F77-4A92-9FA6-69949E74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77BC-3659-45E6-8742-D815B3D9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F20E1-91A6-4444-9271-51074A4D9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94437-9E44-458E-AB2D-B8AB5CE68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68443-0B89-4510-80DF-18904CF2F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D5D-0CF1-422C-87BA-BF019F4ED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271A-6427-4CD5-BD8C-CB72BA04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CA53A-C3D9-4F73-BC99-3CC45446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DC72-C6FC-41B5-A78B-C19C6AA5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23CDF-6128-4B09-AE34-5D32754F8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15C7B-B630-4357-B098-C6ABCE23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FD77F-6175-45FD-9229-9ED0BBF3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25D35-8C3C-4645-9268-4DCBCC0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4EEEB-C1EC-4BD6-86B5-D3E0B0D2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C0874-3682-4888-8DA0-276B4C9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64E94-211B-48F8-A8A5-1005FE559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27F-0BA7-4714-AF61-AE358A06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E42C5-FA8C-42F6-A04B-A5C28370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314-3714-4DCA-8407-553C307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48B-209A-44E3-8035-C4874FCE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AE5-446D-4960-AAFB-6A92E70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B818-F2EA-4877-A666-63A936402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A1B2-4C6B-441F-9F0C-899B3CCD32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7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375C-AA9C-4FDA-A6AF-2C4EC5C52C7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3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D89B-E77D-485F-8B18-0E16A911B80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99c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82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8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BD0B-DBE8-4979-B76B-3D94EF736C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ЇЖА ЩО НАСОЛОДЖУЄ СВОЇМ СМАКОМ, І ЗУШУЄ ЇСТИ БІЛЬШЕ НІЖ ЦЕ ПОТРІБНО, ОТРУЮЄ, ЗАМІСТЬ ТОГО ЩОБЖИВИТИ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Ф. ФЕНЕЛ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85560" y="42840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Georgia"/>
              </a:rPr>
              <a:t>ПЕРЕГЛЯД ВІДЕОФІЛЬ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10920" y="4869000"/>
            <a:ext cx="8064360" cy="17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ff0000"/>
              </a:solidFill>
              <a:latin typeface="Times New Roman"/>
            </a:endParaRPr>
          </a:p>
        </p:txBody>
      </p:sp>
      <p:pic>
        <p:nvPicPr>
          <p:cNvPr id="269" name="Picture 5" descr="КЛАСС 039"/>
          <p:cNvPicPr/>
          <p:nvPr/>
        </p:nvPicPr>
        <p:blipFill>
          <a:blip r:embed="rId1"/>
          <a:stretch/>
        </p:blipFill>
        <p:spPr>
          <a:xfrm>
            <a:off x="5715000" y="3429000"/>
            <a:ext cx="3135240" cy="34290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0" name="Picture 4" descr=""/>
          <p:cNvPicPr/>
          <p:nvPr/>
        </p:nvPicPr>
        <p:blipFill>
          <a:blip r:embed="rId2"/>
          <a:stretch/>
        </p:blipFill>
        <p:spPr>
          <a:xfrm>
            <a:off x="357120" y="1714680"/>
            <a:ext cx="4707000" cy="23572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271" name="Picture 7" descr="1_5_160_3"/>
          <p:cNvPicPr/>
          <p:nvPr/>
        </p:nvPicPr>
        <p:blipFill>
          <a:blip r:embed="rId3"/>
          <a:stretch/>
        </p:blipFill>
        <p:spPr>
          <a:xfrm>
            <a:off x="1712880" y="3929040"/>
            <a:ext cx="3624120" cy="24098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p:transition spd="med">
    <p:split dir="out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Коли купуєш продукти харчування,зверни увагу на етикетку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f165p20-3"/>
          <p:cNvPicPr/>
          <p:nvPr/>
        </p:nvPicPr>
        <p:blipFill>
          <a:blip r:embed="rId1"/>
          <a:stretch/>
        </p:blipFill>
        <p:spPr>
          <a:xfrm>
            <a:off x="357120" y="1643040"/>
            <a:ext cx="3724200" cy="4967280"/>
          </a:xfrm>
          <a:prstGeom prst="rect">
            <a:avLst/>
          </a:prstGeom>
          <a:ln w="66600">
            <a:solidFill>
              <a:srgbClr val="008000"/>
            </a:solidFill>
            <a:miter/>
          </a:ln>
        </p:spPr>
      </p:pic>
      <p:pic>
        <p:nvPicPr>
          <p:cNvPr id="274" name="Picture 17" descr="фото с сайта г-ты &quot;Новые известия&quot;"/>
          <p:cNvPicPr/>
          <p:nvPr/>
        </p:nvPicPr>
        <p:blipFill>
          <a:blip r:embed="rId2"/>
          <a:stretch/>
        </p:blipFill>
        <p:spPr>
          <a:xfrm>
            <a:off x="4568760" y="1628640"/>
            <a:ext cx="4154400" cy="4969080"/>
          </a:xfrm>
          <a:prstGeom prst="rect">
            <a:avLst/>
          </a:prstGeom>
          <a:ln w="63360">
            <a:solidFill>
              <a:srgbClr val="008000"/>
            </a:solidFill>
            <a:miter/>
          </a:ln>
        </p:spPr>
      </p:pic>
      <p:pic>
        <p:nvPicPr>
          <p:cNvPr id="275" name="Object 20" descr=""/>
          <p:cNvPicPr/>
          <p:nvPr/>
        </p:nvPicPr>
        <p:blipFill>
          <a:blip r:embed="rId3"/>
          <a:stretch/>
        </p:blipFill>
        <p:spPr>
          <a:xfrm>
            <a:off x="6431040" y="1278000"/>
            <a:ext cx="155520" cy="1476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Лабораторний дослід № 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ТЕМА:Ознайомлення зі змістом етикеток на харчових продукт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МЕТА: Навчитися характеризувати склад продукту, за змістом етикет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ХІД РОБОТ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1.За штрих-кодом визначте країну вироб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2.Зверніть увагу на дату виробництва та кінцевий термін зберіг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3.Визначте вміст білків жирів і вуглеводів у продуктах харчуванн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4.Визначте ,які Е-числа входять до складу ппродукту та іх вплив на організ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78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5" dur="20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569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Object 38" descr=""/>
          <p:cNvPicPr/>
          <p:nvPr/>
        </p:nvPicPr>
        <p:blipFill>
          <a:blip r:embed="rId1"/>
          <a:stretch/>
        </p:blipFill>
        <p:spPr>
          <a:xfrm>
            <a:off x="714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250560" y="285840"/>
            <a:ext cx="88930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Georgia"/>
              </a:rPr>
              <a:t>ЧИ ЗАЛЕЖИТЬ ЗДОРОВЯ ЛЮДИНИ ВІД ПРОДУКТІВ, ЯКІ ВОНА СПОЖИВАЄ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WordArt 4"/>
          <p:cNvSpPr txBox="1"/>
          <p:nvPr/>
        </p:nvSpPr>
        <p:spPr>
          <a:xfrm>
            <a:off x="539640" y="18900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77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Bookman Old Style"/>
              </a:rPr>
              <a:t> </a:t>
            </a:r>
            <a:endParaRPr b="1" lang="en-US" sz="20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Bookman Old Style"/>
              <a:ea typeface="Bookman Old Style"/>
            </a:endParaRPr>
          </a:p>
        </p:txBody>
      </p:sp>
      <p:pic>
        <p:nvPicPr>
          <p:cNvPr id="285" name="Picture 31" descr="КЛАСС 042"/>
          <p:cNvPicPr/>
          <p:nvPr/>
        </p:nvPicPr>
        <p:blipFill>
          <a:blip r:embed="rId1"/>
          <a:stretch/>
        </p:blipFill>
        <p:spPr>
          <a:xfrm>
            <a:off x="6912000" y="518328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p:transition spd="med">
    <p:split dir="out" orient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Я РО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4" descr="AMPRODUC"/>
          <p:cNvPicPr/>
          <p:nvPr/>
        </p:nvPicPr>
        <p:blipFill>
          <a:blip r:embed="rId1"/>
          <a:stretch/>
        </p:blipFill>
        <p:spPr>
          <a:xfrm>
            <a:off x="611280" y="2133720"/>
            <a:ext cx="3214440" cy="3456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851280" y="2060640"/>
            <a:ext cx="4906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ідготувати додаткову інформаціюпро харчові добавки в продуктах харчув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3916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4400" spc="-1" strike="noStrike">
                <a:solidFill>
                  <a:srgbClr val="ff0066"/>
                </a:solidFill>
                <a:latin typeface="Arial"/>
              </a:rPr>
              <a:t>Тест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і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 харчування,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–поживні речов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)картопля , б)білки, в)рис, г) жири д) яблука, е) м'ясо, є) мінеральні солі, ж) вода, з) вуглеводи, і)ри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imSun"/>
                <a:ea typeface="SimSun"/>
              </a:rPr>
              <a:t>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иберіть з переліку продукти які містять            жир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  <a:ea typeface="SimSun"/>
              </a:rPr>
              <a:t>Ⅱ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вариант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- вугливо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ир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пуст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хліб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риба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виноград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олбаса,                     є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речка, ж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сметана, з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горіхи, і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 картопл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Гра “Третій зайвий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WordArt 5" descr=""/>
          <p:cNvPicPr/>
          <p:nvPr/>
        </p:nvPicPr>
        <p:blipFill>
          <a:blip r:embed="rId1"/>
          <a:stretch/>
        </p:blipFill>
        <p:spPr>
          <a:xfrm>
            <a:off x="590400" y="1768320"/>
            <a:ext cx="8029800" cy="37674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55640" y="-360"/>
            <a:ext cx="388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Georgia"/>
              </a:rPr>
              <a:t>Відповіді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Ⅰ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варіант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  <a:ea typeface="SimSun"/>
              </a:rPr>
              <a:t>Ⅱ</a:t>
            </a: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варі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1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в, д, е, і         б, г,є, ж, з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Завдання 2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 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а, г, е, ж,з,         б, в, д, є,і, </a:t>
            </a: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428760" y="4000680"/>
            <a:ext cx="87152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не має помилок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 - 2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4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  </a:t>
            </a: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3 - 4</a:t>
            </a:r>
            <a:r>
              <a:rPr b="0" lang="ru-RU" sz="4000" spc="-1" strike="noStrike">
                <a:solidFill>
                  <a:srgbClr val="0000ff"/>
                </a:solidFill>
                <a:latin typeface="Arial Black"/>
              </a:rPr>
              <a:t> помилки</a:t>
            </a:r>
            <a:r>
              <a:rPr b="0" lang="ru-RU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Times New Roman"/>
              </a:rPr>
              <a:t>–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3»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214200" y="449280"/>
            <a:ext cx="8569440" cy="6408720"/>
          </a:xfrm>
          <a:prstGeom prst="rect">
            <a:avLst/>
          </a:prstGeom>
          <a:noFill/>
          <a:ln w="1015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1" descr="КЛАСС 042"/>
          <p:cNvPicPr/>
          <p:nvPr/>
        </p:nvPicPr>
        <p:blipFill>
          <a:blip r:embed="rId1"/>
          <a:stretch/>
        </p:blipFill>
        <p:spPr>
          <a:xfrm>
            <a:off x="1428840" y="2286000"/>
            <a:ext cx="2232000" cy="167472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241" name="Picture 32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2160720" cy="1689120"/>
          </a:xfrm>
          <a:prstGeom prst="rect">
            <a:avLst/>
          </a:prstGeom>
          <a:ln w="63360">
            <a:solidFill>
              <a:srgbClr val="0000ff"/>
            </a:solidFill>
            <a:miter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1943280" cy="1388880"/>
          </a:xfrm>
          <a:prstGeom prst="rect">
            <a:avLst/>
          </a:prstGeom>
          <a:ln w="57240">
            <a:solidFill>
              <a:srgbClr val="009900"/>
            </a:solidFill>
            <a:miter/>
          </a:ln>
        </p:spPr>
      </p:pic>
      <p:grpSp>
        <p:nvGrpSpPr>
          <p:cNvPr id="243" name="WordArt 34"/>
          <p:cNvGrpSpPr/>
          <p:nvPr/>
        </p:nvGrpSpPr>
        <p:grpSpPr>
          <a:xfrm>
            <a:off x="3127320" y="5413320"/>
            <a:ext cx="5480280" cy="1451160"/>
            <a:chOff x="3127320" y="5413320"/>
            <a:chExt cx="5480280" cy="1451160"/>
          </a:xfrm>
        </p:grpSpPr>
        <p:pic>
          <p:nvPicPr>
            <p:cNvPr id="244" name="WordArt 34" descr=""/>
            <p:cNvPicPr/>
            <p:nvPr/>
          </p:nvPicPr>
          <p:blipFill>
            <a:blip r:embed="rId4"/>
            <a:stretch/>
          </p:blipFill>
          <p:spPr>
            <a:xfrm>
              <a:off x="3127320" y="5413320"/>
              <a:ext cx="548028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3132000" y="5421240"/>
              <a:ext cx="5472360" cy="14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AutoShape 36"/>
          <p:cNvSpPr/>
          <p:nvPr/>
        </p:nvSpPr>
        <p:spPr>
          <a:xfrm rot="823200">
            <a:off x="3666960" y="3830760"/>
            <a:ext cx="2305080" cy="108252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37" descr="01"/>
          <p:cNvPicPr/>
          <p:nvPr/>
        </p:nvPicPr>
        <p:blipFill>
          <a:blip r:embed="rId5"/>
          <a:stretch/>
        </p:blipFill>
        <p:spPr>
          <a:xfrm>
            <a:off x="5072040" y="4929120"/>
            <a:ext cx="2232000" cy="165600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grpSp>
        <p:nvGrpSpPr>
          <p:cNvPr id="248" name="WordArt 30"/>
          <p:cNvGrpSpPr/>
          <p:nvPr/>
        </p:nvGrpSpPr>
        <p:grpSpPr>
          <a:xfrm>
            <a:off x="603360" y="396720"/>
            <a:ext cx="6046560" cy="1309680"/>
            <a:chOff x="603360" y="396720"/>
            <a:chExt cx="6046560" cy="1309680"/>
          </a:xfrm>
        </p:grpSpPr>
        <p:pic>
          <p:nvPicPr>
            <p:cNvPr id="249" name="WordArt 30" descr=""/>
            <p:cNvPicPr/>
            <p:nvPr/>
          </p:nvPicPr>
          <p:blipFill>
            <a:blip r:embed="rId6"/>
            <a:stretch/>
          </p:blipFill>
          <p:spPr>
            <a:xfrm>
              <a:off x="603360" y="396720"/>
              <a:ext cx="6046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11280" y="404640"/>
              <a:ext cx="603252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1" name="Прямоугольник 11" descr=""/>
          <p:cNvPicPr/>
          <p:nvPr/>
        </p:nvPicPr>
        <p:blipFill>
          <a:blip r:embed="rId7"/>
          <a:stretch/>
        </p:blipFill>
        <p:spPr>
          <a:xfrm>
            <a:off x="4346640" y="3213000"/>
            <a:ext cx="444600" cy="408240"/>
          </a:xfrm>
          <a:prstGeom prst="rect">
            <a:avLst/>
          </a:prstGeom>
          <a:ln w="0">
            <a:noFill/>
          </a:ln>
        </p:spPr>
      </p:pic>
      <p:pic>
        <p:nvPicPr>
          <p:cNvPr id="252" name="Прямоугольник 13" descr=""/>
          <p:cNvPicPr/>
          <p:nvPr/>
        </p:nvPicPr>
        <p:blipFill>
          <a:blip r:embed="rId8"/>
          <a:stretch/>
        </p:blipFill>
        <p:spPr>
          <a:xfrm>
            <a:off x="353880" y="298440"/>
            <a:ext cx="8156880" cy="1585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0000"/>
                </a:solidFill>
                <a:latin typeface="Arial"/>
              </a:rPr>
              <a:t>Мета уроку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формувати поняття про харчові добавки, показати учням значення харчових добавок, їхню необхідність і небезпеку для здоров’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визначити значення хімії в сучасній харчовій промисловості; розвивати критичне мислення учні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  виховувати дбайливе ставлення до власного здоров’я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5" descr="Eating_200"/>
          <p:cNvPicPr/>
          <p:nvPr/>
        </p:nvPicPr>
        <p:blipFill>
          <a:blip r:embed="rId1"/>
          <a:stretch/>
        </p:blipFill>
        <p:spPr>
          <a:xfrm>
            <a:off x="0" y="5173560"/>
            <a:ext cx="2373480" cy="1684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56" name="Picture 17" descr="iCA9UKALQ"/>
          <p:cNvPicPr/>
          <p:nvPr/>
        </p:nvPicPr>
        <p:blipFill>
          <a:blip r:embed="rId2"/>
          <a:stretch/>
        </p:blipFill>
        <p:spPr>
          <a:xfrm>
            <a:off x="6983280" y="4697280"/>
            <a:ext cx="2160720" cy="2160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p:transition spd="med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i="1" lang="ru-RU" sz="3000" spc="-1" strike="noStrike">
                <a:solidFill>
                  <a:srgbClr val="009999"/>
                </a:solidFill>
                <a:latin typeface="Monotype Corsiva"/>
              </a:rPr>
              <a:t> </a:t>
            </a:r>
            <a:br>
              <a:rPr sz="1500"/>
            </a:br>
            <a:br>
              <a:rPr sz="1500"/>
            </a:br>
            <a:br>
              <a:rPr sz="5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3" descr="P1310082"/>
          <p:cNvPicPr/>
          <p:nvPr/>
        </p:nvPicPr>
        <p:blipFill>
          <a:blip r:embed="rId1"/>
          <a:stretch/>
        </p:blipFill>
        <p:spPr>
          <a:xfrm>
            <a:off x="3780000" y="333360"/>
            <a:ext cx="5153040" cy="6264360"/>
          </a:xfrm>
          <a:prstGeom prst="rect">
            <a:avLst/>
          </a:prstGeom>
          <a:ln w="47520">
            <a:solidFill>
              <a:srgbClr val="990099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179280" y="1413000"/>
            <a:ext cx="3382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0000"/>
                </a:solidFill>
                <a:latin typeface="Arbat"/>
              </a:rPr>
              <a:t>Їсти чи не їсти?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85520" y="1714680"/>
            <a:ext cx="7924680" cy="146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ові добавки це – речовини які ,ніколи не споживаються самостійно а вводяться в продукти харчування при виготовлен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4"/>
          <p:cNvSpPr txBox="1"/>
          <p:nvPr/>
        </p:nvSpPr>
        <p:spPr>
          <a:xfrm>
            <a:off x="684360" y="260280"/>
            <a:ext cx="611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7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Харчові добав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785880" y="3214800"/>
            <a:ext cx="78231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0066"/>
                </a:solidFill>
                <a:latin typeface="Georgia"/>
              </a:rPr>
              <a:t>Сучасні харчові добавки виконують дві функції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3716280"/>
            <a:ext cx="7925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3880" indent="-353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5"/>
          <p:cNvSpPr/>
          <p:nvPr/>
        </p:nvSpPr>
        <p:spPr>
          <a:xfrm>
            <a:off x="1357200" y="4000680"/>
            <a:ext cx="721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Збільшують термін зберігання продуктів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- Посилюють приємні смакові якості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680" y="260280"/>
            <a:ext cx="8215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70c0"/>
                </a:solidFill>
                <a:latin typeface="Arial"/>
              </a:rPr>
              <a:t>Харчові добавки позначаються літерою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Е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  (від слова  «</a:t>
            </a: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Europe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») і</a:t>
            </a:r>
            <a:r>
              <a:rPr b="1" i="1" lang="ru-RU" sz="4000" spc="-1" strike="noStrike">
                <a:solidFill>
                  <a:srgbClr val="ff0000"/>
                </a:solidFill>
                <a:latin typeface="Garamond"/>
              </a:rPr>
              <a:t>трьохзначным числом</a:t>
            </a: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, що розміщується після букви 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aramond"/>
              </a:rPr>
              <a:t>Цифри говорят про тип харчової добавк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64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31T21:13:55Z</dcterms:created>
  <dc:creator>user</dc:creator>
  <dc:description/>
  <dc:language>en-US</dc:language>
  <cp:lastModifiedBy>Admin</cp:lastModifiedBy>
  <dcterms:modified xsi:type="dcterms:W3CDTF">2014-01-10T05:47:51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b000000000001024140</vt:lpwstr>
  </property>
</Properties>
</file>