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0CC-BBFB-4E1C-ACB8-E633D861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AD1-47E1-44B7-8E6E-FFDA96FB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800-D4B2-4494-AF3B-70BBFEC6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0FA-9C1F-4793-8419-F7B0F3C9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E198-3FF6-4694-AF47-B4DCFF12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63C6-7FFC-4A40-BC0C-370469E6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E4DB-C19D-446E-AEE2-8AFB0240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066E-9423-42FC-A3DE-73EC1FA5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52D5-3E74-4451-B9B3-9A3B436F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672A-00CF-4792-8D5E-A38B7F4D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3C12-85C5-4D36-8F2E-245E65D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846-B162-482C-9269-15B7C3B8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CE0E-E826-490C-9DDC-83C99188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901B-9169-4CB7-8AE6-8C81935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7B51-7ACA-4367-8C5C-B32AE75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7DA5-2563-4A9D-9E70-9B7CC07C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5FF7-53E0-419B-AF98-67058278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AAA4-763B-4D06-8320-A5DCAF25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3F86-6727-4929-A494-0CC85222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814F-07D9-4176-8C03-2AB6DC3F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7C21-C274-4267-937F-9D3B06B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2A35-697A-423A-83EE-34A38C67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888-EAAA-43DA-A6C6-1FCA0C8F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2241-2DB9-45EB-9D92-D4A178B5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437F-B606-4D38-A37B-C20992A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5B38-5E68-4AB0-8178-71E51523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6C15-D621-4828-AF75-DE399EC3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9257-5B6D-4460-AB6D-D2BC14C3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71658-230D-4445-8A2A-96846642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BE0A-F7B7-4436-80D7-125851E5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0AC8-16AA-4CE1-A897-A8C98F56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2EEB-F578-4953-9B5E-6E10E0AE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4F266-BAE0-4ED8-B980-307A5FBF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DD6-DCCE-4654-AF60-5D863B97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0FEF-B779-4C06-BE15-E3A74D6C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5D827-010D-4794-BD87-37A68284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6D98E-AEF6-463D-9696-393326CE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184A-B6D6-4EF6-89AD-CCDBBB15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E09D8-98DC-487B-817E-12602B67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8B284-3AD6-48F9-89E0-493B2C5F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A6A1-5E92-423C-A648-C7EDAFE5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A2897-07CA-4004-B9EF-B46D2872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28BE2-6698-4826-91CA-62F3FB60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08EB3-EB65-4718-8988-36E1194B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6E3-1777-43F6-96F1-55E3D056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CCF2A-E5BB-48E8-952B-875F5218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61FD9-5706-4590-B69B-A52FD7E4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35CED-36C3-4EDA-AD91-98936E78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A1E0-3F1B-4074-91D7-350AB2C6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5F7EE-63E6-4EC1-BFFD-AEB09340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4FA01-9642-49DB-BF27-A531898E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90030-42EA-4E5E-A7F4-B0321FE3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75990-75A7-4FEF-901C-3FB08DCB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F1BB0-49ED-4057-8618-B93880C3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9E3E-76A6-48E1-9D34-B4B47F27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1A8-A6AF-4AC2-9473-49E1916D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5FBDE-6B2D-4BFA-B27A-D1092229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55F-FF8D-4763-AB68-E74E39C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9D0-65DD-475E-9290-AB61A4A3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9499-2020-4A0D-8619-238D4A81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E9C1-799D-46CD-9DB1-7EB5C4695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5630-BE71-436E-9621-5696B832F7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EFBC-2BF3-4E8F-8FD8-57DA26ED3B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AC5C-8827-489B-A80F-D117235F2D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ED0E-9AA3-42D5-8151-4578E6728CD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39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ЇЖА ЩО НАСОЛОДЖУЄ СВОЇМ СМАКОМ, І ЗУШУЄ ЇСТИ БІЛЬШЕ НІЖ ЦЕ ПОТРІБНО, ОТРУЮЄ, ЗАМІСТЬ ТОГО ЩОБЖИВИТ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Ф. ФЕНЕ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5560" y="4284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Georgia"/>
              </a:rPr>
              <a:t>ПЕРЕГЛЯД ВІДЕОФІЛЬ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0920" y="4869000"/>
            <a:ext cx="80643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9" name="Picture 5" descr="КЛАСС 039"/>
          <p:cNvPicPr/>
          <p:nvPr/>
        </p:nvPicPr>
        <p:blipFill>
          <a:blip r:embed="rId1"/>
          <a:stretch/>
        </p:blipFill>
        <p:spPr>
          <a:xfrm>
            <a:off x="5715000" y="3429000"/>
            <a:ext cx="3135240" cy="3429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4707000" cy="2357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1" name="Picture 7" descr="1_5_160_3"/>
          <p:cNvPicPr/>
          <p:nvPr/>
        </p:nvPicPr>
        <p:blipFill>
          <a:blip r:embed="rId3"/>
          <a:stretch/>
        </p:blipFill>
        <p:spPr>
          <a:xfrm>
            <a:off x="1712880" y="3929040"/>
            <a:ext cx="3624120" cy="2409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 spd="med"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ли купуєш продукти харчування,зверни увагу на етикетку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f165p20-3"/>
          <p:cNvPicPr/>
          <p:nvPr/>
        </p:nvPicPr>
        <p:blipFill>
          <a:blip r:embed="rId1"/>
          <a:stretch/>
        </p:blipFill>
        <p:spPr>
          <a:xfrm>
            <a:off x="357120" y="1643040"/>
            <a:ext cx="3724200" cy="496728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pic>
        <p:nvPicPr>
          <p:cNvPr id="274" name="Picture 17" descr="фото с сайта г-ты &quot;Новые известия&quot;"/>
          <p:cNvPicPr/>
          <p:nvPr/>
        </p:nvPicPr>
        <p:blipFill>
          <a:blip r:embed="rId2"/>
          <a:stretch/>
        </p:blipFill>
        <p:spPr>
          <a:xfrm>
            <a:off x="4568760" y="1628640"/>
            <a:ext cx="4154400" cy="4969080"/>
          </a:xfrm>
          <a:prstGeom prst="rect">
            <a:avLst/>
          </a:prstGeom>
          <a:ln w="63360">
            <a:solidFill>
              <a:srgbClr val="008000"/>
            </a:solidFill>
            <a:miter/>
          </a:ln>
        </p:spPr>
      </p:pic>
      <p:pic>
        <p:nvPicPr>
          <p:cNvPr id="275" name="Object 20" descr=""/>
          <p:cNvPicPr/>
          <p:nvPr/>
        </p:nvPicPr>
        <p:blipFill>
          <a:blip r:embed="rId3"/>
          <a:stretch/>
        </p:blipFill>
        <p:spPr>
          <a:xfrm>
            <a:off x="6431040" y="1278000"/>
            <a:ext cx="155520" cy="147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50560" y="28584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Лабораторний дослід №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ТЕМА:Ознайомлення зі змістом етикеток на харчових продук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МЕТА: Навчитися характеризувати склад продукту, за змістом етик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ХІД РОБО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1.За штрих-кодом визначте країну вироб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2.Зверніть увагу на дату виробництва та кінцевий термін зберіг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3.Визначте вміст білків жирів і вуглеводів у продуктах харч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4.Визначте ,які Е-числа входять до складу ппродукту та іх вплив на організ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78" name="Picture 31" descr="КЛАСС 042"/>
          <p:cNvPicPr/>
          <p:nvPr/>
        </p:nvPicPr>
        <p:blipFill>
          <a:blip r:embed="rId1"/>
          <a:stretch/>
        </p:blipFill>
        <p:spPr>
          <a:xfrm>
            <a:off x="6912000" y="518328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0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ject 38" descr=""/>
          <p:cNvPicPr/>
          <p:nvPr/>
        </p:nvPicPr>
        <p:blipFill>
          <a:blip r:embed="rId1"/>
          <a:stretch/>
        </p:blipFill>
        <p:spPr>
          <a:xfrm>
            <a:off x="714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560" y="28584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ЧИ ЗАЛЕЖИТЬ ЗДОРОВЯ ЛЮДИНИ ВІД ПРОДУКТІВ, ЯКІ ВОНА СПОЖИВАЄ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85" name="Picture 31" descr="КЛАСС 042"/>
          <p:cNvPicPr/>
          <p:nvPr/>
        </p:nvPicPr>
        <p:blipFill>
          <a:blip r:embed="rId1"/>
          <a:stretch/>
        </p:blipFill>
        <p:spPr>
          <a:xfrm>
            <a:off x="6912000" y="518328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ДОМАШНЯ РО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AMPRODUC"/>
          <p:cNvPicPr/>
          <p:nvPr/>
        </p:nvPicPr>
        <p:blipFill>
          <a:blip r:embed="rId1"/>
          <a:stretch/>
        </p:blipFill>
        <p:spPr>
          <a:xfrm>
            <a:off x="611280" y="2133720"/>
            <a:ext cx="3214440" cy="3456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51280" y="2060640"/>
            <a:ext cx="4906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ідготувати додаткову інформаціюпро харчові добавки в продуктах харч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39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Те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imSun"/>
                <a:ea typeface="SimSun"/>
              </a:rPr>
              <a:t>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і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иберіть з переліку продукти  харчування,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Ⅱ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поживні речов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картопля , б)білки, в)рис, г) жири д) яблука, е) м'ясо, є) мінеральні солі, ж) вода, з) вуглеводи, і)р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вдання 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imSun"/>
                <a:ea typeface="SimSun"/>
              </a:rPr>
              <a:t>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иберіть з переліку продукти які містять            жир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Ⅱ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углив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сир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апуст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хліб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риб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виноград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олбаса,                     є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гречка, ж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сметана, з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горіхи, 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артоп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Гра “Третій зайвий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WordArt 5" descr=""/>
          <p:cNvPicPr/>
          <p:nvPr/>
        </p:nvPicPr>
        <p:blipFill>
          <a:blip r:embed="rId1"/>
          <a:stretch/>
        </p:blipFill>
        <p:spPr>
          <a:xfrm>
            <a:off x="590400" y="1768320"/>
            <a:ext cx="8029800" cy="37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88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Georgia"/>
              </a:rPr>
              <a:t>Відповіді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Ⅰ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аріант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Ⅱ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варі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, в, д, е, і         б, г,є, ж, з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вдання 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, г, е, ж,з,         б, в, д, є,і,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28760" y="4000680"/>
            <a:ext cx="87152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не має помилок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- 2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помилки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4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3 - 4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помилки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3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214200" y="449280"/>
            <a:ext cx="8569440" cy="6408720"/>
          </a:xfrm>
          <a:prstGeom prst="rect">
            <a:avLst/>
          </a:prstGeom>
          <a:noFill/>
          <a:ln w="101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1" descr="КЛАСС 042"/>
          <p:cNvPicPr/>
          <p:nvPr/>
        </p:nvPicPr>
        <p:blipFill>
          <a:blip r:embed="rId1"/>
          <a:stretch/>
        </p:blipFill>
        <p:spPr>
          <a:xfrm>
            <a:off x="1428840" y="228600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41" name="Picture 32" descr=""/>
          <p:cNvPicPr/>
          <p:nvPr/>
        </p:nvPicPr>
        <p:blipFill>
          <a:blip r:embed="rId2"/>
          <a:stretch/>
        </p:blipFill>
        <p:spPr>
          <a:xfrm>
            <a:off x="1500120" y="4214880"/>
            <a:ext cx="2160720" cy="1689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242" name="Picture 33" descr=""/>
          <p:cNvPicPr/>
          <p:nvPr/>
        </p:nvPicPr>
        <p:blipFill>
          <a:blip r:embed="rId3"/>
          <a:stretch/>
        </p:blipFill>
        <p:spPr>
          <a:xfrm>
            <a:off x="4572000" y="2714760"/>
            <a:ext cx="1943280" cy="1388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grpSp>
        <p:nvGrpSpPr>
          <p:cNvPr id="243" name="WordArt 34"/>
          <p:cNvGrpSpPr/>
          <p:nvPr/>
        </p:nvGrpSpPr>
        <p:grpSpPr>
          <a:xfrm>
            <a:off x="3127320" y="5413320"/>
            <a:ext cx="5480280" cy="1451160"/>
            <a:chOff x="3127320" y="5413320"/>
            <a:chExt cx="5480280" cy="1451160"/>
          </a:xfrm>
        </p:grpSpPr>
        <p:pic>
          <p:nvPicPr>
            <p:cNvPr id="244" name="WordArt 34" descr=""/>
            <p:cNvPicPr/>
            <p:nvPr/>
          </p:nvPicPr>
          <p:blipFill>
            <a:blip r:embed="rId4"/>
            <a:stretch/>
          </p:blipFill>
          <p:spPr>
            <a:xfrm>
              <a:off x="3127320" y="5413320"/>
              <a:ext cx="54802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132000" y="5421240"/>
              <a:ext cx="5472360" cy="14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AutoShape 36"/>
          <p:cNvSpPr/>
          <p:nvPr/>
        </p:nvSpPr>
        <p:spPr>
          <a:xfrm rot="823200">
            <a:off x="3666960" y="3830760"/>
            <a:ext cx="2305080" cy="10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37" descr="01"/>
          <p:cNvPicPr/>
          <p:nvPr/>
        </p:nvPicPr>
        <p:blipFill>
          <a:blip r:embed="rId5"/>
          <a:stretch/>
        </p:blipFill>
        <p:spPr>
          <a:xfrm>
            <a:off x="5072040" y="4929120"/>
            <a:ext cx="2232000" cy="1656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248" name="WordArt 30"/>
          <p:cNvGrpSpPr/>
          <p:nvPr/>
        </p:nvGrpSpPr>
        <p:grpSpPr>
          <a:xfrm>
            <a:off x="603360" y="396720"/>
            <a:ext cx="6046560" cy="1309680"/>
            <a:chOff x="603360" y="396720"/>
            <a:chExt cx="6046560" cy="1309680"/>
          </a:xfrm>
        </p:grpSpPr>
        <p:pic>
          <p:nvPicPr>
            <p:cNvPr id="249" name="WordArt 30" descr=""/>
            <p:cNvPicPr/>
            <p:nvPr/>
          </p:nvPicPr>
          <p:blipFill>
            <a:blip r:embed="rId6"/>
            <a:stretch/>
          </p:blipFill>
          <p:spPr>
            <a:xfrm>
              <a:off x="603360" y="396720"/>
              <a:ext cx="60465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11280" y="404640"/>
              <a:ext cx="60325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Прямоугольник 11" descr=""/>
          <p:cNvPicPr/>
          <p:nvPr/>
        </p:nvPicPr>
        <p:blipFill>
          <a:blip r:embed="rId7"/>
          <a:stretch/>
        </p:blipFill>
        <p:spPr>
          <a:xfrm>
            <a:off x="4346640" y="321300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3" descr=""/>
          <p:cNvPicPr/>
          <p:nvPr/>
        </p:nvPicPr>
        <p:blipFill>
          <a:blip r:embed="rId8"/>
          <a:stretch/>
        </p:blipFill>
        <p:spPr>
          <a:xfrm>
            <a:off x="353880" y="298440"/>
            <a:ext cx="815688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Мета уроку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формувати поняття про харчові добавки, показати учням значення харчових добавок, їхню необхідність і небезпеку для здоров’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визначити значення хімії в сучасній харчовій промисловості; розвивати критичне мислення уч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 виховувати дбайливе ставлення до власного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Eating_200"/>
          <p:cNvPicPr/>
          <p:nvPr/>
        </p:nvPicPr>
        <p:blipFill>
          <a:blip r:embed="rId1"/>
          <a:stretch/>
        </p:blipFill>
        <p:spPr>
          <a:xfrm>
            <a:off x="0" y="5173560"/>
            <a:ext cx="2373480" cy="1684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56" name="Picture 17" descr="iCA9UKALQ"/>
          <p:cNvPicPr/>
          <p:nvPr/>
        </p:nvPicPr>
        <p:blipFill>
          <a:blip r:embed="rId2"/>
          <a:stretch/>
        </p:blipFill>
        <p:spPr>
          <a:xfrm>
            <a:off x="6983280" y="4697280"/>
            <a:ext cx="2160720" cy="2160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i="1" lang="ru-RU" sz="3000" spc="-1" strike="noStrike">
                <a:solidFill>
                  <a:srgbClr val="009999"/>
                </a:solidFill>
                <a:latin typeface="Monotype Corsiva"/>
              </a:rPr>
              <a:t> </a:t>
            </a:r>
            <a:br>
              <a:rPr sz="1500"/>
            </a:br>
            <a:br>
              <a:rPr sz="1500"/>
            </a:br>
            <a:br>
              <a:rPr sz="5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P1310082"/>
          <p:cNvPicPr/>
          <p:nvPr/>
        </p:nvPicPr>
        <p:blipFill>
          <a:blip r:embed="rId1"/>
          <a:stretch/>
        </p:blipFill>
        <p:spPr>
          <a:xfrm>
            <a:off x="3780000" y="333360"/>
            <a:ext cx="5153040" cy="6264360"/>
          </a:xfrm>
          <a:prstGeom prst="rect">
            <a:avLst/>
          </a:prstGeom>
          <a:ln w="47520">
            <a:solidFill>
              <a:srgbClr val="990099"/>
            </a:solidFill>
            <a:miter/>
          </a:ln>
        </p:spPr>
      </p:pic>
      <p:sp>
        <p:nvSpPr>
          <p:cNvPr id="259" name="Text Box 4"/>
          <p:cNvSpPr/>
          <p:nvPr/>
        </p:nvSpPr>
        <p:spPr>
          <a:xfrm>
            <a:off x="179280" y="141300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0000"/>
                </a:solidFill>
                <a:latin typeface="Arbat"/>
              </a:rPr>
              <a:t>Їсти чи не їсти?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85520" y="1714680"/>
            <a:ext cx="7924680" cy="14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чові добавки це – речовини які ,ніколи не споживаються самостійно а вводяться в продукти харчування при виготовлен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684360" y="260280"/>
            <a:ext cx="61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Харчові доба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785880" y="3214800"/>
            <a:ext cx="7823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Georgia"/>
              </a:rPr>
              <a:t>Сучасні харчові добавки виконують дві функції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39640" y="3716280"/>
            <a:ext cx="7925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1357200" y="4000680"/>
            <a:ext cx="721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Збільшують термін зберігання продуктів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Посилюють приємні смакові якості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60280"/>
            <a:ext cx="8215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Харчові добавки позначаються літерою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(від слова  «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urope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») і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трьохзначным числом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, що розміщується після букви 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Цифри говорят про тип харчової добавк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4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3:55Z</dcterms:created>
  <dc:creator>user</dc:creator>
  <dc:description/>
  <dc:language>en-US</dc:language>
  <cp:lastModifiedBy>Admin</cp:lastModifiedBy>
  <dcterms:modified xsi:type="dcterms:W3CDTF">2014-01-10T05:47:51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b000000000001024140</vt:lpwstr>
  </property>
</Properties>
</file>