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59.gif" ContentType="image/gif"/>
  <Override PartName="/ppt/media/image42.png" ContentType="image/png"/>
  <Override PartName="/ppt/media/image26.jpeg" ContentType="image/jpeg"/>
  <Override PartName="/ppt/media/image29.png" ContentType="image/png"/>
  <Override PartName="/ppt/media/chimes.wav" ContentType="audio/x-wav"/>
  <Override PartName="/ppt/media/image13.jpeg" ContentType="image/jpeg"/>
  <Override PartName="/ppt/media/image23.png" ContentType="image/png"/>
  <Override PartName="/ppt/media/image27.png" ContentType="image/png"/>
  <Override PartName="/ppt/media/image3.png" ContentType="image/png"/>
  <Override PartName="/ppt/media/image35.jpeg" ContentType="image/jpeg"/>
  <Override PartName="/ppt/media/image1.jpeg" ContentType="image/jpeg"/>
  <Override PartName="/ppt/media/image4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25.png" ContentType="image/png"/>
  <Override PartName="/ppt/media/image19.jpeg" ContentType="image/jpeg"/>
  <Override PartName="/ppt/media/image43.jpeg" ContentType="image/jpeg"/>
  <Override PartName="/ppt/media/image21.gif" ContentType="image/gif"/>
  <Override PartName="/ppt/media/image24.png" ContentType="image/png"/>
  <Override PartName="/ppt/media/image6.png" ContentType="image/png"/>
  <Override PartName="/ppt/media/image18.png" ContentType="image/png"/>
  <Override PartName="/ppt/media/image11.jpeg" ContentType="image/jpeg"/>
  <Override PartName="/ppt/media/image28.jpeg" ContentType="image/jpeg"/>
  <Override PartName="/ppt/media/image22.png" ContentType="image/png"/>
  <Override PartName="/ppt/media/image57.png" ContentType="image/png"/>
  <Override PartName="/ppt/media/image10.png" ContentType="image/png"/>
  <Override PartName="/ppt/media/image36.jpeg" ContentType="image/jpeg"/>
  <Override PartName="/ppt/media/image32.jpeg" ContentType="image/jpeg"/>
  <Override PartName="/ppt/media/image15.jpeg" ContentType="image/jpeg"/>
  <Override PartName="/ppt/media/image7.gif" ContentType="image/gif"/>
  <Override PartName="/ppt/media/image8.png" ContentType="image/png"/>
  <Override PartName="/ppt/media/image5.png" ContentType="image/png"/>
  <Override PartName="/ppt/media/image17.png" ContentType="image/png"/>
  <Override PartName="/ppt/media/image39.jpeg" ContentType="image/jpeg"/>
  <Override PartName="/ppt/media/image9.png" ContentType="image/png"/>
  <Override PartName="/ppt/media/image12.png" ContentType="image/png"/>
  <Override PartName="/ppt/media/image49.png" ContentType="image/png"/>
  <Override PartName="/ppt/media/image58.gif" ContentType="image/gif"/>
  <Override PartName="/ppt/media/image30.jpeg" ContentType="image/jpeg"/>
  <Override PartName="/ppt/media/image31.png" ContentType="image/png"/>
  <Override PartName="/ppt/media/image34.jpeg" ContentType="image/jpeg"/>
  <Override PartName="/ppt/media/image20.png" ContentType="image/png"/>
  <Override PartName="/ppt/media/image37.jpeg" ContentType="image/jpeg"/>
  <Override PartName="/ppt/media/image40.png" ContentType="image/png"/>
  <Override PartName="/ppt/media/image41.png" ContentType="image/png"/>
  <Override PartName="/ppt/media/image38.png" ContentType="image/png"/>
  <Override PartName="/ppt/media/image44.jpeg" ContentType="image/jpeg"/>
  <Override PartName="/ppt/media/image45.jpeg" ContentType="image/jpeg"/>
  <Override PartName="/ppt/media/image5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51.png" ContentType="image/png"/>
  <Override PartName="/ppt/media/image52.png" ContentType="image/png"/>
  <Override PartName="/ppt/media/image50.gif" ContentType="image/gif"/>
  <Override PartName="/ppt/media/image53.png" ContentType="image/png"/>
  <Override PartName="/ppt/media/image33.png" ContentType="image/png"/>
  <Override PartName="/ppt/media/image54.jpeg" ContentType="image/jpeg"/>
  <Override PartName="/ppt/media/image5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F606-4D85-4F1F-A7EC-62CCA89E5DF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271D-0C6F-46BC-93C6-88E55F5DFA49}" type="slidenum">
              <a:rPr b="0" lang="uk-U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5B9-F35C-41A8-A7A8-38A7E699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5CE-F413-481E-97A1-0693CAF5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E1812B-A140-46A6-8F5F-F4B95914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7DC535-23BF-4AD6-9A92-46580E22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9A4A5B-4D7A-4707-A882-51EA907C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3C5CC5-17F5-4E3C-8A2A-50E78F85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4D7D29-8ECF-47FA-B43B-63776A42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A6F03D-BA35-4D66-AE6F-6B47A472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D7AA39-62F3-4204-8A8E-ADEB1DC4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793B42-E34A-4E31-B0C0-20602EA4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18C1AB-CCD8-40C9-B124-77B064F5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DC3-935F-4F21-A99D-E4755F1A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43A-C795-4305-B22C-30D55E12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BC03A-580F-4877-9ED8-80E15BF4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1907F-5855-4E88-BE7E-EC0AE9A0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BCBDE-2EB1-42D3-B834-6F3B0DDB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A09A0-E91B-4E12-B00B-A1C5EB84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EFDC0-F322-4FDA-9597-FFEBC66E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99DB8-4D85-4155-9D7F-82602A47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67BD0-E4CF-4D12-B303-DAF38423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4D25-2F94-4361-9FBD-BA1E777F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F8609-1055-4FA7-AD45-F82CEDEA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6363D-CAD2-49B3-97C9-6289B493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BCD85-E16F-4C75-83E7-04EF6465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020C3-329C-430B-8FD6-7A8E7DDF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0EF0B-24D6-426D-B68E-303837DF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76CD7-FAA8-48E9-A809-D8180658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C4AAE-3A65-4317-859C-15E1E955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2A6C5-05E1-430E-9ABF-866E51CE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E92DF-3267-4EA7-8C00-27D3B9CB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5881F-4743-40AC-84DF-95BB403F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F1F4-40E1-4FC0-AB99-539AABF2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98D31-33D0-46D9-9992-F943BD23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32E3D-E0AB-4C0F-BD1F-30B86A1E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826BE-1446-4662-AB63-9EAFB947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F3F06-CD8F-4425-A250-0F749C75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81D2B-E739-42DD-8E39-5ED8B095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03AA4-59BA-4E74-B540-46481E8C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2B763-96D9-4A94-A5FF-88881C13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A6705E-60D3-4E5E-84E2-20B07134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EA6A4-3B6D-4E29-9CCF-A4F40A2A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1DE0AE-9845-40D0-B750-7F89FDF2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C17-A753-4A92-8A58-9C28563E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54DEBF-A584-4198-9F73-0A061A65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8D1C02-8A64-4F8D-B344-5693B12F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27CF74-23ED-482C-9CCB-8E1CB5EF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38670F-5979-4F5B-8FA0-58B21A6B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B929A4-1D38-451A-B035-24625EB6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EC38BA-AFED-46EB-A0AB-10BA820F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3BA933-B7F4-4CBC-9662-5325EBB2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854725-B9AC-44CA-965A-9DFB7324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6191D3-A184-4458-AA31-E9FCCB02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E393F-FBFE-48E7-913D-CBF621FE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CCC-1965-4D46-AD54-75381F32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9506A-8544-4C20-95E6-25F57DE4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77E3B-CE28-4D36-A740-C074450B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140DD-C6EA-4019-944E-BEE52266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64903-8414-40D7-9CFD-01A819CD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B7605-8AF0-4149-8EEF-B7476F6F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3D192-1DD1-4F59-91A1-17C02660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02E0F-EF92-4201-ADDA-331B825B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0B860-D71A-458F-9B59-E5A0C8D0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5620D-6F7D-410F-A6E9-1A8A3078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CA904-9250-46AD-A4A6-B0233E99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870-0F48-413B-A1FB-529D0AAA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F16DD-B187-4B8E-B907-218BB366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5C1CA-E9EB-451A-939A-CB5E9DEC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CC62F-6F86-4752-BDFB-9219A6D1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F653C-6FA4-48BA-A657-1E3968DC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50F7D-D3C0-4CAE-BB7C-E6D4E7FE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7E8D3-04DE-4EE1-A32F-7F07078B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91C09-B948-476D-85E8-176091D1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67F45-944A-494D-A983-2F33AE89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59BD8-3F73-4748-8701-06255AC8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B63C1-97C0-406D-86DE-ECCC8BB0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2032-0C98-4A3A-87CD-993A12BC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8FC16-0FBF-4303-80AB-A122F9E1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F82CC-A864-4176-9502-9EBB9643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E1BCE-EEC2-4905-B1B8-8B21E322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3BF0A-04AA-40C9-816A-92403431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ABF36-A0C1-4400-A255-C51D32F7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B5767-6F25-407F-ABD6-661BA262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678F5-0F31-4B13-959B-F31DB80A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6149A-67DE-440E-AC00-44C01F14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71EF5-70CF-4E96-B178-32AB4179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5BAE4-B273-423B-A6CB-6929554C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435-0265-47C5-AB8F-4E1D051A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4D321-BED8-475B-869B-D2CDEAF0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2C695-2D42-4435-A444-7DC70F6A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01295-8FE7-4064-A014-E27B9D6C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07F86-3944-4E6C-B75A-651437F8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417E9-EDB1-4386-A054-B1446610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F108EA-886E-4616-8582-A1360D43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C2C258-D3C7-4609-8E44-72A4FCC8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26898C-3EE8-42AE-9ADD-1ABC7163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FFA279-05BC-4C2C-AB8A-3F5D3C5C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17F029-04AB-4FC8-AF2A-19BA60B6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6141-7AE7-4A5B-9A15-26C300E7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C8A6AB-0453-4A3A-85EC-F9F8399F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F1AA69-DC29-4FD7-B3E8-A85C6AB1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6EF904-BD2F-4795-8FDB-9B80813B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0FC72D-C43D-48B1-8B3A-B20FC597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17401A-210A-4A98-B4D6-CEF7A8B2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494426-3A05-4553-94B8-46A32DA8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BA74C5-CF7F-421E-BFC3-90A2A120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F1C112-192C-42BC-BF8A-157CA6C2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81ACC0-363B-4D2E-8E8B-54AEB202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DC0DF7-8425-4F19-BDED-0DDAA6F0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кутник із двома округленими протилежними кут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кутник із двома округленими протилежними кут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2C56-FC98-4613-8DBB-746D92EDCB45}" type="slidenum">
              <a:rPr b="0" lang="uk-UA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кутник із двома округленими протилежними кут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кутник із двома округленими протилежними кут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62AD-8C94-4AC2-96A1-7785A9E65A58}" type="slidenum">
              <a:rPr b="0" lang="uk-UA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кутник із двома округленими протилежними кут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кутник із двома округленими протилежними кут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кут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BF62-C9C7-4B6B-86BC-C2EC4A9B8E26}" type="slidenum">
              <a:rPr b="0" lang="uk-UA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кут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3C8B-66F2-4736-A369-8B6140696FC3}" type="slidenum">
              <a:rPr b="0" lang="uk-UA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кутник із двома округленими протилежними кут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кутник із двома округленими протилежними кут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кут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C2B5-F9CF-4010-8787-8CA7FB96DEF1}" type="slidenum">
              <a:rPr b="0" lang="uk-UA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кутник із двома округленими протилежними кут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кутник із двома округленими протилежними кут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кут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кут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EE65-FC17-4165-BC1B-82B8EB2650E3}" type="slidenum">
              <a:rPr b="0" lang="uk-UA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кутник із двома округленими протилежними кут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кутник із двома округленими протилежними кут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кут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BD15-16B8-4BF7-8312-DD4DA4A2F052}" type="slidenum">
              <a:rPr b="0" lang="uk-UA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кут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1866-A84C-4AFF-8FEE-823D4D8737A3}" type="slidenum">
              <a:rPr b="0" lang="uk-UA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2C26-DF1A-4224-9F98-7EA2EC7E6038}" type="slidenum">
              <a:rPr b="0" lang="uk-UA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gi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58.gif"/><Relationship Id="rId4" Type="http://schemas.openxmlformats.org/officeDocument/2006/relationships/image" Target="../media/image59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0" descr=""/>
          <p:cNvPicPr/>
          <p:nvPr/>
        </p:nvPicPr>
        <p:blipFill>
          <a:blip r:embed="rId2"/>
          <a:stretch/>
        </p:blipFill>
        <p:spPr>
          <a:xfrm>
            <a:off x="360360" y="378000"/>
            <a:ext cx="8369280" cy="2232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411280" y="4149360"/>
            <a:ext cx="6561360" cy="232740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Урок підготувала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Жировецька Л.Е.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вч.хімії СЗШ №13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м.Львова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26" name="Місце для вмісту 3" descr=""/>
          <p:cNvPicPr/>
          <p:nvPr/>
        </p:nvPicPr>
        <p:blipFill>
          <a:blip r:embed="rId3"/>
          <a:stretch/>
        </p:blipFill>
        <p:spPr>
          <a:xfrm>
            <a:off x="450720" y="1547640"/>
            <a:ext cx="82425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9" descr=""/>
          <p:cNvPicPr/>
          <p:nvPr/>
        </p:nvPicPr>
        <p:blipFill>
          <a:blip r:embed="rId2"/>
          <a:stretch/>
        </p:blipFill>
        <p:spPr>
          <a:xfrm>
            <a:off x="-79200" y="249120"/>
            <a:ext cx="9351720" cy="1177920"/>
          </a:xfrm>
          <a:prstGeom prst="rect">
            <a:avLst/>
          </a:prstGeom>
          <a:ln w="0">
            <a:noFill/>
          </a:ln>
        </p:spPr>
      </p:pic>
      <p:pic>
        <p:nvPicPr>
          <p:cNvPr id="428" name="Місце для вмісту 4" descr="263.jpg"/>
          <p:cNvPicPr/>
          <p:nvPr/>
        </p:nvPicPr>
        <p:blipFill>
          <a:blip r:embed="rId3"/>
          <a:stretch/>
        </p:blipFill>
        <p:spPr>
          <a:xfrm>
            <a:off x="2797200" y="1646280"/>
            <a:ext cx="3549600" cy="4525920"/>
          </a:xfrm>
          <a:prstGeom prst="rect">
            <a:avLst/>
          </a:prstGeom>
          <a:ln w="0">
            <a:noFill/>
          </a:ln>
        </p:spPr>
      </p:pic>
      <p:sp>
        <p:nvSpPr>
          <p:cNvPr id="429" name="Дорівнює 3"/>
          <p:cNvSpPr/>
          <p:nvPr/>
        </p:nvSpPr>
        <p:spPr>
          <a:xfrm>
            <a:off x="4140360" y="765000"/>
            <a:ext cx="625320" cy="648000"/>
          </a:xfrm>
          <a:custGeom>
            <a:avLst/>
            <a:gdLst>
              <a:gd name="textAreaLeft" fmla="*/ 82800 w 625320"/>
              <a:gd name="textAreaRight" fmla="*/ 542520 w 625320"/>
              <a:gd name="textAreaTop" fmla="*/ 133560 h 648000"/>
              <a:gd name="textAreaBottom" fmla="*/ 514440 h 648000"/>
            </a:gdLst>
            <a:ahLst/>
            <a:rect l="textAreaLeft" t="textAreaTop" r="textAreaRight" b="textAreaBottom"/>
            <a:pathLst>
              <a:path w="626368" h="648072">
                <a:moveTo>
                  <a:pt x="83025" y="133503"/>
                </a:moveTo>
                <a:lnTo>
                  <a:pt x="543343" y="133503"/>
                </a:lnTo>
                <a:lnTo>
                  <a:pt x="543343" y="285929"/>
                </a:lnTo>
                <a:lnTo>
                  <a:pt x="83025" y="285929"/>
                </a:lnTo>
                <a:close/>
                <a:moveTo>
                  <a:pt x="83025" y="362143"/>
                </a:moveTo>
                <a:lnTo>
                  <a:pt x="543343" y="362143"/>
                </a:lnTo>
                <a:lnTo>
                  <a:pt x="543343" y="514569"/>
                </a:lnTo>
                <a:lnTo>
                  <a:pt x="83025" y="514569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2"/>
          <a:stretch/>
        </p:blipFill>
        <p:spPr>
          <a:xfrm>
            <a:off x="463680" y="396720"/>
            <a:ext cx="8242200" cy="1170000"/>
          </a:xfrm>
          <a:prstGeom prst="rect">
            <a:avLst/>
          </a:prstGeom>
          <a:ln w="0">
            <a:noFill/>
          </a:ln>
        </p:spPr>
      </p:pic>
      <p:pic>
        <p:nvPicPr>
          <p:cNvPr id="431" name="Місце для вмісту 5" descr="77e79e7d4ec34c3f08d980c717863921.gif"/>
          <p:cNvPicPr/>
          <p:nvPr/>
        </p:nvPicPr>
        <p:blipFill>
          <a:blip r:embed="rId3"/>
          <a:stretch/>
        </p:blipFill>
        <p:spPr>
          <a:xfrm>
            <a:off x="900000" y="3284640"/>
            <a:ext cx="3110040" cy="16812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mbria"/>
              </a:rPr>
              <a:t>Робочі зошити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mbria"/>
              </a:rPr>
              <a:t>стор. 57,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mbria"/>
              </a:rPr>
              <a:t>завдання 1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mbria"/>
              </a:rPr>
              <a:t>(по варіантах)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2"/>
          <a:stretch/>
        </p:blipFill>
        <p:spPr>
          <a:xfrm>
            <a:off x="450720" y="244440"/>
            <a:ext cx="8242560" cy="11635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90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1 ВАРІАНТ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90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mbria"/>
              </a:rPr>
              <a:t>2 ВАРІАНТ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95280" y="2205000"/>
          <a:ext cx="4040280" cy="3143160"/>
        </p:xfrm>
        <a:graphic>
          <a:graphicData uri="http://schemas.openxmlformats.org/drawingml/2006/table">
            <a:tbl>
              <a:tblPr/>
              <a:tblGrid>
                <a:gridCol w="2016000"/>
                <a:gridCol w="2024280"/>
              </a:tblGrid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Фізичн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Хімічн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творення хма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кисання моло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ипаровув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оріння дерев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мерзання во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лавлення цук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4716360" y="2924280"/>
          <a:ext cx="4103640" cy="3068640"/>
        </p:xfrm>
        <a:graphic>
          <a:graphicData uri="http://schemas.openxmlformats.org/drawingml/2006/table">
            <a:tbl>
              <a:tblPr/>
              <a:tblGrid>
                <a:gridCol w="2021040"/>
                <a:gridCol w="208260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Фізичн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Хімічн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ільтрув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жарювання мід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ування залі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оріння магні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творення іне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тухання яєц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8" descr=""/>
          <p:cNvPicPr/>
          <p:nvPr/>
        </p:nvPicPr>
        <p:blipFill>
          <a:blip r:embed="rId2"/>
          <a:stretch/>
        </p:blipFill>
        <p:spPr>
          <a:xfrm>
            <a:off x="390600" y="23760"/>
            <a:ext cx="8240760" cy="2109960"/>
          </a:xfrm>
          <a:prstGeom prst="rect">
            <a:avLst/>
          </a:prstGeom>
          <a:ln w="0">
            <a:noFill/>
          </a:ln>
        </p:spPr>
      </p:pic>
      <p:pic>
        <p:nvPicPr>
          <p:cNvPr id="439" name="Місце для вмісту 10" descr=""/>
          <p:cNvPicPr/>
          <p:nvPr/>
        </p:nvPicPr>
        <p:blipFill>
          <a:blip r:embed="rId3"/>
          <a:stretch/>
        </p:blipFill>
        <p:spPr>
          <a:xfrm>
            <a:off x="444600" y="2054160"/>
            <a:ext cx="8278560" cy="4541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317520" y="231840"/>
            <a:ext cx="8582040" cy="8478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427280" y="1196640"/>
            <a:ext cx="446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Cambria"/>
              </a:rPr>
              <a:t>Зміна забарвлення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2" name="Menu7.avi" descr=""/>
          <p:cNvPicPr/>
          <p:nvPr/>
        </p:nvPicPr>
        <p:blipFill>
          <a:blip r:embed="rId2"/>
          <a:stretch/>
        </p:blipFill>
        <p:spPr>
          <a:xfrm>
            <a:off x="2124000" y="23702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3" descr=""/>
          <p:cNvPicPr/>
          <p:nvPr/>
        </p:nvPicPr>
        <p:blipFill>
          <a:blip r:embed="rId1"/>
          <a:stretch/>
        </p:blipFill>
        <p:spPr>
          <a:xfrm>
            <a:off x="463680" y="231840"/>
            <a:ext cx="8435880" cy="8478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4962240" y="1107720"/>
            <a:ext cx="3932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Cambria"/>
              </a:rPr>
              <a:t>Випадання осаду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5" name="Menu6.avi" descr=""/>
          <p:cNvPicPr/>
          <p:nvPr/>
        </p:nvPicPr>
        <p:blipFill>
          <a:blip r:embed="rId2"/>
          <a:stretch/>
        </p:blipFill>
        <p:spPr>
          <a:xfrm>
            <a:off x="2124000" y="23702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6" descr=""/>
          <p:cNvPicPr/>
          <p:nvPr/>
        </p:nvPicPr>
        <p:blipFill>
          <a:blip r:embed="rId1"/>
          <a:stretch/>
        </p:blipFill>
        <p:spPr>
          <a:xfrm>
            <a:off x="1322280" y="231840"/>
            <a:ext cx="7577280" cy="8478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962240" y="1107720"/>
            <a:ext cx="3932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Cambria"/>
              </a:rPr>
              <a:t>Виділення газу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8" name="Menu8.avi" descr=""/>
          <p:cNvPicPr/>
          <p:nvPr/>
        </p:nvPicPr>
        <p:blipFill>
          <a:blip r:embed="rId2"/>
          <a:stretch/>
        </p:blipFill>
        <p:spPr>
          <a:xfrm>
            <a:off x="2124000" y="23702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4" descr=""/>
          <p:cNvPicPr/>
          <p:nvPr/>
        </p:nvPicPr>
        <p:blipFill>
          <a:blip r:embed="rId1"/>
          <a:stretch/>
        </p:blipFill>
        <p:spPr>
          <a:xfrm>
            <a:off x="963720" y="231840"/>
            <a:ext cx="7935840" cy="8478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4962240" y="1107720"/>
            <a:ext cx="3932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300" spc="-1" strike="noStrike">
                <a:solidFill>
                  <a:srgbClr val="ffffff"/>
                </a:solidFill>
                <a:latin typeface="Cambria"/>
              </a:rPr>
              <a:t>Виділення світла і тепла</a:t>
            </a:r>
            <a:endParaRPr b="0" lang="en-US" sz="33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51" name="Menu9.avi" descr=""/>
          <p:cNvPicPr/>
          <p:nvPr/>
        </p:nvPicPr>
        <p:blipFill>
          <a:blip r:embed="rId2"/>
          <a:stretch/>
        </p:blipFill>
        <p:spPr>
          <a:xfrm>
            <a:off x="2124000" y="23702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2"/>
          <a:stretch/>
        </p:blipFill>
        <p:spPr>
          <a:xfrm>
            <a:off x="463680" y="396720"/>
            <a:ext cx="8242200" cy="1170000"/>
          </a:xfrm>
          <a:prstGeom prst="rect">
            <a:avLst/>
          </a:prstGeom>
          <a:ln w="0">
            <a:noFill/>
          </a:ln>
        </p:spPr>
      </p:pic>
      <p:pic>
        <p:nvPicPr>
          <p:cNvPr id="453" name="Місце для вмісту 5" descr="77e79e7d4ec34c3f08d980c717863921.gif"/>
          <p:cNvPicPr/>
          <p:nvPr/>
        </p:nvPicPr>
        <p:blipFill>
          <a:blip r:embed="rId3"/>
          <a:stretch/>
        </p:blipFill>
        <p:spPr>
          <a:xfrm>
            <a:off x="900000" y="3284640"/>
            <a:ext cx="3110040" cy="1681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57200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mbria"/>
              </a:rPr>
              <a:t>Робочі зошити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mbria"/>
              </a:rPr>
              <a:t>стор. 57,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mbria"/>
              </a:rPr>
              <a:t>завдання 2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mbria"/>
              </a:rPr>
              <a:t>(по варіантах)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розширити та поглибити знання про фізичні та хімічні явища, з´ясувати їх істотні відмінності;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сформувати поняття про хімічні реакції; з'ясувати ознаки та умови перебігу хімічних реакцій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формувати науковий світогляду та любов до предмету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2"/>
          <a:stretch/>
        </p:blipFill>
        <p:spPr>
          <a:xfrm>
            <a:off x="328680" y="-79200"/>
            <a:ext cx="8529480" cy="14810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6000"/>
          </a:bodyPr>
          <a:p>
            <a:pPr marL="77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ГОРІННЯ ПРИРОДНОГО ГАЗУ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90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СПАЛЮВАННЯ ЦУКРУ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58" name="Місце для вмісту 6" descr="091.jpg"/>
          <p:cNvPicPr/>
          <p:nvPr/>
        </p:nvPicPr>
        <p:blipFill>
          <a:blip r:embed="rId3"/>
          <a:stretch/>
        </p:blipFill>
        <p:spPr>
          <a:xfrm>
            <a:off x="457200" y="281772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459" name="Місце для вмісту 7" descr="chemicalreaction.jpg"/>
          <p:cNvPicPr/>
          <p:nvPr/>
        </p:nvPicPr>
        <p:blipFill>
          <a:blip r:embed="rId4"/>
          <a:stretch/>
        </p:blipFill>
        <p:spPr>
          <a:xfrm>
            <a:off x="5141880" y="2362320"/>
            <a:ext cx="3048120" cy="3941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2"/>
          <a:stretch/>
        </p:blipFill>
        <p:spPr>
          <a:xfrm>
            <a:off x="328680" y="-79200"/>
            <a:ext cx="8529480" cy="148104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5000"/>
          </a:bodyPr>
          <a:p>
            <a:pPr marL="76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mbria"/>
              </a:rPr>
              <a:t>НАГРІВАННЯ МІДНОЇ ДРОТИНИ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90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mbria"/>
              </a:rPr>
              <a:t>ОКИСНЕННЯ СРІБЛА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3" name="Місце для вмісту 10" descr="sWOZjfTq копия.jpg"/>
          <p:cNvPicPr/>
          <p:nvPr/>
        </p:nvPicPr>
        <p:blipFill>
          <a:blip r:embed="rId3"/>
          <a:stretch/>
        </p:blipFill>
        <p:spPr>
          <a:xfrm>
            <a:off x="684360" y="3213000"/>
            <a:ext cx="5392440" cy="2232000"/>
          </a:xfrm>
          <a:prstGeom prst="rect">
            <a:avLst/>
          </a:prstGeom>
          <a:ln w="0">
            <a:noFill/>
          </a:ln>
        </p:spPr>
      </p:pic>
      <p:pic>
        <p:nvPicPr>
          <p:cNvPr id="464" name="Місце для вмісту 7" descr="imagesCABWJCUF.jpg"/>
          <p:cNvPicPr/>
          <p:nvPr/>
        </p:nvPicPr>
        <p:blipFill>
          <a:blip r:embed="rId4"/>
          <a:stretch/>
        </p:blipFill>
        <p:spPr>
          <a:xfrm>
            <a:off x="4284720" y="3213000"/>
            <a:ext cx="4464000" cy="2232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Заголовок 1" descr=""/>
          <p:cNvPicPr/>
          <p:nvPr/>
        </p:nvPicPr>
        <p:blipFill>
          <a:blip r:embed="rId1"/>
          <a:stretch/>
        </p:blipFill>
        <p:spPr>
          <a:xfrm>
            <a:off x="73080" y="-103320"/>
            <a:ext cx="9010440" cy="118296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419280" y="1107720"/>
            <a:ext cx="547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Доливання кислоти до крейд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7" name="Menu26.avi" descr=""/>
          <p:cNvPicPr/>
          <p:nvPr/>
        </p:nvPicPr>
        <p:blipFill>
          <a:blip r:embed="rId2"/>
          <a:stretch/>
        </p:blipFill>
        <p:spPr>
          <a:xfrm>
            <a:off x="2124000" y="23702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6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55160" cy="1481040"/>
          </a:xfrm>
          <a:prstGeom prst="rect">
            <a:avLst/>
          </a:prstGeom>
          <a:ln w="0">
            <a:noFill/>
          </a:ln>
        </p:spPr>
      </p:pic>
      <p:pic>
        <p:nvPicPr>
          <p:cNvPr id="469" name="Місце для вмісту 8" descr=""/>
          <p:cNvPicPr/>
          <p:nvPr/>
        </p:nvPicPr>
        <p:blipFill>
          <a:blip r:embed="rId3"/>
          <a:stretch/>
        </p:blipFill>
        <p:spPr>
          <a:xfrm>
            <a:off x="390600" y="1627200"/>
            <a:ext cx="83566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1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302680" cy="130968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94920" y="1915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1000"/>
          </a:bodyPr>
          <a:p>
            <a:pPr marL="7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mbria"/>
              </a:rPr>
              <a:t>1. ВИГОТОВЛЕННЯ СКЛЯНИХ ВИРОБІВ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00720" y="1557000"/>
            <a:ext cx="4319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0000"/>
          </a:bodyPr>
          <a:p>
            <a:pPr marL="81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mbria"/>
              </a:rPr>
              <a:t>2. ЗАМЕРЗАННЯ ВОДИ В РІЧЦІ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3" name="Місце для вмісту 12" descr="image[18].png"/>
          <p:cNvPicPr/>
          <p:nvPr/>
        </p:nvPicPr>
        <p:blipFill>
          <a:blip r:embed="rId3"/>
          <a:stretch/>
        </p:blipFill>
        <p:spPr>
          <a:xfrm>
            <a:off x="527040" y="2995560"/>
            <a:ext cx="3900600" cy="2675160"/>
          </a:xfrm>
          <a:prstGeom prst="rect">
            <a:avLst/>
          </a:prstGeom>
          <a:ln w="0">
            <a:noFill/>
          </a:ln>
        </p:spPr>
      </p:pic>
      <p:pic>
        <p:nvPicPr>
          <p:cNvPr id="474" name="Місце для вмісту 13" descr="32.jpg"/>
          <p:cNvPicPr/>
          <p:nvPr/>
        </p:nvPicPr>
        <p:blipFill>
          <a:blip r:embed="rId4"/>
          <a:stretch/>
        </p:blipFill>
        <p:spPr>
          <a:xfrm>
            <a:off x="4645080" y="2852640"/>
            <a:ext cx="426384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Заголовок 1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302680" cy="130968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468000" y="18442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1000"/>
          </a:bodyPr>
          <a:p>
            <a:pPr marL="7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mbria"/>
              </a:rPr>
              <a:t>3. ЗАЛІЗО ПОКРИВАЄТЬСЯ ІРЖЕЮ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90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mbria"/>
              </a:rPr>
              <a:t>4. ГОРИТЬ СПИРТ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8" name="Місце для вмісту 6" descr="1312888906_rust.jpg"/>
          <p:cNvPicPr/>
          <p:nvPr/>
        </p:nvPicPr>
        <p:blipFill>
          <a:blip r:embed="rId3"/>
          <a:stretch/>
        </p:blipFill>
        <p:spPr>
          <a:xfrm>
            <a:off x="457200" y="3019320"/>
            <a:ext cx="4040280" cy="2627280"/>
          </a:xfrm>
          <a:prstGeom prst="rect">
            <a:avLst/>
          </a:prstGeom>
          <a:ln w="0">
            <a:noFill/>
          </a:ln>
        </p:spPr>
      </p:pic>
      <p:pic>
        <p:nvPicPr>
          <p:cNvPr id="479" name="Місце для вмісту 7" descr="imagesCASHRAPG.jpg"/>
          <p:cNvPicPr/>
          <p:nvPr/>
        </p:nvPicPr>
        <p:blipFill>
          <a:blip r:embed="rId4"/>
          <a:stretch/>
        </p:blipFill>
        <p:spPr>
          <a:xfrm>
            <a:off x="5292720" y="2690640"/>
            <a:ext cx="3166920" cy="28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Заголовок 1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302680" cy="130968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90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mbria"/>
              </a:rPr>
              <a:t>5. ТАНЕННЯ ЛЬОДОВИКА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54000"/>
          </a:bodyPr>
          <a:p>
            <a:pPr marL="4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4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4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mbria"/>
              </a:rPr>
              <a:t>6. ЖОВТІЄ ЛИСТЯ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4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83" name="Місце для вмісту 6" descr="0004e6zg.jpg"/>
          <p:cNvPicPr/>
          <p:nvPr/>
        </p:nvPicPr>
        <p:blipFill>
          <a:blip r:embed="rId3"/>
          <a:stretch/>
        </p:blipFill>
        <p:spPr>
          <a:xfrm>
            <a:off x="611280" y="2924280"/>
            <a:ext cx="4154400" cy="2592360"/>
          </a:xfrm>
          <a:prstGeom prst="rect">
            <a:avLst/>
          </a:prstGeom>
          <a:ln w="0">
            <a:noFill/>
          </a:ln>
        </p:spPr>
      </p:pic>
      <p:pic>
        <p:nvPicPr>
          <p:cNvPr id="484" name="Місце для вмісту 7" descr="1.jpg"/>
          <p:cNvPicPr/>
          <p:nvPr/>
        </p:nvPicPr>
        <p:blipFill>
          <a:blip r:embed="rId4"/>
          <a:stretch/>
        </p:blipFill>
        <p:spPr>
          <a:xfrm>
            <a:off x="5148360" y="2948040"/>
            <a:ext cx="345600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86" name="Місце для вмісту 3" descr="5c1b5d39fcf9d8a92a4da548e3932665.gif"/>
          <p:cNvPicPr/>
          <p:nvPr/>
        </p:nvPicPr>
        <p:blipFill>
          <a:blip r:embed="rId3"/>
          <a:stretch/>
        </p:blipFill>
        <p:spPr>
          <a:xfrm>
            <a:off x="3348000" y="1484280"/>
            <a:ext cx="244800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Заголовок 6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407440" cy="1481040"/>
          </a:xfrm>
          <a:prstGeom prst="rect">
            <a:avLst/>
          </a:prstGeom>
          <a:ln w="0">
            <a:noFill/>
          </a:ln>
        </p:spPr>
      </p:pic>
      <p:pic>
        <p:nvPicPr>
          <p:cNvPr id="488" name="Місце для вмісту 8" descr=""/>
          <p:cNvPicPr/>
          <p:nvPr/>
        </p:nvPicPr>
        <p:blipFill>
          <a:blip r:embed="rId3"/>
          <a:stretch/>
        </p:blipFill>
        <p:spPr>
          <a:xfrm>
            <a:off x="324000" y="1627200"/>
            <a:ext cx="8534160" cy="4633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90" name="Menu28.avi" descr=""/>
          <p:cNvPicPr/>
          <p:nvPr/>
        </p:nvPicPr>
        <p:blipFill>
          <a:blip r:embed="rId3"/>
          <a:stretch/>
        </p:blipFill>
        <p:spPr>
          <a:xfrm>
            <a:off x="2133720" y="208116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-360" y="549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bacc6"/>
                </a:solidFill>
                <a:latin typeface="Cambria"/>
              </a:rPr>
              <a:t>Тип уроку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101920" y="2491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bacc6"/>
                </a:solidFill>
                <a:latin typeface="Cambria"/>
              </a:rPr>
              <a:t>Форми робот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119664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урок вивчення і первинного закріплення нових знань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743360" y="3213000"/>
            <a:ext cx="4400640" cy="39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розповідь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демонстраційні досліди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самостійна робота 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робота з підручником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Заголовок 4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92" name="Місце для вмісту 3" descr="1305052787.png"/>
          <p:cNvPicPr/>
          <p:nvPr/>
        </p:nvPicPr>
        <p:blipFill>
          <a:blip r:embed="rId3"/>
          <a:stretch/>
        </p:blipFill>
        <p:spPr>
          <a:xfrm>
            <a:off x="677880" y="1798560"/>
            <a:ext cx="3597120" cy="42213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4140000" y="1628640"/>
            <a:ext cx="500364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720" indent="-28872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Підручник 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Хімія 7 кл. Лашевська Г.А. </a:t>
            </a:r>
            <a:r>
              <a:rPr b="0" i="1" lang="uk-UA" sz="2800" spc="-1" strike="noStrike">
                <a:solidFill>
                  <a:srgbClr val="ffffff"/>
                </a:solidFill>
                <a:latin typeface="Cambria"/>
              </a:rPr>
              <a:t>параграф 14 (вивчити)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Підготуватись до практичної роботи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i="1" lang="uk-UA" sz="2800" spc="-1" strike="noStrike">
                <a:solidFill>
                  <a:srgbClr val="ffffff"/>
                </a:solidFill>
                <a:latin typeface="Cambria"/>
              </a:rPr>
              <a:t>стор. 126-127 (прочитати)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Робочий зошит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Хімія 7 кл. Савчин М.М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i="1" lang="uk-UA" sz="2800" spc="-1" strike="noStrike">
                <a:solidFill>
                  <a:srgbClr val="ffffff"/>
                </a:solidFill>
                <a:latin typeface="Cambria"/>
              </a:rPr>
              <a:t>стор. 59 (письмово)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95" name="Місце для вмісту 4" descr="009.gif"/>
          <p:cNvPicPr/>
          <p:nvPr/>
        </p:nvPicPr>
        <p:blipFill>
          <a:blip r:embed="rId3"/>
          <a:stretch/>
        </p:blipFill>
        <p:spPr>
          <a:xfrm>
            <a:off x="250920" y="1700280"/>
            <a:ext cx="4252680" cy="3197160"/>
          </a:xfrm>
          <a:prstGeom prst="rect">
            <a:avLst/>
          </a:prstGeom>
          <a:ln w="0">
            <a:noFill/>
          </a:ln>
        </p:spPr>
      </p:pic>
      <p:pic>
        <p:nvPicPr>
          <p:cNvPr id="496" name="Місце для вмісту 5" descr="011.gif"/>
          <p:cNvPicPr/>
          <p:nvPr/>
        </p:nvPicPr>
        <p:blipFill>
          <a:blip r:embed="rId4"/>
          <a:stretch/>
        </p:blipFill>
        <p:spPr>
          <a:xfrm>
            <a:off x="5219640" y="2997360"/>
            <a:ext cx="335916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900000" y="164628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В роботі використано мультимедійні матеріали “Досліди з хімії” (ЛОІППО, постановка дослідів  Я.Козак – Львівська академічна гімназія)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250560" y="1413000"/>
            <a:ext cx="4392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 algn="ctr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Cambria"/>
              </a:rPr>
              <a:t>Якщо запастися терпінням і виявити старання, то посіяні насіння знання неодмінно дадуть добрі сходи. Навчання корінь гіркий, та плід солодкий. 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        </a:t>
            </a:r>
            <a:r>
              <a:rPr b="0" lang="uk-UA" sz="3200" spc="-1" strike="noStrike">
                <a:solidFill>
                  <a:srgbClr val="8eb4e3"/>
                </a:solidFill>
                <a:latin typeface="Cambria"/>
              </a:rPr>
              <a:t>Леонардо да Вінчі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Місце для вмісту 4" descr="41_2.gif"/>
          <p:cNvPicPr/>
          <p:nvPr/>
        </p:nvPicPr>
        <p:blipFill>
          <a:blip r:embed="rId3"/>
          <a:stretch/>
        </p:blipFill>
        <p:spPr>
          <a:xfrm>
            <a:off x="4788000" y="2708280"/>
            <a:ext cx="3529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6" descr=""/>
          <p:cNvPicPr/>
          <p:nvPr/>
        </p:nvPicPr>
        <p:blipFill>
          <a:blip r:embed="rId2"/>
          <a:stretch/>
        </p:blipFill>
        <p:spPr>
          <a:xfrm>
            <a:off x="463680" y="1420920"/>
            <a:ext cx="8242200" cy="195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Місце для вмісту 5" descr=""/>
          <p:cNvPicPr/>
          <p:nvPr/>
        </p:nvPicPr>
        <p:blipFill>
          <a:blip r:embed="rId2"/>
          <a:stretch/>
        </p:blipFill>
        <p:spPr>
          <a:xfrm>
            <a:off x="536400" y="311040"/>
            <a:ext cx="824256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15" name="Місце для вмісту 4" descr="52_1_~1.JPG"/>
          <p:cNvPicPr/>
          <p:nvPr/>
        </p:nvPicPr>
        <p:blipFill>
          <a:blip r:embed="rId3"/>
          <a:stretch/>
        </p:blipFill>
        <p:spPr>
          <a:xfrm>
            <a:off x="684360" y="1844640"/>
            <a:ext cx="3382920" cy="43210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64292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ambria"/>
              </a:rPr>
              <a:t>Явища, під час перебігу яких речовина залишається незмінною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ambria"/>
              </a:rPr>
              <a:t>Явища, під час перебігу яких відбувається перетворення одних речовин на інші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9" name="Місце для вмісту 4" descr="Electrolysis_of_Water-1.jpg"/>
          <p:cNvPicPr/>
          <p:nvPr/>
        </p:nvPicPr>
        <p:blipFill>
          <a:blip r:embed="rId3"/>
          <a:stretch/>
        </p:blipFill>
        <p:spPr>
          <a:xfrm>
            <a:off x="4648320" y="18907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2"/>
          <a:stretch/>
        </p:blipFill>
        <p:spPr>
          <a:xfrm>
            <a:off x="450720" y="244440"/>
            <a:ext cx="8242560" cy="11635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23640" y="4723920"/>
            <a:ext cx="48243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0000"/>
          </a:bodyPr>
          <a:p>
            <a:pPr marL="72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ВОДА</a:t>
            </a:r>
            <a:r>
              <a:rPr b="0" lang="uk-UA" sz="2800" spc="-1" strike="noStrike">
                <a:solidFill>
                  <a:srgbClr val="ffc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f79646"/>
                </a:solidFill>
                <a:latin typeface="Cambria"/>
              </a:rPr>
              <a:t>=</a:t>
            </a:r>
            <a:r>
              <a:rPr b="0" lang="uk-UA" sz="2800" spc="-1" strike="noStrike">
                <a:solidFill>
                  <a:srgbClr val="ffc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9bbb59"/>
                </a:solidFill>
                <a:latin typeface="Cambria"/>
              </a:rPr>
              <a:t>ВОДЕНЬ</a:t>
            </a:r>
            <a:r>
              <a:rPr b="0" lang="uk-UA" sz="2800" spc="-1" strike="noStrike">
                <a:solidFill>
                  <a:srgbClr val="ffc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f79646"/>
                </a:solidFill>
                <a:latin typeface="Cambria"/>
              </a:rPr>
              <a:t>+</a:t>
            </a:r>
            <a:r>
              <a:rPr b="0" lang="uk-UA" sz="2800" spc="-1" strike="noStrike">
                <a:solidFill>
                  <a:srgbClr val="ffc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8eb4e3"/>
                </a:solidFill>
                <a:latin typeface="Cambria"/>
              </a:rPr>
              <a:t>КИСЕНЬ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3" name="Місце для вмісту 8" descr="54_1_~1.JPG"/>
          <p:cNvPicPr/>
          <p:nvPr/>
        </p:nvPicPr>
        <p:blipFill>
          <a:blip r:embed="rId3"/>
          <a:stretch/>
        </p:blipFill>
        <p:spPr>
          <a:xfrm>
            <a:off x="324000" y="2852640"/>
            <a:ext cx="4535280" cy="1944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5003280" y="2707920"/>
            <a:ext cx="36118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mbria"/>
              </a:rPr>
              <a:t>Під час хімічної реакції атоми перегруповую-ться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7:12:45Z</dcterms:created>
  <dc:creator>Master</dc:creator>
  <dc:description/>
  <dc:language>en-US</dc:language>
  <cp:lastModifiedBy>Admin</cp:lastModifiedBy>
  <dcterms:modified xsi:type="dcterms:W3CDTF">2014-01-26T09:12:57Z</dcterms:modified>
  <cp:revision>1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2a000000000001024140</vt:lpwstr>
  </property>
</Properties>
</file>