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59.gif" ContentType="image/gif"/>
  <Override PartName="/ppt/media/image42.png" ContentType="image/png"/>
  <Override PartName="/ppt/media/image26.jpeg" ContentType="image/jpeg"/>
  <Override PartName="/ppt/media/image29.png" ContentType="image/png"/>
  <Override PartName="/ppt/media/chimes.wav" ContentType="audio/x-wav"/>
  <Override PartName="/ppt/media/image13.jpeg" ContentType="image/jpeg"/>
  <Override PartName="/ppt/media/image23.png" ContentType="image/png"/>
  <Override PartName="/ppt/media/image27.png" ContentType="image/png"/>
  <Override PartName="/ppt/media/image3.png" ContentType="image/png"/>
  <Override PartName="/ppt/media/image35.jpeg" ContentType="image/jpeg"/>
  <Override PartName="/ppt/media/image1.jpeg" ContentType="image/jpeg"/>
  <Override PartName="/ppt/media/image4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25.png" ContentType="image/png"/>
  <Override PartName="/ppt/media/image19.jpeg" ContentType="image/jpeg"/>
  <Override PartName="/ppt/media/image43.jpeg" ContentType="image/jpeg"/>
  <Override PartName="/ppt/media/image21.gif" ContentType="image/gif"/>
  <Override PartName="/ppt/media/image24.png" ContentType="image/png"/>
  <Override PartName="/ppt/media/image6.png" ContentType="image/png"/>
  <Override PartName="/ppt/media/image18.png" ContentType="image/png"/>
  <Override PartName="/ppt/media/image11.jpeg" ContentType="image/jpeg"/>
  <Override PartName="/ppt/media/image28.jpeg" ContentType="image/jpeg"/>
  <Override PartName="/ppt/media/image22.png" ContentType="image/png"/>
  <Override PartName="/ppt/media/image57.png" ContentType="image/png"/>
  <Override PartName="/ppt/media/image10.png" ContentType="image/png"/>
  <Override PartName="/ppt/media/image36.jpeg" ContentType="image/jpeg"/>
  <Override PartName="/ppt/media/image32.jpeg" ContentType="image/jpeg"/>
  <Override PartName="/ppt/media/image15.jpeg" ContentType="image/jpeg"/>
  <Override PartName="/ppt/media/image7.gif" ContentType="image/gif"/>
  <Override PartName="/ppt/media/image8.png" ContentType="image/png"/>
  <Override PartName="/ppt/media/image5.png" ContentType="image/png"/>
  <Override PartName="/ppt/media/image17.png" ContentType="image/png"/>
  <Override PartName="/ppt/media/image39.jpeg" ContentType="image/jpeg"/>
  <Override PartName="/ppt/media/image9.png" ContentType="image/png"/>
  <Override PartName="/ppt/media/image12.png" ContentType="image/png"/>
  <Override PartName="/ppt/media/image49.png" ContentType="image/png"/>
  <Override PartName="/ppt/media/image58.gif" ContentType="image/gif"/>
  <Override PartName="/ppt/media/image30.jpeg" ContentType="image/jpeg"/>
  <Override PartName="/ppt/media/image31.png" ContentType="image/png"/>
  <Override PartName="/ppt/media/image34.jpeg" ContentType="image/jpeg"/>
  <Override PartName="/ppt/media/image20.png" ContentType="image/png"/>
  <Override PartName="/ppt/media/image37.jpeg" ContentType="image/jpeg"/>
  <Override PartName="/ppt/media/image40.png" ContentType="image/png"/>
  <Override PartName="/ppt/media/image41.png" ContentType="image/png"/>
  <Override PartName="/ppt/media/image38.png" ContentType="image/png"/>
  <Override PartName="/ppt/media/image44.jpeg" ContentType="image/jpeg"/>
  <Override PartName="/ppt/media/image45.jpeg" ContentType="image/jpeg"/>
  <Override PartName="/ppt/media/image5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51.png" ContentType="image/png"/>
  <Override PartName="/ppt/media/image52.png" ContentType="image/png"/>
  <Override PartName="/ppt/media/image50.gif" ContentType="image/gif"/>
  <Override PartName="/ppt/media/image53.png" ContentType="image/png"/>
  <Override PartName="/ppt/media/image33.png" ContentType="image/png"/>
  <Override PartName="/ppt/media/image54.jpeg" ContentType="image/jpeg"/>
  <Override PartName="/ppt/media/image5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9184-AF94-4A6C-AEBE-87F2811A58A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2226-8AB1-48E2-B865-6926F621C56C}" type="slidenum">
              <a:rPr b="0" lang="uk-U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B6F0-44D0-485C-925A-92064BE2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84A-FF84-4597-9C75-28E2A681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15F3BB-1DF4-4F07-BED0-D8D62883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01C4C5-CF89-493C-8994-ECBD9F92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247E33-59C3-4DAB-838B-3E9D1B74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EC5D2F-AF77-476A-ADB9-82E62DEF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45014F-1606-4820-9813-D1165AE4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DDB379-776C-4B88-B379-F5EC968E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2FD132-9329-483D-86DD-CA279791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CD80B7-2746-4F94-8B5C-B248E330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93E35F-547E-41F1-8403-AE65EEAD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9D21-7B59-47FC-A6EB-E25A3FAC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957-A965-4394-B15B-ECE297DA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1E585-7F33-4263-B451-66FB6CAE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274DE-A30B-4809-BFE6-35D90890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7B203-5EBE-48F1-80C4-F32C15A8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5EE22-EBC0-435D-AA3F-3C405924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5D80C-6012-42FC-A1DA-8B2FDFC9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03120-E277-4985-95A9-F3BB2ED9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6B2F2-792A-4C4E-8A25-A19C55A2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5B16-C873-4C1E-865B-9E6B3427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0DC16-AE61-4FE8-B845-2EF07838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B192B-BE23-433E-9D7D-8A2BEE80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116F6-B263-4EF2-9C67-8BE73BBB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981F5-0040-4DD2-80B3-316D5F6C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A0372-875B-4A06-BBBD-9D0AA8CF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69BA6-762A-4BE6-827D-FFD24025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C6D3A-26F2-4E09-90AF-05D11623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32970-3CCD-4A67-BA05-ADE032E6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2C377-4263-4637-9D06-ED495B7F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746E6-695A-4E9B-9323-C9513156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9233-6C5D-4A84-B143-26BAB5D5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4D79C-A516-468F-A1BF-0F9AB81B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FBDCA-364E-4114-9225-B6945786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1F46F-D39C-49CC-B31B-4DB84C21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F20F0-342F-4A52-B709-9E5A65BA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DA617-0C4C-48A4-8348-555EC0C3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20828-3B83-4A18-94CD-81A4614B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2A449-65FB-43CD-8485-0000F566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0C346D-7828-490B-99E5-00258FD0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5C8852-89B4-4960-804D-2C0D8105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47A78A-1238-4EFD-9272-2F9F1D06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ABA-A8BB-4CBA-952A-5C699ED8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9590CB-CF53-4CF7-9C2A-5C56DEC7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8FF3CB-4898-4CE5-A926-60AF817A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BD6D87-CC1E-4A1D-BCC1-2DC09DCE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41D1B0-DB8F-47C6-B107-A2261FCA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7376E0-675C-42A9-BB68-95129F89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82F4E7-9A1F-4FBE-8710-C2A57884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3C676A-CFD3-46D9-B62B-9712D45B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058363-DC4E-49DA-9554-FC3717B9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905254-15A8-4BE5-A56C-8D70C106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3252C-E10C-4309-81D6-764E8C24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C64-3982-4438-A685-F9028999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7E128-E260-47BB-AD26-138BAF77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E0DBF-4E8D-40DB-ACB4-78C3CC14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185B4-76F8-4413-9429-696A0F12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6676E-022A-4781-95C0-E99D9A73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93CC0-07F2-42C6-A509-C51D365D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97A4C-0661-47DA-9C8D-F4D534F8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DF606-5313-45C3-87A2-527C735E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6D45C-6033-4696-9B27-D8516EEA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1B44B-8D2B-4AC1-B1F0-3C6351C3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62D45-BD1D-4B97-A235-EC68DABA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6A4E-3A4C-4504-9D58-3D59EB47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72EE5-0EB5-4211-9F33-BDF3E50E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73FD1-FECB-47A2-ACCE-A5C4CFDE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4088E-9D28-4E74-91AE-CC38A5BF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18915-3FCD-4BAA-AACE-5D80350E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DD90C-6C12-4E5F-805C-7529CA73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D8D31-43FF-400B-AE40-663AA2A8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762E9-30C5-47F9-BEC8-17618180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FED2D-C052-4B61-BFA8-8B925E03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81B09-045B-48B0-889D-9832FCCD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62D65-E3C0-4CE0-BDC4-8C26FA69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C11F-D420-4B55-8E6D-62FBC53F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4B58B-6089-4B3A-A6D6-F8C0D8A1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05E25-E2E1-4E88-9CAF-088A0E06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CB30C-CA98-41BA-80AE-E79B9F21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A7B10-A337-4168-AE01-9B209C05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CB7B2-E659-4A3F-A1B7-56DE05EE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48486-42AD-426C-B887-7375FBBF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4589F-732C-4FF6-A615-9FE508C8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00290-2136-4C44-AD24-E1D80F72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6DA81-7AB5-4BDB-B93A-A1863FA0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9A32B-74B1-45DB-A88B-10F3FC5D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118-548F-49EE-A143-FD972CB3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0C7C4-3C72-4646-A76F-D13B252D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D31EE-8712-4B28-B290-0490C463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ACC13-F116-4978-A651-7D866483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48F48-D433-4E64-8DC9-7BEE7510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FF77E-3920-4543-B0EE-5797F52C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09EF9F-525A-4194-A25B-867D90E9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64131B-1EB5-4C73-964F-95F952D5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1795BD-327C-414F-A5FE-77B3B378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FAF43F-D9C7-4FFE-A356-BA25D54A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60DC05-5D55-4E2E-8ADE-04BAF404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FB4D-165F-4143-9858-01181AA0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ADCB5A-7208-44B5-A09A-424CE342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F1CEB9-2255-4A74-8612-5B3F00FD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C8C756-DE67-487B-A38A-BBEA5582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242379-8640-475F-AE8A-6CC9EE6C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3305B4-FD3F-46E8-9D2D-4E0E863A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EAEE6D-D5D5-44B9-AA9F-3DA6FE25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030EF1-7B83-4995-A3C3-49E158C4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786EB0-BC01-46D0-9516-8DF756E1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97086B-40C9-4152-9925-D29C69E0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76D4DF-B4C5-47C8-AD42-13AB6B19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кутник із двома округленими протилежними кут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кутник із двома округленими протилежними кут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E877-A466-4FA8-B184-78EEA17C5A80}" type="slidenum">
              <a:rPr b="0" lang="uk-UA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кутник із двома округленими протилежними кут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кутник із двома округленими протилежними кут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A75B-3F7D-48B3-B3E8-F087D8FB3FC5}" type="slidenum">
              <a:rPr b="0" lang="uk-UA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кутник із двома округленими протилежними кут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кутник із двома округленими протилежними кут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кут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E855-DE83-40C5-AC19-2EA6824F80E6}" type="slidenum">
              <a:rPr b="0" lang="uk-UA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кут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E442-9BDF-4235-BF1F-E6F627D57441}" type="slidenum">
              <a:rPr b="0" lang="uk-UA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кутник із двома округленими протилежними кут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кутник із двома округленими протилежними кут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кут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9B41-39BD-4464-AF06-BAF3067DDC50}" type="slidenum">
              <a:rPr b="0" lang="uk-UA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кутник із двома округленими протилежними кут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кутник із двома округленими протилежними кут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кут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кут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7BD8-9477-41AD-9F4E-783E7E832F25}" type="slidenum">
              <a:rPr b="0" lang="uk-UA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кутник із двома округленими протилежними кут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кутник із двома округленими протилежними кут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кут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8601-F058-441C-8776-A914B8865EC0}" type="slidenum">
              <a:rPr b="0" lang="uk-UA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кут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5291-B3DD-4426-A3F1-47184FC90B81}" type="slidenum">
              <a:rPr b="0" lang="uk-UA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C879-6BF2-4371-AC53-48D3C30FE7D6}" type="slidenum">
              <a:rPr b="0" lang="uk-UA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gi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58.gif"/><Relationship Id="rId4" Type="http://schemas.openxmlformats.org/officeDocument/2006/relationships/image" Target="../media/image59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0" descr=""/>
          <p:cNvPicPr/>
          <p:nvPr/>
        </p:nvPicPr>
        <p:blipFill>
          <a:blip r:embed="rId2"/>
          <a:stretch/>
        </p:blipFill>
        <p:spPr>
          <a:xfrm>
            <a:off x="360360" y="378000"/>
            <a:ext cx="8369280" cy="2232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411280" y="4149360"/>
            <a:ext cx="6561360" cy="232740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Урок підготувала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Жировецька Л.Е.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вч.хімії СЗШ №13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м.Львова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26" name="Місце для вмісту 3" descr=""/>
          <p:cNvPicPr/>
          <p:nvPr/>
        </p:nvPicPr>
        <p:blipFill>
          <a:blip r:embed="rId3"/>
          <a:stretch/>
        </p:blipFill>
        <p:spPr>
          <a:xfrm>
            <a:off x="450720" y="1547640"/>
            <a:ext cx="82425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9" descr=""/>
          <p:cNvPicPr/>
          <p:nvPr/>
        </p:nvPicPr>
        <p:blipFill>
          <a:blip r:embed="rId2"/>
          <a:stretch/>
        </p:blipFill>
        <p:spPr>
          <a:xfrm>
            <a:off x="-79200" y="249120"/>
            <a:ext cx="9351720" cy="1177920"/>
          </a:xfrm>
          <a:prstGeom prst="rect">
            <a:avLst/>
          </a:prstGeom>
          <a:ln w="0">
            <a:noFill/>
          </a:ln>
        </p:spPr>
      </p:pic>
      <p:pic>
        <p:nvPicPr>
          <p:cNvPr id="428" name="Місце для вмісту 4" descr="263.jpg"/>
          <p:cNvPicPr/>
          <p:nvPr/>
        </p:nvPicPr>
        <p:blipFill>
          <a:blip r:embed="rId3"/>
          <a:stretch/>
        </p:blipFill>
        <p:spPr>
          <a:xfrm>
            <a:off x="2797200" y="1646280"/>
            <a:ext cx="3549600" cy="4525920"/>
          </a:xfrm>
          <a:prstGeom prst="rect">
            <a:avLst/>
          </a:prstGeom>
          <a:ln w="0">
            <a:noFill/>
          </a:ln>
        </p:spPr>
      </p:pic>
      <p:sp>
        <p:nvSpPr>
          <p:cNvPr id="429" name="Дорівнює 3"/>
          <p:cNvSpPr/>
          <p:nvPr/>
        </p:nvSpPr>
        <p:spPr>
          <a:xfrm>
            <a:off x="4140360" y="765000"/>
            <a:ext cx="625320" cy="648000"/>
          </a:xfrm>
          <a:custGeom>
            <a:avLst/>
            <a:gdLst>
              <a:gd name="textAreaLeft" fmla="*/ 82800 w 625320"/>
              <a:gd name="textAreaRight" fmla="*/ 542520 w 625320"/>
              <a:gd name="textAreaTop" fmla="*/ 133560 h 648000"/>
              <a:gd name="textAreaBottom" fmla="*/ 514440 h 648000"/>
            </a:gdLst>
            <a:ahLst/>
            <a:rect l="textAreaLeft" t="textAreaTop" r="textAreaRight" b="textAreaBottom"/>
            <a:pathLst>
              <a:path w="626368" h="648072">
                <a:moveTo>
                  <a:pt x="83025" y="133503"/>
                </a:moveTo>
                <a:lnTo>
                  <a:pt x="543343" y="133503"/>
                </a:lnTo>
                <a:lnTo>
                  <a:pt x="543343" y="285929"/>
                </a:lnTo>
                <a:lnTo>
                  <a:pt x="83025" y="285929"/>
                </a:lnTo>
                <a:close/>
                <a:moveTo>
                  <a:pt x="83025" y="362143"/>
                </a:moveTo>
                <a:lnTo>
                  <a:pt x="543343" y="362143"/>
                </a:lnTo>
                <a:lnTo>
                  <a:pt x="543343" y="514569"/>
                </a:lnTo>
                <a:lnTo>
                  <a:pt x="83025" y="514569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2"/>
          <a:stretch/>
        </p:blipFill>
        <p:spPr>
          <a:xfrm>
            <a:off x="463680" y="396720"/>
            <a:ext cx="8242200" cy="1170000"/>
          </a:xfrm>
          <a:prstGeom prst="rect">
            <a:avLst/>
          </a:prstGeom>
          <a:ln w="0">
            <a:noFill/>
          </a:ln>
        </p:spPr>
      </p:pic>
      <p:pic>
        <p:nvPicPr>
          <p:cNvPr id="431" name="Місце для вмісту 5" descr="77e79e7d4ec34c3f08d980c717863921.gif"/>
          <p:cNvPicPr/>
          <p:nvPr/>
        </p:nvPicPr>
        <p:blipFill>
          <a:blip r:embed="rId3"/>
          <a:stretch/>
        </p:blipFill>
        <p:spPr>
          <a:xfrm>
            <a:off x="900000" y="3284640"/>
            <a:ext cx="3110040" cy="16812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mbria"/>
              </a:rPr>
              <a:t>Робочі зошити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mbria"/>
              </a:rPr>
              <a:t>стор. 57,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mbria"/>
              </a:rPr>
              <a:t>завдання 1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mbria"/>
              </a:rPr>
              <a:t>(по варіантах)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2"/>
          <a:stretch/>
        </p:blipFill>
        <p:spPr>
          <a:xfrm>
            <a:off x="450720" y="244440"/>
            <a:ext cx="8242560" cy="11635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90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1 ВАРІАНТ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90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ambria"/>
              </a:rPr>
              <a:t>2 ВАРІАНТ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95280" y="2205000"/>
          <a:ext cx="4040280" cy="3143160"/>
        </p:xfrm>
        <a:graphic>
          <a:graphicData uri="http://schemas.openxmlformats.org/drawingml/2006/table">
            <a:tbl>
              <a:tblPr/>
              <a:tblGrid>
                <a:gridCol w="2016000"/>
                <a:gridCol w="2024280"/>
              </a:tblGrid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Фізичн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Хімічн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творення хма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окисання моло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ипаровув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оріння дереви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мерзання во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лавлення цук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4716360" y="2924280"/>
          <a:ext cx="4103640" cy="3068640"/>
        </p:xfrm>
        <a:graphic>
          <a:graphicData uri="http://schemas.openxmlformats.org/drawingml/2006/table">
            <a:tbl>
              <a:tblPr/>
              <a:tblGrid>
                <a:gridCol w="2021040"/>
                <a:gridCol w="2082600"/>
              </a:tblGrid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Фізичн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Хімічн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ільтрув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ожарювання мід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ування залі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оріння магні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творення іне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отухання яєц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8" descr=""/>
          <p:cNvPicPr/>
          <p:nvPr/>
        </p:nvPicPr>
        <p:blipFill>
          <a:blip r:embed="rId2"/>
          <a:stretch/>
        </p:blipFill>
        <p:spPr>
          <a:xfrm>
            <a:off x="390600" y="23760"/>
            <a:ext cx="8240760" cy="2109960"/>
          </a:xfrm>
          <a:prstGeom prst="rect">
            <a:avLst/>
          </a:prstGeom>
          <a:ln w="0">
            <a:noFill/>
          </a:ln>
        </p:spPr>
      </p:pic>
      <p:pic>
        <p:nvPicPr>
          <p:cNvPr id="439" name="Місце для вмісту 10" descr=""/>
          <p:cNvPicPr/>
          <p:nvPr/>
        </p:nvPicPr>
        <p:blipFill>
          <a:blip r:embed="rId3"/>
          <a:stretch/>
        </p:blipFill>
        <p:spPr>
          <a:xfrm>
            <a:off x="444600" y="2054160"/>
            <a:ext cx="8278560" cy="4541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317520" y="231840"/>
            <a:ext cx="8582040" cy="8478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4427280" y="1196640"/>
            <a:ext cx="446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Cambria"/>
              </a:rPr>
              <a:t>Зміна забарвлення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2" name="Menu7.avi" descr=""/>
          <p:cNvPicPr/>
          <p:nvPr/>
        </p:nvPicPr>
        <p:blipFill>
          <a:blip r:embed="rId2"/>
          <a:stretch/>
        </p:blipFill>
        <p:spPr>
          <a:xfrm>
            <a:off x="2124000" y="23702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3" descr=""/>
          <p:cNvPicPr/>
          <p:nvPr/>
        </p:nvPicPr>
        <p:blipFill>
          <a:blip r:embed="rId1"/>
          <a:stretch/>
        </p:blipFill>
        <p:spPr>
          <a:xfrm>
            <a:off x="463680" y="231840"/>
            <a:ext cx="8435880" cy="8478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4962240" y="1107720"/>
            <a:ext cx="3932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Cambria"/>
              </a:rPr>
              <a:t>Випадання осаду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5" name="Menu6.avi" descr=""/>
          <p:cNvPicPr/>
          <p:nvPr/>
        </p:nvPicPr>
        <p:blipFill>
          <a:blip r:embed="rId2"/>
          <a:stretch/>
        </p:blipFill>
        <p:spPr>
          <a:xfrm>
            <a:off x="2124000" y="23702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6" descr=""/>
          <p:cNvPicPr/>
          <p:nvPr/>
        </p:nvPicPr>
        <p:blipFill>
          <a:blip r:embed="rId1"/>
          <a:stretch/>
        </p:blipFill>
        <p:spPr>
          <a:xfrm>
            <a:off x="1322280" y="231840"/>
            <a:ext cx="7577280" cy="8478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962240" y="1107720"/>
            <a:ext cx="3932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Cambria"/>
              </a:rPr>
              <a:t>Виділення газу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8" name="Menu8.avi" descr=""/>
          <p:cNvPicPr/>
          <p:nvPr/>
        </p:nvPicPr>
        <p:blipFill>
          <a:blip r:embed="rId2"/>
          <a:stretch/>
        </p:blipFill>
        <p:spPr>
          <a:xfrm>
            <a:off x="2124000" y="23702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4" descr=""/>
          <p:cNvPicPr/>
          <p:nvPr/>
        </p:nvPicPr>
        <p:blipFill>
          <a:blip r:embed="rId1"/>
          <a:stretch/>
        </p:blipFill>
        <p:spPr>
          <a:xfrm>
            <a:off x="963720" y="231840"/>
            <a:ext cx="7935840" cy="8478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4962240" y="1107720"/>
            <a:ext cx="3932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300" spc="-1" strike="noStrike">
                <a:solidFill>
                  <a:srgbClr val="ffffff"/>
                </a:solidFill>
                <a:latin typeface="Cambria"/>
              </a:rPr>
              <a:t>Виділення світла і тепла</a:t>
            </a:r>
            <a:endParaRPr b="0" lang="en-US" sz="33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51" name="Menu9.avi" descr=""/>
          <p:cNvPicPr/>
          <p:nvPr/>
        </p:nvPicPr>
        <p:blipFill>
          <a:blip r:embed="rId2"/>
          <a:stretch/>
        </p:blipFill>
        <p:spPr>
          <a:xfrm>
            <a:off x="2124000" y="23702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1" descr=""/>
          <p:cNvPicPr/>
          <p:nvPr/>
        </p:nvPicPr>
        <p:blipFill>
          <a:blip r:embed="rId2"/>
          <a:stretch/>
        </p:blipFill>
        <p:spPr>
          <a:xfrm>
            <a:off x="463680" y="396720"/>
            <a:ext cx="8242200" cy="1170000"/>
          </a:xfrm>
          <a:prstGeom prst="rect">
            <a:avLst/>
          </a:prstGeom>
          <a:ln w="0">
            <a:noFill/>
          </a:ln>
        </p:spPr>
      </p:pic>
      <p:pic>
        <p:nvPicPr>
          <p:cNvPr id="453" name="Місце для вмісту 5" descr="77e79e7d4ec34c3f08d980c717863921.gif"/>
          <p:cNvPicPr/>
          <p:nvPr/>
        </p:nvPicPr>
        <p:blipFill>
          <a:blip r:embed="rId3"/>
          <a:stretch/>
        </p:blipFill>
        <p:spPr>
          <a:xfrm>
            <a:off x="900000" y="3284640"/>
            <a:ext cx="3110040" cy="16812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57200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mbria"/>
              </a:rPr>
              <a:t>Робочі зошити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mbria"/>
              </a:rPr>
              <a:t>стор. 57,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mbria"/>
              </a:rPr>
              <a:t>завдання 2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mbria"/>
              </a:rPr>
              <a:t>(по варіантах)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2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розширити та поглибити знання про фізичні та хімічні явища, з´ясувати їх істотні відмінності;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сформувати поняття про хімічні реакції; з'ясувати ознаки та умови перебігу хімічних реакцій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формувати науковий світогляду та любов до предмету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2"/>
          <a:stretch/>
        </p:blipFill>
        <p:spPr>
          <a:xfrm>
            <a:off x="328680" y="-79200"/>
            <a:ext cx="8529480" cy="14810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6000"/>
          </a:bodyPr>
          <a:p>
            <a:pPr marL="77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ГОРІННЯ ПРИРОДНОГО ГАЗУ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90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СПАЛЮВАННЯ ЦУКРУ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58" name="Місце для вмісту 6" descr="091.jpg"/>
          <p:cNvPicPr/>
          <p:nvPr/>
        </p:nvPicPr>
        <p:blipFill>
          <a:blip r:embed="rId3"/>
          <a:stretch/>
        </p:blipFill>
        <p:spPr>
          <a:xfrm>
            <a:off x="457200" y="281772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459" name="Місце для вмісту 7" descr="chemicalreaction.jpg"/>
          <p:cNvPicPr/>
          <p:nvPr/>
        </p:nvPicPr>
        <p:blipFill>
          <a:blip r:embed="rId4"/>
          <a:stretch/>
        </p:blipFill>
        <p:spPr>
          <a:xfrm>
            <a:off x="5141880" y="2362320"/>
            <a:ext cx="3048120" cy="3941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2"/>
          <a:stretch/>
        </p:blipFill>
        <p:spPr>
          <a:xfrm>
            <a:off x="328680" y="-79200"/>
            <a:ext cx="8529480" cy="148104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5000"/>
          </a:bodyPr>
          <a:p>
            <a:pPr marL="76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ambria"/>
              </a:rPr>
              <a:t>НАГРІВАННЯ МІДНОЇ ДРОТИНИ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90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ambria"/>
              </a:rPr>
              <a:t>ОКИСНЕННЯ СРІБЛА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3" name="Місце для вмісту 10" descr="sWOZjfTq копия.jpg"/>
          <p:cNvPicPr/>
          <p:nvPr/>
        </p:nvPicPr>
        <p:blipFill>
          <a:blip r:embed="rId3"/>
          <a:stretch/>
        </p:blipFill>
        <p:spPr>
          <a:xfrm>
            <a:off x="684360" y="3213000"/>
            <a:ext cx="5392440" cy="2232000"/>
          </a:xfrm>
          <a:prstGeom prst="rect">
            <a:avLst/>
          </a:prstGeom>
          <a:ln w="0">
            <a:noFill/>
          </a:ln>
        </p:spPr>
      </p:pic>
      <p:pic>
        <p:nvPicPr>
          <p:cNvPr id="464" name="Місце для вмісту 7" descr="imagesCABWJCUF.jpg"/>
          <p:cNvPicPr/>
          <p:nvPr/>
        </p:nvPicPr>
        <p:blipFill>
          <a:blip r:embed="rId4"/>
          <a:stretch/>
        </p:blipFill>
        <p:spPr>
          <a:xfrm>
            <a:off x="4284720" y="3213000"/>
            <a:ext cx="4464000" cy="2232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Заголовок 1" descr=""/>
          <p:cNvPicPr/>
          <p:nvPr/>
        </p:nvPicPr>
        <p:blipFill>
          <a:blip r:embed="rId1"/>
          <a:stretch/>
        </p:blipFill>
        <p:spPr>
          <a:xfrm>
            <a:off x="73080" y="-103320"/>
            <a:ext cx="9010440" cy="118296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419280" y="1107720"/>
            <a:ext cx="547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Доливання кислоти до крейд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7" name="Menu26.avi" descr=""/>
          <p:cNvPicPr/>
          <p:nvPr/>
        </p:nvPicPr>
        <p:blipFill>
          <a:blip r:embed="rId2"/>
          <a:stretch/>
        </p:blipFill>
        <p:spPr>
          <a:xfrm>
            <a:off x="2124000" y="23702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6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55160" cy="1481040"/>
          </a:xfrm>
          <a:prstGeom prst="rect">
            <a:avLst/>
          </a:prstGeom>
          <a:ln w="0">
            <a:noFill/>
          </a:ln>
        </p:spPr>
      </p:pic>
      <p:pic>
        <p:nvPicPr>
          <p:cNvPr id="469" name="Місце для вмісту 8" descr=""/>
          <p:cNvPicPr/>
          <p:nvPr/>
        </p:nvPicPr>
        <p:blipFill>
          <a:blip r:embed="rId3"/>
          <a:stretch/>
        </p:blipFill>
        <p:spPr>
          <a:xfrm>
            <a:off x="390600" y="1627200"/>
            <a:ext cx="83566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1" descr=""/>
          <p:cNvPicPr/>
          <p:nvPr/>
        </p:nvPicPr>
        <p:blipFill>
          <a:blip r:embed="rId2"/>
          <a:stretch/>
        </p:blipFill>
        <p:spPr>
          <a:xfrm>
            <a:off x="450720" y="92160"/>
            <a:ext cx="8302680" cy="130968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94920" y="1915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1000"/>
          </a:bodyPr>
          <a:p>
            <a:pPr marL="7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ambria"/>
              </a:rPr>
              <a:t>1. ВИГОТОВЛЕННЯ СКЛЯНИХ ВИРОБІВ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00720" y="1557000"/>
            <a:ext cx="4319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0000"/>
          </a:bodyPr>
          <a:p>
            <a:pPr marL="81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ambria"/>
              </a:rPr>
              <a:t>2. ЗАМЕРЗАННЯ ВОДИ В РІЧЦІ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3" name="Місце для вмісту 12" descr="image[18].png"/>
          <p:cNvPicPr/>
          <p:nvPr/>
        </p:nvPicPr>
        <p:blipFill>
          <a:blip r:embed="rId3"/>
          <a:stretch/>
        </p:blipFill>
        <p:spPr>
          <a:xfrm>
            <a:off x="527040" y="2995560"/>
            <a:ext cx="3900600" cy="2675160"/>
          </a:xfrm>
          <a:prstGeom prst="rect">
            <a:avLst/>
          </a:prstGeom>
          <a:ln w="0">
            <a:noFill/>
          </a:ln>
        </p:spPr>
      </p:pic>
      <p:pic>
        <p:nvPicPr>
          <p:cNvPr id="474" name="Місце для вмісту 13" descr="32.jpg"/>
          <p:cNvPicPr/>
          <p:nvPr/>
        </p:nvPicPr>
        <p:blipFill>
          <a:blip r:embed="rId4"/>
          <a:stretch/>
        </p:blipFill>
        <p:spPr>
          <a:xfrm>
            <a:off x="4645080" y="2852640"/>
            <a:ext cx="426384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Заголовок 1" descr=""/>
          <p:cNvPicPr/>
          <p:nvPr/>
        </p:nvPicPr>
        <p:blipFill>
          <a:blip r:embed="rId2"/>
          <a:stretch/>
        </p:blipFill>
        <p:spPr>
          <a:xfrm>
            <a:off x="450720" y="92160"/>
            <a:ext cx="8302680" cy="130968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468000" y="18442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1000"/>
          </a:bodyPr>
          <a:p>
            <a:pPr marL="7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ambria"/>
              </a:rPr>
              <a:t>3. ЗАЛІЗО ПОКРИВАЄТЬСЯ ІРЖЕЮ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90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ambria"/>
              </a:rPr>
              <a:t>4. ГОРИТЬ СПИРТ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8" name="Місце для вмісту 6" descr="1312888906_rust.jpg"/>
          <p:cNvPicPr/>
          <p:nvPr/>
        </p:nvPicPr>
        <p:blipFill>
          <a:blip r:embed="rId3"/>
          <a:stretch/>
        </p:blipFill>
        <p:spPr>
          <a:xfrm>
            <a:off x="457200" y="3019320"/>
            <a:ext cx="4040280" cy="2627280"/>
          </a:xfrm>
          <a:prstGeom prst="rect">
            <a:avLst/>
          </a:prstGeom>
          <a:ln w="0">
            <a:noFill/>
          </a:ln>
        </p:spPr>
      </p:pic>
      <p:pic>
        <p:nvPicPr>
          <p:cNvPr id="479" name="Місце для вмісту 7" descr="imagesCASHRAPG.jpg"/>
          <p:cNvPicPr/>
          <p:nvPr/>
        </p:nvPicPr>
        <p:blipFill>
          <a:blip r:embed="rId4"/>
          <a:stretch/>
        </p:blipFill>
        <p:spPr>
          <a:xfrm>
            <a:off x="5292720" y="2690640"/>
            <a:ext cx="3166920" cy="28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Заголовок 1" descr=""/>
          <p:cNvPicPr/>
          <p:nvPr/>
        </p:nvPicPr>
        <p:blipFill>
          <a:blip r:embed="rId2"/>
          <a:stretch/>
        </p:blipFill>
        <p:spPr>
          <a:xfrm>
            <a:off x="450720" y="92160"/>
            <a:ext cx="8302680" cy="130968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90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ambria"/>
              </a:rPr>
              <a:t>5. ТАНЕННЯ ЛЬОДОВИКА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43280" y="1915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54000"/>
          </a:bodyPr>
          <a:p>
            <a:pPr marL="4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4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4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ambria"/>
              </a:rPr>
              <a:t>6. ЖОВТІЄ ЛИСТЯ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4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83" name="Місце для вмісту 6" descr="0004e6zg.jpg"/>
          <p:cNvPicPr/>
          <p:nvPr/>
        </p:nvPicPr>
        <p:blipFill>
          <a:blip r:embed="rId3"/>
          <a:stretch/>
        </p:blipFill>
        <p:spPr>
          <a:xfrm>
            <a:off x="611280" y="2924280"/>
            <a:ext cx="4154400" cy="2592360"/>
          </a:xfrm>
          <a:prstGeom prst="rect">
            <a:avLst/>
          </a:prstGeom>
          <a:ln w="0">
            <a:noFill/>
          </a:ln>
        </p:spPr>
      </p:pic>
      <p:pic>
        <p:nvPicPr>
          <p:cNvPr id="484" name="Місце для вмісту 7" descr="1.jpg"/>
          <p:cNvPicPr/>
          <p:nvPr/>
        </p:nvPicPr>
        <p:blipFill>
          <a:blip r:embed="rId4"/>
          <a:stretch/>
        </p:blipFill>
        <p:spPr>
          <a:xfrm>
            <a:off x="5148360" y="2948040"/>
            <a:ext cx="345600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86" name="Місце для вмісту 3" descr="5c1b5d39fcf9d8a92a4da548e3932665.gif"/>
          <p:cNvPicPr/>
          <p:nvPr/>
        </p:nvPicPr>
        <p:blipFill>
          <a:blip r:embed="rId3"/>
          <a:stretch/>
        </p:blipFill>
        <p:spPr>
          <a:xfrm>
            <a:off x="3348000" y="1484280"/>
            <a:ext cx="244800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Заголовок 6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407440" cy="1481040"/>
          </a:xfrm>
          <a:prstGeom prst="rect">
            <a:avLst/>
          </a:prstGeom>
          <a:ln w="0">
            <a:noFill/>
          </a:ln>
        </p:spPr>
      </p:pic>
      <p:pic>
        <p:nvPicPr>
          <p:cNvPr id="488" name="Місце для вмісту 8" descr=""/>
          <p:cNvPicPr/>
          <p:nvPr/>
        </p:nvPicPr>
        <p:blipFill>
          <a:blip r:embed="rId3"/>
          <a:stretch/>
        </p:blipFill>
        <p:spPr>
          <a:xfrm>
            <a:off x="324000" y="1627200"/>
            <a:ext cx="8534160" cy="4633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90" name="Menu28.avi" descr=""/>
          <p:cNvPicPr/>
          <p:nvPr/>
        </p:nvPicPr>
        <p:blipFill>
          <a:blip r:embed="rId3"/>
          <a:stretch/>
        </p:blipFill>
        <p:spPr>
          <a:xfrm>
            <a:off x="2133720" y="208116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-360" y="549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bacc6"/>
                </a:solidFill>
                <a:latin typeface="Cambria"/>
              </a:rPr>
              <a:t>Тип уроку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101920" y="2491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bacc6"/>
                </a:solidFill>
                <a:latin typeface="Cambria"/>
              </a:rPr>
              <a:t>Форми робот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119664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урок вивчення і первинного закріплення нових знань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743360" y="3213000"/>
            <a:ext cx="4400640" cy="39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розповідь,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демонстраційні досліди,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самостійна робота 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робота з підручником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Заголовок 4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92" name="Місце для вмісту 3" descr="1305052787.png"/>
          <p:cNvPicPr/>
          <p:nvPr/>
        </p:nvPicPr>
        <p:blipFill>
          <a:blip r:embed="rId3"/>
          <a:stretch/>
        </p:blipFill>
        <p:spPr>
          <a:xfrm>
            <a:off x="677880" y="1798560"/>
            <a:ext cx="3597120" cy="42213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4140000" y="1628640"/>
            <a:ext cx="500364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720" indent="-28872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Підручник 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Хімія 7 кл. Лашевська Г.А. </a:t>
            </a:r>
            <a:r>
              <a:rPr b="0" i="1" lang="uk-UA" sz="2800" spc="-1" strike="noStrike">
                <a:solidFill>
                  <a:srgbClr val="ffffff"/>
                </a:solidFill>
                <a:latin typeface="Cambria"/>
              </a:rPr>
              <a:t>параграф 14 (вивчити)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Підготуватись до практичної роботи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i="1" lang="uk-UA" sz="2800" spc="-1" strike="noStrike">
                <a:solidFill>
                  <a:srgbClr val="ffffff"/>
                </a:solidFill>
                <a:latin typeface="Cambria"/>
              </a:rPr>
              <a:t>стор. 126-127 (прочитати)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Робочий зошит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Хімія 7 кл. Савчин М.М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i="1" lang="uk-UA" sz="2800" spc="-1" strike="noStrike">
                <a:solidFill>
                  <a:srgbClr val="ffffff"/>
                </a:solidFill>
                <a:latin typeface="Cambria"/>
              </a:rPr>
              <a:t>стор. 59 (письмово)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95" name="Місце для вмісту 4" descr="009.gif"/>
          <p:cNvPicPr/>
          <p:nvPr/>
        </p:nvPicPr>
        <p:blipFill>
          <a:blip r:embed="rId3"/>
          <a:stretch/>
        </p:blipFill>
        <p:spPr>
          <a:xfrm>
            <a:off x="250920" y="1700280"/>
            <a:ext cx="4252680" cy="3197160"/>
          </a:xfrm>
          <a:prstGeom prst="rect">
            <a:avLst/>
          </a:prstGeom>
          <a:ln w="0">
            <a:noFill/>
          </a:ln>
        </p:spPr>
      </p:pic>
      <p:pic>
        <p:nvPicPr>
          <p:cNvPr id="496" name="Місце для вмісту 5" descr="011.gif"/>
          <p:cNvPicPr/>
          <p:nvPr/>
        </p:nvPicPr>
        <p:blipFill>
          <a:blip r:embed="rId4"/>
          <a:stretch/>
        </p:blipFill>
        <p:spPr>
          <a:xfrm>
            <a:off x="5219640" y="2997360"/>
            <a:ext cx="335916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600" spc="-1" strike="noStrike">
              <a:solidFill>
                <a:srgbClr val="ede8cd"/>
              </a:solidFill>
              <a:latin typeface="Cambri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900000" y="1646280"/>
            <a:ext cx="69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В роботі використано мультимедійні матеріали “Досліди з хімії” (ЛОІППО, постановка дослідів  Я.Козак – Львівська академічна гімназія)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250560" y="1413000"/>
            <a:ext cx="4392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 algn="ctr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Cambria"/>
              </a:rPr>
              <a:t>Якщо запастися терпінням і виявити старання, то посіяні насіння знання неодмінно дадуть добрі сходи. Навчання корінь гіркий, та плід солодкий. 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        </a:t>
            </a:r>
            <a:r>
              <a:rPr b="0" lang="uk-UA" sz="3200" spc="-1" strike="noStrike">
                <a:solidFill>
                  <a:srgbClr val="8eb4e3"/>
                </a:solidFill>
                <a:latin typeface="Cambria"/>
              </a:rPr>
              <a:t>Леонардо да Вінчі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Місце для вмісту 4" descr="41_2.gif"/>
          <p:cNvPicPr/>
          <p:nvPr/>
        </p:nvPicPr>
        <p:blipFill>
          <a:blip r:embed="rId3"/>
          <a:stretch/>
        </p:blipFill>
        <p:spPr>
          <a:xfrm>
            <a:off x="4788000" y="2708280"/>
            <a:ext cx="3529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6" descr=""/>
          <p:cNvPicPr/>
          <p:nvPr/>
        </p:nvPicPr>
        <p:blipFill>
          <a:blip r:embed="rId2"/>
          <a:stretch/>
        </p:blipFill>
        <p:spPr>
          <a:xfrm>
            <a:off x="463680" y="1420920"/>
            <a:ext cx="8242200" cy="195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Місце для вмісту 5" descr=""/>
          <p:cNvPicPr/>
          <p:nvPr/>
        </p:nvPicPr>
        <p:blipFill>
          <a:blip r:embed="rId2"/>
          <a:stretch/>
        </p:blipFill>
        <p:spPr>
          <a:xfrm>
            <a:off x="536400" y="311040"/>
            <a:ext cx="824256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15" name="Місце для вмісту 4" descr="52_1_~1.JPG"/>
          <p:cNvPicPr/>
          <p:nvPr/>
        </p:nvPicPr>
        <p:blipFill>
          <a:blip r:embed="rId3"/>
          <a:stretch/>
        </p:blipFill>
        <p:spPr>
          <a:xfrm>
            <a:off x="684360" y="1844640"/>
            <a:ext cx="3382920" cy="43210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64292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ambria"/>
              </a:rPr>
              <a:t>Явища, під час перебігу яких речовина залишається незмінною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ambria"/>
              </a:rPr>
              <a:t>Явища, під час перебігу яких відбувається перетворення одних речовин на інші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9" name="Місце для вмісту 4" descr="Electrolysis_of_Water-1.jpg"/>
          <p:cNvPicPr/>
          <p:nvPr/>
        </p:nvPicPr>
        <p:blipFill>
          <a:blip r:embed="rId3"/>
          <a:stretch/>
        </p:blipFill>
        <p:spPr>
          <a:xfrm>
            <a:off x="4648320" y="18907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2"/>
          <a:stretch/>
        </p:blipFill>
        <p:spPr>
          <a:xfrm>
            <a:off x="450720" y="244440"/>
            <a:ext cx="8242560" cy="11635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23640" y="4723920"/>
            <a:ext cx="48243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0000"/>
          </a:bodyPr>
          <a:p>
            <a:pPr marL="72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mbria"/>
              </a:rPr>
              <a:t>ВОДА</a:t>
            </a:r>
            <a:r>
              <a:rPr b="0" lang="uk-UA" sz="2800" spc="-1" strike="noStrike">
                <a:solidFill>
                  <a:srgbClr val="ffc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f79646"/>
                </a:solidFill>
                <a:latin typeface="Cambria"/>
              </a:rPr>
              <a:t>=</a:t>
            </a:r>
            <a:r>
              <a:rPr b="0" lang="uk-UA" sz="2800" spc="-1" strike="noStrike">
                <a:solidFill>
                  <a:srgbClr val="ffc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9bbb59"/>
                </a:solidFill>
                <a:latin typeface="Cambria"/>
              </a:rPr>
              <a:t>ВОДЕНЬ</a:t>
            </a:r>
            <a:r>
              <a:rPr b="0" lang="uk-UA" sz="2800" spc="-1" strike="noStrike">
                <a:solidFill>
                  <a:srgbClr val="ffc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f79646"/>
                </a:solidFill>
                <a:latin typeface="Cambria"/>
              </a:rPr>
              <a:t>+</a:t>
            </a:r>
            <a:r>
              <a:rPr b="0" lang="uk-UA" sz="2800" spc="-1" strike="noStrike">
                <a:solidFill>
                  <a:srgbClr val="ffc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8eb4e3"/>
                </a:solidFill>
                <a:latin typeface="Cambria"/>
              </a:rPr>
              <a:t>КИСЕНЬ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3" name="Місце для вмісту 8" descr="54_1_~1.JPG"/>
          <p:cNvPicPr/>
          <p:nvPr/>
        </p:nvPicPr>
        <p:blipFill>
          <a:blip r:embed="rId3"/>
          <a:stretch/>
        </p:blipFill>
        <p:spPr>
          <a:xfrm>
            <a:off x="324000" y="2852640"/>
            <a:ext cx="4535280" cy="1944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5003280" y="2707920"/>
            <a:ext cx="36118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mbria"/>
              </a:rPr>
              <a:t>Під час хімічної реакції атоми перегруповую-ться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7:12:45Z</dcterms:created>
  <dc:creator>Master</dc:creator>
  <dc:description/>
  <dc:language>en-US</dc:language>
  <cp:lastModifiedBy>Admin</cp:lastModifiedBy>
  <dcterms:modified xsi:type="dcterms:W3CDTF">2014-01-26T09:12:57Z</dcterms:modified>
  <cp:revision>1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2a000000000001024140</vt:lpwstr>
  </property>
</Properties>
</file>