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ACB5-E5CC-4465-8743-C8916915B9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E11-F8AF-4159-992F-3E29ECC6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4F6-8CB6-4774-AFC9-4C00AA36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E47-7FC6-430D-A526-466009FE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E18-979E-4220-9DFD-24142E54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2A698-69D6-407A-80F3-9D01141C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7B432-8AEA-4F0E-9C89-63185A48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B5D01-B89F-4C84-B0C1-943133FA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D2B56-82AF-448B-AAA1-6CC2B6C7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13F76-AFEF-468D-A2E1-513FCCA1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AA4C7-60C0-46A4-B3A1-63F0502A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AEB1D-53D5-466A-919E-CAA04211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9B3-4EFF-46C3-AE94-56ADC752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6EAB0-A9B5-4B75-87AB-0432246D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1E2C3-DE58-4638-9BEE-8CD890D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0B50C-D6AD-4236-9B53-BCA6ACB3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7D457-E921-4049-BB8C-754BCA29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F14AA-2513-48A6-98B0-352FEB70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3EA-ECED-4639-8A0A-5833018D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450-BC68-4868-8084-954B4487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AA0-229A-4F76-94F2-1D375ACA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28C-7706-4046-BF1A-57987B94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30C-7888-4E5F-8BF5-30D1AB0D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85C-80B0-4411-A42E-87F887F6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382-B0CA-4D00-9B3D-94C02129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4083-57D7-4488-AE10-5FCE171D3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0305-698E-4B6B-AB23-38271E0AE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43178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ahoma"/>
              </a:rPr>
              <a:t>Вода, яка біжить крізь гірські породи, взаємодіє з природнім вуглекислим газом, що є в повітрі і перетворює нерозчинні карбонати на розчинні гідрогенкарбонати.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aCO3+CO2+H2O=Ca(HCO3)2</a:t>
            </a:r>
            <a:r>
              <a:rPr b="1" i="1" lang="uk-UA" sz="20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MgCO3+CO2+H2O=Mg(HCO3)2</a:t>
            </a:r>
            <a:r>
              <a:rPr b="1" i="1" lang="uk-UA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30258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Загальна твердість води складаєть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Карбоатної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(тимчасової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причинена наявністю у воді гідрогенкарбонатів, Кальцію та Магні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Некарбонатної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(сталої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Обумовлена наявністю у воді сульфатів, хлоридів та нітратів йонів Кальцію та Магні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Види твердості води. Одиниця твердості вод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Одиниця твердості води –міліеквівалент,що включає 20,04 мг/г йонів Са2+ пбо 12.16 мг/г йонів 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2+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Види твердості вод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яка-вода з твердістю менше 4 міліеквівален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ередньої твердості-вода з твердістю 4-8 міліеквівалент/л відповідних йоні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уже тверда-вода,з твердіст. 8-12 міліеквівалент/л йоні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орська ж вода має загальну твердість                       65 міліеквівалентів/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Способи усунення твердості вод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1.Карбонатної твердості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а) кипіння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a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HCO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)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 Ca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H2O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+СО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2   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)додавання сод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H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)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Na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=Mg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O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2NaH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)додавання гашеного вапнау (у промисловості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a(H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)+ Ca(OH)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=2Ca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2H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2.Некарбонатної твердості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а)содовий метод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aS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Na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=Ca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Na2SO4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)фосфатний метод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3MgS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2Na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P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= Mg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(P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)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 3Na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11640" y="256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789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2565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3141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53006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Леге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Tahoma"/>
              </a:rPr>
              <a:t>У повісті Г.Хаггарда </a:t>
            </a:r>
            <a:r>
              <a:rPr b="1" i="1" lang="ru-RU" sz="25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uk-UA" sz="2500" spc="-1" strike="noStrike">
                <a:solidFill>
                  <a:srgbClr val="000000"/>
                </a:solidFill>
                <a:latin typeface="Tahoma"/>
              </a:rPr>
              <a:t>Клеопатра – володарка зорі</a:t>
            </a:r>
            <a:r>
              <a:rPr b="1" i="1" lang="ru-RU" sz="2500" spc="-1" strike="noStrike">
                <a:solidFill>
                  <a:srgbClr val="000000"/>
                </a:solidFill>
                <a:latin typeface="Tahoma"/>
              </a:rPr>
              <a:t>”, </a:t>
            </a:r>
            <a:r>
              <a:rPr b="1" i="1" lang="uk-UA" sz="2500" spc="-1" strike="noStrike">
                <a:solidFill>
                  <a:srgbClr val="000000"/>
                </a:solidFill>
                <a:latin typeface="Tahoma"/>
              </a:rPr>
              <a:t> розповідається наступне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ahoma"/>
              </a:rPr>
              <a:t>    “</a:t>
            </a:r>
            <a:r>
              <a:rPr b="1" i="1" lang="uk-UA" sz="2500" spc="-1" strike="noStrike">
                <a:solidFill>
                  <a:srgbClr val="000000"/>
                </a:solidFill>
                <a:latin typeface="Tahoma"/>
              </a:rPr>
              <a:t>Вона вийняла з вуха одну із величезних перлин...і... опустила її в оцет. Запала мовчанка, вражені гості, завмерши, спостерігали, як незрівняна перлина повільно розчиняється в міцному оцті. Коли від неї не залишилося й сліду, Клеопатра підняла кубок, покрутила його і випила все до останьої каплі</a:t>
            </a:r>
            <a:r>
              <a:rPr b="1" i="1" lang="ru-RU" sz="25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i="1" lang="uk-UA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Видалення накипу з нагрівних поверхонь побутових приладі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208764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43640" y="2060640"/>
            <a:ext cx="2268720" cy="252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2303640" cy="216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211640" y="4797360"/>
            <a:ext cx="23050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Демонстрації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емонстрація І: 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ahoma"/>
              </a:rPr>
              <a:t>Порівняння розчинення мила в твердій та м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’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ahoma"/>
              </a:rPr>
              <a:t>кій (дистильованій воді):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еремо 2 колби, в першу наливаємо тверду воду, в другу  - дистильвану. В обидві ємкості доливаємо окремими порціями мильний розчин, до утворення стійкої піни. Спостерігаємо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емонстрація ІІ: беремо шкаралупу курячого яйця і пробуємо її розчинити в отцовій кислот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Запитання: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як можна очистити зварене яйце не розбиваючи  шкаралупи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Білий щільний наліт з вапняного молока можна усунут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Вимоги до якості в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 Україні якість питної води визначається нормативними документами,  зокрема міждержавним стандарт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ГОСТ 2874 -8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жерелом забруднення води є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отруйні відходи виробниц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ідходи тваринниц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ерозчинні домішки змиті з пол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трапляння домішок миючих засоб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плив сміттязвали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Для міста Тернополя залишається актуальний проблема Малашівського сміттєзвалища і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Івачівського водозабор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33cc"/>
                </a:solidFill>
                <a:latin typeface="Tahoma"/>
              </a:rPr>
              <a:t>Зростання рівня громадянської свідомості жителів м. Тернополя щодо вживання якісної питної вод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71280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33cc"/>
                </a:solidFill>
                <a:latin typeface="Tahoma"/>
              </a:rPr>
              <a:t>Питна вода є джерелом Кальцію та Магнію для людського організму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Нестача Магнію в організмі людини зумовлює хронічну втому, гіпертонію, судинні порушення, інфаркт міокард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Дефіцитом Кальцію викликано близько 150 захворювань, він є практично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людським клеєм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, що зміцнює весь організм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Важливим для організму є наявність атомарного Оксигену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З порушенням рівноваги метаболічних процесів в яких беруть участь Оксиген та Кальцій пов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язаний процес старіння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Ці знання необхідні людині для ведення правильного способу житт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uk-UA" sz="2100" spc="-1" strike="noStrike" u="sng">
                <a:solidFill>
                  <a:srgbClr val="000000"/>
                </a:solidFill>
                <a:uFillTx/>
                <a:latin typeface="Tahoma"/>
              </a:rPr>
              <a:t>Постійна твердість є шкідливою для людини?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Карбонатна твердість обумовлена присутністю у воді соле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б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 (H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g (H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Дуже тверда вода має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)10-12 міліеквівалентів/л йоні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б)4-8 міліеквівалентів/л йоні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)8-12 міліеквівалентів/л йоні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Твердість води та способи її усуненн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800" spc="-1" strike="noStrike">
                <a:solidFill>
                  <a:srgbClr val="ff33cc"/>
                </a:solidFill>
                <a:latin typeface="Tahoma"/>
              </a:rPr>
              <a:t>Усунення карбонатної твердості кип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33cc"/>
                </a:solidFill>
                <a:latin typeface="Tahoma"/>
              </a:rPr>
              <a:t>ятінням ілюструє іонне рівнянн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а)Са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Ca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б)Са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Ca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г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2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Mg 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cc"/>
                </a:solidFill>
                <a:latin typeface="Tahoma"/>
              </a:rPr>
              <a:t>Усунення некарбонатної твердості кип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33cc"/>
                </a:solidFill>
                <a:latin typeface="Tahoma"/>
              </a:rPr>
              <a:t>ятінням ілюструє іонне рівнянн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а)Са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Ca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б)Са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Ca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г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2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Mg 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8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59280" y="558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27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45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Прислів</a:t>
            </a:r>
            <a:r>
              <a:rPr b="0" lang="en-US" sz="4000" spc="-1" strike="noStrike">
                <a:solidFill>
                  <a:srgbClr val="ff33cc"/>
                </a:solidFill>
                <a:latin typeface="Tahoma"/>
              </a:rPr>
              <a:t>’</a:t>
            </a: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я та приказки які заставляють мислити: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Щоб спрагу вгасити, треба води попи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Із брудної води ще ніхто чистим не вийш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іпсував воду, не буде честі твоєму род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ода крапля по краплі і камінь довб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55640" y="2060640"/>
            <a:ext cx="770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якую за увагу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Ме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глибити знання учнів про будову та склад води, її походження та різноманітні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Ознайомитися із поняттям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твердість вод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, вивчення видів твердості води та методів її усуненн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иховувати бережливе ставлення до природніх водних ресурсів України і місцевості зокре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Очікуванні результат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чні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оглиблюють знання про вод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зкривають поняття твердість та її вид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вчають способи усунення твердості вод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становлюють причинно-наслідкові з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язки позитивно-негативного впливу твердості і якості води на живі організ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16360" y="549360"/>
            <a:ext cx="294624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33cc"/>
                </a:solidFill>
                <a:latin typeface="Tahoma"/>
              </a:rPr>
              <a:t>Будова:</a:t>
            </a: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 складається з одного атома Оксигену та 2-х атомів Гідрогену, розташованих під кутом 104, 45 градусів, що зумовлює дипольний момент у 1, 844 Дебая.                               Займає 4/5% поверхні земної кулі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33cc"/>
                </a:solidFill>
                <a:latin typeface="Tahoma"/>
              </a:rPr>
              <a:t>Фізичні властивості:</a:t>
            </a: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 прозора, без запаху, смаку та кольору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33cc"/>
                </a:solidFill>
                <a:latin typeface="Tahoma"/>
              </a:rPr>
              <a:t>Хімічні властивості:</a:t>
            </a: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 взаємодія з металами та їх оксидами, з Оксидами неметалів, з солями утворює кристалогідрати, розкладається під дією електричної дуги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Запаси в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1386 млн. Км3  - запаси води на планеті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 них 97,5% - солона або мінералізована в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2,5% - прісна в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 2,5% - 71% льодов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60% суходолу відчуває дефіцит во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Добова норма води для людин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2,5л на доб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 їжею – 1,3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итна вода – 1,2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 життя людина споживає50-60 тонн вод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міст в організмі – понад  60%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 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зах – 7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, в мозку 88%, в крові – 77,82%, в кістках – від 20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Вода – життєдайна си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Помиляється той – хто не п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є воду а лише чай та каву, адже ці напої сприяють виведеню рідини з організ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619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uk-UA" sz="2200" spc="-1" strike="noStrike">
                <a:solidFill>
                  <a:srgbClr val="000000"/>
                </a:solidFill>
                <a:latin typeface="Tahoma"/>
              </a:rPr>
              <a:t>Твердість води -  властивість зумовлена наявністю в ній розчинних солей – Кальцію та Магнію. Розрізняють воду тверду, що містить розчинні солі, або м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i="1" lang="uk-UA" sz="2200" spc="-1" strike="noStrike">
                <a:solidFill>
                  <a:srgbClr val="000000"/>
                </a:solidFill>
                <a:latin typeface="Tahoma"/>
              </a:rPr>
              <a:t>яку яка цих солей не містит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30258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9:07:40Z</dcterms:created>
  <dc:creator>andriy</dc:creator>
  <dc:description/>
  <dc:language>en-US</dc:language>
  <cp:lastModifiedBy>andriy</cp:lastModifiedBy>
  <dcterms:modified xsi:type="dcterms:W3CDTF">2011-02-28T23:37:20Z</dcterms:modified>
  <cp:revision>7</cp:revision>
  <dc:subject/>
  <dc:title>Твердість води та способи її усуненн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02000000000001024140</vt:lpwstr>
  </property>
</Properties>
</file>