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AEE8-96AA-4CB4-804E-C0E85FAE8B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7D6-0A32-40C4-8A50-1CD827E4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250-A4E8-45EF-89BB-56D90973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F23-3F57-4B11-9FCF-8CD78BEE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BB4-87CA-4353-B139-0D2DCF33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785B2-D0AE-4003-A683-C5574573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74D97-5E1C-4E23-A908-26450ECD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0F7BD-A729-43D7-A7FA-EA8FB968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8F358-F3DE-4707-83E3-356FE106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0E7E8-75B5-48BE-A07D-7F6AE61C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10A59-56A8-40F9-8E4B-3092EA4F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4EBEF-18FD-45B0-806E-1EA7F743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7D8-EE40-47BF-8ED2-917B318E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08036-C49C-41FC-8061-7376AA93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3E7A0-3B7D-4064-A747-1DE46611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BC2E4-2E7B-4C71-B61B-3BF4DA36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0410E-88C2-488D-A9E3-6F318183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92BBD-F21D-4D70-B2E6-5D3ADD07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617-E5FE-49ED-BEE5-8E9F88D8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34E-1DEB-45A0-BCAD-F4289599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E5A-9910-4923-A1CE-3DDF7AA5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98F-D325-44BC-B5E0-3623768F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0C2-E245-4C2F-B16B-516209EA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2652-1D27-4B86-AAEA-8E57A8C7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21B-06AF-448C-BF1D-B0E0BCDA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A8F2-31C5-44D9-A881-68E34C846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088B-8A59-4858-A010-4C2BC6FD2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43178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ahoma"/>
              </a:rPr>
              <a:t>Вода, яка біжить крізь гірські породи, взаємодіє з природнім вуглекислим газом, що є в повітрі і перетворює нерозчинні карбонати на розчинні гідрогенкарбонати.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aCO3+CO2+H2O=Ca(HCO3)2</a:t>
            </a:r>
            <a:r>
              <a:rPr b="1" i="1" lang="uk-UA" sz="20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MgCO3+CO2+H2O=Mg(HCO3)2</a:t>
            </a:r>
            <a:r>
              <a:rPr b="1" i="1" lang="uk-UA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30258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Загальна твердість води складаєтьс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Карбоатної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(тимчасової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Спричинена наявністю у воді гідрогенкарбонатів, Кальцію та Магні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Некарбонатної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(сталої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Обумовлена наявністю у воді сульфатів, хлоридів та нітратів йонів Кальцію та Магні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Види твердості води. Одиниця твердості вод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Одиниця твердості води –міліеквівалент,що включає 20,04 мг/г йонів Са2+ пбо 12.16 мг/г йонів 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2+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Види твердості вод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Мяка-вода з твердістю менше 4 міліеквівален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ередньої твердості-вода з твердістю 4-8 міліеквівалент/л відповідних йоні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Дуже тверда-вода,з твердіст. 8-12 міліеквівалент/л йоні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Морська ж вода має загальну твердість                       65 міліеквівалентів/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Способи усунення твердості вод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1.Карбонатної твердості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а) кипіння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a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HCO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)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 CaC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+H2O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+СО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2   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б)додавання сод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Mg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HC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)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+Na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=Mg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O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+2NaHC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)додавання гашеного вапнау (у промисловості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a(HC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)+ Ca(OH)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=2CaC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+2H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2.Некарбонатної твердості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а)содовий метод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aS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+Na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=CaC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+Na2SO4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б)фосфатний метод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3MgS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+2Na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P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= Mg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(P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)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uk-UA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+ 3Na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O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4</a:t>
            </a:r>
            <a:r>
              <a:rPr b="0" lang="uk-UA" sz="12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211640" y="256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3789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2565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3141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4724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24360" y="53006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cc"/>
                </a:solidFill>
                <a:latin typeface="Tahoma"/>
              </a:rPr>
              <a:t>Леге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Tahoma"/>
              </a:rPr>
              <a:t>У повісті Г.Хаггарда </a:t>
            </a:r>
            <a:r>
              <a:rPr b="1" i="1" lang="ru-RU" sz="25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uk-UA" sz="2500" spc="-1" strike="noStrike">
                <a:solidFill>
                  <a:srgbClr val="000000"/>
                </a:solidFill>
                <a:latin typeface="Tahoma"/>
              </a:rPr>
              <a:t>Клеопатра – володарка зорі</a:t>
            </a:r>
            <a:r>
              <a:rPr b="1" i="1" lang="ru-RU" sz="2500" spc="-1" strike="noStrike">
                <a:solidFill>
                  <a:srgbClr val="000000"/>
                </a:solidFill>
                <a:latin typeface="Tahoma"/>
              </a:rPr>
              <a:t>”, </a:t>
            </a:r>
            <a:r>
              <a:rPr b="1" i="1" lang="uk-UA" sz="2500" spc="-1" strike="noStrike">
                <a:solidFill>
                  <a:srgbClr val="000000"/>
                </a:solidFill>
                <a:latin typeface="Tahoma"/>
              </a:rPr>
              <a:t> розповідається наступне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ahoma"/>
              </a:rPr>
              <a:t>    “</a:t>
            </a:r>
            <a:r>
              <a:rPr b="1" i="1" lang="uk-UA" sz="2500" spc="-1" strike="noStrike">
                <a:solidFill>
                  <a:srgbClr val="000000"/>
                </a:solidFill>
                <a:latin typeface="Tahoma"/>
              </a:rPr>
              <a:t>Вона вийняла з вуха одну із величезних перлин...і... опустила її в оцет. Запала мовчанка, вражені гості, завмерши, спостерігали, як незрівняна перлина повільно розчиняється в міцному оцті. Коли від неї не залишилося й сліду, Клеопатра підняла кубок, покрутила його і випила все до останьої каплі</a:t>
            </a:r>
            <a:r>
              <a:rPr b="1" i="1" lang="ru-RU" sz="25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i="1" lang="uk-UA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Видалення накипу з нагрівних поверхонь побутових приладі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2087640" cy="187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443640" y="2060640"/>
            <a:ext cx="2268720" cy="252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2303640" cy="216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211640" y="4797360"/>
            <a:ext cx="23050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cc"/>
                </a:solidFill>
                <a:latin typeface="Tahoma"/>
              </a:rPr>
              <a:t>Демонстрації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емонстрація І: 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ahoma"/>
              </a:rPr>
              <a:t>Порівняння розчинення мила в твердій та м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’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ahoma"/>
              </a:rPr>
              <a:t>кій (дистильованій воді): 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беремо 2 колби, в першу наливаємо тверду воду, в другу  - дистильвану. В обидві ємкості доливаємо окремими порціями мильний розчин, до утворення стійкої піни. Спостерігаємо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емонстрація ІІ: беремо шкаралупу курячого яйця і пробуємо її розчинити в отцовій кислоті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Запитання: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як можна очистити зварене яйце не розбиваючи  шкаралупи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Білий щільний наліт з вапняного молока можна усунут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cc"/>
                </a:solidFill>
                <a:latin typeface="Tahoma"/>
              </a:rPr>
              <a:t>Вимоги до якості во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 Україні якість питної води визначається нормативними документами,  зокрема міждержавним стандарт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ГОСТ 2874 -8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Джерелом забруднення води є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отруйні відходи виробницт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ідходи тваринниц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нерозчинні домішки змиті з пол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отрапляння домішок миючих засоб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плив сміттязвали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ahoma"/>
              </a:rPr>
              <a:t>Для міста Тернополя залишається актуальний проблема Малашівського сміттєзвалища і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ahoma"/>
              </a:rPr>
              <a:t>Івачівського водозабору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33cc"/>
                </a:solidFill>
                <a:latin typeface="Tahoma"/>
              </a:rPr>
              <a:t>Зростання рівня громадянської свідомості жителів м. Тернополя щодо вживання якісної питної вод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71280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33cc"/>
                </a:solidFill>
                <a:latin typeface="Tahoma"/>
              </a:rPr>
              <a:t>Питна вода є джерелом Кальцію та Магнію для людського організму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ahoma"/>
              </a:rPr>
              <a:t>Нестача Магнію в організмі людини зумовлює хронічну втому, гіпертонію, судинні порушення, інфаркт міокард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ahoma"/>
              </a:rPr>
              <a:t>Дефіцитом Кальцію викликано близько 150 захворювань, він є практично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uk-UA" sz="2100" spc="-1" strike="noStrike">
                <a:solidFill>
                  <a:srgbClr val="000000"/>
                </a:solidFill>
                <a:latin typeface="Tahoma"/>
              </a:rPr>
              <a:t>людським клеєм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uk-UA" sz="2100" spc="-1" strike="noStrike">
                <a:solidFill>
                  <a:srgbClr val="000000"/>
                </a:solidFill>
                <a:latin typeface="Tahoma"/>
              </a:rPr>
              <a:t>, що зміцнює весь організм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ahoma"/>
              </a:rPr>
              <a:t>Важливим для організму є наявність атомарного Оксигену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ahoma"/>
              </a:rPr>
              <a:t>З порушенням рівноваги метаболічних процесів в яких беруть участь Оксиген та Кальцій пов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2100" spc="-1" strike="noStrike">
                <a:solidFill>
                  <a:srgbClr val="000000"/>
                </a:solidFill>
                <a:latin typeface="Tahoma"/>
              </a:rPr>
              <a:t>язаний процес старіння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ahoma"/>
              </a:rPr>
              <a:t>Ці знання необхідні людині для ведення правильного способу житт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uk-UA" sz="2100" spc="-1" strike="noStrike" u="sng">
                <a:solidFill>
                  <a:srgbClr val="000000"/>
                </a:solidFill>
                <a:uFillTx/>
                <a:latin typeface="Tahoma"/>
              </a:rPr>
              <a:t>Постійна твердість є шкідливою для людини?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Карбонатна твердість обумовлена присутністю у воді соле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g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б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 (H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g (H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Дуже тверда вода має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)10-12 міліеквівалентів/л йоні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б)4-8 міліеквівалентів/л йоні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)8-12 міліеквівалентів/л йоні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Твердість води та способи її усуненн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2800" spc="-1" strike="noStrike">
                <a:solidFill>
                  <a:srgbClr val="ff33cc"/>
                </a:solidFill>
                <a:latin typeface="Tahoma"/>
              </a:rPr>
              <a:t>Усунення карбонатної твердості кип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ff33cc"/>
                </a:solidFill>
                <a:latin typeface="Tahoma"/>
              </a:rPr>
              <a:t>ятінням ілюструє іонне рівнянн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а)Са</a:t>
            </a:r>
            <a:r>
              <a:rPr b="0" lang="uk-UA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Ca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б)Са</a:t>
            </a:r>
            <a:r>
              <a:rPr b="0" lang="uk-UA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Ca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+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+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г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g</a:t>
            </a:r>
            <a:r>
              <a:rPr b="0" lang="uk-UA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2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Mg 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cc"/>
                </a:solidFill>
                <a:latin typeface="Tahoma"/>
              </a:rPr>
              <a:t>Усунення некарбонатної твердості кип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ff33cc"/>
                </a:solidFill>
                <a:latin typeface="Tahoma"/>
              </a:rPr>
              <a:t>ятінням ілюструє іонне рівнянн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а)Са</a:t>
            </a:r>
            <a:r>
              <a:rPr b="0" lang="uk-UA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Ca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б)Са</a:t>
            </a:r>
            <a:r>
              <a:rPr b="0" lang="uk-UA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Ca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+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+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г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g</a:t>
            </a:r>
            <a:r>
              <a:rPr b="0" lang="uk-UA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2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Mg 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184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59280" y="5589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278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458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Прислів</a:t>
            </a:r>
            <a:r>
              <a:rPr b="0" lang="en-US" sz="4000" spc="-1" strike="noStrike">
                <a:solidFill>
                  <a:srgbClr val="ff33cc"/>
                </a:solidFill>
                <a:latin typeface="Tahoma"/>
              </a:rPr>
              <a:t>’</a:t>
            </a: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я та приказки які заставляють мислити: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Щоб спрагу вгасити, треба води попи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Із брудної води ще ніхто чистим не вийшов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іпсував воду, не буде честі твоєму род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ода крапля по краплі і камінь довб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755640" y="2060640"/>
            <a:ext cx="770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якую за увагу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cc"/>
                </a:solidFill>
                <a:latin typeface="Tahoma"/>
              </a:rPr>
              <a:t>Мет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оглибити знання учнів про будову та склад води, її походження та різноманітніс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Ознайомитися із поняттям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твердість вод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, вивчення видів твердості води та методів її усуненн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иховувати бережливе ставлення до природніх водних ресурсів України і місцевості зокре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cc"/>
                </a:solidFill>
                <a:latin typeface="Tahoma"/>
              </a:rPr>
              <a:t>Очікуванні результат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Учні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оглиблюють знання про вод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розкривають поняття твердість та її вид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ивчають способи усунення твердості вод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становлюють причинно-наслідкові з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язки позитивно-негативного впливу твердості і якості води на живі організ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16360" y="549360"/>
            <a:ext cx="2946240" cy="1981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2924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33cc"/>
                </a:solidFill>
                <a:latin typeface="Tahoma"/>
              </a:rPr>
              <a:t>Будова:</a:t>
            </a:r>
            <a:r>
              <a:rPr b="0" lang="uk-UA" sz="2100" spc="-1" strike="noStrike">
                <a:solidFill>
                  <a:srgbClr val="ffffff"/>
                </a:solidFill>
                <a:latin typeface="Tahoma"/>
              </a:rPr>
              <a:t> складається з одного атома Оксигену та 2-х атомів Гідрогену, розташованих під кутом 104, 45 градусів, що зумовлює дипольний момент у 1, 844 Дебая.                               Займає 4/5% поверхні земної кулі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33cc"/>
                </a:solidFill>
                <a:latin typeface="Tahoma"/>
              </a:rPr>
              <a:t>Фізичні властивості:</a:t>
            </a:r>
            <a:r>
              <a:rPr b="0" lang="uk-UA" sz="2100" spc="-1" strike="noStrike">
                <a:solidFill>
                  <a:srgbClr val="ffffff"/>
                </a:solidFill>
                <a:latin typeface="Tahoma"/>
              </a:rPr>
              <a:t> прозора, без запаху, смаку та кольору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33cc"/>
                </a:solidFill>
                <a:latin typeface="Tahoma"/>
              </a:rPr>
              <a:t>Хімічні властивості:</a:t>
            </a:r>
            <a:r>
              <a:rPr b="0" lang="uk-UA" sz="2100" spc="-1" strike="noStrike">
                <a:solidFill>
                  <a:srgbClr val="ffffff"/>
                </a:solidFill>
                <a:latin typeface="Tahoma"/>
              </a:rPr>
              <a:t> взаємодія з металами та їх оксидами, з Оксидами неметалів, з солями утворює кристалогідрати, розкладається під дією електричної дуги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cc"/>
                </a:solidFill>
                <a:latin typeface="Tahoma"/>
              </a:rPr>
              <a:t>Запаси во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1386 млн. Км3  - запаси води на планеті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 них 97,5% - солона або мінералізована в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2,5% - прісна в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 2,5% - 71% льодови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60% суходолу відчуває дефіцит во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cc"/>
                </a:solidFill>
                <a:latin typeface="Tahoma"/>
              </a:rPr>
              <a:t>Добова норма води для людин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2,5л на доб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 їжею – 1,3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итна вода – 1,2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а життя людина споживає50-60 тонн вод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міст в організмі – понад  60%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 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зах – 7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%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, в мозку 88%, в крові – 77,82%, в кістках – від 20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cc"/>
                </a:solidFill>
                <a:latin typeface="Tahoma"/>
              </a:rPr>
              <a:t>Вода – життєдайна си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Tahoma"/>
              </a:rPr>
              <a:t>Помиляється той – хто не п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i="1" lang="uk-UA" sz="3200" spc="-1" strike="noStrike">
                <a:solidFill>
                  <a:srgbClr val="ffffff"/>
                </a:solidFill>
                <a:latin typeface="Tahoma"/>
              </a:rPr>
              <a:t>є воду а лише чай та каву, адже ці напої сприяють виведеню рідини з організ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619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uk-UA" sz="2200" spc="-1" strike="noStrike">
                <a:solidFill>
                  <a:srgbClr val="000000"/>
                </a:solidFill>
                <a:latin typeface="Tahoma"/>
              </a:rPr>
              <a:t>Твердість води -  властивість зумовлена наявністю в ній розчинних солей – Кальцію та Магнію. Розрізняють воду тверду, що містить розчинні солі, або м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i="1" lang="uk-UA" sz="2200" spc="-1" strike="noStrike">
                <a:solidFill>
                  <a:srgbClr val="000000"/>
                </a:solidFill>
                <a:latin typeface="Tahoma"/>
              </a:rPr>
              <a:t>яку яка цих солей не містит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30258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9:07:40Z</dcterms:created>
  <dc:creator>andriy</dc:creator>
  <dc:description/>
  <dc:language>en-US</dc:language>
  <cp:lastModifiedBy>andriy</cp:lastModifiedBy>
  <dcterms:modified xsi:type="dcterms:W3CDTF">2011-02-28T23:37:20Z</dcterms:modified>
  <cp:revision>7</cp:revision>
  <dc:subject/>
  <dc:title>Твердість води та способи її усуненн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02000000000001024140</vt:lpwstr>
  </property>
</Properties>
</file>