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687B-CBC5-473C-BA5B-3A01212C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CE87-498F-4FEF-B121-BE1CF6B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B08D-998C-4E13-94CE-316862E9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F556-3854-4825-A3D3-15C127D9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3869-8550-457F-897E-AB60FE05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4357-4799-4D8F-9E49-708C4AA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F94-EAA5-4427-AE6C-B753DC1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F0D-21D2-4FF8-9593-09C684B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94C-267D-428C-8195-F5F5B8B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3883-ED3F-4984-B805-E9265B4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51DD-55AB-4173-B182-1B2A4CC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AE3C-E332-403F-8A9E-FC3E8537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E98-DE9C-497C-AE13-2D96339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93B-43E0-43B1-97C7-D0EC0F6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4D11-1D9D-482D-B5DB-98653BC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780E-A7C3-444F-9ACB-5E4CAD02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0E0-FCBC-4AE4-88DF-351AA6BA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46C0-6BA2-449D-B5B6-5E0AAB0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876E-7252-4BD9-B9C1-FA1532CE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45B5-FB91-4F23-90AC-0C5EF38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EAA8-13A5-4D1E-BDB1-0077C6FD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E99F-3424-45A9-88CF-3B62933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C6FD-C328-4072-8F43-4923587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5B0A-919E-4555-9E8F-1439CA8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C34-D82E-48AE-96CD-8874CD9D7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FFA-8457-4551-8D66-44D927CFB9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ТЕМА УРОКУ</a:t>
            </a: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09080" cy="4824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Garamond"/>
              </a:rPr>
              <a:t>« Реакції сполучення, розкладу, обміну, заміщення»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сто знати – це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не вс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Знання потрібно використовува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Ге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машня мандрі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працювати параграф, вивчити визначен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сти рівняння реакцій для перетворення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→ Na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Na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(OH)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изначити типи хімічних реакці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Ключ до подорожі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рост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н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явище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знакою хімічної реакції може бути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задовольняє закону збереження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Урівняти хімічне рівняння – це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Реакцією йонного обміну називають реакцію між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сполученн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внаслідок якої з двох або кількох речовин утворюється одна нова речовина, називається реакцією сполученн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 = 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розклад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під час якої з однієї складної речовини утворюються дві або кілька нових речовин, називаються реакцією розкла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= А +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обміну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 п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цесі якої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дві складні речовини обмінюються своїми складовими частинами, називається реакцією обмін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+ СD = АD + С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заміщенн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 між простою та складною речовинами, у процесі якої атоми простої речовини заміщують атоми одного з елементів у складній речовині, називається реакцією заміщ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С = АС +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Зупинка « Впізнай реакцію» </a:t>
            </a:r>
            <a:br>
              <a:rPr sz="3600"/>
            </a:b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 скласти рівняння, визначити тип реакції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барій оксид + вод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ій  + хлорид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гідроксид + купрум (ІІ) сульфат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хром (ІІІ) гідроксид =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упрум (ІІ) гідроксид+сульфат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оксид + карбон (ІV) оксид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упинка «Розрахункова» </a:t>
            </a: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розв'язок задачі)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кий об’єм газу (за н.у.) утвориться в результаті реакції заміщення між 4,6 г натрію та сульфатною кислотою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изначити масу солі, що утвориться в результаті реакції обміну між кальцій гідроксидом кількістю речовини 2 моль та нітратною кислото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Чи довели ми на уроці актуальність слів Гет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Так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і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9:03:23Z</dcterms:created>
  <dc:creator>marina</dc:creator>
  <dc:description/>
  <dc:language>en-US</dc:language>
  <cp:lastModifiedBy>marina</cp:lastModifiedBy>
  <dcterms:modified xsi:type="dcterms:W3CDTF">2013-11-18T07:29:05Z</dcterms:modified>
  <cp:revision>4</cp:revision>
  <dc:subject/>
  <dc:title>ТЕМА УРОКУ </dc:title>
</cp:coreProperties>
</file>