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4D4D4-A498-4DD1-8693-105ED7C6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61FA-5DC5-48C6-8F7A-FB3445A8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20F45-D2A3-4AD4-8C7E-A1181645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ECC9-2E1C-42F1-B7ED-7D20DD81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A59D-1FAB-480E-82E9-6BA3FCD0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4121-D953-409A-B862-4E4BFB79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5A2C-2A11-40C5-8311-9CB451A1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D554-D50B-4DE3-B0E7-9C20A97A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3787-10EB-40A2-9B56-39452DC3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C8F7-CDC1-4945-ADD7-E73F591B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AD88-C70E-4FE6-8EBC-9917B6D2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5592A-79A3-47A6-807F-AD5D22F5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0C6F-DB22-4F95-9E80-DD61BF23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3F93-B4DF-4737-8C92-6CD7589F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AE68-E60D-4773-A331-B41A8788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554F-A0D2-4B75-B9D1-5DB3BEF5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826D-3113-422A-96AE-1BC5F769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5960E-1532-464C-817B-D902DC90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FB6F-D27E-4D9B-825E-17163E36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4B7E0-4DED-41DC-8A4D-DCF6A7F3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3FF5-5D1F-412A-B199-F13C21F1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719FF-B5ED-4A1E-9453-3E0313B5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875A7-A286-47A6-A92E-8F913F2A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5A62-5EB2-4075-BB96-A240C080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B2FE-A709-4744-8850-89CB5B32E0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B0F8-8500-4D8F-8BE6-67AE9296D6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ТЕМА УРОКУ</a:t>
            </a:r>
            <a:r>
              <a:rPr b="1" lang="uk-UA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09080" cy="48243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Garamond"/>
              </a:rPr>
              <a:t>« Реакції сполучення, розкладу, обміну, заміщення»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осто знати – це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не вс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Знання потрібно використовува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Гет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омашня мандрів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Опрацювати параграф, вивчити визначенн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скласти рівняння реакцій для перетворення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 → Na</a:t>
            </a:r>
            <a:r>
              <a:rPr b="0" lang="uk-UA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О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 Na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ОН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Сu(OH)</a:t>
            </a:r>
            <a:r>
              <a:rPr b="0" lang="uk-UA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СuО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С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изначити типи хімічних реакці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e5e5ff"/>
                </a:solidFill>
                <a:latin typeface="Garamond"/>
              </a:rPr>
              <a:t>Ключ до подорожі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Проста речовина – це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Складна речовина – це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Хімічне явище – це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Ознакою хімічної реакції може бути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Хімічне рівняння – це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Хімічне рівняння задовольняє закону збереження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Урівняти хімічне рівняння – це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Реакцією йонного обміну називають реакцію між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Реакція сполучення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еакція, внаслідок якої з двох або кількох речовин утворюється одна нова речовина, називається реакцією сполучення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агальна схема: А + В = А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Реакція розклад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еакція, під час якої з однієї складної речовини утворюються дві або кілька нових речовин, називаються реакцією розкла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агальна схема:   АВ = А +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Реакція обміну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еакція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 пр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цесі якої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дві складні речовини обмінюються своїми складовими частинами, називається реакцією обмін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агальна схема:   АВ + СD = АD + С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Реакція заміщенн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еакція між простою та складною речовинами, у процесі якої атоми простої речовини заміщують атоми одного з елементів у складній речовині, називається реакцією заміщен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агальна схема: А + ВС = АС +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e5e5ff"/>
                </a:solidFill>
                <a:latin typeface="Garamond"/>
              </a:rPr>
              <a:t>Зупинка « Впізнай реакцію» </a:t>
            </a:r>
            <a:br>
              <a:rPr sz="3600"/>
            </a:br>
            <a:r>
              <a:rPr b="1" lang="uk-UA" sz="2800" spc="-1" strike="noStrike">
                <a:solidFill>
                  <a:srgbClr val="e5e5ff"/>
                </a:solidFill>
                <a:latin typeface="Garamond"/>
              </a:rPr>
              <a:t>( скласти рівняння, визначити тип реакції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барій оксид + вода =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калій  + хлоридна кислота =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кальцій гідроксид + купрум (ІІ) сульфат =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хром (ІІІ) гідроксид =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купрум (ІІ) гідроксид+сульфатна кислота =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кальцій оксид + карбон (ІV) оксид =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Зупинка «Розрахункова» </a:t>
            </a:r>
            <a:r>
              <a:rPr b="1" lang="uk-UA" sz="2800" spc="-1" strike="noStrike">
                <a:solidFill>
                  <a:srgbClr val="e5e5ff"/>
                </a:solidFill>
                <a:latin typeface="Garamond"/>
              </a:rPr>
              <a:t>(розв'язок задачі)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кий об’єм газу (за н.у.) утвориться в результаті реакції заміщення між 4,6 г натрію та сульфатною кислотою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Визначити масу солі, що утвориться в результаті реакції обміну між кальцій гідроксидом кількістю речовини 2 моль та нітратною кислото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Чи довели ми на уроці актуальність слів Гете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Так, тому що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і, тому що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09:03:23Z</dcterms:created>
  <dc:creator>marina</dc:creator>
  <dc:description/>
  <dc:language>en-US</dc:language>
  <cp:lastModifiedBy>marina</cp:lastModifiedBy>
  <dcterms:modified xsi:type="dcterms:W3CDTF">2013-11-18T07:29:05Z</dcterms:modified>
  <cp:revision>4</cp:revision>
  <dc:subject/>
  <dc:title>ТЕМА УРОКУ </dc:title>
</cp:coreProperties>
</file>