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4DBCF-0FAB-4323-88F8-57804007D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4FF79-2D4B-45B5-BC8B-F169173C1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B5797-5F93-4A9A-A87C-1CFC4AEF4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88109-6D05-4EE4-9909-D37ACBA8B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B6B5A-7E5D-4ADB-B834-CFDD6E545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02101-B41F-471E-AA72-D83C8773B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E983A-FCA7-494D-A21C-23A0E2CD6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8C4BB-5814-461A-A785-E388C193E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42A7A-27D1-45ED-A092-38AE005DE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72876-B5D4-4E98-BDF4-7520AA27A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84FD9-DDE8-4787-B9E9-081D930D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84C5E-D458-4460-8AA6-EE6223676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E7082-2EEA-47F3-848F-41644590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1BC11-0F6C-43C4-B24C-A9138EA1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65BF5-3CE4-4CCB-A4D2-2BDBA80AC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3B0BA-4CE2-4730-9213-4C19E5F46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6F51D-75B1-467A-A25E-5E68AF44C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6A213-5F8D-48B5-A752-F84498FCB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31242-6674-4D01-B2F8-28D10E757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61EE5-C0BE-4B0B-8D65-DB04EA395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7EA57-475D-4F9B-8A98-417B0CFF4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414A5-9248-4EB6-BD8D-DBFBD66A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05469-F13C-40E7-BD85-8E99098C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09428-27AE-4C85-BEA7-39F9E8B8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AE9F5-AD8D-4C17-BDCD-75017FEB4D1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C8EEB-18A0-4E7C-A555-6D7A314C23D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e5e5ff"/>
                </a:solidFill>
                <a:latin typeface="Garamond"/>
              </a:rPr>
              <a:t>ТЕМА УРОКУ</a:t>
            </a:r>
            <a:r>
              <a:rPr b="1" lang="uk-UA" sz="6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09080" cy="482436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66"/>
                </a:solidFill>
                <a:latin typeface="Garamond"/>
              </a:rPr>
              <a:t>« Реакції сполучення, розкладу, обміну, заміщення»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Просто знати – це </a:t>
            </a:r>
            <a:r>
              <a:rPr b="0" lang="uk-UA" sz="2400" spc="-1" strike="noStrike">
                <a:solidFill>
                  <a:srgbClr val="ffffff"/>
                </a:solidFill>
                <a:latin typeface="Garamond"/>
              </a:rPr>
              <a:t>не вс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uk-UA" sz="2400" spc="-1" strike="noStrike">
                <a:solidFill>
                  <a:srgbClr val="ffffff"/>
                </a:solidFill>
                <a:latin typeface="Garamond"/>
              </a:rPr>
              <a:t>Знання потрібно використовуват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uk-UA" sz="2400" spc="-1" strike="noStrike">
                <a:solidFill>
                  <a:srgbClr val="ffffff"/>
                </a:solidFill>
                <a:latin typeface="Garamond"/>
              </a:rPr>
              <a:t>Гет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Домашня мандрів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2205000"/>
            <a:ext cx="87138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Опрацювати параграф, вивчити визначенн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скласти рівняння реакцій для перетворення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a → Na</a:t>
            </a:r>
            <a:r>
              <a:rPr b="0" lang="uk-UA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О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→ Na</a:t>
            </a: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ОН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→</a:t>
            </a: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 Сu(OH)</a:t>
            </a:r>
            <a:r>
              <a:rPr b="0" lang="uk-UA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→</a:t>
            </a: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 СuО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→</a:t>
            </a: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 Сu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Визначити типи хімічних реакці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e5e5ff"/>
                </a:solidFill>
                <a:latin typeface="Garamond"/>
              </a:rPr>
              <a:t>Ключ до подорожі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Проста речовина – це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Складна речовина – це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Хімічне явище – це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Ознакою хімічної реакції може бути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Хімічне рівняння – це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Хімічне рівняння задовольняє закону збереження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Урівняти хімічне рівняння – це 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Реакцією йонного обміну називають реакцію між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Реакція сполучення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Реакція, внаслідок якої з двох або кількох речовин утворюється одна нова речовина, називається реакцією сполучення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Загальна схема: А + В = А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Реакція розкладу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Реакція, під час якої з однієї складної речовини утворюються дві або кілька нових речовин, називаються реакцією розкладу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Загальна схема:   АВ = А + 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Реакція обміну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Реакція,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у пр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о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цесі якої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 дві складні речовини обмінюються своїми складовими частинами, називається реакцією обміну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Загальна схема:   АВ + СD = АD + С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Реакція заміщення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Реакція між простою та складною речовинами, у процесі якої атоми простої речовини заміщують атоми одного з елементів у складній речовині, називається реакцією заміщенн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Загальна схема: А + ВС = АС +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e5e5ff"/>
                </a:solidFill>
                <a:latin typeface="Garamond"/>
              </a:rPr>
              <a:t>Зупинка « Впізнай реакцію» </a:t>
            </a:r>
            <a:br>
              <a:rPr sz="3600"/>
            </a:br>
            <a:r>
              <a:rPr b="1" lang="uk-UA" sz="2800" spc="-1" strike="noStrike">
                <a:solidFill>
                  <a:srgbClr val="e5e5ff"/>
                </a:solidFill>
                <a:latin typeface="Garamond"/>
              </a:rPr>
              <a:t>( скласти рівняння, визначити тип реакції)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Garamond"/>
              </a:rPr>
              <a:t>барій оксид + вода =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Garamond"/>
              </a:rPr>
              <a:t>калій  + хлоридна кислота =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Garamond"/>
              </a:rPr>
              <a:t>кальцій гідроксид + купрум (ІІ) сульфат =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Garamond"/>
              </a:rPr>
              <a:t>хром (ІІІ) гідроксид =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Garamond"/>
              </a:rPr>
              <a:t>купрум (ІІ) гідроксид+сульфатна кислота =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Garamond"/>
              </a:rPr>
              <a:t>кальцій оксид + карбон (ІV) оксид =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Зупинка «Розрахункова» </a:t>
            </a:r>
            <a:r>
              <a:rPr b="1" lang="uk-UA" sz="2800" spc="-1" strike="noStrike">
                <a:solidFill>
                  <a:srgbClr val="e5e5ff"/>
                </a:solidFill>
                <a:latin typeface="Garamond"/>
              </a:rPr>
              <a:t>(розв'язок задачі)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Який об’єм газу (за н.у.) утвориться в результаті реакції заміщення між 4,6 г натрію та сульфатною кислотою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Визначити масу солі, що утвориться в результаті реакції обміну між кальцій гідроксидом кількістю речовини 2 моль та нітратною кислотою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Чи довели ми на уроці актуальність слів Гете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Так, тому що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Ні, тому що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7T09:03:23Z</dcterms:created>
  <dc:creator>marina</dc:creator>
  <dc:description/>
  <dc:language>en-US</dc:language>
  <cp:lastModifiedBy>marina</cp:lastModifiedBy>
  <dcterms:modified xsi:type="dcterms:W3CDTF">2013-11-18T07:29:05Z</dcterms:modified>
  <cp:revision>4</cp:revision>
  <dc:subject/>
  <dc:title>ТЕМА УРОКУ </dc:title>
</cp:coreProperties>
</file>