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1281-9CB7-4729-8B03-00B34DA6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90F-BF2F-46A9-AE21-488A1EFF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6AE-DC18-417C-B88D-606A99BB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76E-12D7-43C8-B1F7-C22C9546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537A-09D1-4B15-8D66-E9A64B76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C54D-E574-4DF1-B3F0-37A127E5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C67C-290B-45D8-B30F-FD94B71B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2DD6-D559-475B-9B19-5D7A1E00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A6D1-55F1-4FD3-93B5-67904AB2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847B-B55D-4EA1-8750-CCC2441E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AF98-6AB1-4710-ABBD-E369EF31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876-155B-4AE9-9C61-3C29E788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DC55-157D-453C-9953-852F7CEF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1913-B96F-4061-B572-BDB9C1EF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2E9C-32F2-4216-9E84-9F2D6365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1D55-CA99-4C85-93B8-4EF5A779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99FA-F947-4538-B4B1-503BB987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A82-E4C2-4896-809D-ADC899B7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32B-3F0D-4858-BA36-6E47498F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605-45B0-430C-B7F2-02D3A53C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3F9-2922-401F-81F3-EE0796BE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11A-844F-436E-8114-EE3A97B9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663-7027-4601-A974-ADBF34D1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BAE-54F3-47A4-8027-F52D08E1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F63D-19F4-4D23-86E2-01D9128E4A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0A45-4FAD-4C40-B8D5-65D18013BD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80"/>
                </a:solidFill>
                <a:latin typeface="Arial Black"/>
              </a:rPr>
              <a:t>Тема уроку:</a:t>
            </a:r>
            <a:endParaRPr b="0" lang="en-US" sz="5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Arial Black"/>
              </a:rPr>
              <a:t>« </a:t>
            </a:r>
            <a:r>
              <a:rPr b="0" lang="uk-UA" sz="3200" spc="-1" strike="noStrike">
                <a:solidFill>
                  <a:srgbClr val="4f81bd"/>
                </a:solidFill>
                <a:latin typeface="Arial Black"/>
              </a:rPr>
              <a:t>Поняття про полімери на прикладі поліетилену. Застосування поліетилену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4" descr="Scan0086"/>
          <p:cNvPicPr/>
          <p:nvPr/>
        </p:nvPicPr>
        <p:blipFill>
          <a:blip r:embed="rId1"/>
          <a:stretch/>
        </p:blipFill>
        <p:spPr>
          <a:xfrm>
            <a:off x="6084720" y="4076640"/>
            <a:ext cx="2232360" cy="1625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Технология (Полиэтилен).mp4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04000" cy="534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00080"/>
                </a:solidFill>
                <a:latin typeface="Calibri"/>
              </a:rPr>
              <a:t>Домашнє завдання:</a:t>
            </a:r>
            <a:endParaRPr b="0" lang="en-US" sz="48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24" name="Picture 7" descr="девочка уроки"/>
          <p:cNvPicPr/>
          <p:nvPr/>
        </p:nvPicPr>
        <p:blipFill>
          <a:blip r:embed="rId1"/>
          <a:stretch/>
        </p:blipFill>
        <p:spPr>
          <a:xfrm>
            <a:off x="900000" y="1773360"/>
            <a:ext cx="2559240" cy="34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348000" y="1989000"/>
            <a:ext cx="515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1f497d"/>
                </a:solidFill>
                <a:latin typeface="Monotype Corsiva"/>
              </a:rPr>
              <a:t>Вивчити </a:t>
            </a:r>
            <a:r>
              <a:rPr b="0" i="1" lang="en-US" sz="3600" spc="-1" strike="noStrike">
                <a:solidFill>
                  <a:srgbClr val="1f497d"/>
                </a:solidFill>
                <a:latin typeface="Monotype Corsiva"/>
              </a:rPr>
              <a:t>&amp;</a:t>
            </a:r>
            <a:r>
              <a:rPr b="0" i="1" lang="uk-UA" sz="3600" spc="-1" strike="noStrike">
                <a:solidFill>
                  <a:srgbClr val="1f497d"/>
                </a:solidFill>
                <a:latin typeface="Monotype Corsiva"/>
              </a:rPr>
              <a:t>23 Створити інформацій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1f497d"/>
                </a:solidFill>
                <a:latin typeface="Monotype Corsiva"/>
              </a:rPr>
              <a:t>проект “Друге життя пластикового стаканчик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00080"/>
                </a:solidFill>
                <a:latin typeface="Arial Black"/>
              </a:rPr>
              <a:t>Мета уроку: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280" y="1267920"/>
            <a:ext cx="7993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ознайомити учнів із загальними поняттями хімії високомолекулярних сполук на прикладі поліетилен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 </a:t>
            </a: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розглянути властивості  та застосування поліетилен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 </a:t>
            </a: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розвивати вміння досліджувати, спостерігати, робити висновк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виховувати екологічну культуру та бережливе ставлення до приро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1310551828%5F24ca72311bdc"/>
          <p:cNvPicPr/>
          <p:nvPr/>
        </p:nvPicPr>
        <p:blipFill>
          <a:blip r:embed="rId1"/>
          <a:stretch/>
        </p:blipFill>
        <p:spPr>
          <a:xfrm>
            <a:off x="826920" y="1628640"/>
            <a:ext cx="1657440" cy="180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Perchatki1"/>
          <p:cNvPicPr/>
          <p:nvPr/>
        </p:nvPicPr>
        <p:blipFill>
          <a:blip r:embed="rId2"/>
          <a:stretch/>
        </p:blipFill>
        <p:spPr>
          <a:xfrm>
            <a:off x="3276720" y="1700280"/>
            <a:ext cx="1839960" cy="1800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kollag%5Fplast-spb1"/>
          <p:cNvPicPr/>
          <p:nvPr/>
        </p:nvPicPr>
        <p:blipFill>
          <a:blip r:embed="rId3"/>
          <a:stretch/>
        </p:blipFill>
        <p:spPr>
          <a:xfrm>
            <a:off x="6012000" y="1700280"/>
            <a:ext cx="2265120" cy="167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Plastic%5F03"/>
          <p:cNvPicPr/>
          <p:nvPr/>
        </p:nvPicPr>
        <p:blipFill>
          <a:blip r:embed="rId4"/>
          <a:stretch/>
        </p:blipFill>
        <p:spPr>
          <a:xfrm>
            <a:off x="1116000" y="3716280"/>
            <a:ext cx="2232000" cy="162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f63815"/>
          <p:cNvPicPr/>
          <p:nvPr/>
        </p:nvPicPr>
        <p:blipFill>
          <a:blip r:embed="rId5"/>
          <a:stretch/>
        </p:blipFill>
        <p:spPr>
          <a:xfrm>
            <a:off x="4859280" y="3429000"/>
            <a:ext cx="1873440" cy="144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252942"/>
          <p:cNvPicPr/>
          <p:nvPr/>
        </p:nvPicPr>
        <p:blipFill>
          <a:blip r:embed="rId6"/>
          <a:stretch/>
        </p:blipFill>
        <p:spPr>
          <a:xfrm>
            <a:off x="6588000" y="4869000"/>
            <a:ext cx="1729080" cy="116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479162"/>
          <p:cNvPicPr/>
          <p:nvPr/>
        </p:nvPicPr>
        <p:blipFill>
          <a:blip r:embed="rId7"/>
          <a:stretch/>
        </p:blipFill>
        <p:spPr>
          <a:xfrm>
            <a:off x="3635280" y="4149720"/>
            <a:ext cx="1168560" cy="1989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2"/>
          <p:cNvSpPr/>
          <p:nvPr/>
        </p:nvSpPr>
        <p:spPr>
          <a:xfrm>
            <a:off x="1692360" y="836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Arial Black"/>
              </a:rPr>
              <a:t>Вироби з поліетиле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95280" y="3933720"/>
            <a:ext cx="841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2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2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+…..→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—CH2—CH2—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—CH2—CH2—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—CH2—CH2—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….→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—CH2—CH2—CH2—CH2—CH2—CH2—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36720" y="917640"/>
            <a:ext cx="79120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Arial Black"/>
              </a:rPr>
              <a:t>Реакція полімеризації –</a:t>
            </a:r>
            <a:r>
              <a:rPr b="1" lang="uk-UA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Monotype Corsiva"/>
              </a:rPr>
              <a:t>сполучення однакових молекул в одну макромолеку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-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Мономер    </a:t>
            </a:r>
            <a:r>
              <a:rPr b="0" lang="uk-UA" sz="2400" spc="-1" strike="noStrike">
                <a:solidFill>
                  <a:srgbClr val="d60093"/>
                </a:solidFill>
                <a:latin typeface="Arial"/>
              </a:rPr>
              <a:t>                         </a:t>
            </a: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структурна л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3348000" y="2421000"/>
            <a:ext cx="2305080" cy="485640"/>
          </a:xfrm>
          <a:prstGeom prst="rightArrow">
            <a:avLst>
              <a:gd name="adj1" fmla="val 50000"/>
              <a:gd name="adj2" fmla="val 11866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80"/>
                </a:solidFill>
                <a:latin typeface="Arial Black"/>
              </a:rPr>
              <a:t>Робота з підручником : </a:t>
            </a:r>
            <a:r>
              <a:rPr b="0" lang="en-US" sz="3200" spc="-1" strike="noStrike">
                <a:solidFill>
                  <a:srgbClr val="800080"/>
                </a:solidFill>
                <a:latin typeface="Arial Black"/>
              </a:rPr>
              <a:t>&amp;23 </a:t>
            </a:r>
            <a:r>
              <a:rPr b="0" lang="uk-UA" sz="3200" spc="-1" strike="noStrike">
                <a:solidFill>
                  <a:srgbClr val="800080"/>
                </a:solidFill>
                <a:latin typeface="Arial Black"/>
              </a:rPr>
              <a:t>ст.150 </a:t>
            </a:r>
            <a:br>
              <a:rPr sz="3200"/>
            </a:br>
            <a:r>
              <a:rPr b="0" lang="uk-UA" sz="3200" spc="-1" strike="noStrike">
                <a:solidFill>
                  <a:srgbClr val="800080"/>
                </a:solidFill>
                <a:latin typeface="Arial Black"/>
              </a:rPr>
              <a:t>Дайте визначення:</a:t>
            </a:r>
            <a:endParaRPr b="0" lang="en-US" sz="32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9" name="AutoShape 21"/>
          <p:cNvSpPr/>
          <p:nvPr/>
        </p:nvSpPr>
        <p:spPr>
          <a:xfrm>
            <a:off x="611280" y="1844640"/>
            <a:ext cx="3744720" cy="223200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Реакці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полімериз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2"/>
          <p:cNvSpPr/>
          <p:nvPr/>
        </p:nvSpPr>
        <p:spPr>
          <a:xfrm>
            <a:off x="2700360" y="4076640"/>
            <a:ext cx="4392720" cy="215892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Моно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3"/>
          <p:cNvSpPr/>
          <p:nvPr/>
        </p:nvSpPr>
        <p:spPr>
          <a:xfrm>
            <a:off x="4716360" y="1773360"/>
            <a:ext cx="3888000" cy="223200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Структур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л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826920" y="692280"/>
            <a:ext cx="75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 Black"/>
              </a:rPr>
              <a:t>Правила техніки безпеки під час роботи з реактивами та прилад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1"/>
          <p:cNvPicPr/>
          <p:nvPr/>
        </p:nvPicPr>
        <p:blipFill>
          <a:blip r:embed="rId1"/>
          <a:stretch/>
        </p:blipFill>
        <p:spPr>
          <a:xfrm>
            <a:off x="1116000" y="3357720"/>
            <a:ext cx="3024360" cy="241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2"/>
          <p:cNvPicPr/>
          <p:nvPr/>
        </p:nvPicPr>
        <p:blipFill>
          <a:blip r:embed="rId2"/>
          <a:stretch/>
        </p:blipFill>
        <p:spPr>
          <a:xfrm>
            <a:off x="4932360" y="3068640"/>
            <a:ext cx="3384720" cy="26654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688320" y="1557360"/>
            <a:ext cx="3909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1.Будьте обережн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в кабінеті хімі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932360" y="1557360"/>
            <a:ext cx="370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2.Реактиви беріть в кількості вказаній 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інстру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860760" y="641520"/>
            <a:ext cx="729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Правила техніки безпеки під час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з реактивами та прилад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83760" y="172260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3.Виконуйте досліди тіл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за інструкціє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8"/>
          <p:cNvPicPr/>
          <p:nvPr/>
        </p:nvPicPr>
        <p:blipFill>
          <a:blip r:embed="rId1"/>
          <a:stretch/>
        </p:blipFill>
        <p:spPr>
          <a:xfrm>
            <a:off x="1908000" y="2637000"/>
            <a:ext cx="2448000" cy="1827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5231520" y="1720800"/>
            <a:ext cx="37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4. Нагрівання слі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проводити обере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9"/>
          <p:cNvPicPr/>
          <p:nvPr/>
        </p:nvPicPr>
        <p:blipFill>
          <a:blip r:embed="rId2"/>
          <a:stretch/>
        </p:blipFill>
        <p:spPr>
          <a:xfrm>
            <a:off x="5867280" y="2565360"/>
            <a:ext cx="2617920" cy="2089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3"/>
          <p:cNvPicPr/>
          <p:nvPr/>
        </p:nvPicPr>
        <p:blipFill>
          <a:blip r:embed="rId3"/>
          <a:stretch/>
        </p:blipFill>
        <p:spPr>
          <a:xfrm>
            <a:off x="4572000" y="4581360"/>
            <a:ext cx="2592360" cy="1943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971640" y="4508640"/>
            <a:ext cx="345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5. Потрібно зна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властивості речовин 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якими працює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611280" y="765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Правила техніки безпеки під час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з реактивами та прилад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11280" y="170028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6. По закінчен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робо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приберіть сво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робоче міс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1"/>
          <p:cNvPicPr/>
          <p:nvPr/>
        </p:nvPicPr>
        <p:blipFill>
          <a:blip r:embed="rId1"/>
          <a:stretch/>
        </p:blipFill>
        <p:spPr>
          <a:xfrm>
            <a:off x="826920" y="3429000"/>
            <a:ext cx="3240360" cy="2658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500720" y="1700280"/>
            <a:ext cx="374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7. В разі нещасного випад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негайно зверніться до вчител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13"/>
          <p:cNvPicPr/>
          <p:nvPr/>
        </p:nvPicPr>
        <p:blipFill>
          <a:blip r:embed="rId2"/>
          <a:stretch/>
        </p:blipFill>
        <p:spPr>
          <a:xfrm>
            <a:off x="4716360" y="3483000"/>
            <a:ext cx="3624480" cy="2719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Scan0087"/>
          <p:cNvPicPr/>
          <p:nvPr/>
        </p:nvPicPr>
        <p:blipFill>
          <a:blip r:embed="rId1"/>
          <a:stretch/>
        </p:blipFill>
        <p:spPr>
          <a:xfrm>
            <a:off x="1042920" y="907920"/>
            <a:ext cx="1428840" cy="1981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987640" y="1052640"/>
            <a:ext cx="5256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Лабораторний дослід</a:t>
            </a:r>
            <a:br>
              <a:rPr sz="2800"/>
            </a:b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№ 14</a:t>
            </a: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Ознайомлення з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зразками вироб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із поліетилен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900000" y="2781360"/>
            <a:ext cx="76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1.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Випробуй матеріал на дотик, на пластичність, на міцні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2.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Шматочок поліетилену нагрій над полум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ям спиртівки, зміни його форму, охоло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3.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Поклади шматочок поліетилену в пробірку з розинами кислоти, лугу, калій пермангана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4.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Зроби висновок про пластичі властивості й хімічну активність поліетил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Демонстрационная версия</cp:lastModifiedBy>
  <dcterms:modified xsi:type="dcterms:W3CDTF">2013-11-03T18:10:08Z</dcterms:modified>
  <cp:revision>4</cp:revision>
  <dc:subject/>
  <dc:title>Тема уроку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c000000000001024140</vt:lpwstr>
  </property>
  <property fmtid="{D5CDD505-2E9C-101B-9397-08002B2CF9AE}" pid="3" name="_TemplateID">
    <vt:lpwstr>TC103899649990</vt:lpwstr>
  </property>
</Properties>
</file>