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D00-E635-47C7-9ABF-D9F747E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7EF-3626-4E5B-A176-48E3709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5D-D5AD-46F7-91FC-90E5551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652-C633-4B19-A265-CEFB3B01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45ED-1999-4669-9BE7-2F9994A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81B-4A4C-4038-90F5-A119C39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26B-C9F4-490A-BF3F-D028F3DD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DE3-11E2-44DA-8614-E143D6F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14E1-912E-433A-B127-D7024CB1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DD4-F71C-4811-85E5-26AC503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11C3-89CF-4D64-A940-010639E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CD0-183E-4A07-8988-264C740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DAC-D13B-4F48-ABC6-D6561D2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6B43-71E4-4F02-807C-D00C13B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F7DB-CB66-4644-A918-1388D6C0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97B-5110-46E7-A4AC-91D13D86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1E3-51F0-44AE-9C95-0FB3F104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4B2-DB80-4F9D-9CDD-4392385D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AC1-FA6F-4E5C-89DD-B5566D6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1AC-9936-4DB3-A745-E727BF25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5C9-186D-445F-B96A-1D4FD28D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D5C-B81D-4CE1-9D27-51457C4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718-FBCB-4B63-AE32-6655101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97B-AB59-4304-88E3-B8601C3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9CA-974B-42E3-9C41-64A975B30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41F-33A1-4F2B-A271-FC731CFE6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80"/>
                </a:solidFill>
                <a:latin typeface="Arial Black"/>
              </a:rPr>
              <a:t>Тема уроку:</a:t>
            </a:r>
            <a:endParaRPr b="0" lang="en-US" sz="5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 Black"/>
              </a:rPr>
              <a:t>« </a:t>
            </a:r>
            <a:r>
              <a:rPr b="0" lang="uk-UA" sz="3200" spc="-1" strike="noStrike">
                <a:solidFill>
                  <a:srgbClr val="4f81bd"/>
                </a:solidFill>
                <a:latin typeface="Arial Black"/>
              </a:rPr>
              <a:t>Поняття про полімери на прикладі поліетилену. Застосування поліетилен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86"/>
          <p:cNvPicPr/>
          <p:nvPr/>
        </p:nvPicPr>
        <p:blipFill>
          <a:blip r:embed="rId1"/>
          <a:stretch/>
        </p:blipFill>
        <p:spPr>
          <a:xfrm>
            <a:off x="6084720" y="4076640"/>
            <a:ext cx="2232360" cy="162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Технология (Полиэтилен).mp4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34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Домашнє завдання: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4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00000" y="1773360"/>
            <a:ext cx="255924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348000" y="1989000"/>
            <a:ext cx="51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Вивчити </a:t>
            </a:r>
            <a:r>
              <a:rPr b="0" i="1" lang="en-US" sz="3600" spc="-1" strike="noStrike">
                <a:solidFill>
                  <a:srgbClr val="1f497d"/>
                </a:solidFill>
                <a:latin typeface="Monotype Corsiva"/>
              </a:rPr>
              <a:t>&amp;</a:t>
            </a: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23 Створити інформацій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проект “Друге життя пластикового стаканчик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80"/>
                </a:solidFill>
                <a:latin typeface="Arial Black"/>
              </a:rPr>
              <a:t>Мета уроку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267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ознайомити учнів із загальними поняттями хімії високомолекулярних сполук на прикладі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глянути властивості  та застосування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вивати вміння досліджувати, спостерігати, робити виснов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виховувати екологічну культуру та бережливе ставлення до прир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310551828%5F24ca72311bdc"/>
          <p:cNvPicPr/>
          <p:nvPr/>
        </p:nvPicPr>
        <p:blipFill>
          <a:blip r:embed="rId1"/>
          <a:stretch/>
        </p:blipFill>
        <p:spPr>
          <a:xfrm>
            <a:off x="826920" y="162864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erchatki1"/>
          <p:cNvPicPr/>
          <p:nvPr/>
        </p:nvPicPr>
        <p:blipFill>
          <a:blip r:embed="rId2"/>
          <a:stretch/>
        </p:blipFill>
        <p:spPr>
          <a:xfrm>
            <a:off x="3276720" y="1700280"/>
            <a:ext cx="1839960" cy="180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kollag%5Fplast-spb1"/>
          <p:cNvPicPr/>
          <p:nvPr/>
        </p:nvPicPr>
        <p:blipFill>
          <a:blip r:embed="rId3"/>
          <a:stretch/>
        </p:blipFill>
        <p:spPr>
          <a:xfrm>
            <a:off x="6012000" y="1700280"/>
            <a:ext cx="226512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lastic%5F03"/>
          <p:cNvPicPr/>
          <p:nvPr/>
        </p:nvPicPr>
        <p:blipFill>
          <a:blip r:embed="rId4"/>
          <a:stretch/>
        </p:blipFill>
        <p:spPr>
          <a:xfrm>
            <a:off x="1116000" y="3716280"/>
            <a:ext cx="223200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f63815"/>
          <p:cNvPicPr/>
          <p:nvPr/>
        </p:nvPicPr>
        <p:blipFill>
          <a:blip r:embed="rId5"/>
          <a:stretch/>
        </p:blipFill>
        <p:spPr>
          <a:xfrm>
            <a:off x="4859280" y="3429000"/>
            <a:ext cx="18734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252942"/>
          <p:cNvPicPr/>
          <p:nvPr/>
        </p:nvPicPr>
        <p:blipFill>
          <a:blip r:embed="rId6"/>
          <a:stretch/>
        </p:blipFill>
        <p:spPr>
          <a:xfrm>
            <a:off x="6588000" y="4869000"/>
            <a:ext cx="172908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479162"/>
          <p:cNvPicPr/>
          <p:nvPr/>
        </p:nvPicPr>
        <p:blipFill>
          <a:blip r:embed="rId7"/>
          <a:stretch/>
        </p:blipFill>
        <p:spPr>
          <a:xfrm>
            <a:off x="3635280" y="4149720"/>
            <a:ext cx="1168560" cy="198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1692360" y="83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 Black"/>
              </a:rPr>
              <a:t>Вироби з поліетил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95280" y="3933720"/>
            <a:ext cx="841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…..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.→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CH2—CH2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36720" y="917640"/>
            <a:ext cx="7912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 Black"/>
              </a:rPr>
              <a:t>Реакція полімеризації –</a:t>
            </a: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onotype Corsiva"/>
              </a:rPr>
              <a:t>сполучення однакових молекул в одну макромолек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Мономер    </a:t>
            </a: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структурна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2421000"/>
            <a:ext cx="2305080" cy="485640"/>
          </a:xfrm>
          <a:prstGeom prst="rightArrow">
            <a:avLst>
              <a:gd name="adj1" fmla="val 50000"/>
              <a:gd name="adj2" fmla="val 118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Робота з підручником :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&amp;23 </a:t>
            </a: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ст.150 </a:t>
            </a:r>
            <a:br>
              <a:rPr sz="3200"/>
            </a:b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Дайте визначення: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611280" y="1844640"/>
            <a:ext cx="374472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еак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лімери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700360" y="4076640"/>
            <a:ext cx="4392720" cy="21589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Мо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4716360" y="1773360"/>
            <a:ext cx="388800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Структу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826920" y="69228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 Black"/>
              </a:rPr>
              <a:t>Правила техніки безпеки під час роботи 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1116000" y="3357720"/>
            <a:ext cx="3024360" cy="241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"/>
          <p:cNvPicPr/>
          <p:nvPr/>
        </p:nvPicPr>
        <p:blipFill>
          <a:blip r:embed="rId2"/>
          <a:stretch/>
        </p:blipFill>
        <p:spPr>
          <a:xfrm>
            <a:off x="4932360" y="306864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88320" y="1557360"/>
            <a:ext cx="390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1.Будьте обереж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 кабінеті хімі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932360" y="155736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2.Реактиви беріть в кількості вказані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інстру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60760" y="641520"/>
            <a:ext cx="72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83760" y="17226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3.Виконуйте досліди ті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за інстру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8"/>
          <p:cNvPicPr/>
          <p:nvPr/>
        </p:nvPicPr>
        <p:blipFill>
          <a:blip r:embed="rId1"/>
          <a:stretch/>
        </p:blipFill>
        <p:spPr>
          <a:xfrm>
            <a:off x="1908000" y="2637000"/>
            <a:ext cx="2448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5231520" y="1720800"/>
            <a:ext cx="37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4. Нагрівання слі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роводити обере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9"/>
          <p:cNvPicPr/>
          <p:nvPr/>
        </p:nvPicPr>
        <p:blipFill>
          <a:blip r:embed="rId2"/>
          <a:stretch/>
        </p:blipFill>
        <p:spPr>
          <a:xfrm>
            <a:off x="5867280" y="2565360"/>
            <a:ext cx="261792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3"/>
          <p:cNvPicPr/>
          <p:nvPr/>
        </p:nvPicPr>
        <p:blipFill>
          <a:blip r:embed="rId3"/>
          <a:stretch/>
        </p:blipFill>
        <p:spPr>
          <a:xfrm>
            <a:off x="4572000" y="458136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971640" y="4508640"/>
            <a:ext cx="34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5. Потрібно зн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ластивості речовин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ими працює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70028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6. По закінчен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приберіть сво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че міс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1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265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500720" y="1700280"/>
            <a:ext cx="37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7. В разі нещасного випад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негайно зверніться до в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"/>
          <p:cNvPicPr/>
          <p:nvPr/>
        </p:nvPicPr>
        <p:blipFill>
          <a:blip r:embed="rId2"/>
          <a:stretch/>
        </p:blipFill>
        <p:spPr>
          <a:xfrm>
            <a:off x="4716360" y="3483000"/>
            <a:ext cx="3624480" cy="271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can0087"/>
          <p:cNvPicPr/>
          <p:nvPr/>
        </p:nvPicPr>
        <p:blipFill>
          <a:blip r:embed="rId1"/>
          <a:stretch/>
        </p:blipFill>
        <p:spPr>
          <a:xfrm>
            <a:off x="1042920" y="90792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987640" y="1052640"/>
            <a:ext cx="5256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Лабораторний дослід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№ 14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Ознайомлення з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зразками вироб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із поліетиле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00000" y="27813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Випробуй матеріал на дотик, на пластичність, на міцні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Шматочок поліетилену нагрій над полум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м спиртівки, зміни його форму, охол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Поклади шматочок поліетилену в пробірку з розинами кислоти, лугу, калій перманган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Зроби висновок про пластичі властивості й хімічну активність поліетил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Демонстрационная версия</cp:lastModifiedBy>
  <dcterms:modified xsi:type="dcterms:W3CDTF">2013-11-03T18:10:08Z</dcterms:modified>
  <cp:revision>4</cp:revision>
  <dc:subject/>
  <dc:title>Тема урок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c000000000001024140</vt:lpwstr>
  </property>
  <property fmtid="{D5CDD505-2E9C-101B-9397-08002B2CF9AE}" pid="3" name="_TemplateID">
    <vt:lpwstr>TC103899649990</vt:lpwstr>
  </property>
</Properties>
</file>