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28E-F3A0-4A12-85BD-5E2939BE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C7B-0C40-4E35-B9B8-BD2ECC84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B94-FF17-4D76-AC97-2B5D9501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A3F-3DA0-4874-B45C-AA9D2072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F0A6-77B8-446C-9CAD-82B1B551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BD9C-9E66-44BF-914D-A79BC7B3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489A-9BD0-4240-8B75-94CB7439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47A5-14D6-4795-BB92-50C4DE5B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06CF-53E3-4541-83A3-1CE600E1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4D31-8DD5-41B6-8C0B-35BD8D15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5E56-536E-466F-BC63-C18302D3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BDF-9B32-46E5-9F0C-289CD391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A98E-BD8E-48B3-A0D6-93A15F7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F17F-0E67-49EB-9195-B620D688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916A-0148-4F8A-9329-A02B5FB6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1155-DB19-4EB2-B9F4-BF8F0644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AEF5-4B1B-40CF-963B-95C9849B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5D5-41DE-4FF2-B3F9-D7B64A9A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321-C47F-4A5A-B588-83E99B11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FB5-8D1B-4C3B-B8FC-A17B2753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2DC-DADB-4DF9-BEA9-9268A8B6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3DC-7473-480D-B2F3-6C6D469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596-9F9D-4032-8C1F-B8045B6B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CE0-0FD6-4DDB-8B94-3A4F71C9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048C-4505-4E71-82A4-35BD6FC15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AEA7-5289-448C-8232-A2B2E9B1B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80"/>
                </a:solidFill>
                <a:latin typeface="Arial Black"/>
              </a:rPr>
              <a:t>Тема уроку:</a:t>
            </a:r>
            <a:endParaRPr b="0" lang="en-US" sz="5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81bd"/>
                </a:solidFill>
                <a:latin typeface="Arial Black"/>
              </a:rPr>
              <a:t>« </a:t>
            </a:r>
            <a:r>
              <a:rPr b="0" lang="uk-UA" sz="3200" spc="-1" strike="noStrike">
                <a:solidFill>
                  <a:srgbClr val="4f81bd"/>
                </a:solidFill>
                <a:latin typeface="Arial Black"/>
              </a:rPr>
              <a:t>Поняття про полімери на прикладі поліетилену. Застосування поліетилену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Scan0086"/>
          <p:cNvPicPr/>
          <p:nvPr/>
        </p:nvPicPr>
        <p:blipFill>
          <a:blip r:embed="rId1"/>
          <a:stretch/>
        </p:blipFill>
        <p:spPr>
          <a:xfrm>
            <a:off x="6084720" y="4076640"/>
            <a:ext cx="2232360" cy="162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Технология (Полиэтилен).mp4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34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Calibri"/>
              </a:rPr>
              <a:t>Домашнє завдання:</a:t>
            </a:r>
            <a:endParaRPr b="0" lang="en-US" sz="48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24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00000" y="1773360"/>
            <a:ext cx="255924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348000" y="1989000"/>
            <a:ext cx="515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Вивчити </a:t>
            </a:r>
            <a:r>
              <a:rPr b="0" i="1" lang="en-US" sz="3600" spc="-1" strike="noStrike">
                <a:solidFill>
                  <a:srgbClr val="1f497d"/>
                </a:solidFill>
                <a:latin typeface="Monotype Corsiva"/>
              </a:rPr>
              <a:t>&amp;</a:t>
            </a: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23 Створити інформацій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1f497d"/>
                </a:solidFill>
                <a:latin typeface="Monotype Corsiva"/>
              </a:rPr>
              <a:t>проект “Друге життя пластикового стаканчик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0080"/>
                </a:solidFill>
                <a:latin typeface="Arial Black"/>
              </a:rPr>
              <a:t>Мета уроку: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280" y="126792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ознайомити учнів із загальними поняттями хімії високомолекулярних сполук на прикладі поліетилен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розглянути властивості  та застосування поліетилен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розвивати вміння досліджувати, спостерігати, робити виснов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f81bd"/>
                </a:solidFill>
                <a:latin typeface="Arial Black"/>
              </a:rPr>
              <a:t>виховувати екологічну культуру та бережливе ставлення до прир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310551828%5F24ca72311bdc"/>
          <p:cNvPicPr/>
          <p:nvPr/>
        </p:nvPicPr>
        <p:blipFill>
          <a:blip r:embed="rId1"/>
          <a:stretch/>
        </p:blipFill>
        <p:spPr>
          <a:xfrm>
            <a:off x="826920" y="1628640"/>
            <a:ext cx="165744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erchatki1"/>
          <p:cNvPicPr/>
          <p:nvPr/>
        </p:nvPicPr>
        <p:blipFill>
          <a:blip r:embed="rId2"/>
          <a:stretch/>
        </p:blipFill>
        <p:spPr>
          <a:xfrm>
            <a:off x="3276720" y="1700280"/>
            <a:ext cx="1839960" cy="180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kollag%5Fplast-spb1"/>
          <p:cNvPicPr/>
          <p:nvPr/>
        </p:nvPicPr>
        <p:blipFill>
          <a:blip r:embed="rId3"/>
          <a:stretch/>
        </p:blipFill>
        <p:spPr>
          <a:xfrm>
            <a:off x="6012000" y="1700280"/>
            <a:ext cx="2265120" cy="167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Plastic%5F03"/>
          <p:cNvPicPr/>
          <p:nvPr/>
        </p:nvPicPr>
        <p:blipFill>
          <a:blip r:embed="rId4"/>
          <a:stretch/>
        </p:blipFill>
        <p:spPr>
          <a:xfrm>
            <a:off x="1116000" y="3716280"/>
            <a:ext cx="223200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f63815"/>
          <p:cNvPicPr/>
          <p:nvPr/>
        </p:nvPicPr>
        <p:blipFill>
          <a:blip r:embed="rId5"/>
          <a:stretch/>
        </p:blipFill>
        <p:spPr>
          <a:xfrm>
            <a:off x="4859280" y="3429000"/>
            <a:ext cx="187344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252942"/>
          <p:cNvPicPr/>
          <p:nvPr/>
        </p:nvPicPr>
        <p:blipFill>
          <a:blip r:embed="rId6"/>
          <a:stretch/>
        </p:blipFill>
        <p:spPr>
          <a:xfrm>
            <a:off x="6588000" y="4869000"/>
            <a:ext cx="172908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479162"/>
          <p:cNvPicPr/>
          <p:nvPr/>
        </p:nvPicPr>
        <p:blipFill>
          <a:blip r:embed="rId7"/>
          <a:stretch/>
        </p:blipFill>
        <p:spPr>
          <a:xfrm>
            <a:off x="3635280" y="4149720"/>
            <a:ext cx="1168560" cy="198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2"/>
          <p:cNvSpPr/>
          <p:nvPr/>
        </p:nvSpPr>
        <p:spPr>
          <a:xfrm>
            <a:off x="1692360" y="836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 Black"/>
              </a:rPr>
              <a:t>Вироби з поліетиле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95280" y="3933720"/>
            <a:ext cx="841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…..→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….→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—CH2—CH2—CH2—CH2—CH2—CH2—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36720" y="917640"/>
            <a:ext cx="7912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Arial Black"/>
              </a:rPr>
              <a:t>Реакція полімеризації –</a:t>
            </a:r>
            <a:r>
              <a:rPr b="1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Monotype Corsiva"/>
              </a:rPr>
              <a:t>сполучення однакових молекул в одну макромолек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-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Мономер    </a:t>
            </a:r>
            <a:r>
              <a:rPr b="0" lang="uk-UA" sz="24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структурна л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348000" y="2421000"/>
            <a:ext cx="2305080" cy="485640"/>
          </a:xfrm>
          <a:prstGeom prst="rightArrow">
            <a:avLst>
              <a:gd name="adj1" fmla="val 50000"/>
              <a:gd name="adj2" fmla="val 118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Робота з підручником : </a:t>
            </a:r>
            <a:r>
              <a:rPr b="0" lang="en-US" sz="3200" spc="-1" strike="noStrike">
                <a:solidFill>
                  <a:srgbClr val="800080"/>
                </a:solidFill>
                <a:latin typeface="Arial Black"/>
              </a:rPr>
              <a:t>&amp;23 </a:t>
            </a: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ст.150 </a:t>
            </a:r>
            <a:br>
              <a:rPr sz="3200"/>
            </a:br>
            <a:r>
              <a:rPr b="0" lang="uk-UA" sz="3200" spc="-1" strike="noStrike">
                <a:solidFill>
                  <a:srgbClr val="800080"/>
                </a:solidFill>
                <a:latin typeface="Arial Black"/>
              </a:rPr>
              <a:t>Дайте визначення:</a:t>
            </a:r>
            <a:endParaRPr b="0" lang="en-US" sz="32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611280" y="1844640"/>
            <a:ext cx="3744720" cy="22320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Реак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полімериз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2700360" y="4076640"/>
            <a:ext cx="4392720" cy="21589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Мо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4716360" y="1773360"/>
            <a:ext cx="3888000" cy="22320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Структур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л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826920" y="69228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 Black"/>
              </a:rPr>
              <a:t>Правила техніки безпеки під час роботи 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"/>
          <p:cNvPicPr/>
          <p:nvPr/>
        </p:nvPicPr>
        <p:blipFill>
          <a:blip r:embed="rId1"/>
          <a:stretch/>
        </p:blipFill>
        <p:spPr>
          <a:xfrm>
            <a:off x="1116000" y="3357720"/>
            <a:ext cx="3024360" cy="241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2"/>
          <p:cNvPicPr/>
          <p:nvPr/>
        </p:nvPicPr>
        <p:blipFill>
          <a:blip r:embed="rId2"/>
          <a:stretch/>
        </p:blipFill>
        <p:spPr>
          <a:xfrm>
            <a:off x="4932360" y="3068640"/>
            <a:ext cx="3384720" cy="26654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688320" y="1557360"/>
            <a:ext cx="390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1.Будьте обережн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в кабінеті хімі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932360" y="1557360"/>
            <a:ext cx="370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2.Реактиви беріть в кількості вказаній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інструк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860760" y="641520"/>
            <a:ext cx="72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Правила техніки безпеки під час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83760" y="172260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3.Виконуйте досліди ті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за інструкціє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8"/>
          <p:cNvPicPr/>
          <p:nvPr/>
        </p:nvPicPr>
        <p:blipFill>
          <a:blip r:embed="rId1"/>
          <a:stretch/>
        </p:blipFill>
        <p:spPr>
          <a:xfrm>
            <a:off x="1908000" y="2637000"/>
            <a:ext cx="2448000" cy="1827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5231520" y="1720800"/>
            <a:ext cx="37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4. Нагрівання слі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проводити обере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9"/>
          <p:cNvPicPr/>
          <p:nvPr/>
        </p:nvPicPr>
        <p:blipFill>
          <a:blip r:embed="rId2"/>
          <a:stretch/>
        </p:blipFill>
        <p:spPr>
          <a:xfrm>
            <a:off x="5867280" y="2565360"/>
            <a:ext cx="2617920" cy="20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3"/>
          <p:cNvPicPr/>
          <p:nvPr/>
        </p:nvPicPr>
        <p:blipFill>
          <a:blip r:embed="rId3"/>
          <a:stretch/>
        </p:blipFill>
        <p:spPr>
          <a:xfrm>
            <a:off x="4572000" y="4581360"/>
            <a:ext cx="2592360" cy="1943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971640" y="4508640"/>
            <a:ext cx="34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5. Потрібно зн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властивості речовин 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97d"/>
                </a:solidFill>
                <a:latin typeface="Arial"/>
              </a:rPr>
              <a:t>якими працює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611280" y="765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Правила техніки безпеки під час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з реактивами та прила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11280" y="170028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6. По закінчен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робо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приберіть сво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робоче міс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1"/>
          <p:cNvPicPr/>
          <p:nvPr/>
        </p:nvPicPr>
        <p:blipFill>
          <a:blip r:embed="rId1"/>
          <a:stretch/>
        </p:blipFill>
        <p:spPr>
          <a:xfrm>
            <a:off x="826920" y="3429000"/>
            <a:ext cx="3240360" cy="2658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500720" y="1700280"/>
            <a:ext cx="37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7. В разі нещасного випад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негайно зверніться до вчите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3"/>
          <p:cNvPicPr/>
          <p:nvPr/>
        </p:nvPicPr>
        <p:blipFill>
          <a:blip r:embed="rId2"/>
          <a:stretch/>
        </p:blipFill>
        <p:spPr>
          <a:xfrm>
            <a:off x="4716360" y="3483000"/>
            <a:ext cx="3624480" cy="271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can0087"/>
          <p:cNvPicPr/>
          <p:nvPr/>
        </p:nvPicPr>
        <p:blipFill>
          <a:blip r:embed="rId1"/>
          <a:stretch/>
        </p:blipFill>
        <p:spPr>
          <a:xfrm>
            <a:off x="1042920" y="90792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987640" y="1052640"/>
            <a:ext cx="5256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Лабораторний дослід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Arial"/>
              </a:rPr>
              <a:t>№ 14</a:t>
            </a:r>
            <a:r>
              <a:rPr b="1" lang="uk-UA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Ознайомлення з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зразками вироб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із поліетилен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900000" y="278136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Випробуй матеріал на дотик, на пластичність, на міцні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2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Шматочок поліетилену нагрій над полум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ям спиртівки, зміни його форму, охол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3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Поклади шматочок поліетилену в пробірку з розинами кислоти, лугу, калій перманган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0" lang="uk-UA" sz="2400" spc="-1" strike="noStrike">
                <a:solidFill>
                  <a:srgbClr val="1f497d"/>
                </a:solidFill>
                <a:latin typeface="Arial"/>
              </a:rPr>
              <a:t> Зроби висновок про пластичі властивості й хімічну активність поліетил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Демонстрационная версия</cp:lastModifiedBy>
  <dcterms:modified xsi:type="dcterms:W3CDTF">2013-11-03T18:10:08Z</dcterms:modified>
  <cp:revision>4</cp:revision>
  <dc:subject/>
  <dc:title>Тема уроку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c000000000001024140</vt:lpwstr>
  </property>
  <property fmtid="{D5CDD505-2E9C-101B-9397-08002B2CF9AE}" pid="3" name="_TemplateID">
    <vt:lpwstr>TC103899649990</vt:lpwstr>
  </property>
</Properties>
</file>