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11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3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8.png" ContentType="image/png"/>
  <Override PartName="/ppt/media/image14.jpeg" ContentType="image/jpeg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8852-00A3-461B-8467-FF812FB6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481-3567-4D58-9855-B115D5B4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485-50FA-495B-867D-26971B6D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8FB4-9E1E-4150-B678-B3A8A4AE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DA2-F6FF-4B5B-AB99-0160D8D3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2420-F7C8-4E87-A6F8-6E55116B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B22-1801-4C30-B45B-C0EBE952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CEE7-C681-4DED-B97F-17B32D0A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E2D-C0DE-4C9E-A6A9-F1CB6A9A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782E-02DB-4012-9996-2A02F680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01E9-84F0-4135-B9D9-8BD10385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753B-0EB2-4D9C-8568-A946B5A6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F543-D8EE-4B81-99AD-90288D5492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57200" y="1600200"/>
            <a:ext cx="8228880" cy="4494600"/>
            <a:chOff x="457200" y="1600200"/>
            <a:chExt cx="8228880" cy="4494600"/>
          </a:xfrm>
        </p:grpSpPr>
        <p:cxnSp>
          <p:nvCxnSpPr>
            <p:cNvPr id="62" name="_s45072"/>
            <p:cNvCxnSpPr>
              <a:stCxn id="63" idx="0"/>
              <a:endCxn id="64" idx="2"/>
            </p:cNvCxnSpPr>
            <p:nvPr/>
          </p:nvCxnSpPr>
          <p:spPr>
            <a:xfrm flipH="1" flipV="1" rot="5400000">
              <a:off x="3603960" y="3328920"/>
              <a:ext cx="868320" cy="1067400"/>
            </a:xfrm>
            <a:prstGeom prst="bentConnector3">
              <a:avLst>
                <a:gd name="adj1" fmla="val 1314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5" name="_s45069"/>
            <p:cNvCxnSpPr>
              <a:stCxn id="66" idx="0"/>
              <a:endCxn id="64" idx="2"/>
            </p:cNvCxnSpPr>
            <p:nvPr/>
          </p:nvCxnSpPr>
          <p:spPr>
            <a:xfrm flipV="1" rot="16200000">
              <a:off x="5737680" y="2262240"/>
              <a:ext cx="868320" cy="3200760"/>
            </a:xfrm>
            <a:prstGeom prst="bentConnector3">
              <a:avLst>
                <a:gd name="adj1" fmla="val 1314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7" name="_s45068"/>
            <p:cNvCxnSpPr>
              <a:stCxn id="68" idx="0"/>
              <a:endCxn id="64" idx="2"/>
            </p:cNvCxnSpPr>
            <p:nvPr/>
          </p:nvCxnSpPr>
          <p:spPr>
            <a:xfrm flipV="1" rot="16200000">
              <a:off x="4671000" y="3328920"/>
              <a:ext cx="868320" cy="1067040"/>
            </a:xfrm>
            <a:prstGeom prst="bentConnector3">
              <a:avLst>
                <a:gd name="adj1" fmla="val 1314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9" name="_s45067"/>
            <p:cNvCxnSpPr>
              <a:stCxn id="70" idx="0"/>
              <a:endCxn id="64" idx="2"/>
            </p:cNvCxnSpPr>
            <p:nvPr/>
          </p:nvCxnSpPr>
          <p:spPr>
            <a:xfrm flipH="1" flipV="1" rot="5400000">
              <a:off x="2537280" y="2262240"/>
              <a:ext cx="868320" cy="3201120"/>
            </a:xfrm>
            <a:prstGeom prst="bentConnector3">
              <a:avLst>
                <a:gd name="adj1" fmla="val 13148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64" name="_s45063"/>
            <p:cNvSpPr/>
            <p:nvPr/>
          </p:nvSpPr>
          <p:spPr>
            <a:xfrm>
              <a:off x="3504960" y="1600200"/>
              <a:ext cx="2133360" cy="1828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99"/>
                  </a:solidFill>
                  <a:latin typeface="Arial"/>
                </a:rPr>
                <a:t>Тип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99"/>
                  </a:solidFill>
                  <a:latin typeface="Arial"/>
                </a:rPr>
                <a:t>кристалічн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99"/>
                  </a:solidFill>
                  <a:latin typeface="Arial"/>
                </a:rPr>
                <a:t>граток</a:t>
              </a:r>
              <a:r>
                <a:rPr b="1" i="1" lang="ru-RU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45064"/>
            <p:cNvSpPr/>
            <p:nvPr/>
          </p:nvSpPr>
          <p:spPr>
            <a:xfrm>
              <a:off x="457200" y="4296960"/>
              <a:ext cx="1828440" cy="179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99"/>
                  </a:solidFill>
                  <a:latin typeface="Arial"/>
                </a:rPr>
                <a:t>Атомні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45065"/>
            <p:cNvSpPr/>
            <p:nvPr/>
          </p:nvSpPr>
          <p:spPr>
            <a:xfrm>
              <a:off x="4724280" y="4296960"/>
              <a:ext cx="1828440" cy="17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99"/>
                  </a:solidFill>
                  <a:latin typeface="Arial"/>
                </a:rPr>
                <a:t>Молекулярні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45066"/>
            <p:cNvSpPr/>
            <p:nvPr/>
          </p:nvSpPr>
          <p:spPr>
            <a:xfrm>
              <a:off x="6857640" y="4296960"/>
              <a:ext cx="1828440" cy="179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99"/>
                  </a:solidFill>
                  <a:latin typeface="Arial"/>
                </a:rPr>
                <a:t>Металічні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45071"/>
            <p:cNvSpPr/>
            <p:nvPr/>
          </p:nvSpPr>
          <p:spPr>
            <a:xfrm>
              <a:off x="2590560" y="4296960"/>
              <a:ext cx="1828440" cy="179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99"/>
                  </a:solidFill>
                  <a:latin typeface="Arial"/>
                </a:rPr>
                <a:t>Йонні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1600200"/>
          <a:ext cx="8305920" cy="4930920"/>
        </p:xfrm>
        <a:graphic>
          <a:graphicData uri="http://schemas.openxmlformats.org/drawingml/2006/table">
            <a:tbl>
              <a:tblPr/>
              <a:tblGrid>
                <a:gridCol w="1697040"/>
                <a:gridCol w="2390760"/>
                <a:gridCol w="2279520"/>
                <a:gridCol w="1938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Показн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Тип кристалічних ґраток і властивості речов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молекуляр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атом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йон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Складов</a:t>
                      </a: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ru-RU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 частинки грато</a:t>
                      </a: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ярні й неполярні молеку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то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о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Тип хімічного зв’язк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валент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валент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валент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Міцність зв’яз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с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с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Температура кипіння і плав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висок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сок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сок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Летк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тк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летк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летк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Твердість, крихк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’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ерді,  крихк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ерді,  крихк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Електропровідн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ієлектр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ієлектрики, або напівпровід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ієлектрики, електропровідні в водних розчинах чи в розплав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Розчинність у вод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чинні – з полярними зв'язками, нерозчинні – з неполярними зв'язка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розчинн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чинн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1600200"/>
          <a:ext cx="8229600" cy="5081760"/>
        </p:xfrm>
        <a:graphic>
          <a:graphicData uri="http://schemas.openxmlformats.org/drawingml/2006/table">
            <a:tbl>
              <a:tblPr/>
              <a:tblGrid>
                <a:gridCol w="1681200"/>
                <a:gridCol w="2368440"/>
                <a:gridCol w="2259000"/>
                <a:gridCol w="1920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Показн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Тип кристалічних ґраток і властивості речов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молекуляр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атом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йон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Складов</a:t>
                      </a: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ru-RU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 частинки грато</a:t>
                      </a: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Тип хімічного зв’язк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Міцність зв’яз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Температура кипіння і плав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Летк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Твердість, крихк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Електропровідн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Розчинність у вод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40" descr=""/>
          <p:cNvPicPr/>
          <p:nvPr/>
        </p:nvPicPr>
        <p:blipFill>
          <a:blip r:embed="rId1"/>
          <a:srcRect l="3149" t="0" r="2085" b="0"/>
          <a:stretch/>
        </p:blipFill>
        <p:spPr>
          <a:xfrm>
            <a:off x="762120" y="349200"/>
            <a:ext cx="792468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41" descr=""/>
          <p:cNvPicPr/>
          <p:nvPr/>
        </p:nvPicPr>
        <p:blipFill>
          <a:blip r:embed="rId1"/>
          <a:stretch/>
        </p:blipFill>
        <p:spPr>
          <a:xfrm>
            <a:off x="609480" y="415800"/>
            <a:ext cx="769644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3162600" cy="2938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Моделі кристалічних ґраток різних ти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91440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Arial"/>
              </a:rPr>
              <a:t>Натрій хлорид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— твердий, кристалічний, тугоплавкий, добре розчинний у воді. Хімічний зв’язок — йонний, у вузлах кристалічних ґраток знаходяться йони Натрію і Хлору, які утримуються силами кулонівського притягання. Такий тип кристалічних ґраток називається йон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42" descr=""/>
          <p:cNvPicPr/>
          <p:nvPr/>
        </p:nvPicPr>
        <p:blipFill>
          <a:blip r:embed="rId1"/>
          <a:stretch/>
        </p:blipFill>
        <p:spPr>
          <a:xfrm>
            <a:off x="838080" y="307800"/>
            <a:ext cx="7925040" cy="606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43" descr=""/>
          <p:cNvPicPr/>
          <p:nvPr/>
        </p:nvPicPr>
        <p:blipFill>
          <a:blip r:embed="rId1"/>
          <a:srcRect l="2415" t="0" r="3137" b="0"/>
          <a:stretch/>
        </p:blipFill>
        <p:spPr>
          <a:xfrm>
            <a:off x="685800" y="338040"/>
            <a:ext cx="79246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Arial"/>
              </a:rPr>
              <a:t>Алмаз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— найтвердіша речовина, тугоплавка, нерозчинна у воді. Тип зв’язку — ковалентний неполярний, найміцніший. У вузлах кристалічних ґраток знаходяться атоми Карбону, зв’язані між собою ковалентним полярним зв’язком. Такі кристалічні ґратки називаються атомни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85840" y="2714760"/>
            <a:ext cx="3247920" cy="3533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4929120" y="2643120"/>
            <a:ext cx="3835440" cy="3643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83" name="Подзаголовок 2"/>
          <p:cNvSpPr/>
          <p:nvPr/>
        </p:nvSpPr>
        <p:spPr>
          <a:xfrm>
            <a:off x="5786280" y="6286680"/>
            <a:ext cx="2643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Алм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одзаголовок 2"/>
          <p:cNvSpPr/>
          <p:nvPr/>
        </p:nvSpPr>
        <p:spPr>
          <a:xfrm>
            <a:off x="642960" y="6286680"/>
            <a:ext cx="2643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Графі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44" descr=""/>
          <p:cNvPicPr/>
          <p:nvPr/>
        </p:nvPicPr>
        <p:blipFill>
          <a:blip r:embed="rId1"/>
          <a:stretch/>
        </p:blipFill>
        <p:spPr>
          <a:xfrm>
            <a:off x="533520" y="544680"/>
            <a:ext cx="8153280" cy="63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Arial"/>
              </a:rPr>
              <a:t>дати поняття про кристалічні ґратки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Arial"/>
              </a:rPr>
              <a:t>познайомити з різними типами кристалічних ґраток (атомні, молекулярні, йонні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Arial"/>
              </a:rPr>
              <a:t>розкрити зв'язок між типом хімічного зв’язку, типом кристалічних ґраток і фізичними властивостями речовин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Arial"/>
              </a:rPr>
              <a:t>визначити особливості будови твердих речовин та встановити залежність властивостей речовин від їхньої будови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45" descr=""/>
          <p:cNvPicPr/>
          <p:nvPr/>
        </p:nvPicPr>
        <p:blipFill>
          <a:blip r:embed="rId1"/>
          <a:srcRect l="2155" t="0" r="3218" b="0"/>
          <a:stretch/>
        </p:blipFill>
        <p:spPr>
          <a:xfrm>
            <a:off x="533520" y="376200"/>
            <a:ext cx="792468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181480" y="2971800"/>
            <a:ext cx="3824280" cy="3706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Arial"/>
              </a:rPr>
              <a:t>Карбон (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V) </a:t>
            </a:r>
            <a:r>
              <a:rPr b="1" lang="uk-UA" sz="2800" spc="-1" strike="noStrike">
                <a:solidFill>
                  <a:srgbClr val="0000cc"/>
                </a:solidFill>
                <a:latin typeface="Arial"/>
              </a:rPr>
              <a:t>оксид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— за нормальних умов газ, низькі температури плавлення й кипіння, розчинний у воді. У твердому стані у вузлах кристалічних ґраток знаходяться молекули вуглекислого газу. Зв’язок між вузлами кристалічних ґраток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іжмолекулярна взаємоді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кі кристалічні ґра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зиваються молекулярни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Monotype Corsiva"/>
              </a:rPr>
              <a:t>Практика без теорії сліпа, теорія бе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Monotype Corsiva"/>
              </a:rPr>
              <a:t>практики мертва</a:t>
            </a:r>
            <a:r>
              <a:rPr b="1" i="1" lang="uk-UA" sz="4400" spc="-1" strike="noStrike">
                <a:solidFill>
                  <a:srgbClr val="0000ff"/>
                </a:solidFill>
                <a:latin typeface="Monotype Corsiva"/>
              </a:rPr>
              <a:t>. </a:t>
            </a:r>
            <a:r>
              <a:rPr b="1" i="1" lang="ru-RU" sz="4400" spc="-1" strike="noStrike">
                <a:solidFill>
                  <a:srgbClr val="0000ff"/>
                </a:solidFill>
                <a:latin typeface="Monotype Corsiv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Monotype Corsiva"/>
              </a:rPr>
              <a:t>Кожна гіпотеза тільки тоді ста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Monotype Corsiva"/>
              </a:rPr>
              <a:t>теорією, коли вона перевір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Monotype Corsiva"/>
              </a:rPr>
              <a:t>практикою.</a:t>
            </a: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Monotype Corsiva"/>
              </a:rPr>
              <a:t>Інструкція з визначення типу кристалічної ґра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Arial"/>
              </a:rPr>
              <a:t>Визначити до якої групи відноситься дана речови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ff"/>
                </a:solidFill>
                <a:latin typeface="Arial"/>
              </a:rPr>
              <a:t>Проста речовина – визначити метал чи немет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Ме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 – мають </a:t>
            </a: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металічну 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кристалічну грат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неМе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 – мають </a:t>
            </a: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молекулярну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 кристалічну грат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винятки – </a:t>
            </a: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деякі  неМе 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мають </a:t>
            </a: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атомну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 кристалічну грат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ff"/>
                </a:solidFill>
                <a:latin typeface="Arial"/>
              </a:rPr>
              <a:t>Складна речовина – визначити клас речови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МехОу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йонну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 кристалічну грат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неМехОу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молекулярну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 кристалічну грат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Ме(ОН)х 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йонну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 кристалічну гратку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НхAn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йонну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 кристалічну грат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MeхAnу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йонну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 кристалічну грат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Monotype Corsiva"/>
              </a:rPr>
              <a:t>У кристалічних речовинах атоми, молекули, йони розміщуються в певному порядку, утворюючи кристалічні ґра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Monotype Corsiva"/>
              </a:rPr>
              <a:t>Кристалічні ґратки – модель, за допомогою якої описують внутрішню будову кристал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Monotype Corsiva"/>
              </a:rPr>
              <a:t>Розрізняють атомні, молекулярні, йонні та металічні кристалічні ґра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3059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Monotype Corsiva"/>
              </a:rPr>
              <a:t>Між будовою речовини, яка визначається типом хімічного зв'язку і типом кристалічних ґраток, та її властивостями існує певна залежність: чим міцніший хімічний зв'язок, що утримує частинки у вузлах кристалічних ґраток, тим міцніші кристали, тим твердіша речовина, тим вищі її температури плавлення і кипіння.</a:t>
            </a:r>
            <a:r>
              <a:rPr b="0" lang="uk-UA" sz="32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Monotype Corsiva"/>
              </a:rPr>
              <a:t>А тому, якщо відома будова речовини, можна прогнозувати її властивості, і навпаки – якщо відомі властивості речовини, можна зробити висновок про її можливу буд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Arial"/>
              </a:rPr>
              <a:t>Закріплення нового матеріа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Які сили утримують атоми, молекули, йони в кристалах?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Учні на підставі отриманих знань заповнюють таблицю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D:\Кеша\ОСНОВА\Человечки к презентациям\Опитування.gif"/>
          <p:cNvPicPr/>
          <p:nvPr/>
        </p:nvPicPr>
        <p:blipFill>
          <a:blip r:embed="rId1"/>
          <a:stretch/>
        </p:blipFill>
        <p:spPr>
          <a:xfrm>
            <a:off x="2190600" y="3500280"/>
            <a:ext cx="6596280" cy="3122640"/>
          </a:xfrm>
          <a:prstGeom prst="rect">
            <a:avLst/>
          </a:prstGeom>
          <a:ln w="0">
            <a:noFill/>
          </a:ln>
        </p:spPr>
      </p:pic>
      <p:sp>
        <p:nvSpPr>
          <p:cNvPr id="96" name="Стрелка вниз 4"/>
          <p:cNvSpPr/>
          <p:nvPr/>
        </p:nvSpPr>
        <p:spPr>
          <a:xfrm>
            <a:off x="642960" y="3429000"/>
            <a:ext cx="714240" cy="342900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c00000"/>
                </a:solidFill>
                <a:uFillTx/>
                <a:latin typeface="Arial"/>
              </a:rPr>
              <a:t>Підбиття підсумк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1" lang="uk-UA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Що нового ви дізналися на уроці про будову речовин?</a:t>
            </a:r>
            <a:br>
              <a:rPr sz="2800"/>
            </a:b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З якими типами кристалічних ґраток ми познайомилися на уроці?</a:t>
            </a:r>
            <a:br>
              <a:rPr sz="2800"/>
            </a:b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Чим зумовлений той чи інший тип кристалічних ґраток речовини у твердому агрегатному стані?</a:t>
            </a:r>
            <a:br>
              <a:rPr sz="2800"/>
            </a:b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Як називаються речовини, які не мають кристалічних ґраток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3058920" cy="3071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ацювати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: § 43 ст.195-198. № 3, 4*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Творче завдання: описати одну із речовин, що є вдома, пояснити її будову, властивості, застосуванн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95280" y="457200"/>
            <a:ext cx="59436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є завдання</a:t>
            </a:r>
            <a:endParaRPr b="0" i="1" lang="en-US" sz="2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ff"/>
                </a:solidFill>
                <a:uFillTx/>
                <a:latin typeface="Arial"/>
              </a:rPr>
              <a:t>Знати</a:t>
            </a: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: поняття кристалічні гратки,типи кристалічних ґра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ff"/>
                </a:solidFill>
                <a:uFillTx/>
                <a:latin typeface="Arial"/>
              </a:rPr>
              <a:t>Уміти</a:t>
            </a: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: визначати типи кристалічних краток, прогнозувати властивості речовин залежно від виду хімічного зв'язку і типу кристалічних ґра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ff"/>
                </a:solidFill>
                <a:uFillTx/>
                <a:latin typeface="Arial"/>
              </a:rPr>
              <a:t>Розуміти</a:t>
            </a: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: залежність фізичних властивостей речовин від їх кристалічної будови;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4582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У кристаллической решётки свой секр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Она строга, математически стройна и 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     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поэтич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На все вопросы у неё всегда готов 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Строенье – главное, а свойства вещества 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– вторич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Йонний зв’язок виникає між йо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Йони – це нейтральні част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Йони – це заряджені част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овалентний зв’язок буває двох типів – полярний і неполяр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валентний полярний зв’язок утворюється між атомами з однаковою електронегативніст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Ковалентний неполярний зв’язок утворюється між атомами одного і того ж немета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валентний неполярний зв’язок утворюється між атомами з різною електронегативніст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полука з йонним зв’яз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О2 – сполука з ковалентним полярним зв’яз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сполука з йонним зв’яз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Йонний зв’язок виникає між йонами (та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Йони – це нейтральні частинки (ні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Йони – це заряджені частинки (так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овалентний зв’язок буває двох типів – полярний і неполярний (та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валентний полярний зв’язок утворюється між атомами з однаковою електронегативністю (ні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Ковалентний неполярний зв’язок утворюється між атомами одного і того ж неметалу (та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валентний неполярний зв’язок утворюється між атомами з різною електронегативністю (ні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полука з йонним зв’язком (та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О2 – сполука з ковалентним полярним зв’язком (ні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сполука з йонним зв’язком (ні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360" y="1600200"/>
            <a:ext cx="8221680" cy="4644360"/>
            <a:chOff x="684360" y="1600200"/>
            <a:chExt cx="8221680" cy="4644360"/>
          </a:xfrm>
        </p:grpSpPr>
        <p:cxnSp>
          <p:nvCxnSpPr>
            <p:cNvPr id="48" name="_s28685"/>
            <p:cNvCxnSpPr>
              <a:stCxn id="49" idx="0"/>
              <a:endCxn id="50" idx="2"/>
            </p:cNvCxnSpPr>
            <p:nvPr/>
          </p:nvCxnSpPr>
          <p:spPr>
            <a:xfrm flipV="1" rot="16200000">
              <a:off x="5769720" y="1661400"/>
              <a:ext cx="684720" cy="3005280"/>
            </a:xfrm>
            <a:prstGeom prst="bentConnector3">
              <a:avLst>
                <a:gd name="adj1" fmla="val 1667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1" name="_s28684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4225680" y="3199680"/>
              <a:ext cx="762120" cy="6480"/>
            </a:xfrm>
            <a:prstGeom prst="bentConnector3">
              <a:avLst>
                <a:gd name="adj1" fmla="val 1498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3" name="_s28683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858040" y="1754640"/>
              <a:ext cx="684720" cy="2819520"/>
            </a:xfrm>
            <a:prstGeom prst="bentConnector3">
              <a:avLst>
                <a:gd name="adj1" fmla="val 16675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50" name="_s28679"/>
            <p:cNvSpPr/>
            <p:nvPr/>
          </p:nvSpPr>
          <p:spPr>
            <a:xfrm>
              <a:off x="3318120" y="1600200"/>
              <a:ext cx="2583000" cy="1222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500" spc="-1" strike="noStrike">
                  <a:solidFill>
                    <a:srgbClr val="000099"/>
                  </a:solidFill>
                  <a:latin typeface="Arial"/>
                </a:rPr>
                <a:t>Агрегатни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500" spc="-1" strike="noStrike">
                  <a:solidFill>
                    <a:srgbClr val="285ed8"/>
                  </a:solidFill>
                  <a:latin typeface="Arial"/>
                </a:rPr>
                <a:t> </a:t>
              </a:r>
              <a:r>
                <a:rPr b="1" i="1" lang="uk-UA" sz="2500" spc="-1" strike="noStrike">
                  <a:solidFill>
                    <a:srgbClr val="000099"/>
                  </a:solidFill>
                  <a:latin typeface="Arial"/>
                </a:rPr>
                <a:t>ста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8680"/>
            <p:cNvSpPr/>
            <p:nvPr/>
          </p:nvSpPr>
          <p:spPr>
            <a:xfrm>
              <a:off x="684360" y="3506760"/>
              <a:ext cx="2212200" cy="2514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99"/>
                  </a:solidFill>
                  <a:latin typeface="Arial"/>
                </a:rPr>
                <a:t>Газоподіб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Характеризуєтьс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слабкою і </a:t>
              </a: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невпорядкованою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взаємодією части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8681"/>
            <p:cNvSpPr/>
            <p:nvPr/>
          </p:nvSpPr>
          <p:spPr>
            <a:xfrm>
              <a:off x="3351600" y="3584160"/>
              <a:ext cx="2507760" cy="2660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99"/>
                  </a:solidFill>
                  <a:latin typeface="Arial"/>
                </a:rPr>
                <a:t>Рід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взаємодія мі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частинками сильніша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ніж у газах, у</a:t>
              </a: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розташуванні части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існує певний порядок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але він постійн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змінюється внаслідо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теплового руху</a:t>
              </a:r>
              <a:br>
                <a:rPr sz="1600"/>
              </a:b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2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8682"/>
            <p:cNvSpPr/>
            <p:nvPr/>
          </p:nvSpPr>
          <p:spPr>
            <a:xfrm>
              <a:off x="6323040" y="3506760"/>
              <a:ext cx="2583000" cy="2668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99"/>
                  </a:solidFill>
                  <a:latin typeface="Arial"/>
                </a:rPr>
                <a:t>Тверд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частинки розташовані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у просторі сувор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uk-UA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762120" y="1371600"/>
            <a:ext cx="7237800" cy="5027400"/>
            <a:chOff x="762120" y="1371600"/>
            <a:chExt cx="7237800" cy="5027400"/>
          </a:xfrm>
        </p:grpSpPr>
        <p:cxnSp>
          <p:nvCxnSpPr>
            <p:cNvPr id="56" name="_s6157"/>
            <p:cNvCxnSpPr/>
            <p:nvPr/>
          </p:nvCxnSpPr>
          <p:spPr>
            <a:xfrm flipV="1" rot="16200000">
              <a:off x="4728960" y="2437200"/>
              <a:ext cx="1299240" cy="1918080"/>
            </a:xfrm>
            <a:prstGeom prst="bentConnector3">
              <a:avLst>
                <a:gd name="adj1" fmla="val 2610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7" name="_s6155"/>
            <p:cNvCxnSpPr/>
            <p:nvPr/>
          </p:nvCxnSpPr>
          <p:spPr>
            <a:xfrm flipH="1" flipV="1" rot="5400000">
              <a:off x="2606400" y="2258640"/>
              <a:ext cx="1642680" cy="1976040"/>
            </a:xfrm>
            <a:prstGeom prst="bentConnector3">
              <a:avLst>
                <a:gd name="adj1" fmla="val 2202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58" name="_s6151"/>
            <p:cNvSpPr/>
            <p:nvPr/>
          </p:nvSpPr>
          <p:spPr>
            <a:xfrm>
              <a:off x="2741760" y="1371600"/>
              <a:ext cx="3340440" cy="1375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900" spc="-1" strike="noStrike">
                  <a:solidFill>
                    <a:srgbClr val="000099"/>
                  </a:solidFill>
                  <a:latin typeface="Arial"/>
                </a:rPr>
                <a:t>Тверді речовини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6152"/>
            <p:cNvSpPr/>
            <p:nvPr/>
          </p:nvSpPr>
          <p:spPr>
            <a:xfrm>
              <a:off x="762120" y="3962160"/>
              <a:ext cx="3340440" cy="243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100" spc="-1" strike="noStrike">
                  <a:solidFill>
                    <a:srgbClr val="000099"/>
                  </a:solidFill>
                  <a:latin typeface="Arial"/>
                </a:rPr>
                <a:t>Аморф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труктурні частинк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речовин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розміщуютьс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безладно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Приклад: глина, скло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6154"/>
            <p:cNvSpPr/>
            <p:nvPr/>
          </p:nvSpPr>
          <p:spPr>
            <a:xfrm>
              <a:off x="4659480" y="3962160"/>
              <a:ext cx="3340440" cy="243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100" spc="-1" strike="noStrike">
                  <a:solidFill>
                    <a:srgbClr val="000099"/>
                  </a:solidFill>
                  <a:latin typeface="Arial"/>
                </a:rPr>
                <a:t>Кристаліч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труктурні частинк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речовин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розміщуютьс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порядковано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Приклад: кухонна сіль, графіт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уцефал</cp:lastModifiedBy>
  <dcterms:modified xsi:type="dcterms:W3CDTF">2013-07-16T06:18:4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2b000000000001024140</vt:lpwstr>
  </property>
  <property fmtid="{D5CDD505-2E9C-101B-9397-08002B2CF9AE}" pid="3" name="Version">
    <vt:r8>1</vt:r8>
  </property>
</Properties>
</file>