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2613-05F8-4221-BCCE-912110655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F07-3E2B-4A5A-AD84-C7DFB8F7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2E7230-AF58-4623-A075-03D03BDA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7FB8D-FA1A-4130-804D-2E8648CA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674E3F-E98C-457D-8C1C-ACDB7BDD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2DC7F3-6651-447D-8B9A-D1DF46E4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55DD9A-973E-4136-B35E-4C5CF356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66454-DDA0-4CBD-97F0-0A0547A9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413156-C774-49B0-A06A-FA0E4B1F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625DED-3BD7-44EA-96B3-247A63DE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59404D-BECF-41ED-B013-0DD78E59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D62DA-9F8D-4602-903B-32C4AA3D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B52-EED9-466B-81F4-AC977ECF5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C0CB35-4022-41EF-A3C4-68361304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BF9AD-D638-4447-B1CA-0AA9D47C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89F2A-8271-48CE-A18E-B9BAE326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111B94-4430-4C44-9867-04E47635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1E592-706D-4C3C-BBBF-C57CEDCB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029E3A-E2DF-4CBE-8386-AA2F8223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76A45A-4737-4BF5-9B91-F0EC2FD9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818047-1832-4A1A-855F-F2E15EEE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716B59-6EAE-4671-86D3-416AA113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0F340F-FDC7-4E42-9560-FE93AD77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A9B-A946-41FF-B359-CDD39297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D50F91-D59A-4C14-8262-4D911742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9F1DE-220B-4923-A168-B3899CAD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106F3-4C21-4C6F-B7DC-644F5835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B3416-B5B0-4639-A999-D23FB22B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9E485-89F0-4253-B5E4-7B97139B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7ADF0-6DA3-4618-AA91-516B63C4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3BD15-1442-4275-BD2D-AA520577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5C65E-9F48-415F-960F-9436D291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17430F-3987-48E8-BA70-96EB555D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ECF52-0A82-4636-92C2-9CE2CA2E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13A0-7A06-45F8-8F47-4AD8BE1A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01C95-3F0F-4476-89CC-13D62F043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FF357-D5B5-466D-9D81-5F14E3BF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B0A95-352E-450C-8422-EFBB5CFC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AA2D60-FB10-49CE-BA79-6A2E13C4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78E509-7E64-471B-BA18-7914AC02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70E8B-8E60-4782-A174-C52E3B94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540D4D-6C44-483B-AC55-10CAC010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44B44D-FC9F-4A0E-BA19-94FB9B8B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B3557-4847-4689-9E44-02B5EEE2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2F2BF6-7D5E-4AE9-8995-C64C3848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647F-3579-4CBC-96D7-67C0136B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FD1DE7-3718-474E-9218-6B716F68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170FF3-E887-43B8-94FD-1BBDB42B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89DB66-2202-4A22-BE3E-422D9D35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2C193C-AA71-4978-892D-8940D1E4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14570-B97F-4429-B0CF-731426CF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F760-47C0-4EC0-8F43-0D8E9CDD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7A67-F4AD-408C-ACFC-4D8358E5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5DC2-549F-43B6-B532-C9810BAD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3F1F-0B85-4A3A-8AF1-B83D9C41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8955-81CA-48BD-A9C8-0DAE0221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6AF-E8ED-449E-813B-3C9E63B3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6519-6177-4D70-9D1D-8B6DB096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3E28-CF98-4AAD-9825-C5231A6E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EF6C-9DA9-428E-96EE-84DBB5F7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A485-2688-4D9C-968A-A347AF09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919F-7CFC-43F6-B323-A94B97825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053DC-19FB-4B5D-A00E-F9ECC2F7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180F0-3DAC-4093-AABB-0064CF53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53E2C-FA93-4310-A11B-D2F708B0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941D-570C-4A0A-83E4-B74CE0A2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808F3-1249-4EA7-925A-89DBB2DC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DD94-C5C0-4271-9DA0-5C84AC5F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0934C-E206-4EB5-BF48-47B739B0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DF8DA-8FB9-4AFA-B1F6-163E66D7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4EA42-6342-4A90-814E-04345296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D94EF-07BB-4C50-951E-14CDD064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136E-7558-4E87-903A-F34DFC95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089B7-BEB5-4A9F-AA57-C42C10DFF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C038C-DD13-4958-9C5F-475992C7C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9592A-7D7A-4798-8177-969C7ED2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45B2B-DAC1-4B9C-97D9-A9AF0658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92245-787E-4136-BE8D-933B8C78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86BA-9373-4F25-96AF-E5F24647E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35850-0E45-4C88-9A7E-020BF482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9A787-F758-45A1-89F7-28CB2780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A2228-0F05-47DB-A394-33B2A7ED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0FB11-A029-41A0-AF92-D2A16900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8BE50-FEFD-4C03-88FE-7196C79D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4C970-BF5E-4C9E-9D42-C0503E63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6B806-AFC2-4D63-871B-797CFB81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86CDD-3CCA-42B2-9746-FF8A107A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5A518-57AD-4744-998D-803B5828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4A398-B70B-4627-9BF4-6E61F233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12F-F6E5-4417-8FFE-E4020DB4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16741-A12E-4E30-830B-53BA7C84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7ABCF-0C25-44B8-81F1-FF827692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CA63A-EC42-4855-94D8-778EC421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2EB59-F0EB-4DBB-871C-995AA24C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CA10C-B1D9-4CDC-BEE9-118C6DE0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04BF7-31AD-4DCC-AF82-BC0E9D04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44AB4-B18F-4F10-AB48-327FEDED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17D75-9EAA-4FEA-8181-615F1B58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509FC-02C4-4A87-BC3E-AF22B3D4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55A51-CCEC-42E7-8966-25B9431F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DFD-0DAE-4ED7-B6B2-CF8121EE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ABEFF-4F54-4B46-A01D-A531FFE9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961FF-750A-46DF-8209-169E3630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8F097-A933-495A-8E10-4ABD57B1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FF51B-421C-4BE5-AAA5-A954E4E3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89179-0915-4044-B3CF-924C906A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47C17-60B9-44AC-857B-36FAE51B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3C467-842E-472C-B630-7C16DC72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7FBB5-F706-4E7D-AE84-1BC56598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42464-D53E-4490-9223-EFEA9EF7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ADD2D-9E53-46E8-B1F6-10573713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5E8A-EDB7-4AA1-949B-28681926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F50E3-EA43-45F8-AFC3-4683BA89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CC740-632B-40E6-9AFB-A7CDFAD7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D620A-F6E9-4144-8EC5-6724A294C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E9303-D3CC-4A60-8982-F5542290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8042B-91BE-4C28-AE99-07893078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5DACC-C3E9-48B3-899A-E14C93E6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0ABD1-34C1-4AA7-9302-F3288C85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FF837-BDDB-4014-B17C-06C2F650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C34E1-40F4-4B4D-9931-D1D78B8F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56018-3EB7-4B80-8FB1-DFFA9CEA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2E85-46EB-46F6-8121-6FB8A040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8BF71-6858-45C2-A0BB-F482BB64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FD9D8-D9FE-41E0-BEDC-8BD81F95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1631E-12F3-4252-ABC3-2963B83B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12D31-4B2E-408F-8985-DA74299F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1FF29-06F8-4B0C-AC77-24EAE3E1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5C595-7A2B-43A2-8AB0-8230FD610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C9985-B907-4E38-B3F4-B93BB7CD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4AD07-2588-40B2-8BAF-F4236033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39697-CEF6-482B-A5F6-692483CA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AEB37-01CD-47ED-9FF8-590F96F0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7ED-84D6-4A9D-8F0B-C2FF1125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3EB12-87A2-4DFE-8EB5-35554905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21A39-E7A0-4C6D-8060-57546856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2DE78-146C-4C00-AF68-64F10F70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81183-FFBC-40A5-AC2D-E875A7F8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4B722-D06C-42BE-AC8D-1562926A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7168C6-9F37-4654-B8F5-1EEAA0F5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8540A-0CA0-4FED-870B-79F285E5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9EAF98-F1F8-4B3B-B25A-E44C946F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1DFD0B-300C-4E39-98F0-525C9817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66DFD-176E-4FCF-906F-A9642191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3022-EA46-4C5E-83FF-9560A11B1FDD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3FCC-2E8A-46D2-9B09-408B8615B843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BE9C-9883-4838-8BA1-D046124926B3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AEE4-3BDE-41D6-983E-84F01C797FED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12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13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1F08-3EEF-4EFF-A760-76381868D903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EA2F-3748-402F-9BFB-6111ADCC40BA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D06C-AD1B-4353-ADE1-ECCD0B394CA0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5C00-5A97-4DF3-A5CB-3244F079F51D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1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A0B95-A341-4B8F-8B30-A6E1D7E5054D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39D6-6B92-4649-91F1-D685DFE42517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74DF-B207-43F8-8A1F-DC2CDF59E91C}" type="slidenum">
              <a:rPr b="0" lang="uk-U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9854-9853-4071-AF2C-CE8BA1CCD088}" type="slidenum">
              <a:rPr b="0" lang="uk-U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2060"/>
                </a:solidFill>
                <a:latin typeface="Georgia"/>
              </a:rPr>
              <a:t>Зна'мянська спеціальна загальноосвітня школа-інтернат І-ІІІ ступенів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1320" y="1285920"/>
            <a:ext cx="85042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Реакції обміну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7200" spc="-1" strike="noStrike">
                <a:solidFill>
                  <a:srgbClr val="000000"/>
                </a:solidFill>
                <a:latin typeface="Georgia"/>
              </a:rPr>
              <a:t>між розчинами електролітів </a:t>
            </a:r>
            <a:endParaRPr b="0" lang="en-US" sz="7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Хімія. 10 кла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Лазарєва Т.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читель хімії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2060"/>
                </a:solidFill>
                <a:latin typeface="Georgia"/>
              </a:rPr>
              <a:t>Змоделюйте взаємодію </a:t>
            </a:r>
            <a:br>
              <a:rPr sz="3000"/>
            </a:br>
            <a:endParaRPr b="0" lang="en-US" sz="6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6760"/>
            <a:ext cx="8504280" cy="511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натрій хлориду та купрум сульфату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100" spc="-1" strike="noStrike">
                <a:solidFill>
                  <a:srgbClr val="000000"/>
                </a:solidFill>
                <a:latin typeface="Georgia"/>
              </a:rPr>
              <a:t>натрій хлориду та арґентум нітрату</a:t>
            </a: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152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790880" y="1523520"/>
            <a:ext cx="4041720" cy="7318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800600" y="207144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Реакція іде до кінця</a:t>
            </a:r>
            <a:r>
              <a:rPr b="0" lang="uk-UA" sz="60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Відбудеться хімічна реакція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Утворена речовина одразу ж дисоціює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Реакція іде до кінця    </a:t>
            </a:r>
            <a:br>
              <a:rPr sz="3000"/>
            </a:br>
            <a:r>
              <a:rPr b="0" lang="uk-UA" sz="3000" spc="-1" strike="noStrike">
                <a:solidFill>
                  <a:srgbClr val="7b9899"/>
                </a:solidFill>
                <a:latin typeface="Georgia"/>
              </a:rPr>
              <a:t> </a:t>
            </a:r>
            <a:br>
              <a:rPr sz="3000"/>
            </a:br>
            <a:r>
              <a:rPr b="0" lang="uk-UA" sz="4800" spc="-1" strike="noStrike">
                <a:solidFill>
                  <a:srgbClr val="7b9899"/>
                </a:solidFill>
                <a:latin typeface="Georgia"/>
              </a:rPr>
              <a:t> </a:t>
            </a:r>
            <a:r>
              <a:rPr b="1" lang="uk-UA" sz="4000" spc="-1" strike="noStrike">
                <a:solidFill>
                  <a:srgbClr val="002060"/>
                </a:solidFill>
                <a:latin typeface="Georgia"/>
              </a:rPr>
              <a:t>Відбудеться хімічна реакція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999800"/>
            <a:ext cx="404172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276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100" spc="-1" strike="noStrike">
                <a:solidFill>
                  <a:srgbClr val="000000"/>
                </a:solidFill>
                <a:latin typeface="Georgia"/>
              </a:rPr>
              <a:t>Утворена речовина одразу ж дисоціює</a:t>
            </a:r>
            <a:endParaRPr b="0" lang="en-US" sz="5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25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2060"/>
                </a:solidFill>
                <a:latin typeface="Georgia"/>
              </a:rPr>
              <a:t>Лабораторний дослід № 2. </a:t>
            </a:r>
            <a:r>
              <a:rPr b="1" lang="uk-UA" sz="3600" spc="-1" strike="noStrike">
                <a:solidFill>
                  <a:srgbClr val="002060"/>
                </a:solidFill>
                <a:latin typeface="Georgia"/>
              </a:rPr>
              <a:t>Реакції обміну між розчинами електролітів, що проходять з випаданням осаду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2928960"/>
            <a:ext cx="8504280" cy="31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 група: натрій хлорид, арґентум нітрат;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І група: купрум сульфат та натрій гідроксид;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ІІ група: ферум (ІІІ) хлорид, калій ціанід;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І</a:t>
            </a: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V</a:t>
            </a:r>
            <a:r>
              <a:rPr b="1" lang="uk-UA" sz="3000" spc="-1" strike="noStrike">
                <a:solidFill>
                  <a:srgbClr val="000000"/>
                </a:solidFill>
                <a:latin typeface="Georgia"/>
              </a:rPr>
              <a:t> група: барій нітрат, натрій сульфат.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2060"/>
                </a:solidFill>
                <a:latin typeface="Georgia"/>
              </a:rPr>
              <a:t>Оформлення результатів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357120" y="2286000"/>
          <a:ext cx="8504280" cy="3170160"/>
        </p:xfrm>
        <a:graphic>
          <a:graphicData uri="http://schemas.openxmlformats.org/drawingml/2006/table">
            <a:tbl>
              <a:tblPr/>
              <a:tblGrid>
                <a:gridCol w="2270160"/>
                <a:gridCol w="3714840"/>
                <a:gridCol w="251928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агент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тереженн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сново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1634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d3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a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2060"/>
                </a:solidFill>
                <a:latin typeface="Georgia"/>
              </a:rPr>
              <a:t>Механізм утворення осаду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1" name="Рисунок 3" descr=""/>
          <p:cNvPicPr/>
          <p:nvPr/>
        </p:nvPicPr>
        <p:blipFill>
          <a:blip r:embed="rId1"/>
          <a:stretch/>
        </p:blipFill>
        <p:spPr>
          <a:xfrm>
            <a:off x="428760" y="4071960"/>
            <a:ext cx="8715240" cy="299556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скорочене йонне рівняння, яке відповідає реакції між ферум (ІІІ) нітратом і калій гідроксидом у розчині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0000"/>
                </a:solidFill>
                <a:latin typeface="Georgia"/>
              </a:rPr>
              <a:t>а) </a:t>
            </a:r>
            <a:r>
              <a:rPr b="1" i="1" lang="en-US" sz="4800" spc="-1" strike="noStrike">
                <a:solidFill>
                  <a:srgbClr val="000000"/>
                </a:solidFill>
                <a:latin typeface="Georgia"/>
              </a:rPr>
              <a:t>Fe³ + 3OH =Fe(OH)3↓;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Georgia"/>
              </a:rPr>
              <a:t>б</a:t>
            </a: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) K + NO3 = KNO3.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1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пари речовин, реакції між якими в розчині відбуватимуться до кінц</a:t>
            </a:r>
            <a:r>
              <a:rPr b="0" lang="uk-UA" sz="3200" spc="-1" strike="noStrike">
                <a:solidFill>
                  <a:srgbClr val="7b9899"/>
                </a:solidFill>
                <a:latin typeface="Georgia"/>
              </a:rPr>
              <a:t>я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а) Рв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SO4 i KOH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б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KNO3 i NaOH</a:t>
            </a: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H2SO4 i KNO3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г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K2SiO3 i HNO3.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2060"/>
                </a:solidFill>
                <a:latin typeface="Georgia"/>
              </a:rPr>
              <a:t>Позначте ті пари речовин, реакції між якими в розчині є незворотними</a:t>
            </a:r>
            <a:r>
              <a:rPr b="0" lang="uk-UA" sz="32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а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Na2SO3 i HCl;</a:t>
            </a: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Georgia"/>
              </a:rPr>
              <a:t>в)</a:t>
            </a:r>
            <a:r>
              <a:rPr b="1" lang="en-US" sz="6000" spc="-1" strike="noStrike">
                <a:solidFill>
                  <a:srgbClr val="000000"/>
                </a:solidFill>
                <a:latin typeface="Georgia"/>
              </a:rPr>
              <a:t> H2SO4 i NaNO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3;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05:40:54Z</dcterms:created>
  <dc:creator>Вчитель</dc:creator>
  <dc:description/>
  <dc:language>en-US</dc:language>
  <cp:lastModifiedBy>Admin</cp:lastModifiedBy>
  <dcterms:modified xsi:type="dcterms:W3CDTF">2013-03-30T06:51:48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20d000000000001024140</vt:lpwstr>
  </property>
</Properties>
</file>