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FDDC-695D-48B6-B320-29187DC1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53DC-7B5D-4CD6-8049-F6E322F0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3F2FAE-2858-48BB-98F7-E935E46D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9E193A-294A-4CBF-BE7B-2A155841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9EA8E9-6544-4313-B70B-A927188F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09A28A-DB2A-40BC-BB0C-99B22D3A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F6E590-1143-49D7-B010-2EDCB0E8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AD7084-94F3-49D7-810E-C656327C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D02608-39AC-43A8-89F4-FC1915DE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F9D835-8D56-4646-9EFE-CAF1E6CE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976C9D-DE0B-4D24-9636-8D764CF7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282943-E18C-4D75-AC05-DF1786AA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C9A3-21CA-4D52-8A06-5A1231AC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8B0C05-73DF-4097-8A32-10ED6A83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8A978B-47B0-4838-AEA4-352B4274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15E0CA-67D7-48EB-BCC9-EF661C42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322036-5792-45EA-8A67-B17287AA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1E3B54-373A-4F23-B99B-22274126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D02A33-2CA9-432F-ADA8-D7AA32FA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C8A031-04FD-4361-A192-1BBF3B59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812C3C-B9A6-427A-B061-69C2A600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AEF721-CCC7-45A3-9FC6-CB9E20FD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31A48A-635C-4A05-B198-DD9BE98D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8E3D-52E8-4C65-B588-6FB5D7A8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4E008C-2CD7-4EE7-9BCB-7400DA3E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08AE2-D7AD-4447-9829-219D6455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83E5D-5819-428C-A46D-57E7D913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35705-8F0C-4C3B-8402-C169CB96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E2765-C888-4A49-A50B-9758B56A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C939B-AE2D-4D7E-8953-D168E4AD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560F1-B971-4381-A96C-732E2A11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E077A-6AF4-494F-B7FA-C390024D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7960B-4357-4D65-B996-209390AD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20BC1-BD86-415A-93B4-2FDD869F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C866-4ECC-4238-BEE9-E95D586E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B6752-9B2C-404C-9405-44A775D5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D2CC7-D1C4-48AB-82E4-1DAAAAC3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5D26D-37B2-4C9E-B2F4-A058026C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50B4DA-D3E0-4C68-BA5A-ABE0B9D5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68842B-E178-4F0A-BB6A-C9AF9D7A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46F0BF-0DCA-4E26-A536-5BDDC322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2DE2A9-07C6-43FD-8742-6B852982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E6942C-B67C-4BB4-92CA-CE0360C5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64989C-FD33-445C-957B-171FF2D0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ED6100-1E46-43C8-AD85-114DA0DF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DF56-D95F-4E24-9628-7E367DA3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292DAA-703F-4EF2-A50D-207E4C4D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7854B5-97D6-446C-A29E-8976F29C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5EDFBD-0B57-4ADA-8145-D948AFA9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1E5DDB-0D41-4BC7-B840-95ADAC3C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70AC1D-F7F8-44D8-ABED-C125CCA7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2FDE-EEAA-431A-8EBA-78656F45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0F73-CB3C-432D-BC55-2116181E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D945-7BE5-482F-AA8D-3D6288A7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A5CD-FB0E-4093-A4CD-089D6E6E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AD7E-F9F0-4BD0-A08C-1833AC76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FC02-2CA5-4324-AF49-434690D2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5223-20FD-4E87-8411-AF86BC37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2EF8-8CD4-44BA-BE25-ED716DCC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8CC8-D973-41E9-8A20-FAD3A6C7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F900-2A06-4B9C-96CC-212CCD0D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A71A-D6EA-44D9-9150-E30DEC93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7D208-BA35-453C-88B3-AECB98A2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D55E0-C545-4084-A2A7-ECD36F8C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BE5D5-F052-4D92-8606-6F04E04D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60F6E-C2B0-496D-A5BF-0551DA00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41371-F422-41F2-A405-34149181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1526-3E90-4F09-94B2-041915E7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E8A52-374E-421B-A4F6-B4762573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55C10-545D-4A9F-8D34-3E646546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D3D1C-45E3-43D4-80BE-C1599F16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142B3-8822-4E6A-A4EE-0BDC650B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69FBC-A4AD-4A8E-9D13-886ADBC5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60DDD-836A-4A81-A4B0-6659AA19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104B1-AE20-4F4F-8285-00B5CFBD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FF4E9-F049-4403-89B4-BF334305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66DF3-3718-4A22-A74C-8523BB89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F9B77-7F98-406E-84FD-C9A48E44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7659-745C-4B8D-A339-9D13AD44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063D8-3E18-415B-BCEA-DA0B8B14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8E0C6-23D7-46CF-B01B-0EC46CE8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ED75D-70F4-46A6-B82D-F5CD473D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5DBA6-4FE8-41EC-9B50-73E915E2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67859-AD93-42E5-9A78-804623B8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BB4DA-F36C-4C85-8672-B1A24211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340B5-CA5E-4C81-86A8-92C7EC69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6E8DB-35BF-4621-981B-4CF1A14B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619D4-EA62-4124-8CF6-466C4345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7B7F0-19E0-4EA8-8504-32460559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AF64-73A7-4F3B-9DF7-8E6B2E97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8B39F-6533-44C4-B7EC-40AB1FE8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14A30-C429-4E26-ACB5-FA0CCDAC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03CCD-ABF5-42C1-9007-342BE473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03B99-0F3A-4A00-8B3C-C3E611CA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4303D-6E44-49AB-BC1B-A101BA7F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041F5-25C1-4C87-83D9-9FEF586E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23A98-9258-4FA9-8978-3ACB5747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891B5-6DA3-489F-8509-CBE1F593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03B03-A973-46D7-BFC0-44361B66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74075-A666-4A90-9974-8E57340A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1EFC-AD79-486A-9A85-EF1FC9D3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DB7CC-CED9-4160-96D4-C94C9112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92DB2-F391-4CEB-AC5A-860BCF6F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5072F-7911-4984-BB3B-D29C69E5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0E12F-FFB2-40DF-90E6-E2511987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B48E9-BF14-4B22-BD00-40C894C0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9D2CA-5368-4284-8AEB-50A9AF64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5F7A6-0F7D-47DF-8BF7-4E5659D9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C6878-1E84-4ABC-971B-2E32F13E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141C0-FF77-4A98-A788-51A446B4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87FC8-A3CD-4112-B5A8-B7B45D17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64C1-C3A1-46CB-8136-A7C68F05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A72E9-A253-447B-BDA0-A01398BD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69585-B36F-46D2-8520-41C4CB26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E7D83-78DF-4AA4-B313-18645D19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0C89F-C314-4779-A890-DDEC96E1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216B0-4FA1-4B56-B923-41865CA8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8B0FC-37B7-4A25-8828-863A395F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BD8D9-9E97-4155-93EC-F910C7B0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DEC51-BD15-433A-B85A-58811736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0AA73-3A81-448A-90FF-5FE42A11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70FB6-04B3-44AF-8F5B-D747FA05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79E2-2C4F-40FD-B2EF-7CDE4E14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46A56-C2BF-4098-B410-C6DBF14E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45CE1-244B-4428-9829-626F7B52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13CA8-7EBA-4B6F-95FE-45B957BE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929FE-9F35-40C5-B6A2-19456A80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33775-500C-472E-8A4F-3117D4F5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0BF9C-4E5B-4BBD-AE34-B587568A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6A5B3-A119-4F8E-96F9-D02D7F8E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52257-A22A-4761-BAD8-F5D4E116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0D465-3BAA-474D-9036-7089D8E3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B545E-3EAF-4A30-AF68-0CB07EF5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CB5C-8FAD-4795-86C6-1DEC7DBF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7076F-CA9F-4220-B04C-0FD4EB17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B8C07-3F18-4B58-92BF-573CF014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C1CBB-A965-4628-8C5F-90A18AA8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171D4-5FE7-4397-9865-0D093208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94F06-D844-47AB-AADA-7AF2B1A3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CB36E-2E4A-44F4-8109-93FDFD07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D8219-9FA8-4DFE-BA4C-28053B97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0B6748-A9FF-45AA-858B-E9EE46CE5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D3084D-9D91-46E3-AAB6-E4D110B6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797E5C-E9B4-40DD-840B-285B8797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7E44-8452-4667-AB56-57442D235D3B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208A-83DF-431D-B1A9-1B0200182657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3559-2003-44D0-9A38-6D1C80F964E2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63EC-70BB-4E55-BB25-144ED4A5E2D4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12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13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70FE-AD70-4EBB-83C4-7FC1481EED74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4E0C-42E6-4CDE-B964-560CD730A04C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DF43-7EBA-48D8-AC74-546B28BC683D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ED31-5C29-4BC6-AC9F-9B40BCE97070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1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3663-5165-4C6B-B263-FFD27A771D30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B963-2C0E-4239-B678-7C499CD90117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58FB-7430-4272-87F0-7D3214D806BF}" type="slidenum"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4753-37B2-42D9-9AA9-9576D97787A4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Georgia"/>
              </a:rPr>
              <a:t>Зна'мянська спеціальна загальноосвітня школа-інтернат І-ІІІ ступенів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01320" y="1285920"/>
            <a:ext cx="85042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Georgia"/>
              </a:rPr>
              <a:t>Реакції обміну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7200" spc="-1" strike="noStrike">
                <a:solidFill>
                  <a:srgbClr val="000000"/>
                </a:solidFill>
                <a:latin typeface="Georgia"/>
              </a:rPr>
              <a:t>між розчинами електролітів 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Хімія. 10 кла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Лазарєва Т.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Вчитель хімії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2060"/>
                </a:solidFill>
                <a:latin typeface="Georgia"/>
              </a:rPr>
              <a:t>Змоделюйте взаємодію </a:t>
            </a:r>
            <a:br>
              <a:rPr sz="3000"/>
            </a:b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6760"/>
            <a:ext cx="8504280" cy="51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5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100" spc="-1" strike="noStrike">
                <a:solidFill>
                  <a:srgbClr val="000000"/>
                </a:solidFill>
                <a:latin typeface="Georgia"/>
              </a:rPr>
              <a:t>натрій хлориду та купрум сульфату</a:t>
            </a:r>
            <a:endParaRPr b="0" lang="en-US" sz="6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5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6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5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100" spc="-1" strike="noStrike">
                <a:solidFill>
                  <a:srgbClr val="000000"/>
                </a:solidFill>
                <a:latin typeface="Georgia"/>
              </a:rPr>
              <a:t>натрій хлориду та арґентум нітрату</a:t>
            </a:r>
            <a:endParaRPr b="0" lang="en-US" sz="6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5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800600" y="207144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Реакція іде до кінця</a:t>
            </a:r>
            <a:r>
              <a:rPr b="0" lang="uk-UA" sz="60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Відбудеться хімічна реакція</a:t>
            </a:r>
            <a:br>
              <a:rPr sz="3000"/>
            </a:b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 </a:t>
            </a:r>
            <a:br>
              <a:rPr sz="3000"/>
            </a:b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 </a:t>
            </a:r>
            <a:br>
              <a:rPr sz="3000"/>
            </a:br>
            <a:br>
              <a:rPr sz="3000"/>
            </a:b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Утворена речовина одразу ж дисоціює</a:t>
            </a:r>
            <a:br>
              <a:rPr sz="3000"/>
            </a:b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Реакція іде до кінця    </a:t>
            </a:r>
            <a:br>
              <a:rPr sz="3000"/>
            </a:b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 </a:t>
            </a:r>
            <a:br>
              <a:rPr sz="3000"/>
            </a:br>
            <a:r>
              <a:rPr b="0" lang="uk-UA" sz="48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uk-UA" sz="4000" spc="-1" strike="noStrike">
                <a:solidFill>
                  <a:srgbClr val="002060"/>
                </a:solidFill>
                <a:latin typeface="Georgia"/>
              </a:rPr>
              <a:t>Відбудеться хімічна реакція</a:t>
            </a:r>
            <a:br>
              <a:rPr sz="4000"/>
            </a:b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999800"/>
            <a:ext cx="40417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2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100" spc="-1" strike="noStrike">
                <a:solidFill>
                  <a:srgbClr val="000000"/>
                </a:solidFill>
                <a:latin typeface="Georgia"/>
              </a:rPr>
              <a:t>Утворена речовина одразу ж дисоціює</a:t>
            </a:r>
            <a:endParaRPr b="0" lang="en-US" sz="5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Georgia"/>
              </a:rPr>
              <a:t>Лабораторний дослід № 2. </a:t>
            </a:r>
            <a:r>
              <a:rPr b="1" lang="uk-UA" sz="3600" spc="-1" strike="noStrike">
                <a:solidFill>
                  <a:srgbClr val="002060"/>
                </a:solidFill>
                <a:latin typeface="Georgia"/>
              </a:rPr>
              <a:t>Реакції обміну між розчинами електролітів, що проходять з випаданням осаду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2928960"/>
            <a:ext cx="8504280" cy="31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І група: натрій хлорид, арґентум нітрат;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ІІ група: купрум сульфат та натрій гідроксид;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ІІІ група: ферум (ІІІ) хлорид, калій ціанід;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І</a:t>
            </a: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V</a:t>
            </a: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 група: барій нітрат, натрій сульфат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Georgia"/>
              </a:rPr>
              <a:t>Оформлення результатів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357120" y="2286000"/>
          <a:ext cx="8504280" cy="3170160"/>
        </p:xfrm>
        <a:graphic>
          <a:graphicData uri="http://schemas.openxmlformats.org/drawingml/2006/table">
            <a:tbl>
              <a:tblPr/>
              <a:tblGrid>
                <a:gridCol w="2270160"/>
                <a:gridCol w="3714840"/>
                <a:gridCol w="2519280"/>
              </a:tblGrid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агент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остереженн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сново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2060"/>
                </a:solidFill>
                <a:latin typeface="Georgia"/>
              </a:rPr>
              <a:t>Механізм утворення осаду</a:t>
            </a:r>
            <a:endParaRPr b="0" lang="en-US" sz="7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1" name="Рисунок 3" descr=""/>
          <p:cNvPicPr/>
          <p:nvPr/>
        </p:nvPicPr>
        <p:blipFill>
          <a:blip r:embed="rId1"/>
          <a:stretch/>
        </p:blipFill>
        <p:spPr>
          <a:xfrm>
            <a:off x="428760" y="4071960"/>
            <a:ext cx="8715240" cy="2995560"/>
          </a:xfrm>
          <a:prstGeom prst="rect">
            <a:avLst/>
          </a:prstGeom>
          <a:ln w="0">
            <a:noFill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Georgia"/>
              </a:rPr>
              <a:t>Позначте скорочене йонне рівняння, яке відповідає реакції між ферум (ІІІ) нітратом і калій гідроксидом у розчині: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0000"/>
                </a:solidFill>
                <a:latin typeface="Georgia"/>
              </a:rPr>
              <a:t>а) </a:t>
            </a:r>
            <a:r>
              <a:rPr b="1" i="1" lang="en-US" sz="4800" spc="-1" strike="noStrike">
                <a:solidFill>
                  <a:srgbClr val="000000"/>
                </a:solidFill>
                <a:latin typeface="Georgia"/>
              </a:rPr>
              <a:t>Fe³ + 3OH =Fe(OH)3↓;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Georgia"/>
              </a:rPr>
              <a:t>б</a:t>
            </a: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) K + NO3 = KNO3.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Georgia"/>
              </a:rPr>
              <a:t>Позначте пари речовин, реакції між якими в розчині відбуватимуться до кінц</a:t>
            </a:r>
            <a:r>
              <a:rPr b="0" lang="uk-UA" sz="3200" spc="-1" strike="noStrike">
                <a:solidFill>
                  <a:srgbClr val="7b9899"/>
                </a:solidFill>
                <a:latin typeface="Georgia"/>
              </a:rPr>
              <a:t>я: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а) Рв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SO4 i KOH;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б)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 KNO3 i NaOH</a:t>
            </a: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в)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 H2SO4 i KNO3;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г)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 K2SiO3 i HNO3.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Georgia"/>
              </a:rPr>
              <a:t>Позначте ті пари речовин, реакції між якими в розчині є незворотними</a:t>
            </a:r>
            <a:r>
              <a:rPr b="0" lang="uk-UA" sz="3200" spc="-1" strike="noStrike">
                <a:solidFill>
                  <a:srgbClr val="7b9899"/>
                </a:solidFill>
                <a:latin typeface="Georgia"/>
              </a:rPr>
              <a:t>: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а)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 Na2SO3 i HCl;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в)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 H2SO4 i NaNO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3;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5:40:54Z</dcterms:created>
  <dc:creator>Вчитель</dc:creator>
  <dc:description/>
  <dc:language>en-US</dc:language>
  <cp:lastModifiedBy>Admin</cp:lastModifiedBy>
  <dcterms:modified xsi:type="dcterms:W3CDTF">2013-03-30T06:51:48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d000000000001024140</vt:lpwstr>
  </property>
</Properties>
</file>