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DEF6-1833-40B1-8434-8D427E307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AD5A-CACF-4D6E-8C6A-988C835A1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884A81-9390-4CE7-BE26-15AE2D61B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A9EF6F-F81C-401A-8F6E-671FED93D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3260C5-ED94-4F7E-B657-9BCD88290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59F9D2-425B-4614-9816-82EC2BB3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5F4821-9C15-4012-950E-F4C3037F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B95509-1ED3-4BFF-B92C-B9F423902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467FAD-2CDF-421A-B2CF-4C9786573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16C30C-6C28-415B-BBCA-65EF5B9D8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29730F-C25C-4D6E-ACC2-0F5483921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0A9BD0-4220-4085-A093-C3C55157A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2EDC-1F47-4AE9-AA7B-3E972D1D5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32744D-0E91-44C7-ABCF-F15F7BEE8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E2641A-0DDB-46D7-AB2F-6850DC6EB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EEC286-3017-4C2C-A0C7-802826CFD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4C874D-20FC-41FD-93D3-A26B84525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CF7653-5999-4A7D-908D-4BFF3D5C8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F4B7D3-5DB1-462A-8AFD-E1AD7A352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EA42CC-7B32-4E9D-8379-D6633DB1C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597CC5-7B21-4435-BCE2-32A192CA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B16370-AED0-4E35-A6C8-8E6547FFF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06C3C5-8A77-4AD2-9F59-BF521DB19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7EC4-4A64-45D7-B377-4DDAA02FA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79A2BB-6F7D-4AFB-B7A1-A57E77011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349CF2-4384-408C-84A3-9CD0C0755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1D0ABE-BB31-47D4-BDC0-9AB6F5CF6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A9E617-4015-4D46-9AE6-DEF11499A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A50BB9-7335-45E6-B47D-6A47DF976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4D9C90-4D9D-4A3B-9692-4A13D21FB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1F8C1F-0DFD-4D61-8E11-475E1AE6E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320105-7DB0-4F92-83E5-7E9E0B88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805FDD-BD23-4B2B-A3E7-F833D07B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BC6681-6F2A-4606-8DA1-9DDC74D7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A6172-3760-429A-8C0C-5699C8AF4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D6182D-460D-4B93-954F-348AE9E46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961844-7AB3-4A00-B64F-E260872BD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819B0A-B66B-4340-B9A9-A3215D694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177DE2-B548-48D6-8F9F-2742BBAE7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360771-F13D-45EC-802F-62DFFFE5E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3F53B5-B45F-48EF-8C95-5874CD7EA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BE143B-8124-4D14-A5CE-104512DDF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F51179-068C-47FF-95DA-BD4E858EF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08D420-9BCC-4E40-A059-4BCBCD9C3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766F44-1B6D-4262-9C14-6B59CAA4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02472-C313-460D-8827-703E6783B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596CE8-C758-4B59-B973-EE2A5F4F9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AECDCA-D993-4CAD-BF87-11C8E3EB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C6746F-3EDB-4A42-9968-3EC64C914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F930CA-C432-4395-9A8D-783846657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1DF39B-06FB-4EBF-91FE-5343B0CE6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C83FC-DAA1-496F-99D0-FC1B86B0C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5F5E5-5C01-4275-96A1-5811A769E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13B6D-9ED5-4DE7-B0D2-B750A44D3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28BB1-F919-4C49-8C8C-71ABAD2CD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9B387-DACA-4C31-8763-9B00A0C60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ACF6-376F-48BA-B253-9D923FB3B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B2F69-10A0-4325-9C65-8CEBA3C4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02322-2DEF-42F6-9512-41AC9D292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DD760-8A9F-46C4-B8EB-B8E4E390B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AC28C-BAAB-4837-B63B-DD32E7EA5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EA1BB-7DE3-4DDA-924A-98D096179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9A5A6-CCB8-45A4-A8A4-DBED19DA8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2829E-5714-49A4-AD98-46F7D1E0C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09C92-FDF9-48FE-8922-5E44650D7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FBE27-F5E6-4569-A312-9A9A12D10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7181D-113C-4E2A-AF52-9A07748E2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475E-F31E-4C27-BC05-FEE37B97D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AAAA2-2058-4074-96D5-C5BE78741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10244-98E6-4513-A376-3503A01D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0ACC2-9552-40AE-9221-7B022377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07D0E-B60B-4B35-A29D-650AC6D5E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A6E1A-E819-40C3-BC27-AD48C0E61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22132-D1D5-4971-BB20-B29C2F7DC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4CE13-0C13-43DA-9E1B-1951813F7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5BC1D-ED56-4BD3-A78B-C2ECABDBD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9F08E-B459-4897-859A-C7D88F0D7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BE478-F0CC-4EE0-8EA0-DF8B2FC52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737F-F514-48B5-A503-B6EB4D86C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F5965-3224-4D5E-81C1-5005EBD78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85708-A1EF-4224-884C-79628E27B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63092-8A5D-476D-8FFA-DE74A8D9C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02A05-06DA-465B-B56E-A664F463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CCB4F-ED1B-46A8-A3DB-52D6AD25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FFC86-B0CC-4D7B-ABE1-02C802839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D2095-F723-4391-81BF-310030B9E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185AB-E149-49A4-9499-E56290574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74F85-F612-4C0F-9B27-4AC9307D9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81590A-72EC-41E1-BAAC-66936B6A1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F266-13D2-4BD8-AD23-EA17DC7CF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B1DA5C-276C-4355-825F-9D83DB7ED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C9CE7-E870-4830-908E-D8F165948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B0E8EF-693A-4679-B551-887701819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FA9F84-781E-4B56-9094-3E6D265AD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BFD5EE-6FB1-44BF-8F6B-83C9588FB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279713-7D23-4AE2-A410-E3083262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5FC575-02AB-48C5-BECD-2296A714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D59E5-3B1E-404E-8326-6AAD05EE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E59296-D768-4C32-9A89-4804528D2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EA67A0-5F97-4318-B327-B8C2C4147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F443-7A1B-4964-8E14-56B490FD6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33B622-B85B-41FF-A463-2806947B7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743E6F-372D-4403-8726-B473B5504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1CBF45-3140-42BD-AAEE-67C147D45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4019FC-5BC1-48B5-AFBF-BDAE76222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7E039E-DC41-431A-B578-A09688F8A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33CE78-7999-4421-860B-B270CD682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9263C9-2743-490D-B276-D8AD1CA16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C39104-EDE9-45E6-B0D3-BC5B1A928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9A502-1F00-48E1-BC53-575B6D5E4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5D9604-58AB-4C2D-8CD9-B2F5F85B7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837A-B94E-4461-A5DD-55ACF4A7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CB33BB-F4E9-403A-8427-9605C7B77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FB4195-277A-4972-82FE-4D23B2847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484C12-3B2C-47E7-8B48-26550F918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E208E9-3B75-4A5D-BE86-3CA7F84BA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385D94-1DCC-40E7-A5B3-A8EEC6E86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DD9C44-CAB0-4621-98A9-3E0FF6F31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00C5E9-5C43-4D93-BB43-0CFBBFFCE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36CE91-3228-4ADA-9FCE-6224AB916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073CC0-61B7-4495-BF7C-2F9AE0EB1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F9F77C-04C5-4377-BBBC-38EC893D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BF54-6313-4658-B9B5-3A473724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431BAE-2714-4893-9A65-8433EC07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346E97-3FAB-4E28-AFF6-B15A3119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EA471A-04DA-4149-AD86-33335E99C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88C4F4-7DED-424C-B54E-B85537CDB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D9835B-956B-4CF4-AA69-66DC8DF73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F04E85-A492-4223-9FA2-A635205FD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1EDE3C-3B30-4C33-AB09-A4E6F7D9E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DFB7D0-D3F5-4239-B866-D8D3466EA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3CEA07-10A9-4471-83DB-180BD0362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449A4B-323B-4DAA-B11A-CAF8634BC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CA4C-8AC2-4AF1-BD8A-90354066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EE41AB-8B30-4224-8761-750615791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DB2B4C-99AB-4FCA-A32C-67F4ACBA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38314C-780E-44E4-8258-4175E2F9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6B3193-2957-4315-BBBE-A68B134FB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359F33-7299-426F-8422-2F7F01BFE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AA6EBA-A954-4E01-BA3C-705FF127C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671300-7436-43E3-93A0-E07DA3E23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CBABFF-3E35-49D3-8C77-1B2A4728C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1E381C-BA8E-42D8-832F-ADCD86796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DA7259-3892-41C9-B4DF-013ECC025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92F17-B071-42FB-832C-61AC791398FB}" type="slidenum">
              <a:rPr b="0" lang="uk-U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20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Прямоугольник 1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Прямоугольник 1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Прямоугольник 1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Прямоугольник 19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Прямоугольник 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Прямоугольник 1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Овал 11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Овал 12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Прямоугольник 2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44F4D-2BB3-402F-8714-716BD179923C}" type="slidenum">
              <a:rPr b="0" lang="uk-U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43A47-2EA8-46E2-BCFD-B524AAC299BB}" type="slidenum">
              <a:rPr b="0" lang="uk-U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Прямоугольник 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Прямоугольник 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Прямоугольник 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Прямоугольник 1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Прямоугольник 1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Прямая соединительная линия 1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Овал 1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Овал 1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FD653-E673-4E29-BA58-F41EAE9DF91C}" type="slidenum">
              <a:rPr b="0" lang="uk-U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Прямоугольник 15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Прямоугольник 1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ямая соединительная линия 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ямоугольник 9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Овал 12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Овал 13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E1E25-9600-42A1-A30A-0F464222935B}" type="slidenum">
              <a:rPr b="0" lang="uk-U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1E3B3-D0EB-4FCA-A5F9-293E323DDF78}" type="slidenum">
              <a:rPr b="0" lang="uk-U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Прямоугольник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Прямоугольник 15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Прямоугольник 1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Прямоугольник 1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Прямоугольник 1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Прямая соединительная линия 7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Овал 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Овал 1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3C720-3EE1-444F-9F54-C06E59AD74FA}" type="slidenum">
              <a:rPr b="0" lang="uk-U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Прямая соединительная линия 7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FFED8-87A1-4F5F-BAA8-186F7B47856C}" type="slidenum">
              <a:rPr b="0" lang="uk-U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Прямоугольник 1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Прямоугольник 1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Прямоугольник 2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Прямоугольник 1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Прямоугольник 1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Прямая соединительная линия 14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Прямоугольник 1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Овал 24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1F1B4-E89F-4D33-A4CC-3A6913F04AB4}" type="slidenum">
              <a:rPr b="0" lang="uk-U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0F2EB-E1A1-4540-9C63-C3F896C4C9F5}" type="slidenum">
              <a:rPr b="0" lang="uk-U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Прямоугольник 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Прямоугольник 9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Прямоугольник 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Прямоугольник 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Прямоугольник 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9C073-5E41-4711-B7F5-9AA1B16DBF07}" type="slidenum">
              <a:rPr b="0" lang="uk-UA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8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Прямоугольник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Прямоугольник 17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Прямоугольник 15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Прямоугольник 1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Прямоугольник 1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Прямоугольник 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Прямая соединительная линия 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Овал 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Овал 1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Прямоугольник 2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FC27F-F2D2-4382-8C8B-4D268C32964C}" type="slidenum">
              <a:rPr b="0" lang="uk-U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2060"/>
                </a:solidFill>
                <a:latin typeface="Georgia"/>
              </a:rPr>
              <a:t>Зна'мянська спеціальна загальноосвітня школа-інтернат І-ІІІ ступенів</a:t>
            </a:r>
            <a:endParaRPr b="0" lang="en-US" sz="2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301320" y="1285920"/>
            <a:ext cx="850428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000000"/>
                </a:solidFill>
                <a:latin typeface="Georgia"/>
              </a:rPr>
              <a:t>Реакції обміну</a:t>
            </a:r>
            <a:endParaRPr b="0" lang="en-US" sz="7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uk-UA" sz="7200" spc="-1" strike="noStrike">
                <a:solidFill>
                  <a:srgbClr val="000000"/>
                </a:solidFill>
                <a:latin typeface="Georgia"/>
              </a:rPr>
              <a:t>між розчинами електролітів </a:t>
            </a:r>
            <a:endParaRPr b="0" lang="en-US" sz="7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Georgia"/>
              </a:rPr>
              <a:t>Хімія. 10 клас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Лазарєва Т.В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Вчитель хімії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2060"/>
                </a:solidFill>
                <a:latin typeface="Georgia"/>
              </a:rPr>
              <a:t>Змоделюйте взаємодію </a:t>
            </a:r>
            <a:br>
              <a:rPr sz="3000"/>
            </a:br>
            <a:endParaRPr b="0" lang="en-US" sz="6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6760"/>
            <a:ext cx="8504280" cy="51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5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100" spc="-1" strike="noStrike">
                <a:solidFill>
                  <a:srgbClr val="000000"/>
                </a:solidFill>
                <a:latin typeface="Georgia"/>
              </a:rPr>
              <a:t>натрій хлориду та купрум сульфату</a:t>
            </a:r>
            <a:endParaRPr b="0" lang="en-US" sz="6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15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1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6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15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100" spc="-1" strike="noStrike">
                <a:solidFill>
                  <a:srgbClr val="000000"/>
                </a:solidFill>
                <a:latin typeface="Georgia"/>
              </a:rPr>
              <a:t>натрій хлориду та арґентум нітрату</a:t>
            </a:r>
            <a:endParaRPr b="0" lang="en-US" sz="6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15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/>
          </p:nvPr>
        </p:nvSpPr>
        <p:spPr>
          <a:xfrm>
            <a:off x="301320" y="1523880"/>
            <a:ext cx="4040280" cy="73368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790880" y="1523520"/>
            <a:ext cx="4041720" cy="73188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4800600" y="2071440"/>
            <a:ext cx="4038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5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Georgia"/>
              </a:rPr>
              <a:t>Реакція іде до кінця</a:t>
            </a:r>
            <a:r>
              <a:rPr b="0" lang="uk-UA" sz="6000" spc="-1" strike="noStrike">
                <a:solidFill>
                  <a:srgbClr val="000000"/>
                </a:solidFill>
                <a:latin typeface="Georgia"/>
              </a:rPr>
              <a:t>    </a:t>
            </a:r>
            <a:endParaRPr b="0" lang="en-US" sz="6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5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7b9899"/>
                </a:solidFill>
                <a:latin typeface="Georgia"/>
              </a:rPr>
              <a:t>Відбудеться хімічна реакція</a:t>
            </a:r>
            <a:br>
              <a:rPr sz="3000"/>
            </a:br>
            <a:r>
              <a:rPr b="0" lang="uk-UA" sz="3000" spc="-1" strike="noStrike">
                <a:solidFill>
                  <a:srgbClr val="7b9899"/>
                </a:solidFill>
                <a:latin typeface="Georgia"/>
              </a:rPr>
              <a:t> </a:t>
            </a:r>
            <a:br>
              <a:rPr sz="3000"/>
            </a:br>
            <a:r>
              <a:rPr b="0" lang="uk-UA" sz="3000" spc="-1" strike="noStrike">
                <a:solidFill>
                  <a:srgbClr val="7b9899"/>
                </a:solidFill>
                <a:latin typeface="Georgia"/>
              </a:rPr>
              <a:t> </a:t>
            </a:r>
            <a:br>
              <a:rPr sz="3000"/>
            </a:br>
            <a:br>
              <a:rPr sz="3000"/>
            </a:br>
            <a:r>
              <a:rPr b="0" lang="uk-UA" sz="3000" spc="-1" strike="noStrike">
                <a:solidFill>
                  <a:srgbClr val="7b9899"/>
                </a:solidFill>
                <a:latin typeface="Georgia"/>
              </a:rPr>
              <a:t>Утворена речовина одразу ж дисоціює</a:t>
            </a:r>
            <a:br>
              <a:rPr sz="3000"/>
            </a:br>
            <a:r>
              <a:rPr b="0" lang="uk-UA" sz="3000" spc="-1" strike="noStrike">
                <a:solidFill>
                  <a:srgbClr val="7b9899"/>
                </a:solidFill>
                <a:latin typeface="Georgia"/>
              </a:rPr>
              <a:t>Реакція іде до кінця    </a:t>
            </a:r>
            <a:br>
              <a:rPr sz="3000"/>
            </a:br>
            <a:r>
              <a:rPr b="0" lang="uk-UA" sz="3000" spc="-1" strike="noStrike">
                <a:solidFill>
                  <a:srgbClr val="7b9899"/>
                </a:solidFill>
                <a:latin typeface="Georgia"/>
              </a:rPr>
              <a:t> </a:t>
            </a:r>
            <a:br>
              <a:rPr sz="3000"/>
            </a:br>
            <a:r>
              <a:rPr b="0" lang="uk-UA" sz="4800" spc="-1" strike="noStrike">
                <a:solidFill>
                  <a:srgbClr val="7b9899"/>
                </a:solidFill>
                <a:latin typeface="Georgia"/>
              </a:rPr>
              <a:t> </a:t>
            </a:r>
            <a:r>
              <a:rPr b="1" lang="uk-UA" sz="4000" spc="-1" strike="noStrike">
                <a:solidFill>
                  <a:srgbClr val="002060"/>
                </a:solidFill>
                <a:latin typeface="Georgia"/>
              </a:rPr>
              <a:t>Відбудеться хімічна реакція</a:t>
            </a:r>
            <a:br>
              <a:rPr sz="4000"/>
            </a:b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301320" y="1999800"/>
            <a:ext cx="40417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2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100" spc="-1" strike="noStrike">
                <a:solidFill>
                  <a:srgbClr val="000000"/>
                </a:solidFill>
                <a:latin typeface="Georgia"/>
              </a:rPr>
              <a:t>Утворена речовина одразу ж дисоціює</a:t>
            </a:r>
            <a:endParaRPr b="0" lang="en-US" sz="51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25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2060"/>
                </a:solidFill>
                <a:latin typeface="Georgia"/>
              </a:rPr>
              <a:t>Лабораторний дослід № 2. </a:t>
            </a:r>
            <a:r>
              <a:rPr b="1" lang="uk-UA" sz="3600" spc="-1" strike="noStrike">
                <a:solidFill>
                  <a:srgbClr val="002060"/>
                </a:solidFill>
                <a:latin typeface="Georgia"/>
              </a:rPr>
              <a:t>Реакції обміну між розчинами електролітів, що проходять з випаданням осаду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320" y="2928960"/>
            <a:ext cx="8504280" cy="31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Georgia"/>
              </a:rPr>
              <a:t>І група: натрій хлорид, арґентум нітрат; 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Georgia"/>
              </a:rPr>
              <a:t>ІІ група: купрум сульфат та натрій гідроксид; 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Georgia"/>
              </a:rPr>
              <a:t>ІІІ група: ферум (ІІІ) хлорид, калій ціанід;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Georgia"/>
              </a:rPr>
              <a:t>І</a:t>
            </a:r>
            <a:r>
              <a:rPr b="1" lang="en-US" sz="3000" spc="-1" strike="noStrike">
                <a:solidFill>
                  <a:srgbClr val="000000"/>
                </a:solidFill>
                <a:latin typeface="Georgia"/>
              </a:rPr>
              <a:t>V</a:t>
            </a:r>
            <a:r>
              <a:rPr b="1" lang="uk-UA" sz="3000" spc="-1" strike="noStrike">
                <a:solidFill>
                  <a:srgbClr val="000000"/>
                </a:solidFill>
                <a:latin typeface="Georgia"/>
              </a:rPr>
              <a:t> група: барій нітрат, натрій сульфат. 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2060"/>
                </a:solidFill>
                <a:latin typeface="Georgia"/>
              </a:rPr>
              <a:t>Оформлення результатів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graphicFrame>
        <p:nvGraphicFramePr>
          <p:cNvPr id="618" name=""/>
          <p:cNvGraphicFramePr/>
          <p:nvPr/>
        </p:nvGraphicFramePr>
        <p:xfrm>
          <a:off x="357120" y="2286000"/>
          <a:ext cx="8504280" cy="3170160"/>
        </p:xfrm>
        <a:graphic>
          <a:graphicData uri="http://schemas.openxmlformats.org/drawingml/2006/table">
            <a:tbl>
              <a:tblPr/>
              <a:tblGrid>
                <a:gridCol w="2270160"/>
                <a:gridCol w="3714840"/>
                <a:gridCol w="2519280"/>
              </a:tblGrid>
              <a:tr h="609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агенти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постереження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сновок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1600" spc="-1" strike="noStrike">
              <a:solidFill>
                <a:srgbClr val="646b86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002060"/>
                </a:solidFill>
                <a:latin typeface="Georgia"/>
              </a:rPr>
              <a:t>Механізм утворення осаду</a:t>
            </a:r>
            <a:endParaRPr b="0" lang="en-US" sz="72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1" name="Рисунок 3" descr=""/>
          <p:cNvPicPr/>
          <p:nvPr/>
        </p:nvPicPr>
        <p:blipFill>
          <a:blip r:embed="rId1"/>
          <a:stretch/>
        </p:blipFill>
        <p:spPr>
          <a:xfrm>
            <a:off x="428760" y="4071960"/>
            <a:ext cx="8715240" cy="2995560"/>
          </a:xfrm>
          <a:prstGeom prst="rect">
            <a:avLst/>
          </a:prstGeom>
          <a:ln w="0">
            <a:noFill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2060"/>
                </a:solidFill>
                <a:latin typeface="Georgia"/>
              </a:rPr>
              <a:t>Позначте скорочене йонне рівняння, яке відповідає реакції між ферум (ІІІ) нітратом і калій гідроксидом у розчині: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1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000000"/>
                </a:solidFill>
                <a:latin typeface="Georgia"/>
              </a:rPr>
              <a:t>а) </a:t>
            </a:r>
            <a:r>
              <a:rPr b="1" i="1" lang="en-US" sz="4800" spc="-1" strike="noStrike">
                <a:solidFill>
                  <a:srgbClr val="000000"/>
                </a:solidFill>
                <a:latin typeface="Georgia"/>
              </a:rPr>
              <a:t>Fe³ + 3OH =Fe(OH)3↓;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1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Georgia"/>
              </a:rPr>
              <a:t>б</a:t>
            </a:r>
            <a:r>
              <a:rPr b="1" lang="en-US" sz="4800" spc="-1" strike="noStrike">
                <a:solidFill>
                  <a:srgbClr val="000000"/>
                </a:solidFill>
                <a:latin typeface="Georgia"/>
              </a:rPr>
              <a:t>) K + NO3 = KNO3.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1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2060"/>
                </a:solidFill>
                <a:latin typeface="Georgia"/>
              </a:rPr>
              <a:t>Позначте пари речовин, реакції між якими в розчині відбуватимуться до кінц</a:t>
            </a:r>
            <a:r>
              <a:rPr b="0" lang="uk-UA" sz="3200" spc="-1" strike="noStrike">
                <a:solidFill>
                  <a:srgbClr val="7b9899"/>
                </a:solidFill>
                <a:latin typeface="Georgia"/>
              </a:rPr>
              <a:t>я: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uk-UA" sz="6000" spc="-1" strike="noStrike">
                <a:solidFill>
                  <a:srgbClr val="000000"/>
                </a:solidFill>
                <a:latin typeface="Georgia"/>
              </a:rPr>
              <a:t>а) Рв</a:t>
            </a:r>
            <a:r>
              <a:rPr b="1" lang="en-US" sz="6000" spc="-1" strike="noStrike">
                <a:solidFill>
                  <a:srgbClr val="000000"/>
                </a:solidFill>
                <a:latin typeface="Georgia"/>
              </a:rPr>
              <a:t>SO4 i KOH;</a:t>
            </a:r>
            <a:endParaRPr b="0" lang="en-US" sz="6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5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Georgia"/>
              </a:rPr>
              <a:t>б)</a:t>
            </a:r>
            <a:r>
              <a:rPr b="1" lang="en-US" sz="6000" spc="-1" strike="noStrike">
                <a:solidFill>
                  <a:srgbClr val="000000"/>
                </a:solidFill>
                <a:latin typeface="Georgia"/>
              </a:rPr>
              <a:t> KNO3 i NaOH</a:t>
            </a:r>
            <a:r>
              <a:rPr b="1" lang="uk-UA" sz="6000" spc="-1" strike="noStrike">
                <a:solidFill>
                  <a:srgbClr val="000000"/>
                </a:solidFill>
                <a:latin typeface="Georgia"/>
              </a:rPr>
              <a:t>;</a:t>
            </a:r>
            <a:endParaRPr b="0" lang="en-US" sz="6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5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Georgia"/>
              </a:rPr>
              <a:t>в)</a:t>
            </a:r>
            <a:r>
              <a:rPr b="1" lang="en-US" sz="6000" spc="-1" strike="noStrike">
                <a:solidFill>
                  <a:srgbClr val="000000"/>
                </a:solidFill>
                <a:latin typeface="Georgia"/>
              </a:rPr>
              <a:t> H2SO4 i KNO3;</a:t>
            </a:r>
            <a:endParaRPr b="0" lang="en-US" sz="6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5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Georgia"/>
              </a:rPr>
              <a:t>г)</a:t>
            </a:r>
            <a:r>
              <a:rPr b="1" lang="en-US" sz="6000" spc="-1" strike="noStrike">
                <a:solidFill>
                  <a:srgbClr val="000000"/>
                </a:solidFill>
                <a:latin typeface="Georgia"/>
              </a:rPr>
              <a:t> K2SiO3 i HNO3.</a:t>
            </a:r>
            <a:endParaRPr b="0" lang="en-US" sz="6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5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2060"/>
                </a:solidFill>
                <a:latin typeface="Georgia"/>
              </a:rPr>
              <a:t>Позначте ті пари речовин, реакції між якими в розчині є незворотними</a:t>
            </a:r>
            <a:r>
              <a:rPr b="0" lang="uk-UA" sz="3200" spc="-1" strike="noStrike">
                <a:solidFill>
                  <a:srgbClr val="7b9899"/>
                </a:solidFill>
                <a:latin typeface="Georgia"/>
              </a:rPr>
              <a:t>: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Georgia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5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Georgia"/>
              </a:rPr>
              <a:t>а)</a:t>
            </a:r>
            <a:r>
              <a:rPr b="1" lang="en-US" sz="6000" spc="-1" strike="noStrike">
                <a:solidFill>
                  <a:srgbClr val="000000"/>
                </a:solidFill>
                <a:latin typeface="Georgia"/>
              </a:rPr>
              <a:t> Na2SO3 i HCl;</a:t>
            </a:r>
            <a:endParaRPr b="0" lang="en-US" sz="6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Georgia"/>
              </a:rPr>
              <a:t>в)</a:t>
            </a:r>
            <a:r>
              <a:rPr b="1" lang="en-US" sz="6000" spc="-1" strike="noStrike">
                <a:solidFill>
                  <a:srgbClr val="000000"/>
                </a:solidFill>
                <a:latin typeface="Georgia"/>
              </a:rPr>
              <a:t> H2SO4 i NaNO</a:t>
            </a: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3;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6T05:40:54Z</dcterms:created>
  <dc:creator>Вчитель</dc:creator>
  <dc:description/>
  <dc:language>en-US</dc:language>
  <cp:lastModifiedBy>Admin</cp:lastModifiedBy>
  <dcterms:modified xsi:type="dcterms:W3CDTF">2013-03-30T06:51:48Z</dcterms:modified>
  <cp:revision>4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20d000000000001024140</vt:lpwstr>
  </property>
</Properties>
</file>