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1C1-3943-4E4A-A7CF-6F554052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94B3-5AF2-46FF-9017-BC0EAA7F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542653-05CC-4B64-BB65-79AE4CB4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A4573F-13A8-4230-9F42-6B2DFC58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AF16D-AE0F-4A83-8094-3601DE9C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EDB69-E107-48C6-B3A3-3A2A8526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FBB5AA-8391-4069-B035-10C028C7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0648C9-FDD8-487D-A510-3E50A4E7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E7652A-0367-485E-B069-CED235E4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503B9-1C55-4B14-A2A4-6307BC57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3A7241-D1F2-4603-97AA-ACBD7B83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306A9-2F11-4F94-82DB-B93FBD35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7C73-BEDB-4983-B8A4-30E380CB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44B832-17CF-4A00-9854-092F5096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8E5608-D0AB-41E8-A21D-BB7CD36B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F2483B-A9D5-45C4-9BEF-3BA9582F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DF060E-875D-4494-8469-694A9808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BD9A8A-F9BE-4A80-B01F-39D81CBD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29506-3379-4AC2-B533-ABE2ECE5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B081C-EBBA-4BA9-8EB4-2A875241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AAE103-2192-4620-8220-E2232969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E8EDD-0759-48F6-88AD-5FCC484B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CCF95B-34E9-46D2-9051-F75CA0CB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1914-974D-416D-B726-88ED56BB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14D300-38AE-46F7-9CED-CC47030F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41EAF-26F5-4815-A229-AD036F01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4B010-BFED-4840-B371-97E4FC89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532B7-6784-440D-9AE4-B8B80B43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9E434-C73C-489C-80B8-40120E13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64C9C-AE3F-47BA-B9E1-D1F0E6DA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608B7-545F-4297-AC68-82CE32F9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D1C46-FA23-42F0-98CA-01BA43B6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67432-0C49-4688-9910-BAA10AE6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763E5-8060-4520-904C-30A15893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6DB7-F44E-4273-9F7B-BF3AA915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D1F4E-E822-4A03-AE84-A3610F68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80CCA-B406-4F0D-B5E3-A26C099E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FCB78-1F16-4F8E-8660-79075F32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AB0E58-4CC0-421B-86A9-B8EDB379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2A1E7D-6CBF-4EB0-B7A7-4A77EE50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C628B1-59D7-4AAF-8EE5-B1789F51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B50133-8909-4E69-A2DE-CCE7DEEB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AB537D-E897-49FF-BED3-E057B689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9B7F5C-961E-4452-959A-8295ABFF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3FEB85-9EEE-43EF-9BD0-55B158E1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5688-854B-4E28-B3E6-423E19D0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6181A0-A42B-42EE-8624-45E81E4B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E84CC-7E2B-4687-9E2D-3408A155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0056CB-47AF-452A-8A31-FB2F0E18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55B19D-26B0-4890-A4C1-8DDEC43A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376E4F-C0E0-4DF8-8F20-B14B6C58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6A24-92DA-4AF7-9E3A-957572BD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20A0-AACA-4760-88FF-AE2F938A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F010-7DA1-4598-8659-7970FF1A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3605-BCD1-4E70-95A8-50598C5D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1B8C-C3CB-4AFD-BD0D-C03ADA5B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F580-69EB-4042-8050-62C26838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5FFB-0FA1-4CC3-B048-184A8736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4804-C0B5-4178-B168-CFDC0149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4872-D1CB-4837-9E71-485E0402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39BA-BE8C-4DE8-8EBD-658539E1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62CD-73FE-4C57-8488-46B82A50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99BFF-014E-4AA6-BA1B-933E2351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47C51-AD29-493C-8E2A-156FF646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BA662-A233-4761-925E-8E096A3D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D1E49-8FA6-4168-A930-38391DA0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8D68A-2BB7-42CD-AC09-516D1BC7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603C-0111-4322-AF8B-B359CCD5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DA2E5-4594-4005-9B2D-01F834DF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8CA78-E121-4942-A515-016470B9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E7C01-9641-4B32-B5C6-7FF2131E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1B5C3-E674-4965-9DFC-F884CE83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3E0E9-BFBE-43E9-B809-277C1026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E5192-A252-43CD-B8F4-FFB02BF8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B1649-5F88-4945-BE5F-5A905F47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5566B-6CD3-4BAE-826A-8AD686AA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451C3-9431-4733-8F8C-DDD47CE1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DB5FF-45C2-49A4-8796-861C5A58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B9A0-7FC7-4435-B34B-EEBC4651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34886-B9FD-4BD2-BA1B-2B7AD10A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C266F-075B-434A-9B5F-789AC114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F3E00-5446-4C10-9FC8-0464B1C9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CAEB0-D188-4B84-B3FD-CABB14A5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FD8B4-460A-4F8D-B55D-50E3DAEF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68F0F-0292-40C5-9F11-73AAFEFE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F5D03-BC53-4A5A-BA1B-29519D1E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CD176-1D1D-45C5-9DBC-A1002CBA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1509C-FA71-4EC2-A985-4C5F8C28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239F1-D49B-43C9-A651-609E3288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867C-6BF5-4A8B-8FE3-6B9C1F51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F4961-C22F-4536-98C1-2DFB109F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3C5A6-7018-4C60-9C32-776390AE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3B635-F3F1-4C95-B2FF-1CD89735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C0585-CC78-4ABF-8734-CB2832F1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75632-6FC5-4674-9E7C-1733E4A9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93053-37BF-4485-9C62-6B2A3ACF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37DFD-4EC6-4150-917A-EE3C734C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180B5-9A31-43F1-8D4E-36DDA7AF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E0035-A84D-47BB-9888-C14D50FF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56564-4B09-4C7D-830D-D1736097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9147-B1FD-46FC-B6A5-30EF6E79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F1AD8-73EB-4EA5-A41D-A663407F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C297A-1DB7-476F-82E5-49364234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E1285-DBC6-47BD-B752-47902C66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2407A-893C-4923-9FA9-3E5FC0E4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7E415-4AC8-4064-ABE7-2B1A4AD8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8A975-83B0-41C9-AD4D-F3E59009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B768E-EC02-4451-BB59-76D82EDE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A20A1-64E5-4745-A888-1C19C483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51E6A-7EB9-4B89-876F-8B5B6212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0BFA9-4A13-422B-BCF9-544C74C5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8ED0-2A95-4938-9598-5EB75329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6BEDB-CC63-493D-970D-A7534ECC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B52A6-D556-4720-8BAC-FC1A302E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4AD54-3729-4BA6-A80C-EB0452E0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F3034-B58B-47C1-9FEB-BA8C07EF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8EEBB-5558-40C1-B514-4FF211C2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74B40-CDD3-432A-B13D-AA79383A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FB86F-D8F0-43A5-9CE5-4509A0B5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88529-2707-4E0B-B143-DDBACA64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B4021-7171-4E70-B181-82731A22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DAE70-8CFD-470C-8D91-450CF16A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CD07-D0CE-4A46-BBE4-FF9DA167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9C515-3192-4D90-9ACB-573C255E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CC088-4F7E-4102-A3DD-EFFA7A5F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2037E-2F88-4882-809C-E501A33E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67A40-40C7-47BC-9795-F1BE6F4C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BDB64-033D-4301-B54A-CF9C4F82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1B86E-6748-439B-BD0C-7AD8335C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9BB75-F9AB-4D4F-A3B3-33454B52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BCBB1-F608-47DE-94F2-48C17D88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C1402-C819-456D-BB69-181EF334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D0EEE-C9A6-472C-81CF-FC16889F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D1B-4C0B-44A8-8539-1769CB29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8766B-794B-4D2D-917D-C004BA2E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559F4-633E-46D9-A647-2E998651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AE74F-CA3A-4BE5-BF7C-669E1A4F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554E5-8283-4C28-9C54-5F4E9AB5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863B8-D5A5-422F-880F-38988D61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66AF7-58BC-4712-9860-54E49203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8E61E-34F3-4687-B443-20F73478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D369D9-DDA0-43BD-8A57-DCC25E36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D7262A-6E1E-4EBF-B90F-E693A1FC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177359-C2B4-4D92-B5C8-0776B062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17F1-BFE2-483F-93F5-88C7A32C8777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794B-7F32-4F74-A7C5-A1B1AEA2CABC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7610-2C90-4306-AF61-F873C2450557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3BBD-1006-407F-980C-BC0DA739B657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12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13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6B8D-2A92-4357-9A66-45483DEDCDFF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8461-74DE-4648-93E1-E370C6114B5B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D074-D17B-4D96-A217-26AB66987A5F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C9C8-74F3-43C4-AAEA-E04B9617AE7B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1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1365-FA42-42A3-B026-376A6F3AD1EA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88F8-7175-4764-BF29-408432B56732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90B7-3519-41D6-9D9C-3D7A0BEEC3A2}" type="slidenum"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A033-717F-4646-81FF-17EC2B7D63FE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Georgia"/>
              </a:rPr>
              <a:t>Зна'мянська спеціальна загальноосвітня школа-інтернат І-ІІІ ступенів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01320" y="1285920"/>
            <a:ext cx="85042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Georgia"/>
              </a:rPr>
              <a:t>Реакції обміну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7200" spc="-1" strike="noStrike">
                <a:solidFill>
                  <a:srgbClr val="000000"/>
                </a:solidFill>
                <a:latin typeface="Georgia"/>
              </a:rPr>
              <a:t>між розчинами електролітів 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Хімія. 10 кла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Лазарєва Т.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Вчитель хімії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2060"/>
                </a:solidFill>
                <a:latin typeface="Georgia"/>
              </a:rPr>
              <a:t>Змоделюйте взаємодію </a:t>
            </a:r>
            <a:br>
              <a:rPr sz="3000"/>
            </a:b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6760"/>
            <a:ext cx="8504280" cy="51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5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100" spc="-1" strike="noStrike">
                <a:solidFill>
                  <a:srgbClr val="000000"/>
                </a:solidFill>
                <a:latin typeface="Georgia"/>
              </a:rPr>
              <a:t>натрій хлориду та купрум сульфату</a:t>
            </a:r>
            <a:endParaRPr b="0" lang="en-US" sz="6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6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100" spc="-1" strike="noStrike">
                <a:solidFill>
                  <a:srgbClr val="000000"/>
                </a:solidFill>
                <a:latin typeface="Georgia"/>
              </a:rPr>
              <a:t>натрій хлориду та арґентум нітрату</a:t>
            </a:r>
            <a:endParaRPr b="0" lang="en-US" sz="6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800600" y="207144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Реакція іде до кінця</a:t>
            </a:r>
            <a:r>
              <a:rPr b="0" lang="uk-UA" sz="60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Відбудеться хімічна реакція</a:t>
            </a: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 </a:t>
            </a: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 </a:t>
            </a:r>
            <a:br>
              <a:rPr sz="3000"/>
            </a:b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Утворена речовина одразу ж дисоціює</a:t>
            </a: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Реакція іде до кінця    </a:t>
            </a: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 </a:t>
            </a:r>
            <a:br>
              <a:rPr sz="3000"/>
            </a:br>
            <a:r>
              <a:rPr b="0" lang="uk-UA" sz="48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uk-UA" sz="4000" spc="-1" strike="noStrike">
                <a:solidFill>
                  <a:srgbClr val="002060"/>
                </a:solidFill>
                <a:latin typeface="Georgia"/>
              </a:rPr>
              <a:t>Відбудеться хімічна реакція</a:t>
            </a:r>
            <a:br>
              <a:rPr sz="4000"/>
            </a:b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999800"/>
            <a:ext cx="40417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2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100" spc="-1" strike="noStrike">
                <a:solidFill>
                  <a:srgbClr val="000000"/>
                </a:solidFill>
                <a:latin typeface="Georgia"/>
              </a:rPr>
              <a:t>Утворена речовина одразу ж дисоціює</a:t>
            </a:r>
            <a:endParaRPr b="0" lang="en-US" sz="5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Georgia"/>
              </a:rPr>
              <a:t>Лабораторний дослід № 2. </a:t>
            </a:r>
            <a:r>
              <a:rPr b="1" lang="uk-UA" sz="3600" spc="-1" strike="noStrike">
                <a:solidFill>
                  <a:srgbClr val="002060"/>
                </a:solidFill>
                <a:latin typeface="Georgia"/>
              </a:rPr>
              <a:t>Реакції обміну між розчинами електролітів, що проходять з випаданням осаду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2928960"/>
            <a:ext cx="8504280" cy="31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І група: натрій хлорид, арґентум нітрат;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ІІ група: купрум сульфат та натрій гідроксид;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ІІІ група: ферум (ІІІ) хлорид, калій ціанід;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І</a:t>
            </a: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V</a:t>
            </a: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 група: барій нітрат, натрій сульфат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Georgia"/>
              </a:rPr>
              <a:t>Оформлення результатів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357120" y="2286000"/>
          <a:ext cx="8504280" cy="3170160"/>
        </p:xfrm>
        <a:graphic>
          <a:graphicData uri="http://schemas.openxmlformats.org/drawingml/2006/table">
            <a:tbl>
              <a:tblPr/>
              <a:tblGrid>
                <a:gridCol w="2270160"/>
                <a:gridCol w="3714840"/>
                <a:gridCol w="2519280"/>
              </a:tblGrid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агент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стереженн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сново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2060"/>
                </a:solidFill>
                <a:latin typeface="Georgia"/>
              </a:rPr>
              <a:t>Механізм утворення осаду</a:t>
            </a:r>
            <a:endParaRPr b="0" lang="en-US" sz="7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1" name="Рисунок 3" descr=""/>
          <p:cNvPicPr/>
          <p:nvPr/>
        </p:nvPicPr>
        <p:blipFill>
          <a:blip r:embed="rId1"/>
          <a:stretch/>
        </p:blipFill>
        <p:spPr>
          <a:xfrm>
            <a:off x="428760" y="4071960"/>
            <a:ext cx="8715240" cy="2995560"/>
          </a:xfrm>
          <a:prstGeom prst="rect">
            <a:avLst/>
          </a:prstGeom>
          <a:ln w="0">
            <a:noFill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Georgia"/>
              </a:rPr>
              <a:t>Позначте скорочене йонне рівняння, яке відповідає реакції між ферум (ІІІ) нітратом і калій гідроксидом у розчині: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Georgia"/>
              </a:rPr>
              <a:t>а) </a:t>
            </a:r>
            <a:r>
              <a:rPr b="1" i="1" lang="en-US" sz="4800" spc="-1" strike="noStrike">
                <a:solidFill>
                  <a:srgbClr val="000000"/>
                </a:solidFill>
                <a:latin typeface="Georgia"/>
              </a:rPr>
              <a:t>Fe³ + 3OH =Fe(OH)3↓;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Georgia"/>
              </a:rPr>
              <a:t>б</a:t>
            </a: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) K + NO3 = KNO3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Georgia"/>
              </a:rPr>
              <a:t>Позначте пари речовин, реакції між якими в розчині відбуватимуться до кінц</a:t>
            </a:r>
            <a:r>
              <a:rPr b="0" lang="uk-UA" sz="3200" spc="-1" strike="noStrike">
                <a:solidFill>
                  <a:srgbClr val="7b9899"/>
                </a:solidFill>
                <a:latin typeface="Georgia"/>
              </a:rPr>
              <a:t>я: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а) Рв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SO4 i KOH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б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KNO3 i NaOH</a:t>
            </a: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в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H2SO4 i KNO3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г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K2SiO3 i HNO3.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Georgia"/>
              </a:rPr>
              <a:t>Позначте ті пари речовин, реакції між якими в розчині є незворотними</a:t>
            </a:r>
            <a:r>
              <a:rPr b="0" lang="uk-UA" sz="32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а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Na2SO3 i HCl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в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H2SO4 i NaNO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3;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5:40:54Z</dcterms:created>
  <dc:creator>Вчитель</dc:creator>
  <dc:description/>
  <dc:language>en-US</dc:language>
  <cp:lastModifiedBy>Admin</cp:lastModifiedBy>
  <dcterms:modified xsi:type="dcterms:W3CDTF">2013-03-30T06:51:48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d000000000001024140</vt:lpwstr>
  </property>
</Properties>
</file>