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017-76BF-4F4D-9B15-796263A4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8170-3AFB-450F-B757-A3F22961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803454-11F7-49CB-8D00-031AE43E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A3C3D-126F-4A4D-87FC-0AF4BAD0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C98378-E3A4-4260-9807-2B747F1A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67F352-87B9-4D48-8E3E-C1B40307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39D4AA-1D82-4DCD-A928-3038AF82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8D70B8-B1AF-4D10-8884-FF4697D1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20F606-D9C5-4C83-B7E1-60842B0C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12F0D-B394-40D9-A860-21346DAE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1275A-A37E-4AD8-91A5-797AB0FB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20FB98-2BEF-4522-89FA-925A1895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63AA-074F-4492-9686-D27529F3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AFEB85-FA19-46A5-8AB5-59B52EA4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99EAAD-BA04-406B-B535-35580EA1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CEBAF5-BE35-40F0-88E3-46985E82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75F916-381D-4188-910F-8EA8CFCB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8762D7-2F5D-496C-87B8-731DA2BC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1F25FC-ACA6-438C-9D5B-6C33808C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FDF5C-E1EB-4D9E-AFD1-D6972803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3D2B9-3373-4BA4-BC32-B79C479F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B05BEB-284C-4B2D-9758-3E5F6FB1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8CD58-E0AA-463F-95CB-14C5F581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C37-52F3-4737-B92E-99F56A85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3B86C-D42B-437C-BB5A-0232992A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5A27B-CBEE-402B-9A2A-9C21B3A8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DB638-7E1B-4215-B65A-447A5B6D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B0087-0C55-471C-A074-23335EE1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E0160-CEDD-4568-A600-54C52DF6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81FEA-8441-4980-9EFE-CCC11C77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79E8B-53E9-4B34-A671-67EF1BAC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BFDE7-EB41-4BC3-B149-1856B088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9C2C2-62CB-4996-843E-FB38B938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A427F-A265-4289-9E05-3E6E6C34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CD43-DBF8-4EA7-BA2C-5C2D0164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48797-75F9-4BC6-936B-A9D9CC2C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CA342-46BD-4148-94F3-6F7C3076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4AFB5-BAB9-455E-90EE-D4928FC5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4BFA83-D230-49BD-8E97-47FC5AAB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CE8B11-504B-4B92-A49C-8276FD29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7C4AE1-9F8F-4064-AFC5-0145E954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45810-41B2-44B7-B04E-E70E4A80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F3C2A-B685-4084-8B85-4A7D9F4B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8EEF74-32F1-4307-B251-833D6D3E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5B54D9-9137-4B5F-827D-4E376A1F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C095-8210-49CF-B36C-7E249DD5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5F6A31-2524-48B4-A8C1-0F003439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56DE8-7D19-465C-B77E-EC2C4636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2EB004-AFD2-42D7-93D7-ABAD1B74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D96EF1-3212-4D72-BDF0-38E4125D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37F2AE-D1C8-442C-84FE-C18A7738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1763-BF62-4206-AB2D-BAFE1881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7E7B-C2A9-43DF-924C-D7B42C1C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1FFD-0202-4D7D-A754-4BAF4234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742A-22FB-4CAF-8947-02F82E22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162D-5851-476A-B8B3-FFA422C7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15A-5C16-4174-917F-E5CAEB73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9313-F5B7-497E-AC3C-56224EBA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EA15-342B-476B-969B-C5AABC2F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834B-2A0B-40B1-A59E-C4CDC2C4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2D35-6DD5-428F-A150-2701F481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32CA-74F3-4F60-9135-E9CF701F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53E6B-62C9-42F9-8181-68CBB78C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6763A-C172-4956-BED4-9ED1EA2E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5D6BB-0040-4524-A0C4-D82DD3EE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2D5AA-AB57-4E21-9C86-3F226E46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0888A-092C-43C8-8769-526730B4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BCD2-C012-4780-A620-F60875AF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7FBB1-1200-4A03-83F2-C7AE4F4D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5E038-D3C9-4BF9-AE99-64C895EA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9ED23-4177-4A76-B328-A086D794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02C01-FFDA-4CEE-8B33-F43A425E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FADBE-A021-4578-B3C9-D1859C01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79071-8CDE-48CF-BD62-9FF775F4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26C5A-C76F-40BF-8FFE-DB7D9828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3C467-6A90-4C99-A863-D2694A07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CEBEA-29FC-46F9-B469-7946FA89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8E42F-E85F-4D26-86FE-2A2FF650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70AF-D198-442F-875E-98F607F8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A17CF-C375-4883-949C-19F1A1CB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92A91-E6DA-448E-9EB0-2ABE048E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38F49-BA81-49B5-AF8A-5FC1C173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3EA25-B46A-4D9C-9C96-13DA0742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BF1F7-EB95-454E-B1C7-BCABAFA8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58D65-73C7-4202-A1C8-CF31D47D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EFBF4-2455-4D2E-AF61-9B72F33C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33A63-EA34-46B6-B7FC-4A01182D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6F0C0-C5D0-4D32-A2C7-DCE2F493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F0B54-3368-466C-B6C9-65CBBA65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86A-0892-476F-8FF0-43EF7673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F265F-AE89-4D2D-B631-F3C5D72F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2BDD3-9A02-442A-8ED3-BE07CFE6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3EC06-FF23-4D65-9E52-2D491219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30220-B351-4DD3-A538-416FABD2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C77A9-FFC3-4FEC-A150-46D07DF1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0A190-59C1-407C-9FAE-2DCB6D47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58589-C88E-4DAA-AD9C-F2FE1608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2B142-25E8-464B-988E-A7FCBAC6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96187-428A-4434-9B37-B74C0996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31DDA-B1D7-4257-BF15-8831CAC8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870-7838-436A-8EB7-7BB0C1BF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C7992-684F-460F-B913-0A64CE7D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A2E8D-E966-46A0-9990-5552888C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9EEE5-7E0F-4F69-8CB5-0EC204A7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1BFC9-7840-4103-85F8-1E6ACDA3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E753A-8077-4CBD-882C-FB3706A5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CAE35-1ADB-4BF9-BB16-0DB26177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32156-2CD0-418B-BDB7-E57E9AD4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42D6A-3E4F-4A20-ABE9-FB0F1601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3C45D-3B78-4048-9E3E-75EFE067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D6CBB-1CF7-41B5-8573-DE3C72C1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EDE-44AE-46CC-AB3D-B9834310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EAFA7-84C0-4AF1-A182-19CC9516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6755E-A9D8-4D07-91C5-71CF150A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B95D3-166F-4217-9286-113C474D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4E495-7D6F-4AC8-AC91-740C9676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476E3-B901-4AB1-A284-EA27004C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E0F33-E2A9-47A8-A7B2-7282B7A4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7552F-5130-42F3-91AA-02895CB7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D17BA-1448-4F26-AC6E-BEBD537E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6A696-853A-4D9C-9B33-4199C75A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0276F-825A-4757-9C33-8495EA13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51C-1FDF-44AB-BB9B-C1403B24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1C798-4391-4096-A28C-F7CE9E39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80A22-15D3-4CE2-9A48-2CC9A833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23DAF-B684-4F83-88AB-8174D789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2534B-05E7-43A0-9C4A-747333A2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CDB22-7400-46F7-838A-53FC7856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5E046-EE0E-4F00-B4A1-190F58D3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01205-7BE3-43E9-9FC7-E511C557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CA9D1-FD84-4478-B32B-ECB1A5AA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2DABC-8381-4375-923A-B992876A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C41F5-B5E5-4624-BA2A-A2520BA6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6E15-3A12-465E-BD0F-949BBCE2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5EBCF-FBE9-400E-A7A9-8D3CD60C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FD1EF-2B89-4BCD-BDB8-D5E38AE8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8D3E0-A495-4268-8794-8D3AA400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E8670-D50F-4645-9E66-605FBBD9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A147A-249E-4F55-AD8C-1D0CD25D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A01E7-6339-4962-BFC8-660CD9CC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7B8A7-7A2C-4F41-A028-9DC729CB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FAEA97-04D3-43D4-A54B-0235A75E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144BB-CB93-4EE5-9E1B-15BA9032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92180D-EF59-472D-BCA6-3DA482B9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690E-2264-4FF0-B585-2E9624838F01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7E71-4B32-43A8-8793-B1214CBC99CE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E866-DCDC-4BBF-A215-94D2B1B1158A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29C1-D9E0-46A7-9A1B-405EDBB2B3EB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12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13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A7D0-588E-40EA-A888-95E8E9FF5C94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4DFE-375B-4454-B178-0C9952283A83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F558-50E6-4169-A094-C824E92066C1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D73D-6246-4F9B-965E-49938C950289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1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E46F-2A87-4A95-B560-2FC2E68C74A9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78BC-C47A-4647-828A-E1D813F02B2A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ABBB-B5AE-47F2-B82B-DC17A61BD59F}" type="slidenum"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7115-1A81-4102-A6C6-3E4772A1A5E5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Georgia"/>
              </a:rPr>
              <a:t>Зна'мянська спеціальна загальноосвітня школа-інтернат І-ІІІ ступенів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01320" y="1285920"/>
            <a:ext cx="85042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Georgia"/>
              </a:rPr>
              <a:t>Реакції обміну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7200" spc="-1" strike="noStrike">
                <a:solidFill>
                  <a:srgbClr val="000000"/>
                </a:solidFill>
                <a:latin typeface="Georgia"/>
              </a:rPr>
              <a:t>між розчинами електролітів 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Хімія. 10 кла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Лазарєва Т.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читель хімії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2060"/>
                </a:solidFill>
                <a:latin typeface="Georgia"/>
              </a:rPr>
              <a:t>Змоделюйте взаємодію </a:t>
            </a:r>
            <a:br>
              <a:rPr sz="3000"/>
            </a:b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6760"/>
            <a:ext cx="8504280" cy="51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5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100" spc="-1" strike="noStrike">
                <a:solidFill>
                  <a:srgbClr val="000000"/>
                </a:solidFill>
                <a:latin typeface="Georgia"/>
              </a:rPr>
              <a:t>натрій хлориду та купрум сульфату</a:t>
            </a:r>
            <a:endParaRPr b="0" lang="en-US" sz="6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6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100" spc="-1" strike="noStrike">
                <a:solidFill>
                  <a:srgbClr val="000000"/>
                </a:solidFill>
                <a:latin typeface="Georgia"/>
              </a:rPr>
              <a:t>натрій хлориду та арґентум нітрату</a:t>
            </a:r>
            <a:endParaRPr b="0" lang="en-US" sz="6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800600" y="207144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Реакція іде до кінця</a:t>
            </a:r>
            <a:r>
              <a:rPr b="0" lang="uk-UA" sz="60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Відбудеться хімічна реакція</a:t>
            </a: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000"/>
            </a:b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Утворена речовина одразу ж дисоціює</a:t>
            </a: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Реакція іде до кінця    </a:t>
            </a: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000"/>
            </a:br>
            <a:r>
              <a:rPr b="0" lang="uk-UA" sz="4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uk-UA" sz="4000" spc="-1" strike="noStrike">
                <a:solidFill>
                  <a:srgbClr val="002060"/>
                </a:solidFill>
                <a:latin typeface="Georgia"/>
              </a:rPr>
              <a:t>Відбудеться хімічна реакція</a:t>
            </a:r>
            <a:br>
              <a:rPr sz="4000"/>
            </a:b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999800"/>
            <a:ext cx="40417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2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100" spc="-1" strike="noStrike">
                <a:solidFill>
                  <a:srgbClr val="000000"/>
                </a:solidFill>
                <a:latin typeface="Georgia"/>
              </a:rPr>
              <a:t>Утворена речовина одразу ж дисоціює</a:t>
            </a:r>
            <a:endParaRPr b="0" lang="en-US" sz="5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Georgia"/>
              </a:rPr>
              <a:t>Лабораторний дослід № 2. </a:t>
            </a:r>
            <a:r>
              <a:rPr b="1" lang="uk-UA" sz="3600" spc="-1" strike="noStrike">
                <a:solidFill>
                  <a:srgbClr val="002060"/>
                </a:solidFill>
                <a:latin typeface="Georgia"/>
              </a:rPr>
              <a:t>Реакції обміну між розчинами електролітів, що проходять з випаданням осаду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2928960"/>
            <a:ext cx="850428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І група: натрій хлорид, арґентум нітрат;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ІІ група: купрум сульфат та натрій гідроксид;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ІІІ група: ферум (ІІІ) хлорид, калій ціанід;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І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V</a:t>
            </a: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 група: барій нітрат, натрій сульфат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Georgia"/>
              </a:rPr>
              <a:t>Оформлення результатів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357120" y="2286000"/>
          <a:ext cx="8504280" cy="3170160"/>
        </p:xfrm>
        <a:graphic>
          <a:graphicData uri="http://schemas.openxmlformats.org/drawingml/2006/table">
            <a:tbl>
              <a:tblPr/>
              <a:tblGrid>
                <a:gridCol w="2270160"/>
                <a:gridCol w="3714840"/>
                <a:gridCol w="2519280"/>
              </a:tblGrid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агент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стереженн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сново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2060"/>
                </a:solidFill>
                <a:latin typeface="Georgia"/>
              </a:rPr>
              <a:t>Механізм утворення осаду</a:t>
            </a:r>
            <a:endParaRPr b="0" lang="en-US" sz="7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1" name="Рисунок 3" descr=""/>
          <p:cNvPicPr/>
          <p:nvPr/>
        </p:nvPicPr>
        <p:blipFill>
          <a:blip r:embed="rId1"/>
          <a:stretch/>
        </p:blipFill>
        <p:spPr>
          <a:xfrm>
            <a:off x="428760" y="4071960"/>
            <a:ext cx="8715240" cy="299556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Georgia"/>
              </a:rPr>
              <a:t>Позначте скорочене йонне рівняння, яке відповідає реакції між ферум (ІІІ) нітратом і калій гідроксидом у розчині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Georgia"/>
              </a:rPr>
              <a:t>а) </a:t>
            </a:r>
            <a:r>
              <a:rPr b="1" i="1" lang="en-US" sz="4800" spc="-1" strike="noStrike">
                <a:solidFill>
                  <a:srgbClr val="000000"/>
                </a:solidFill>
                <a:latin typeface="Georgia"/>
              </a:rPr>
              <a:t>Fe³ + 3OH =Fe(OH)3↓;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Georgia"/>
              </a:rPr>
              <a:t>б</a:t>
            </a: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) K + NO3 = KNO3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Georgia"/>
              </a:rPr>
              <a:t>Позначте пари речовин, реакції між якими в розчині відбуватимуться до кінц</a:t>
            </a:r>
            <a:r>
              <a:rPr b="0" lang="uk-UA" sz="3200" spc="-1" strike="noStrike">
                <a:solidFill>
                  <a:srgbClr val="7b9899"/>
                </a:solidFill>
                <a:latin typeface="Georgia"/>
              </a:rPr>
              <a:t>я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а) Рв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SO4 i KOH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б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KNO3 i NaOH</a:t>
            </a: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в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H2SO4 i KNO3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г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K2SiO3 i HNO3.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Georgia"/>
              </a:rPr>
              <a:t>Позначте ті пари речовин, реакції між якими в розчині є незворотними</a:t>
            </a:r>
            <a:r>
              <a:rPr b="0" lang="uk-UA" sz="32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а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Na2SO3 i HCl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в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H2SO4 i NaNO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3;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5:40:54Z</dcterms:created>
  <dc:creator>Вчитель</dc:creator>
  <dc:description/>
  <dc:language>en-US</dc:language>
  <cp:lastModifiedBy>Admin</cp:lastModifiedBy>
  <dcterms:modified xsi:type="dcterms:W3CDTF">2013-03-30T06:51:48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d000000000001024140</vt:lpwstr>
  </property>
</Properties>
</file>