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B3E-48A1-495D-B046-B14B4D92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4AC-F725-4A31-AD1A-34ACE4D5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557BB-FD98-45CC-A3A0-A8ABBD9E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FD20F-80F6-4829-9373-87932F84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E47BE-9403-4334-8254-29D7DEF9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F9ED2-904D-4831-8197-4ADF890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D9A21-6DC0-4173-8268-4D79A9D9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5EECA-E3A0-45E4-AE75-9940230E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6B58D-24D4-497F-A6A9-D48BB13A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8977A-4979-4445-85C5-68778512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350B4-1012-4146-9B1E-46C94CD4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3834B-D06E-4EB9-B8F2-A6B55811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AD9-5B49-4B7E-B623-8B55CECA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61C3B-502D-4A87-9DB4-4D8B45B2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89B54-6E3B-4700-9E42-DBBC50CC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45CA8-62CC-4966-BE2F-A185356C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FA929-F914-4EDB-8757-7A27D669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B246D-FFB2-443A-A83D-E2B91E93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8881E-16A5-4122-AE13-ADCF7864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22210-4478-4E88-9338-A12E3DE6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BC148-108A-49DE-82E8-B8F9AA55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4EF36-3E16-4BED-947D-7188BC3A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04272-33EF-4A22-8D52-F46FD1CC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0DB-D36B-4C31-94AD-51FBB2F8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C32F8-5CF4-4115-B45E-09FC06CF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2AB45-2A40-4F4F-A9F3-0B757CD3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0E750-BFAE-4C0E-9879-E585E83B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38C0C-FBC4-4090-B579-37537ED2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7ADD6-9607-4477-8963-E6542BD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3351E-4B7A-4738-9FDD-1D90370F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F286C-D296-4CD8-BEBF-2FEB5225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3B0D2-FDD6-495C-97F6-43A31EE1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7F012-9505-40FE-AA57-48E8F05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25E4A-25F5-4783-93E7-4CBE040B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2E45-097E-49CD-AD52-F8234C88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2FFDA-FB97-4C28-931E-F99F7F6A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AC353-2E89-43E6-912E-D63F3913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FCD4F-6586-4F4F-AC61-F4C0A27D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DFFFF-ECE7-4538-B019-3A9BDFF6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9BB24-E8D2-4F2F-86CE-7CEBBC48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C86B7-9FEC-4E17-BBCC-D3861543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F8EF3-9F71-4CF7-BF00-39ADD566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CD2B5-9C62-4327-A835-5FE77322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5271E-68E1-48BE-A0A9-31FD9626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4FFB3-CAD8-4FE7-B7DD-D01BE83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DCD3-86A4-4C08-ACFC-79EA9686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12DBF-976B-4BC4-8627-64832F7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82773-A49F-4318-8E52-C48D9390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E7E82-1A6D-41C1-9148-81A89F71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7DD51-C42D-48BB-A614-D3E65603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C56E5-AC41-44D7-AA7F-F046F6A7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1994-0BB2-473D-BB72-8C0B7BF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D0E1-EA36-4AC0-8959-2E976DDF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9E3E-BC50-44BF-A046-5645A5E3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0B07-79F6-4AE3-9DC3-E0F4296E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8B57-3C98-4578-AD9B-87CA66D1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613-0A75-427E-9D6C-45E1CC8A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F66C-73AA-493D-88DE-9E8C9939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D77F-5FE1-453C-AE0A-5FD72C6D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9865-9603-42E6-BC28-85D7F2D9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5CB8-64EF-4BC5-86CA-BA3E893A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9A09-75D0-4439-BBB2-C6D9D675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14B1-64F8-483E-B50B-3A83BC7E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89F1-E08F-4EA2-AB68-25156BB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F550-FF02-4E54-89CE-59798251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BB3A-6EBB-4A56-91C4-06F64278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4195-3563-4972-8D9E-045037BE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F25-D8CC-493F-9706-E4498DE8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8948-A6F0-4D2A-979C-036F7B69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F730-AE6B-4DB5-A1FA-4DD15806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1E29-B092-4E2F-A0F3-4E7AEAE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E2FD-0F65-4436-BFDA-1B115B6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88EF-C89F-4201-B1E5-280A7BB4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9A42-37CC-47B6-9670-06286D03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5923-EF86-4672-BE09-5A7E1927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A6D5-A15C-4EB7-9EDF-BDCF2D53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8449D-3BDE-4ED2-A859-442B8489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72BF5-1D21-4A83-99FE-650D4BBA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0E5-2664-4DCD-BE3B-7D794AA6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80E8-A59A-4D5F-B352-E4BC0073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8E43-786C-4577-BFAB-091502C2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132E-4AE6-4E5E-8D9F-023AA0A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3D942-D5DF-4B0D-8DCC-4A6DA4A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6D9C3-C1B8-494B-A039-F058EC0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0489-00B8-4D24-9B54-81270D96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0571-C1D7-4812-A857-063BFAAD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78529-D8C2-4FED-A36A-04047552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8AFC-722E-4860-A0EF-7E1D2733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FE38-33BF-4E2C-AF7F-8B804D49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8B0-8BAB-45EE-85D7-87C68445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9EC07-69EB-4F16-B6F1-E25EC4C6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7CBE-FE5F-4AC7-B64F-1C8549BD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4F3D3-30CC-4653-A8FD-B327D05F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114B0-5BB0-4580-A5E0-03C002F2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F7CBE-250A-48D0-AFB8-96E9634E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73D90-EAF0-45A9-A35F-31AAD3B0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BBBC-8168-48D3-B1FC-577624AE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1B8AD-C27B-41E1-969D-DD8128EE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25CE3-8DCA-4C05-B757-DBBBAEB3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14C92-C82B-4138-8C9A-0616C9C5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D73-ED4C-4BEE-899A-101D05B7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6C05-6527-4631-BB4E-CB69AE91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4240-0F50-48F6-9941-96CD4129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2A214-5CC9-40A5-AF4D-C09DDC7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6FDD7-097D-4FF8-B45A-C79E3E09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5A06C-CC4B-4276-BA9A-84BA64F0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367E-116B-4CB1-B169-B7992232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FA752-67B3-4B45-AEC1-7EA30ED3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B9656-8056-45A6-BEB2-01101057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30ECB-84C7-4F64-9C34-EA356D06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E168D-E2AB-4A2B-8CA5-9246D79C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7A1-05C4-46BE-9B15-92BC423D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7BF2C-196D-4161-A923-9651ABDB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B9286-D18E-4B0F-8FCC-DA7A428A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9660F-6E47-4884-86DD-E0A1F6CC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A7401-1BE1-4FA2-A85B-924D3CF8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A61E3-D0D8-458D-A56E-AFD3B9D6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0F67E-920D-415E-87FF-AA923A82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FC989-00AC-46D8-B2D4-CF6858C8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30F2-E6B6-414D-8347-8601A9BD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532E1-CFAB-4A8E-B7F1-5294AEAD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5F8D2-CF47-470F-BDC3-71D47B98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9F8-44C2-4073-AC58-B46FD117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68D1A-F209-448D-A7D2-3F807B4A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6F0D1-9BE2-4EFD-85DE-0A23EF1C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FF514-A198-4DC9-A9A3-30E4F3EC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FD40A-E19E-4BD6-8D8C-957F2FBD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4D900-EE1D-4C69-9DA4-EE0AF472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32C05-B8C5-4FF2-AE74-BE5B2232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22137-9C58-49CA-9F83-F938D11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01113-9459-4930-82BB-95A04B3E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973CA-8F7F-4CC5-A5C4-95D47C7C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8C07D-C9F5-4FAE-A5D0-FD3D662D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603-F47F-4E88-905F-50636B8E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EF506-67A9-4861-B6F8-A9789C5D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C4972-2DB4-4ECB-84F3-B569E5BC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287CE-D635-407B-95D9-C7FACD8A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BC88-75DF-42C8-9028-18F4390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E372C-08E0-4F02-8F4D-F350FCE3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577F6-BD34-4F66-AE85-6CDFDB1B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D1B38-10EB-4926-B995-8B869911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EF1B9-6F92-45B4-8A35-51C6D0D5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6458B-7E39-4E64-82A4-1DE49639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DD266-FF80-4373-B816-2E0C3FB8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C3D-9649-455C-B56F-2AC7E9615C8D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0C05-5954-4D56-9E05-9CCA784AB376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DCB4-5F7D-4619-B02E-8806362FD8B1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01EC-D446-4B1D-80A1-049215ADA986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9A32-2479-4C73-B4B7-F397A4E679C0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35C1-7928-45CF-949A-F48E8A6468BB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F2C8-9566-4958-87AA-FE2CB5FD8C05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A3B1-077C-4030-B404-0FDB71DCE7FC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1741-1E8F-473E-BBC6-FB7A13B0338C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82AD-7C48-4A7D-AAFA-EBE7A48AD4AC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B8E8-76DE-4E64-BBCD-19A3CFFCA9ED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8E0E-685D-41CF-9163-02CBEAD9AD78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Georgia"/>
              </a:rPr>
              <a:t>Зна'мянська спеціальна загальноосвітня школа-інтернат І-ІІІ ступенів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285920"/>
            <a:ext cx="85042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Реакції обміну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між розчинами електролітів 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Хімія. 10 кл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Лазарєва Т.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читель хімії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Georgia"/>
              </a:rPr>
              <a:t>Змоделюйте взаємодію </a:t>
            </a:r>
            <a:br>
              <a:rPr sz="3000"/>
            </a:b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6760"/>
            <a:ext cx="850428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купрум сульф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арґентум нітр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800600" y="207144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Реакція іде до кінця</a:t>
            </a:r>
            <a:r>
              <a:rPr b="0" lang="uk-UA" sz="6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Відбудеться хімічна реакція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Утворена речовина одразу ж дисоціює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Реакція іде до кінця    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4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uk-UA" sz="4000" spc="-1" strike="noStrike">
                <a:solidFill>
                  <a:srgbClr val="002060"/>
                </a:solidFill>
                <a:latin typeface="Georgia"/>
              </a:rPr>
              <a:t>Відбудеться хімічна реакція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99980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000000"/>
                </a:solidFill>
                <a:latin typeface="Georgia"/>
              </a:rPr>
              <a:t>Утворена речовина одразу ж дисоціює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Georgia"/>
              </a:rPr>
              <a:t>Лабораторний дослід № 2. </a:t>
            </a:r>
            <a:r>
              <a:rPr b="1" lang="uk-UA" sz="3600" spc="-1" strike="noStrike">
                <a:solidFill>
                  <a:srgbClr val="002060"/>
                </a:solidFill>
                <a:latin typeface="Georgia"/>
              </a:rPr>
              <a:t>Реакції обміну між розчинами електролітів, що проходять з випаданням осаду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2928960"/>
            <a:ext cx="85042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 група: натрій хлорид, арґентум нітрат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 група: купрум сульфат та натрій гідроксид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І група: ферум (ІІІ) хлорид, калій ціанід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 група: барій нітрат, натрій сульфат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Georgia"/>
              </a:rPr>
              <a:t>Оформлення результатів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57120" y="2286000"/>
          <a:ext cx="8504280" cy="3170160"/>
        </p:xfrm>
        <a:graphic>
          <a:graphicData uri="http://schemas.openxmlformats.org/drawingml/2006/table">
            <a:tbl>
              <a:tblPr/>
              <a:tblGrid>
                <a:gridCol w="2270160"/>
                <a:gridCol w="3714840"/>
                <a:gridCol w="251928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ген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тереженн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нов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2060"/>
                </a:solidFill>
                <a:latin typeface="Georgia"/>
              </a:rPr>
              <a:t>Механізм утворення осаду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Рисунок 3" descr=""/>
          <p:cNvPicPr/>
          <p:nvPr/>
        </p:nvPicPr>
        <p:blipFill>
          <a:blip r:embed="rId1"/>
          <a:stretch/>
        </p:blipFill>
        <p:spPr>
          <a:xfrm>
            <a:off x="428760" y="4071960"/>
            <a:ext cx="8715240" cy="299556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скорочене йонне рівняння, яке відповідає реакції між ферум (ІІІ) нітратом і калій гідроксидом у розчині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Georgia"/>
              </a:rPr>
              <a:t>а) 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Fe³ + 3OH =Fe(OH)3↓;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) K + NO3 = KNO3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пари речовин, реакції між якими в розчині відбуватимуться до кінц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я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 Рв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SO4 i KOH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NO3 i NaOH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KNO3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г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2SiO3 i HNO3.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ті пари речовин, реакції між якими в розчині є незворотними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Na2SO3 i HCl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NaNO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3;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5:40:54Z</dcterms:created>
  <dc:creator>Вчитель</dc:creator>
  <dc:description/>
  <dc:language>en-US</dc:language>
  <cp:lastModifiedBy>Admin</cp:lastModifiedBy>
  <dcterms:modified xsi:type="dcterms:W3CDTF">2013-03-30T06:51:4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