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4BF-8E1B-479E-B7E2-668BF549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9DC-7250-4C6C-B2B4-3CBE006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D0C-CEB6-4BEC-9F0D-2D66CEBB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1DD-1588-4004-84B6-28AF0311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BEB4-F4F5-48ED-9A42-EC3A5A2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190E-7094-466A-8883-2A9DE0D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4768-7B3A-480D-808A-353F0DA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50FD-2084-4267-9E4B-DF7B904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255-55D7-4944-A819-7C35860A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8A0-AAC1-4710-8EF4-D0AAB982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48F4-927B-4290-9B16-9DFAD1D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93B-7CF5-49CC-AF0C-A2D39B8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08F-EDFB-4C81-ADFD-8E87EDF2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28F9-405C-4868-A7DF-953C815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D6E1-924A-49B3-A73B-0CBCDAAD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D8E-37C4-4F31-BEE8-1D73C221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9132-B3F5-4BB0-B6F4-B23C5AA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E3C-832D-4394-B851-943DEB8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FE5-3E4F-4E1B-8E22-E5ACCF72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D0A-3667-493A-A3E1-90E8B81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DB-CFB8-42A1-A384-43C9E721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10E-8549-407E-B04D-5C86AF5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C56-E5E8-47EF-B13E-1D11718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B99-EA36-45DB-8112-371E3D6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665E-8E2B-4074-86EE-1DFB709FE4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B90E-BAA8-4C1A-B7F6-F4DA874589E4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732215"/>
                </a:solidFill>
                <a:uFillTx/>
                <a:latin typeface="Arial"/>
              </a:rPr>
              <a:t>Тема: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Валентн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сть х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чних елементів.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Визначення валентності  елементів за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формулами бінарних сполук</a:t>
            </a:r>
            <a:r>
              <a:rPr b="1" lang="ru-RU" sz="2400" spc="-1" strike="noStrike">
                <a:solidFill>
                  <a:srgbClr val="7d160b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34560" y="3068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Мета: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ясувати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що таке валентність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пам’ятати валентність Оксигену та Гідрогену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усвідомити поняття „бінарні” сполук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навчитися визначати валентніть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формулами бінарних сполук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положенням елемента в періодичній системі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хімічних елементів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структурними та графічними формулам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169992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E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ru-RU" sz="6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31680" y="393768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993300"/>
                </a:solidFill>
                <a:uFillTx/>
                <a:latin typeface="Arial Black"/>
              </a:rPr>
              <a:t>В А Л Е Н Т Н І С Т Ь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93300"/>
                </a:solidFill>
                <a:uFillTx/>
                <a:latin typeface="Arial"/>
              </a:rPr>
              <a:t>Фрідріх Август Кекуле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993300"/>
                </a:solidFill>
                <a:latin typeface="Arial"/>
              </a:rPr>
              <a:t>німецький хімік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8000" y="3068640"/>
            <a:ext cx="405432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запропонував теорію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валентност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у 1857 роц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(150 років тому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4" descr="180px-Heinrich_von_Angeli_-_Friedrich_August_Kekulé_von_Stradonitz"/>
          <p:cNvPicPr/>
          <p:nvPr/>
        </p:nvPicPr>
        <p:blipFill>
          <a:blip r:embed="rId1"/>
          <a:stretch/>
        </p:blipFill>
        <p:spPr>
          <a:xfrm>
            <a:off x="21240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7356 L -0.00556 0.10479 E">
                                      <p:cBhvr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2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3146 L -0.17882 0.09438 E">
                                      <p:cBhvr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157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ae3a00"/>
                </a:solidFill>
                <a:uFillTx/>
                <a:latin typeface="Arial"/>
              </a:rPr>
              <a:t>В А Л Е Н Т Н І С Т 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Властивість атомів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з’єднуватися з певним числом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атомів того самого або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інших 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називається</a:t>
            </a: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993300"/>
                </a:solidFill>
                <a:uFillTx/>
                <a:latin typeface="Arial"/>
              </a:rPr>
              <a:t>в а л е н т н і с т ю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3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7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25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25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25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50"/>
                            </p:stCondLst>
                            <p:childTnLst>
                              <p:par>
                                <p:cTn id="16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8.0037E-007 L -0.00382 -0.7467 E">
                                      <p:cBhvr>
                                        <p:cTn id="167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25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32215"/>
                </a:solidFill>
                <a:latin typeface="Arial"/>
              </a:rPr>
              <a:t>За структурними формулами речовин складіть молекулярні і графічні форм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43280" y="1844280"/>
            <a:ext cx="590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ід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Сульфу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іт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292929"/>
                </a:solidFill>
                <a:latin typeface="Arial"/>
              </a:rPr>
              <a:t>Карбо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1476360" y="1773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916360" y="364500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635280" y="4581360"/>
            <a:ext cx="792360" cy="792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195640" y="2781360"/>
            <a:ext cx="79200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4500720" y="5516640"/>
            <a:ext cx="79200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6"/>
          <p:cNvSpPr/>
          <p:nvPr/>
        </p:nvSpPr>
        <p:spPr>
          <a:xfrm>
            <a:off x="468360" y="1773360"/>
            <a:ext cx="3600360" cy="865080"/>
          </a:xfrm>
          <a:prstGeom prst="rect">
            <a:avLst/>
          </a:prstGeom>
          <a:gradFill rotWithShape="0">
            <a:gsLst>
              <a:gs pos="0">
                <a:srgbClr val="55d555"/>
              </a:gs>
              <a:gs pos="50000">
                <a:srgbClr val="cccc99"/>
              </a:gs>
              <a:gs pos="100000">
                <a:srgbClr val="55d555"/>
              </a:gs>
            </a:gsLst>
            <a:lin ang="27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a50021"/>
                </a:solidFill>
                <a:latin typeface="Arial"/>
              </a:rPr>
              <a:t>Молекулярні та графічні форму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1" name="Group 53"/>
          <p:cNvGrpSpPr/>
          <p:nvPr/>
        </p:nvGrpSpPr>
        <p:grpSpPr>
          <a:xfrm>
            <a:off x="4645080" y="1773360"/>
            <a:ext cx="4319640" cy="2087280"/>
            <a:chOff x="4645080" y="1773360"/>
            <a:chExt cx="4319640" cy="2087280"/>
          </a:xfrm>
        </p:grpSpPr>
        <p:sp>
          <p:nvSpPr>
            <p:cNvPr id="112" name="Rectangle 48"/>
            <p:cNvSpPr/>
            <p:nvPr/>
          </p:nvSpPr>
          <p:spPr>
            <a:xfrm>
              <a:off x="4645080" y="1773360"/>
              <a:ext cx="4319640" cy="2087280"/>
            </a:xfrm>
            <a:prstGeom prst="rect">
              <a:avLst/>
            </a:prstGeom>
            <a:gradFill rotWithShape="0">
              <a:gsLst>
                <a:gs pos="0">
                  <a:srgbClr val="55d555"/>
                </a:gs>
                <a:gs pos="100000">
                  <a:srgbClr val="cccc99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4645800" y="1989000"/>
              <a:ext cx="4318200" cy="1814400"/>
              <a:chOff x="4645800" y="1989000"/>
              <a:chExt cx="4318200" cy="1814400"/>
            </a:xfrm>
          </p:grpSpPr>
          <p:grpSp>
            <p:nvGrpSpPr>
              <p:cNvPr id="114" name="Group 33"/>
              <p:cNvGrpSpPr/>
              <p:nvPr/>
            </p:nvGrpSpPr>
            <p:grpSpPr>
              <a:xfrm>
                <a:off x="4645800" y="1989000"/>
                <a:ext cx="1084320" cy="787320"/>
                <a:chOff x="4645800" y="1989000"/>
                <a:chExt cx="1084320" cy="787320"/>
              </a:xfrm>
            </p:grpSpPr>
            <p:sp>
              <p:nvSpPr>
                <p:cNvPr id="115" name="Rectangle 15"/>
                <p:cNvSpPr/>
                <p:nvPr/>
              </p:nvSpPr>
              <p:spPr>
                <a:xfrm>
                  <a:off x="5020560" y="198900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3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0"/>
                <p:cNvSpPr/>
                <p:nvPr/>
              </p:nvSpPr>
              <p:spPr>
                <a:xfrm>
                  <a:off x="4645800" y="200448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2"/>
              <p:cNvGrpSpPr/>
              <p:nvPr/>
            </p:nvGrpSpPr>
            <p:grpSpPr>
              <a:xfrm>
                <a:off x="6162480" y="2058840"/>
                <a:ext cx="2801520" cy="1744560"/>
                <a:chOff x="6162480" y="2058840"/>
                <a:chExt cx="2801520" cy="1744560"/>
              </a:xfrm>
            </p:grpSpPr>
            <p:sp>
              <p:nvSpPr>
                <p:cNvPr id="118" name="Rectangle 8"/>
                <p:cNvSpPr/>
                <p:nvPr/>
              </p:nvSpPr>
              <p:spPr>
                <a:xfrm>
                  <a:off x="7285680" y="3099960"/>
                  <a:ext cx="545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9"/>
                <p:cNvSpPr/>
                <p:nvPr/>
              </p:nvSpPr>
              <p:spPr>
                <a:xfrm>
                  <a:off x="8410680" y="2058840"/>
                  <a:ext cx="5533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3"/>
                <p:cNvSpPr/>
                <p:nvPr/>
              </p:nvSpPr>
              <p:spPr>
                <a:xfrm>
                  <a:off x="6162480" y="205884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7288200" y="205884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8"/>
                <p:cNvSpPr/>
                <p:nvPr/>
              </p:nvSpPr>
              <p:spPr>
                <a:xfrm>
                  <a:off x="67622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9"/>
                <p:cNvSpPr/>
                <p:nvPr/>
              </p:nvSpPr>
              <p:spPr>
                <a:xfrm>
                  <a:off x="78854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0"/>
                <p:cNvSpPr/>
                <p:nvPr/>
              </p:nvSpPr>
              <p:spPr>
                <a:xfrm flipV="1">
                  <a:off x="7586280" y="2729160"/>
                  <a:ext cx="0" cy="44568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" name="Group 54"/>
          <p:cNvGrpSpPr/>
          <p:nvPr/>
        </p:nvGrpSpPr>
        <p:grpSpPr>
          <a:xfrm>
            <a:off x="4932360" y="4437000"/>
            <a:ext cx="3960720" cy="1944720"/>
            <a:chOff x="4932360" y="4437000"/>
            <a:chExt cx="3960720" cy="1944720"/>
          </a:xfrm>
        </p:grpSpPr>
        <p:sp>
          <p:nvSpPr>
            <p:cNvPr id="126" name="Rectangle 50"/>
            <p:cNvSpPr/>
            <p:nvPr/>
          </p:nvSpPr>
          <p:spPr>
            <a:xfrm>
              <a:off x="4932360" y="4437000"/>
              <a:ext cx="3960720" cy="19447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50000">
                  <a:srgbClr val="55d555"/>
                </a:gs>
                <a:gs pos="100000">
                  <a:srgbClr val="cccc99"/>
                </a:gs>
              </a:gsLst>
              <a:lin ang="27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5092560" y="4583160"/>
              <a:ext cx="3629880" cy="1584360"/>
              <a:chOff x="5092560" y="4583160"/>
              <a:chExt cx="3629880" cy="158436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8175960" y="544680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9" name="Rectangle 14"/>
              <p:cNvSpPr/>
              <p:nvPr/>
            </p:nvSpPr>
            <p:spPr>
              <a:xfrm>
                <a:off x="6518520" y="546408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0" name="Rectangle 23"/>
              <p:cNvSpPr/>
              <p:nvPr/>
            </p:nvSpPr>
            <p:spPr>
              <a:xfrm>
                <a:off x="7383240" y="458316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Arial"/>
                  </a:rPr>
                  <a:t>S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31" name="Group 35"/>
              <p:cNvGrpSpPr/>
              <p:nvPr/>
            </p:nvGrpSpPr>
            <p:grpSpPr>
              <a:xfrm>
                <a:off x="5092560" y="4799160"/>
                <a:ext cx="1080720" cy="787320"/>
                <a:chOff x="5092560" y="4799160"/>
                <a:chExt cx="1080720" cy="787320"/>
              </a:xfrm>
            </p:grpSpPr>
            <p:sp>
              <p:nvSpPr>
                <p:cNvPr id="132" name="Rectangle 24"/>
                <p:cNvSpPr/>
                <p:nvPr/>
              </p:nvSpPr>
              <p:spPr>
                <a:xfrm>
                  <a:off x="5654160" y="4799160"/>
                  <a:ext cx="51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Arial"/>
                    </a:rPr>
                    <a:t>S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1"/>
                <p:cNvSpPr/>
                <p:nvPr/>
              </p:nvSpPr>
              <p:spPr>
                <a:xfrm>
                  <a:off x="5092560" y="479916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Line 36"/>
              <p:cNvSpPr/>
              <p:nvPr/>
            </p:nvSpPr>
            <p:spPr>
              <a:xfrm flipV="1">
                <a:off x="6876720" y="5086440"/>
                <a:ext cx="50508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7885080" y="5086440"/>
                <a:ext cx="43164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52"/>
          <p:cNvGrpSpPr/>
          <p:nvPr/>
        </p:nvGrpSpPr>
        <p:grpSpPr>
          <a:xfrm>
            <a:off x="108000" y="3141720"/>
            <a:ext cx="4392360" cy="3247920"/>
            <a:chOff x="108000" y="3141720"/>
            <a:chExt cx="4392360" cy="3247920"/>
          </a:xfrm>
        </p:grpSpPr>
        <p:sp>
          <p:nvSpPr>
            <p:cNvPr id="137" name="Rectangle 47"/>
            <p:cNvSpPr/>
            <p:nvPr/>
          </p:nvSpPr>
          <p:spPr>
            <a:xfrm>
              <a:off x="108000" y="3141720"/>
              <a:ext cx="4392360" cy="32479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55d555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3783600" y="429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2629440" y="3213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Rectangle 18"/>
            <p:cNvSpPr/>
            <p:nvPr/>
          </p:nvSpPr>
          <p:spPr>
            <a:xfrm>
              <a:off x="154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2629440" y="5533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43" name="Group 41"/>
            <p:cNvGrpSpPr/>
            <p:nvPr/>
          </p:nvGrpSpPr>
          <p:grpSpPr>
            <a:xfrm>
              <a:off x="232560" y="4292640"/>
              <a:ext cx="1089000" cy="806400"/>
              <a:chOff x="232560" y="4292640"/>
              <a:chExt cx="1089000" cy="80640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612000" y="4311720"/>
                <a:ext cx="70956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1" lang="en-US" sz="4000" spc="-1" strike="noStrike" baseline="-25000">
                    <a:solidFill>
                      <a:srgbClr val="292929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5" name="Rectangle 27"/>
              <p:cNvSpPr/>
              <p:nvPr/>
            </p:nvSpPr>
            <p:spPr>
              <a:xfrm>
                <a:off x="232560" y="42926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92929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46" name="Line 42"/>
            <p:cNvSpPr/>
            <p:nvPr/>
          </p:nvSpPr>
          <p:spPr>
            <a:xfrm>
              <a:off x="2051280" y="4653000"/>
              <a:ext cx="51480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2916720" y="386064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8" name="Line 44"/>
            <p:cNvSpPr/>
            <p:nvPr/>
          </p:nvSpPr>
          <p:spPr>
            <a:xfrm>
              <a:off x="3204360" y="4653000"/>
              <a:ext cx="51444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9" name="Line 45"/>
            <p:cNvSpPr/>
            <p:nvPr/>
          </p:nvSpPr>
          <p:spPr>
            <a:xfrm>
              <a:off x="2916720" y="501336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6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3770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B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R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U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и, які складаються із атомів двох елементів, називаються</a:t>
            </a: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uk-UA" sz="4800" spc="-1" strike="noStrike" u="sng">
                <a:solidFill>
                  <a:srgbClr val="ff7c23"/>
                </a:solidFill>
                <a:uFillTx/>
                <a:latin typeface="Arial"/>
              </a:rPr>
              <a:t>БІНАРНИМИ</a:t>
            </a:r>
            <a:r>
              <a:rPr b="1" i="1" lang="uk-UA" sz="4800" spc="-1" strike="noStrike">
                <a:solidFill>
                  <a:srgbClr val="ff7c23"/>
                </a:solidFill>
                <a:latin typeface="Arial"/>
              </a:rPr>
              <a:t> 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ами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7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31196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Користуємося правилом</a:t>
            </a: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у формулах бінарних сполук сумарна валентність усіх атомів одного елемента завжди дорівнює сумарній  валентності усіх атомів іншого елемента.</a:t>
            </a: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bd2309"/>
                </a:solidFill>
                <a:uFillTx/>
                <a:latin typeface="Arial"/>
              </a:rPr>
              <a:t>В и с н о в к 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ластивість атомів хімічних елементів з’єднуватися з певним числом атомів того самого або інших хімічних елементів називається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uk-UA" sz="2800" spc="-1" strike="noStrike" u="sng">
                <a:solidFill>
                  <a:srgbClr val="cc0099"/>
                </a:solidFill>
                <a:uFillTx/>
                <a:latin typeface="Arial"/>
              </a:rPr>
              <a:t>ВАЛЕНТНІ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атома 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Гідро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1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, Окси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2400" spc="-1" strike="noStrike" u="sng">
                <a:solidFill>
                  <a:srgbClr val="ff1b1b"/>
                </a:solidFill>
                <a:uFillTx/>
                <a:latin typeface="Arial"/>
              </a:rPr>
              <a:t> 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2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Кількісно валентність виражається кількістю атомів </a:t>
            </a: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ГІДРОГЕНА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, які приєднує атом даного елемент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Сполуки, які містять в своєму складі атоми двох елементів називаються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БІНАРНИМ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можна визначати за формулами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бінарних сполук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або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за положенням елементів у періодичній системі хімічних елементів</a:t>
            </a:r>
            <a:r>
              <a:rPr b="1" i="1" lang="uk-UA" sz="2600" spc="-1" strike="noStrike">
                <a:solidFill>
                  <a:srgbClr val="9900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161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§ 8, завдання для самоконтролю 2, 3, 5, 6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анести значення валентностей у таблицю в зошитах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0000"/>
                </a:solidFill>
                <a:latin typeface="Arial"/>
              </a:rPr>
              <a:t>Додатково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с. 59   вправа 11 (в) – скла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графічну формул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53:52Z</dcterms:created>
  <dc:creator>Администратор</dc:creator>
  <dc:description/>
  <dc:language>en-US</dc:language>
  <cp:lastModifiedBy>Admin</cp:lastModifiedBy>
  <dcterms:modified xsi:type="dcterms:W3CDTF">2013-03-03T08:45:48Z</dcterms:modified>
  <cp:revision>9</cp:revision>
  <dc:subject/>
  <dc:title>Тема: Валентнiсть хiмiчних елементів.   Визначення валентності  елементів за   формулами бінарних сполук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4140</vt:lpwstr>
  </property>
</Properties>
</file>